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B082-BFFF-42CC-904D-744C3C50D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1DFB-1440-4898-93EE-3533E11F4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004D-15B8-4FFC-99A3-57A3B30BA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99F2-AF2C-4BE1-A727-40C4E9BD4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2E657-0CDB-4229-855E-5BF58C7C2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8AF21-2F90-4BB8-BDA5-823D2E968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1A69C-4F44-40A4-B0C9-79BE67122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403BB-6F4D-44EF-A736-1701BFA93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C247B-D5C9-455E-8EF7-055E70865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C180B-3149-4643-89BD-258CE199F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5E23E-91B3-46BD-820E-B41AD7C30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3330-8608-4D0D-89AA-B14D6C193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3F400-A9BC-47BD-A299-A48889AE3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B8109-F468-4A21-A950-683A4C647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559BB-E359-46D4-80E1-036D0D1AA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3C976-3439-45A9-B741-F29705850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BCEB9-EBCE-4BA6-8339-5141B3880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B8A9D-4A8A-4899-B88B-9EB6B6948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66A57-41BC-4431-9FB1-373601A15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1177D-AEE9-4D9B-A782-F23D5F0B8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5F6A7-FB2A-48FE-9198-8849EAB55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28E4A-60F8-46E3-97F9-01AABC2D5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FD4A-A0C7-46FD-B235-537E4EDD0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3F243-3498-4C55-B92B-B5131EECC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3CF34-3369-4519-880F-6C0EBDF4E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5313A-F666-4502-B7B4-2AD135D2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B70A7-3ACE-42AA-B25C-EDA23EA52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89185-654E-4008-A803-CD7A2E26D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3321E-C6F5-4F26-AAC5-9EE93BAF1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D21E8-1D8F-4E82-B02A-0B80EBF76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3F311-24CC-400B-A1AE-00387C296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A66C9-4DB9-4FFD-A770-3D2966134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7228B-29BF-4101-8FB5-44E7F42EE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BF84-BD4E-4573-8B0A-E83C96E43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C6016-DC1D-4867-934B-3664E8352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427AF-C68E-4B3C-A887-285012823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BD0BD-BC0B-46D2-B6A7-2ED63E1D2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AC836-B85A-4E4E-BA49-56B3AEDDD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7B119-E42A-4EDD-8A84-367D5F518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942DA-6F20-4AAD-8C3F-1FFBD6088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CCB3D-831D-4AFF-A1C9-1E9293DD0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36181-ED94-4664-AE17-93599E22A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56595-8007-4A36-B772-DEF9786FF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18AE2-CBEF-4200-8DBD-881585708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6837-B957-437B-9B74-96C268A28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77B3F-D0A7-4911-BC09-99B2F5419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0189B6-CF20-44CF-BE4D-5F480DB8F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ADCAC-3E6F-450D-A3D8-32DB34A3C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3F72AE-132A-400A-96BC-C8813C08B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55765B-5254-46D2-A5AA-EF13F6123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96FFB-74C6-4CBF-BBDD-D13B87D17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92182B-FFE2-46C3-A329-0262C455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A6EAB-FED9-4E49-AF07-F7684344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2F0F18-39F0-46AF-A992-4FC93501D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5B6247-6F1D-4C75-B54D-469D2205E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8F5F-85E2-4E1A-8A3A-84DD630F6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7DB65E-9F23-4779-A103-9DF7B9030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B74B-B004-4B9B-A182-13B55D5CE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B250-8F4F-46E5-87B7-2B03ABD1C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7FD3-2059-4920-9141-E91488F55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1DBB2-2EAD-49DC-B4E0-EEC60138800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圆角矩形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矩形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矩形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矩形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69AC7-02E5-4895-8C65-4EA87BFAC20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0" name="圆角矩形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圆角矩形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3" name="矩形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" name="矩形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矩形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B1E35-548E-4805-9170-536851BB468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圆角矩形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DC0F4-1E34-42E3-A8D8-0748600E5D2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矩形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矩形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矩形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6FE7A-91AB-48C0-A639-D3DC6D95E44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96464"/>
                </a:solidFill>
                <a:latin typeface="Perpetua"/>
              </a:rPr>
              <a:t>Cuiling Lan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96464"/>
                </a:solidFill>
                <a:latin typeface="Perpetua"/>
              </a:rPr>
              <a:t>Jizheng Xu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96464"/>
                </a:solidFill>
                <a:latin typeface="Perpetua"/>
              </a:rPr>
              <a:t>Feng Wu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96464"/>
                </a:solidFill>
                <a:latin typeface="Perpetua"/>
              </a:rPr>
              <a:t>Guangming Shi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464"/>
                </a:solidFill>
                <a:latin typeface="Perpetua"/>
              </a:rPr>
              <a:t>Microsoft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464"/>
                </a:solidFill>
                <a:latin typeface="Perpetua"/>
              </a:rPr>
              <a:t>Xidian University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826920" y="1341000"/>
            <a:ext cx="7632720" cy="189396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ranklin Gothic Book"/>
              </a:rPr>
              <a:t>Screen content coding results using TMuC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BD-gai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900000" y="1989000"/>
          <a:ext cx="3444840" cy="1471680"/>
        </p:xfrm>
        <a:graphic>
          <a:graphicData uri="http://schemas.openxmlformats.org/drawingml/2006/table">
            <a:tbl>
              <a:tblPr/>
              <a:tblGrid>
                <a:gridCol w="1712880"/>
                <a:gridCol w="922320"/>
                <a:gridCol w="809640"/>
              </a:tblGrid>
              <a:tr h="4903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Sequence(Random acces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BD-bit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BD-psn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Pho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-21.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Window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-11.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0.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WebBrow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-27.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.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Aver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-20.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5148360" y="1989000"/>
          <a:ext cx="3213000" cy="1471680"/>
        </p:xfrm>
        <a:graphic>
          <a:graphicData uri="http://schemas.openxmlformats.org/drawingml/2006/table">
            <a:tbl>
              <a:tblPr/>
              <a:tblGrid>
                <a:gridCol w="1481040"/>
                <a:gridCol w="922320"/>
                <a:gridCol w="809640"/>
              </a:tblGrid>
              <a:tr h="490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Sequence(All I fram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BD-bit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BD-psn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Pho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-31.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.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Window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-16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WebBrow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-35.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Aver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-28.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onclusion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MuC works better than AVC/H.264 for screen conten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New coding tools to improve screen content coding in TMuC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矩形 3" descr=""/>
          <p:cNvPicPr/>
          <p:nvPr/>
        </p:nvPicPr>
        <p:blipFill>
          <a:blip r:embed="rId1"/>
          <a:stretch/>
        </p:blipFill>
        <p:spPr>
          <a:xfrm>
            <a:off x="3090960" y="2803680"/>
            <a:ext cx="296208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Outlin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creen coding tools revisi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reliminary results with TMuC framework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nclus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creen content coding tool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914040" y="1447920"/>
            <a:ext cx="7473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sidual scalar quantiz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Direct code the intra-predicted residue without a transform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ase colors and index map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ort of VQ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mprove the performance for coding screen content in AVC/H.264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Experimental results using TMuC – single imag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36" name="Chart 1" descr=""/>
          <p:cNvPicPr/>
          <p:nvPr/>
        </p:nvPicPr>
        <p:blipFill>
          <a:blip r:embed="rId1"/>
          <a:stretch/>
        </p:blipFill>
        <p:spPr>
          <a:xfrm>
            <a:off x="3492360" y="1701720"/>
            <a:ext cx="5112000" cy="41036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Description: All_kinds"/>
          <p:cNvPicPr/>
          <p:nvPr/>
        </p:nvPicPr>
        <p:blipFill>
          <a:blip r:embed="rId2"/>
          <a:stretch/>
        </p:blipFill>
        <p:spPr>
          <a:xfrm>
            <a:off x="755640" y="2060640"/>
            <a:ext cx="271476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39" name="Picture 2" descr="Web_msn"/>
          <p:cNvPicPr/>
          <p:nvPr/>
        </p:nvPicPr>
        <p:blipFill>
          <a:blip r:embed="rId1"/>
          <a:stretch/>
        </p:blipFill>
        <p:spPr>
          <a:xfrm>
            <a:off x="826920" y="1773360"/>
            <a:ext cx="2714760" cy="2162160"/>
          </a:xfrm>
          <a:prstGeom prst="rect">
            <a:avLst/>
          </a:prstGeom>
          <a:ln w="0">
            <a:noFill/>
          </a:ln>
        </p:spPr>
      </p:pic>
      <p:pic>
        <p:nvPicPr>
          <p:cNvPr id="240" name="Chart 9" descr=""/>
          <p:cNvPicPr/>
          <p:nvPr/>
        </p:nvPicPr>
        <p:blipFill>
          <a:blip r:embed="rId2"/>
          <a:stretch/>
        </p:blipFill>
        <p:spPr>
          <a:xfrm>
            <a:off x="3692520" y="1630440"/>
            <a:ext cx="5056200" cy="40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42" name="Picture 2" descr="PowerPoint"/>
          <p:cNvPicPr/>
          <p:nvPr/>
        </p:nvPicPr>
        <p:blipFill>
          <a:blip r:embed="rId1"/>
          <a:stretch/>
        </p:blipFill>
        <p:spPr>
          <a:xfrm>
            <a:off x="900000" y="1844640"/>
            <a:ext cx="2714760" cy="2162160"/>
          </a:xfrm>
          <a:prstGeom prst="rect">
            <a:avLst/>
          </a:prstGeom>
          <a:ln w="0">
            <a:noFill/>
          </a:ln>
        </p:spPr>
      </p:pic>
      <p:pic>
        <p:nvPicPr>
          <p:cNvPr id="243" name="Chart 13" descr=""/>
          <p:cNvPicPr/>
          <p:nvPr/>
        </p:nvPicPr>
        <p:blipFill>
          <a:blip r:embed="rId2"/>
          <a:stretch/>
        </p:blipFill>
        <p:spPr>
          <a:xfrm>
            <a:off x="3851280" y="1773360"/>
            <a:ext cx="504180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Experimental results – video sequenc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45" name="Chart 1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3959280" cy="3240360"/>
          </a:xfrm>
          <a:prstGeom prst="rect">
            <a:avLst/>
          </a:prstGeom>
          <a:ln w="0">
            <a:noFill/>
          </a:ln>
        </p:spPr>
      </p:pic>
      <p:pic>
        <p:nvPicPr>
          <p:cNvPr id="246" name="Chart 4" descr=""/>
          <p:cNvPicPr/>
          <p:nvPr/>
        </p:nvPicPr>
        <p:blipFill>
          <a:blip r:embed="rId2"/>
          <a:stretch/>
        </p:blipFill>
        <p:spPr>
          <a:xfrm>
            <a:off x="4427640" y="1989000"/>
            <a:ext cx="43210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Chart 2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4103640" cy="3240000"/>
          </a:xfrm>
          <a:prstGeom prst="rect">
            <a:avLst/>
          </a:prstGeom>
          <a:ln w="0">
            <a:noFill/>
          </a:ln>
        </p:spPr>
      </p:pic>
      <p:pic>
        <p:nvPicPr>
          <p:cNvPr id="248" name="图表 4" descr=""/>
          <p:cNvPicPr/>
          <p:nvPr/>
        </p:nvPicPr>
        <p:blipFill>
          <a:blip r:embed="rId2"/>
          <a:stretch/>
        </p:blipFill>
        <p:spPr>
          <a:xfrm>
            <a:off x="4500720" y="1773360"/>
            <a:ext cx="38876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50" name="Chart 3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4174920" cy="3529080"/>
          </a:xfrm>
          <a:prstGeom prst="rect">
            <a:avLst/>
          </a:prstGeom>
          <a:ln w="0">
            <a:noFill/>
          </a:ln>
        </p:spPr>
      </p:pic>
      <p:pic>
        <p:nvPicPr>
          <p:cNvPr id="251" name="Chart 6" descr=""/>
          <p:cNvPicPr/>
          <p:nvPr/>
        </p:nvPicPr>
        <p:blipFill>
          <a:blip r:embed="rId2"/>
          <a:stretch/>
        </p:blipFill>
        <p:spPr>
          <a:xfrm>
            <a:off x="4643280" y="1773360"/>
            <a:ext cx="410544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6T15:32:31Z</dcterms:created>
  <dc:creator>Ji-Zheng Xu</dc:creator>
  <dc:description/>
  <dc:language>en-US</dc:language>
  <cp:lastModifiedBy>Ji-Zheng Xu</cp:lastModifiedBy>
  <dcterms:modified xsi:type="dcterms:W3CDTF">2010-10-13T03:31:25Z</dcterms:modified>
  <cp:revision>18</cp:revision>
  <dc:subject/>
  <dc:title>PowerPoint 演示文稿</dc:title>
</cp:coreProperties>
</file>