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53F-9283-40F4-AC61-EA116F4B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40B4-3042-401A-897A-8EDEC080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C0C-1B6D-4538-900C-485AECE0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990-CC3B-46E9-9441-3E15ECC6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BC51-0B90-448E-BE39-734E9830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ABE3-C145-4EEA-8000-E0560028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D31F-4E84-47F4-B8A5-93AFDADF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DC3B-BD12-4329-9AE6-BB940610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C21E-E282-4172-8BE9-49B63809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7B0D-872C-4A81-970A-2D239142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9D36-90FB-4367-BF4F-5FB4E059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3AE-C65F-4BD5-B8A6-F33CD118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C440-33DB-4574-A609-B0771338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FBFE-307E-42C6-906C-2560619A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76E7-9976-4A19-A5FE-BBAFF9E0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8885-F38E-4C1C-8319-8EFB3C43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F1CC-7606-4A1D-A996-BE2E3B84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BAD08-5AE6-4259-BB92-AEC4CE86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56374-FEE3-4B48-BDDF-327BD788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0090D-5D11-4E59-AE8A-A50EE004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A85D0-4B99-4303-A4E2-2D7768E4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F3924-94AA-45E1-9F7D-952C1235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3DF4-8BDE-49E6-8D5B-FF05A2FA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47378-C63D-4401-BB04-0182711B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2B217-2C25-4A70-9E82-400E27CF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5F6F6-E626-4B98-B286-4E2DFA51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3AF78-2584-46FD-9272-753BA6AC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80DF7-5B6E-4395-89EA-51F4E4E6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78CBA-EF6E-4FBB-9104-265A4FF5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8267D-50E0-42DE-87C3-1086D780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46FA4-74FC-4655-98E7-7DBDC7C6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A1AF0-D41B-46BF-8AB5-BE8D3FC5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8148F-9DB5-499C-866A-13517433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2A1D-87D8-46D8-9DBC-39128C8E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F1776-6981-4BE6-8A53-22FFCF98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F7E68-56C6-4602-A1D9-5A95228B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A44C8-F6AB-4FA9-9113-9E9266AC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F9556-C9D7-4DD9-9F3C-4B58E94E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5B63A-73C8-419F-B34E-7C7C56B9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B3C16-D54D-4C97-B5D6-B6430DF2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6EE65-94D7-46ED-A352-2FB67A3E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CA812-15D5-4AEF-BA65-C3107F2A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24E77-46B2-44D6-90C4-061E6CF0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3F79F-9EF3-4448-8A67-89A5B740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A28-7203-4656-BF5B-B5040A99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6701A-C26A-423A-B177-C8291421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E19FF-A9C2-4D02-9CC2-59A9CBE2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5ECE5-CBB6-4D3F-A215-7D320797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BF683-5634-41B9-8FFB-6E4E6A25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3A40B-12E0-4DDA-9B4A-BCE2204E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3C021-BC27-44DB-B0EE-3CA3E43C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E3C6A-3897-46BC-9FBA-32028C86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BCA7F-8322-41BD-B31F-D26D815F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F71D1-A945-47BD-A93C-C51525BF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E9064-9C69-4E1E-9FEA-523DE8F5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8D8F-5FD5-437C-9533-DC33D9CB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88C24-F86E-4273-BF0F-ADA15BDA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DC9D-37AE-4AE1-997D-7609B807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CD6-0039-427D-8D88-79FC79B1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5CA-3619-40DE-9CDF-59736AD8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F0D2-89F8-417D-BD0E-7CE766960FB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圆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5BBB-A368-4A81-BBC6-B5BB993471D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圆角矩形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圆角矩形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D2D7-5701-4082-B527-0175B496C37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圆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9353-3FF8-4F14-B9F2-0384C7412EB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ADBA-6027-42BF-B952-AB19025DB2D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96464"/>
                </a:solidFill>
                <a:latin typeface="Perpetua"/>
              </a:rPr>
              <a:t>Xiulian Peng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96464"/>
                </a:solidFill>
                <a:latin typeface="Perpetua"/>
              </a:rPr>
              <a:t>Jizheng Xu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96464"/>
                </a:solidFill>
                <a:latin typeface="Perpetua"/>
              </a:rPr>
              <a:t>Feng Wu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96464"/>
                </a:solidFill>
                <a:latin typeface="Perpetua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26920" y="1341000"/>
            <a:ext cx="7632720" cy="18939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Improved intra frame coding by PU/TU reorder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矩形 3" descr=""/>
          <p:cNvPicPr/>
          <p:nvPr/>
        </p:nvPicPr>
        <p:blipFill>
          <a:blip r:embed="rId1"/>
          <a:stretch/>
        </p:blipFill>
        <p:spPr>
          <a:xfrm>
            <a:off x="3090960" y="2803680"/>
            <a:ext cx="29620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Outl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U/TU reordering to improve the prediction performa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Preliminary resul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U reorder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040" y="1447920"/>
            <a:ext cx="5025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re may be multiple TU within a PU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direction within a PU is unifor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r directions 10-17, 26-33, the long prediction distance affects the performa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35" name="对象 4"/>
          <p:cNvGraphicFramePr/>
          <p:nvPr/>
        </p:nvGraphicFramePr>
        <p:xfrm>
          <a:off x="5857920" y="3645000"/>
          <a:ext cx="3286080" cy="32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对象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920" y="3645000"/>
                    <a:ext cx="3286080" cy="32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U reorder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905120" y="3205080"/>
            <a:ext cx="5333760" cy="14479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3"/>
          <p:cNvSpPr/>
          <p:nvPr/>
        </p:nvSpPr>
        <p:spPr>
          <a:xfrm>
            <a:off x="1771920" y="2776680"/>
            <a:ext cx="16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Original order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3780000" y="2558880"/>
            <a:ext cx="15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Order for direction 10-17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5796000" y="253224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Order for direction 26-33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242" name="直接箭头连接符 7"/>
          <p:cNvCxnSpPr/>
          <p:nvPr/>
        </p:nvCxnSpPr>
        <p:spPr>
          <a:xfrm flipH="1">
            <a:off x="4355640" y="1844640"/>
            <a:ext cx="289440" cy="71496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243" name="直接箭头连接符 10"/>
          <p:cNvCxnSpPr/>
          <p:nvPr/>
        </p:nvCxnSpPr>
        <p:spPr>
          <a:xfrm flipV="1">
            <a:off x="6084720" y="2201400"/>
            <a:ext cx="720000" cy="26424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U reordering (direction 10-17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123640" y="1447920"/>
            <a:ext cx="648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r TU 1 and 3, the predictions are the same as those in the original ord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e predictions for TU 2 and 4 can be improved since the reconstruction of TU 1 and 3 are availabl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r TU 2 and 4, the prediction is generated in a similar way as the current algorith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468360" y="3416400"/>
            <a:ext cx="1466640" cy="14666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441360" y="2703600"/>
            <a:ext cx="158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Order for direction 10-17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cxnSp>
        <p:nvCxnSpPr>
          <p:cNvPr id="248" name="直接箭头连接符 6"/>
          <p:cNvCxnSpPr/>
          <p:nvPr/>
        </p:nvCxnSpPr>
        <p:spPr>
          <a:xfrm flipH="1">
            <a:off x="1017360" y="1988640"/>
            <a:ext cx="288000" cy="7153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>
            <a:off x="7380360" y="4508640"/>
            <a:ext cx="92376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TU reordering summar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hange the coding order within a PU for some certain direc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overhead increa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complexity increase (encoder and decoder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U reorder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ultiple PUs within a CU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May have different prediction direc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1-2 bits overhead to stand for 1 of 3 coding or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 coding order may not able to de derived directl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No complexity increase for the decod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aphicFrame>
        <p:nvGraphicFramePr>
          <p:cNvPr id="255" name="对象 4"/>
          <p:cNvGraphicFramePr/>
          <p:nvPr/>
        </p:nvGraphicFramePr>
        <p:xfrm>
          <a:off x="3851280" y="4797360"/>
          <a:ext cx="453384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对象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4797360"/>
                    <a:ext cx="453384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reliminary results - All_intra_H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987640" y="1628640"/>
          <a:ext cx="3338640" cy="3848400"/>
        </p:xfrm>
        <a:graphic>
          <a:graphicData uri="http://schemas.openxmlformats.org/drawingml/2006/table">
            <a:tbl>
              <a:tblPr/>
              <a:tblGrid>
                <a:gridCol w="1143000"/>
                <a:gridCol w="727200"/>
                <a:gridCol w="738000"/>
                <a:gridCol w="73044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-rate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-rate 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-rate 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ff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On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o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ketballDr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QTerr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ketballDr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QM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ySc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Hor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ketballP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Q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wingBub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Hor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yo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yo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yo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onclusion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hange the coding order within a PU/CU to improve the predi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0.4% bit-sav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ittle complexity increase at the decod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5:32:31Z</dcterms:created>
  <dc:creator>Ji-Zheng Xu</dc:creator>
  <dc:description/>
  <dc:language>en-US</dc:language>
  <cp:lastModifiedBy>Ji-Zheng Xu</cp:lastModifiedBy>
  <dcterms:modified xsi:type="dcterms:W3CDTF">2010-10-10T16:21:37Z</dcterms:modified>
  <cp:revision>15</cp:revision>
  <dc:subject/>
  <dc:title>PowerPoint 演示文稿</dc:title>
</cp:coreProperties>
</file>