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EC9-2B5E-48A9-A409-5F617D8B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FD3-C2A0-4FE1-87A7-E2C1B82C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BC1-0EC7-4345-8014-DC5BDABF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A07-4035-48F8-BBDF-B3C889A9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3779-AF68-4365-B905-D555C4D8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FEBB-6DFD-4697-855B-773D2F91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D540-D31C-41F9-B6C4-B2D0F5E1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95F9-12D1-468D-8382-C37D9F64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015E-B3FA-4483-A26B-35FEC0F2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E2B7-F273-41C6-8BA9-7EAE983F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B2A8-990E-438B-B470-8A83BDFC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C2F-B12D-4FE1-AF07-B3EF19FF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10A6-DE56-4BC2-B310-D82C2A55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AE37-17A5-4EBA-968A-287AA79A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C18A-D0C0-4AFE-BE31-5BA7C491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7831-02CE-4A27-A137-49577F18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C569-26F0-45E3-BEA2-2DDF4912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5389-2114-49C2-B9D6-6ACE70FC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CACB-7282-42CB-8722-C5BE1396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AF8B9-BCBD-448A-A75D-797BFE40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E3E3-DA82-43FE-AA88-EB26F353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DD58-1DB3-4BBA-91E6-C97B1D85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F65-F7BD-4692-A3E1-11B7AC56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4AED-8346-45D4-9D46-8148CF5B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652A-0AD4-4A5B-ADD5-5CE828B9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B177-CB1E-4AD3-A3B7-C0B6AD8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0D6D-C109-4BC4-AF0D-F0BE7F67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7684C-B941-42CB-B7FA-5202B0F5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040F-9E0F-4ABA-AAB2-A37D64A1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15A0-8482-474F-BC0A-0CE2475D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1BF4-8081-4E83-A0A7-F0C7D951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E934-718F-462E-A570-8DE7076B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18E3C-7BB8-4C10-9BD5-2F7AB0EF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9A3-CA0A-401F-8ED3-518EFA7E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1A18C-53DB-4FEC-B87C-876FEA95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4E0A-1331-4B96-A4FC-77067BC1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92F4-B70C-4044-8E6D-C736A3FA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0EC99-9335-401A-A8BE-C8EE2D37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0D93-6F3F-404F-BEB6-DFFCE03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95733-00E6-47FA-B609-3DA84D38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098F5-39DB-4C4C-8F15-55775122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44CAA-919A-4CB3-A3F3-38678B6A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04C6C-95BE-49F0-A99A-FF324A41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E8920-55D2-4401-AF2C-F7D5A2C2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E93-93B3-4173-A66F-89E77CCE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78BE6-E1F9-4661-853B-35F880F4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C4CCA-7F3D-4F89-9CDE-F5F9E38F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7F63D-94EB-4187-B8A1-B4C219C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253CF-4D9C-456D-BE70-1132DC79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13BE8-E2F4-4B78-BF3D-D6DC1CF5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67B67-67CE-4929-94F8-7095A32A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5398D-16C2-4D4A-A26D-E52781E7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FE861-8F62-4E8F-A95D-8DA07BA7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50EF-8CEE-4231-B91D-314841CA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FA30A-1F00-4C45-9438-1FC68C33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F99-A366-4F3D-8765-BD57E2C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31FEB-00BF-4207-B290-288D4F3F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607-0173-42CE-B445-46DE7A93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6FA-FB90-44C9-A103-ED72FB02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75E-2DB7-45EA-9FE7-1C4B51B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C8B0-428D-402A-A38A-CA68A907979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BF30-A49F-437D-B6DD-30C5C82E1F3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圆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562C-3104-4444-AD85-95CF89C75E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56E5-BC4E-476F-86EC-9D04D86B1BA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9099-778B-439E-B46E-2C5B029ED2B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96464"/>
                </a:solidFill>
                <a:latin typeface="Perpetua"/>
              </a:rPr>
              <a:t>Zhiwei Xio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96464"/>
                </a:solidFill>
                <a:latin typeface="Perpetua"/>
              </a:rPr>
              <a:t>Xiaoyan Su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96464"/>
                </a:solidFill>
                <a:latin typeface="Perpetua"/>
              </a:rPr>
              <a:t>Jizheng Xu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464"/>
                </a:solidFill>
                <a:latin typeface="Perpetua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2720" cy="1893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E10, Subset 1: Report of Content-Adaptive Deblock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clus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stronger deblocking applied to large smooth reg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ttle impact on the objective quality and complex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tter visual quality by further reducing blocking artif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more useful for even higher resolution vide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pose to consider a stronger deblocking for large blocks in the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矩形 3" descr=""/>
          <p:cNvPicPr/>
          <p:nvPr/>
        </p:nvPicPr>
        <p:blipFill>
          <a:blip r:embed="rId1"/>
          <a:stretch/>
        </p:blipFill>
        <p:spPr>
          <a:xfrm>
            <a:off x="3090960" y="2803680"/>
            <a:ext cx="2962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tent-adaptive deblocking revis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has been presented in JCTVC-A118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neral idea: a stronger deblock for large blocks (smooth region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 resul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ent-adaptive deblock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rform a strong and long filter to some TU bounda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59720" indent="-191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pply to smooth region to further reduce blocking artifac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blocking is changed to TUs, which satisfy the following condi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59720" indent="-191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wo adjacent TU’s related to the TU boundary are both in intra-coded CU’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9720" indent="-191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sum of luminance variance in the two TU's is smaller than a certain threshol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9720" indent="-191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smaller transform size between the two TU's is larger than a certain valu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9720" indent="-191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larger transform size between the two TU's is larger than a certain valu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proposed deblokcing filt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411280" y="1503360"/>
            <a:ext cx="3346560" cy="1781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37" name="对象 4"/>
          <p:cNvGraphicFramePr/>
          <p:nvPr/>
        </p:nvGraphicFramePr>
        <p:xfrm>
          <a:off x="2195640" y="3645000"/>
          <a:ext cx="3994200" cy="17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对象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3645000"/>
                    <a:ext cx="39942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MuC0.7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lemented for I-fram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al results - intr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060640"/>
          <a:ext cx="6908760" cy="3695760"/>
        </p:xfrm>
        <a:graphic>
          <a:graphicData uri="http://schemas.openxmlformats.org/drawingml/2006/table">
            <a:tbl>
              <a:tblPr/>
              <a:tblGrid>
                <a:gridCol w="1147680"/>
                <a:gridCol w="965160"/>
                <a:gridCol w="963720"/>
                <a:gridCol w="600120"/>
                <a:gridCol w="1316160"/>
                <a:gridCol w="1317600"/>
                <a:gridCol w="598320"/>
              </a:tblGrid>
              <a:tr h="230040">
                <a:tc row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2304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31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2300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31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2300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31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922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al results – random acce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476360" y="2421000"/>
          <a:ext cx="6348600" cy="3681360"/>
        </p:xfrm>
        <a:graphic>
          <a:graphicData uri="http://schemas.openxmlformats.org/drawingml/2006/table">
            <a:tbl>
              <a:tblPr/>
              <a:tblGrid>
                <a:gridCol w="1147680"/>
                <a:gridCol w="871560"/>
                <a:gridCol w="870120"/>
                <a:gridCol w="541080"/>
                <a:gridCol w="1189080"/>
                <a:gridCol w="1187640"/>
                <a:gridCol w="541440"/>
              </a:tblGrid>
              <a:tr h="639720">
                <a:tc row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579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al results – low del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19280" y="2276640"/>
          <a:ext cx="6405480" cy="3384360"/>
        </p:xfrm>
        <a:graphic>
          <a:graphicData uri="http://schemas.openxmlformats.org/drawingml/2006/table">
            <a:tbl>
              <a:tblPr/>
              <a:tblGrid>
                <a:gridCol w="1147680"/>
                <a:gridCol w="673200"/>
                <a:gridCol w="1084320"/>
                <a:gridCol w="672840"/>
                <a:gridCol w="675000"/>
                <a:gridCol w="1479240"/>
                <a:gridCol w="673200"/>
              </a:tblGrid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Low delay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60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520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Visual quality evalu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blocking artif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the doc JCTVC-C273.do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icke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I-fram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hould be consistent when RA and L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r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es not mean visually wor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5:32:31Z</dcterms:created>
  <dc:creator>Ji-Zheng Xu</dc:creator>
  <dc:description/>
  <dc:language>en-US</dc:language>
  <cp:lastModifiedBy>Ji-Zheng Xu</cp:lastModifiedBy>
  <dcterms:modified xsi:type="dcterms:W3CDTF">2010-10-09T11:17:09Z</dcterms:modified>
  <cp:revision>19</cp:revision>
  <dc:subject/>
  <dc:title>PowerPoint 演示文稿</dc:title>
</cp:coreProperties>
</file>