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E010-7A5B-44B4-AFA0-D68D1A25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F93B-131F-4C99-A10A-B2093F75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D942-B06D-4B7C-903F-5856A93A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C2F-01CF-4725-9F36-EAB284CE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BD1C-81FC-425D-BF22-ECF0FEEE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A5DF-0B34-4A8F-9D72-D280773A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4021-3048-4EF5-A11A-FA5FE4ED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050D-9C72-401A-8A1D-C27F1E5F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5F03-49AD-400C-87C1-B4FC3BAE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A31C-8C82-4B1B-BF18-90C1B596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E62A-8E8B-4C95-A6C6-9A52121E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8D4-B82A-4451-AEA0-714C3B98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4C04-DECA-45EE-953D-98DB09CB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24DE-AE4C-44F7-8ABC-BBA577AE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72AB-FC4C-4E67-8691-63F539B8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3C45-66A8-4B5F-B54E-E5147F06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A2FC-A1F8-480E-B2D8-8D7A94C3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8A966-B316-478D-AE0F-2452AB04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5C1D4-F383-4C1D-AB13-84B28D1C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61FD2-5209-409E-ABF6-154E647E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21642-2880-447D-9068-834E9F9B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8C777-E3CF-4009-BA7E-008B4A98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34C2-9B4B-4600-A630-4B3EC898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C732A-3687-47A3-91C5-F03585B3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99A76-A52C-44EC-8B99-087BEC85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5AB7D-F726-446A-8FBE-C80BAEB4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AA770-34B1-4377-9953-D5F6EDF8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E0BD3-EF66-4F58-A510-AA33F168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0CFD0-AF50-4085-9BA6-D12A8581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2166A-4DE9-4763-BF05-F80B1437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EE85A-06AB-49A8-A639-5CAE2870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B78E5-1B4C-4DED-97A9-C2F85318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E5EA0-D7BA-41CC-A55C-9248A340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66F3-B0AA-462B-8B49-DB84904D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22830-6454-4740-819A-CF8E7747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EA2A0-212B-4BF1-A501-CF6E1513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F0438-6BF1-4E80-AFF3-E35672DF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6A155-9963-481A-A773-E7763142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6EB28-C3BF-48AA-BCAA-9B2A2412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67E47-323C-49F9-B506-323F7A88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7AE02-3EDB-4CE9-AA11-14949B1D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D8BA1-CEC8-4339-ADA6-0A2E0B27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E092F-45C9-4999-AEF4-1530F7F1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29601-69A2-4CA5-9DBF-FB6ED3B6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1F53-C553-473B-B51E-0C4132EB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A0AE4-5B70-44A1-ABC4-B60FEA01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C5C4A-715D-4884-AF1A-4380F977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B8978-3403-47C3-8A31-4467AA59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6E549-F6C1-485E-9841-C6812E47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EE580-816B-498F-B3BA-82F84643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F5A2B-8BFD-4C00-9066-D50D78B7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BBF52-A6DF-43BE-8BBA-FCB4841D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5FF64-8446-475A-9DFB-C610BE59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EB055-0B39-4EF2-BB7A-0648009A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89B13-118F-4084-B46E-33423D13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980F-C406-420E-ADB1-C3FC47DB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35EBD-A185-4835-A506-38E462A4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5110-57D0-4604-9BA8-D84E0511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F32D-610E-482D-9E8B-B22049AA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27D-110D-4218-8B3B-65859339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61EA-EA03-4F72-95BC-83E03883B0C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圆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E834-A7C0-4367-8362-A2B56C79FD9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圆角矩形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圆角矩形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D581-7A1F-462D-B157-DAA62F50DA8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圆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8C79-7842-46B6-8650-3ED48B9BD20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9101-D26C-486B-94DF-AC9DF09DB40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96464"/>
                </a:solidFill>
                <a:latin typeface="Perpetua"/>
              </a:rPr>
              <a:t>Xiulian Peng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96464"/>
                </a:solidFill>
                <a:latin typeface="Perpetua"/>
              </a:rPr>
              <a:t>Jizheng Xu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96464"/>
                </a:solidFill>
                <a:latin typeface="Perpetua"/>
              </a:rPr>
              <a:t>Feng Wu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6464"/>
                </a:solidFill>
                <a:latin typeface="Perpetua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632720" cy="18939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TE6.a: report of line-based cod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perimental results – class C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506600" y="1989000"/>
          <a:ext cx="5802120" cy="4327560"/>
        </p:xfrm>
        <a:graphic>
          <a:graphicData uri="http://schemas.openxmlformats.org/drawingml/2006/table">
            <a:tbl>
              <a:tblPr/>
              <a:tblGrid>
                <a:gridCol w="2822400"/>
                <a:gridCol w="1417680"/>
                <a:gridCol w="1562040"/>
              </a:tblGrid>
              <a:tr h="998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erpetua"/>
                          <a:ea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ll In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igh Efficienc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ll Intr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ow Complex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D-b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D-b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66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asketballDrill_832x480_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66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QMall_832x480_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66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artyScene_832x480_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664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ceHorses_832x480_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 WV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perimental results – class D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476360" y="1989000"/>
          <a:ext cx="6335640" cy="3311640"/>
        </p:xfrm>
        <a:graphic>
          <a:graphicData uri="http://schemas.openxmlformats.org/drawingml/2006/table">
            <a:tbl>
              <a:tblPr/>
              <a:tblGrid>
                <a:gridCol w="3081240"/>
                <a:gridCol w="1549440"/>
                <a:gridCol w="1704960"/>
              </a:tblGrid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erpetua"/>
                          <a:ea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ll In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igh Efficienc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ll Intr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ow Complex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48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D-b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D-b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549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asketballPass_416x240_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2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2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48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QSquare_416x240_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3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4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549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lowingBubbles_416x240_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2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48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aceHorses_416x240_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1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1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459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verage QWV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2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2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perimental results – class 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692360" y="2637000"/>
          <a:ext cx="5832360" cy="2952720"/>
        </p:xfrm>
        <a:graphic>
          <a:graphicData uri="http://schemas.openxmlformats.org/drawingml/2006/table">
            <a:tbl>
              <a:tblPr/>
              <a:tblGrid>
                <a:gridCol w="2873160"/>
                <a:gridCol w="1408320"/>
                <a:gridCol w="1550880"/>
              </a:tblGrid>
              <a:tr h="1108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erpetua"/>
                          <a:ea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ll In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igh Efficienc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ll Intr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ow Complex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68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D-b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D-b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69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dyo1_720p_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68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dyo3_720p_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70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dyo4_720p_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68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verall performa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763640" y="2060640"/>
          <a:ext cx="5791320" cy="3825720"/>
        </p:xfrm>
        <a:graphic>
          <a:graphicData uri="http://schemas.openxmlformats.org/drawingml/2006/table">
            <a:tbl>
              <a:tblPr/>
              <a:tblGrid>
                <a:gridCol w="1228680"/>
                <a:gridCol w="760680"/>
                <a:gridCol w="760320"/>
                <a:gridCol w="760320"/>
                <a:gridCol w="760320"/>
                <a:gridCol w="760680"/>
                <a:gridCol w="760320"/>
              </a:tblGrid>
              <a:tr h="296640">
                <a:tc row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 Lo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-0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-0.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-0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-0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-0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-0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-0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-0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-0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-0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-0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-0.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-0.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-0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-0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-0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-0.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clus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Various methods to provide accurate predictions for one li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ne-based coding improves the coding performance by making the prediction distance shor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矩形 3" descr=""/>
          <p:cNvPicPr/>
          <p:nvPr/>
        </p:nvPicPr>
        <p:blipFill>
          <a:blip r:embed="rId1"/>
          <a:stretch/>
        </p:blipFill>
        <p:spPr>
          <a:xfrm>
            <a:off x="3090960" y="2803680"/>
            <a:ext cx="29620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ne-based coding revisi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ich has been presented in JCTVC-A118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 resul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Line-based cod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4378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asic unit – a lin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 row of pixel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 column of pixel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Length – 4, 8 or 16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ediction parameter of each line is derived from the reconstructed are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Local training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Predefined directional filter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emplate matching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One of the above three derivation methods is used. The selection is transmitted to the decoder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35" name="对象 4"/>
          <p:cNvGraphicFramePr/>
          <p:nvPr/>
        </p:nvGraphicFramePr>
        <p:xfrm>
          <a:off x="5292720" y="2421000"/>
          <a:ext cx="3753000" cy="26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对象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2421000"/>
                    <a:ext cx="375300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3"/>
          <p:cNvSpPr/>
          <p:nvPr/>
        </p:nvSpPr>
        <p:spPr>
          <a:xfrm>
            <a:off x="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Local train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040" y="1447920"/>
            <a:ext cx="5313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ference pixels for the current pix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465120" indent="-1940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ree upper pixels to predict the current pixel in a row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65120" indent="-1940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ree left pixels to predict the current pixel in a colum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prediction weights are calculated according to the surrounding statistic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465120" indent="-1940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iener fil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coder can make the same derivation and no overhead is need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41" name="对象 4"/>
          <p:cNvGraphicFramePr/>
          <p:nvPr/>
        </p:nvGraphicFramePr>
        <p:xfrm>
          <a:off x="6156360" y="1557360"/>
          <a:ext cx="240984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对象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1557360"/>
                    <a:ext cx="24098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edefined directional filter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040" y="1447560"/>
            <a:ext cx="7761240" cy="29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19 predefined prediction patter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Correspond to different directions and different degrees of sharpness of edge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void over-fitting that may happens in the local training method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76280" indent="-198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One of the filter that shows the best prediction performance in the surrounding area is chosen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ecoder can make the same derivation and no overhead is need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46" name="对象 4"/>
          <p:cNvGraphicFramePr/>
          <p:nvPr/>
        </p:nvGraphicFramePr>
        <p:xfrm>
          <a:off x="4226040" y="4508640"/>
          <a:ext cx="493380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对象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6040" y="4508640"/>
                    <a:ext cx="493380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emplate match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mplate matching to search for a good prediction for one lin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line to be coded has short distance to the template, which leads to a better prediction performance than block-based template match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coder can make the same derivation and no overhead is need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51" name="对象 4"/>
          <p:cNvGraphicFramePr/>
          <p:nvPr/>
        </p:nvGraphicFramePr>
        <p:xfrm>
          <a:off x="3924360" y="5589720"/>
          <a:ext cx="486720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对象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5589720"/>
                    <a:ext cx="48672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verhead for a block (PU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ow-by-row coding or column-by-column cod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ransform or no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diction method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ocal train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edefined directional filt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emplate match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perimental results – class 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476360" y="2349360"/>
          <a:ext cx="6303960" cy="3338640"/>
        </p:xfrm>
        <a:graphic>
          <a:graphicData uri="http://schemas.openxmlformats.org/drawingml/2006/table">
            <a:tbl>
              <a:tblPr/>
              <a:tblGrid>
                <a:gridCol w="3065400"/>
                <a:gridCol w="1541520"/>
                <a:gridCol w="1697040"/>
              </a:tblGrid>
              <a:tr h="1113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erpetua"/>
                          <a:ea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ll In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igh Efficienc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ll Intr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ow Complex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71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D-b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D-b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741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raffic_2560x1600_30_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741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opleOnStreet_2560x1600_30_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 160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perimental results – class B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332000" y="1557360"/>
          <a:ext cx="6408720" cy="5145120"/>
        </p:xfrm>
        <a:graphic>
          <a:graphicData uri="http://schemas.openxmlformats.org/drawingml/2006/table">
            <a:tbl>
              <a:tblPr/>
              <a:tblGrid>
                <a:gridCol w="3117600"/>
                <a:gridCol w="1567080"/>
                <a:gridCol w="1724040"/>
              </a:tblGrid>
              <a:tr h="1028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Perpetua"/>
                          <a:ea typeface="宋体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ll In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High Efficienc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ll Intr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ow Complex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43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D-b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D-b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Kimono1_1920x1080_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687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arkScene_1920x1080_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actus_1920x1080_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asketballDrive_1920x1080_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QTerrace_1920x1080_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43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e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5:32:31Z</dcterms:created>
  <dc:creator>Ji-Zheng Xu</dc:creator>
  <dc:description/>
  <dc:language>en-US</dc:language>
  <cp:lastModifiedBy>Ji-Zheng Xu</cp:lastModifiedBy>
  <dcterms:modified xsi:type="dcterms:W3CDTF">2010-10-09T03:18:41Z</dcterms:modified>
  <cp:revision>9</cp:revision>
  <dc:subject/>
  <dc:title>PowerPoint 演示文稿</dc:title>
</cp:coreProperties>
</file>