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4ECAD-0D91-4DA5-B879-413B8E1A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5BC72-4612-419E-BA86-98DFB8FF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12DF-5F60-4066-8E5A-A54283B1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02BB0-300F-4CC9-9352-F68AEDD3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78783-CB58-4187-A8E5-A712640A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D031D-D2F7-45F9-8F5A-DBC272AC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C861A-E800-4FC0-A9D1-793A3E84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75F5-0F6D-429D-8A7D-BAE04B3F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9000"/>
            <a:ext cx="77724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60C1-33F6-4DA2-AE66-471CE5D7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C810B-6CE6-40AA-9688-D5E712E4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51B80-C5B4-4F75-8F49-F77901D8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BE288-CB0E-4377-902B-726F8455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正方形/長方形 7"/>
          <p:cNvSpPr/>
          <p:nvPr/>
        </p:nvSpPr>
        <p:spPr>
          <a:xfrm>
            <a:off x="0" y="6566040"/>
            <a:ext cx="9144000" cy="291960"/>
          </a:xfrm>
          <a:prstGeom prst="rect">
            <a:avLst/>
          </a:prstGeom>
          <a:gradFill rotWithShape="0">
            <a:gsLst>
              <a:gs pos="0">
                <a:srgbClr val="5962a1"/>
              </a:gs>
              <a:gs pos="100000">
                <a:srgbClr val="a4a9cc">
                  <a:alpha val="9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図 8" descr="sony_w.png"/>
          <p:cNvPicPr/>
          <p:nvPr/>
        </p:nvPicPr>
        <p:blipFill>
          <a:blip r:embed="rId2"/>
          <a:stretch/>
        </p:blipFill>
        <p:spPr>
          <a:xfrm>
            <a:off x="158760" y="6637320"/>
            <a:ext cx="925560" cy="1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00800" y="65606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ahoma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6374-EF3E-43FB-B00C-3B1C97B244A9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76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218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737A-590B-487E-B90A-1AC9F91B34F2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45680" y="1585800"/>
            <a:ext cx="760428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ahoma"/>
              </a:rPr>
              <a:t>A Study on the Impact of Intra Smoothing</a:t>
            </a:r>
            <a:endParaRPr b="0" lang="en-US" sz="44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971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li Tabatabali, Cheung Auyeung,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Ehsan Maani, Teruhiko Suzuki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ony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ct 10, 2010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E7BC-5EC2-4147-9CCA-C8FCAD6B6202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539640" y="37620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JVTVC-C26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TE12.3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urpos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rt the effect of disabling intra smoothing to the suggested HEVC Test Model in JCTVC-C122 for intra frame 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ross Verification Participant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tsubish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BEC1-062B-475A-A1BD-23482683976D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Testing Condition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Referenc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MuC 0.7.4 with B300 cond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No intra smoothing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ggested HEVC Test Model from JCTVC-C122 with “#define DEFAULT_IS 0”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TMuC 0.7.4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r Plat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Xeon X5680 @3.33Ghz, 2 processors, 12 cores, 48GB Memory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4561-6069-4C0F-97CC-88BB7A102125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BD Results of Suggested TM with PIPE and DEFAULT_IS Disabled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66E4-03EA-44CD-A92A-3C1545F88382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3720" y="1527120"/>
          <a:ext cx="8296560" cy="4378320"/>
        </p:xfrm>
        <a:graphic>
          <a:graphicData uri="http://schemas.openxmlformats.org/drawingml/2006/table">
            <a:tbl>
              <a:tblPr/>
              <a:tblGrid>
                <a:gridCol w="1570320"/>
                <a:gridCol w="1120680"/>
                <a:gridCol w="1120680"/>
                <a:gridCol w="1120680"/>
                <a:gridCol w="1122480"/>
                <a:gridCol w="1120680"/>
                <a:gridCol w="1121040"/>
              </a:tblGrid>
              <a:tr h="568440"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a Lo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28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5443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8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3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920"/>
            <a:ext cx="91440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BD Results(*) of Suggested TM with PIPE and DEFAULT_IS Enabled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EDDF-33C4-4D31-8271-5A6C61711868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23720" y="1527120"/>
          <a:ext cx="8296560" cy="4378320"/>
        </p:xfrm>
        <a:graphic>
          <a:graphicData uri="http://schemas.openxmlformats.org/drawingml/2006/table">
            <a:tbl>
              <a:tblPr/>
              <a:tblGrid>
                <a:gridCol w="1570320"/>
                <a:gridCol w="1120680"/>
                <a:gridCol w="1120680"/>
                <a:gridCol w="1120680"/>
                <a:gridCol w="1122480"/>
                <a:gridCol w="1120680"/>
                <a:gridCol w="1121040"/>
              </a:tblGrid>
              <a:tr h="568440">
                <a:tc rowSpan="2"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a Lo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288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5443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54288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54324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524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59" name="TextBox 5"/>
          <p:cNvSpPr/>
          <p:nvPr/>
        </p:nvSpPr>
        <p:spPr>
          <a:xfrm>
            <a:off x="366840" y="6172200"/>
            <a:ext cx="85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*) Results are copied from JCTVC-C12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ross verification of the results were done with NEC.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hen DEFULT_IS was disabled, the average %BD-Rate were reduced by about 1.4 % for Intra, and 1.9% for Intra LoCo, with respect to the corresponding results in JCTVC-C122 with PIPE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2" name="Slide Number Placeholder 2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5461-CD27-416E-99CC-2E94A261DBB0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1:05:12Z</dcterms:created>
  <dc:creator>Mohammad Gharavi</dc:creator>
  <dc:description/>
  <dc:language>en-US</dc:language>
  <cp:lastModifiedBy>Cheung Auyeung</cp:lastModifiedBy>
  <dcterms:modified xsi:type="dcterms:W3CDTF">2010-10-10T09:29:13Z</dcterms:modified>
  <cp:revision>4986</cp:revision>
  <dc:subject/>
  <dc:title>PowerPoint Presentation</dc:title>
</cp:coreProperties>
</file>