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CC54-10D3-4384-B846-160DEE06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B83-C767-46B5-8436-ABFBED4F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5918-8738-41B6-9C1D-85229146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DB8F-299A-4110-A774-0F4DCA193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9E90-20B2-4121-8A46-92BBA0DAA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3A71-665C-4059-B99D-6F71139C0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2056-32AA-4E49-8EB2-E80E93648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6BEB-05D2-4BD2-A402-2B0E7C1AD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836A-7661-456D-8032-0D84F48EC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D763-53AB-4083-90CE-DBE20D19D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CD1-64B4-4E95-BC89-E55A2D116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438D-3E66-4569-8133-DB9A3F03A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A335-5844-4955-B824-729B102E2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8550-455D-4CB2-9AE2-D5D5B7F69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63AC-8508-4D21-B452-2ECB20C8A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ackBerry_Logo_Preferred_Black_New"/>
          <p:cNvPicPr/>
          <p:nvPr/>
        </p:nvPicPr>
        <p:blipFill>
          <a:blip r:embed="rId2"/>
          <a:stretch/>
        </p:blipFill>
        <p:spPr>
          <a:xfrm>
            <a:off x="423720" y="6343560"/>
            <a:ext cx="1633680" cy="36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953120" y="6424200"/>
            <a:ext cx="8744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595-A45F-4BCA-8495-FCD63D1B868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BlackBerry_Logo_Preferred_White_New [Converted].png"/>
          <p:cNvPicPr/>
          <p:nvPr/>
        </p:nvPicPr>
        <p:blipFill>
          <a:blip r:embed="rId2"/>
          <a:stretch/>
        </p:blipFill>
        <p:spPr>
          <a:xfrm>
            <a:off x="439560" y="6346800"/>
            <a:ext cx="1617840" cy="3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A07-ADD1-4C63-AD94-7C979A1AC2A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BlackBerry PPT Background_Red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075800" y="63374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 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7167240" cy="12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E8: Reports on V2V coding and context modeling by RIM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573000"/>
            <a:ext cx="55767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inwen Zan, Gergely Korodi, Jin Meng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hammad Towhidul Islam, Dake He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earch In Motion Lt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6805-E5FA-4F59-92E1-0AB21C545B1A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576"/>
                </a:solidFill>
                <a:latin typeface="Calibri"/>
              </a:rPr>
              <a:t>Tools and Tes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360" y="1441440"/>
            <a:ext cx="7983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2V code sets proposed by RIM (Codeset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context processing proposed by R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55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rnoulli tests of Codeset 2 against PIPE V2V codes (Codeset 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55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ontext processing in TMuC 0.7 against high efficiency anch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55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deset 2 in TMuC 0.7 against Codeset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rnoulli Tes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9360" y="1267920"/>
            <a:ext cx="7694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desets are tested on bernoulli bin sequences generated according to probabilities defined by PIPE. Each sequence consists of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1bill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ins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ss (in percentage) is measured against the entropy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coding and decoding throughput data show the million bin symbols processed per second.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ults are cross verified by TI.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environment: Core-i7 860@2.80GHz, Linux, g++ 4.4.1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606-377B-4061-91C8-CA8443614337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4292640"/>
          <a:ext cx="6769080" cy="187164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de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. T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. T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se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se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roved context process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55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 example with 16x16 CU.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F7B-04E1-4410-A4BF-E10EEF2BDCD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87280" y="2205000"/>
            <a:ext cx="720720" cy="6476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908000" y="2205000"/>
            <a:ext cx="719280" cy="6476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87280" y="2852640"/>
            <a:ext cx="720720" cy="6476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908000" y="2852640"/>
            <a:ext cx="719280" cy="6476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27280" y="2205000"/>
            <a:ext cx="1440000" cy="1295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187280" y="3500280"/>
            <a:ext cx="1440000" cy="12970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716360" y="2276640"/>
            <a:ext cx="863640" cy="14436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2627280" y="3500280"/>
            <a:ext cx="720720" cy="6494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348000" y="3500280"/>
            <a:ext cx="719280" cy="6494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2627280" y="4149720"/>
            <a:ext cx="720720" cy="6476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348000" y="4149720"/>
            <a:ext cx="719280" cy="64764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716360" y="4941720"/>
            <a:ext cx="4103640" cy="1429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4716360" y="2492280"/>
            <a:ext cx="647640" cy="14472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4716360" y="2708280"/>
            <a:ext cx="719280" cy="14436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4716360" y="2924280"/>
            <a:ext cx="863640" cy="14436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4716360" y="3141720"/>
            <a:ext cx="142920" cy="14292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4716360" y="3357720"/>
            <a:ext cx="576360" cy="14256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4716360" y="3573360"/>
            <a:ext cx="719280" cy="14292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6"/>
          <p:cNvSpPr/>
          <p:nvPr/>
        </p:nvSpPr>
        <p:spPr>
          <a:xfrm>
            <a:off x="4716360" y="3789360"/>
            <a:ext cx="1008000" cy="14436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4716360" y="5157720"/>
            <a:ext cx="2592360" cy="1429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39"/>
          <p:cNvCxnSpPr/>
          <p:nvPr/>
        </p:nvCxnSpPr>
        <p:spPr>
          <a:xfrm flipH="1">
            <a:off x="4787640" y="2133720"/>
            <a:ext cx="2160" cy="19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3" name="Straight Arrow Connector 40"/>
          <p:cNvCxnSpPr/>
          <p:nvPr/>
        </p:nvCxnSpPr>
        <p:spPr>
          <a:xfrm flipH="1">
            <a:off x="5001840" y="2133360"/>
            <a:ext cx="2160" cy="19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4" name="Straight Arrow Connector 41"/>
          <p:cNvCxnSpPr/>
          <p:nvPr/>
        </p:nvCxnSpPr>
        <p:spPr>
          <a:xfrm flipH="1">
            <a:off x="5508360" y="2133360"/>
            <a:ext cx="2160" cy="19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5" name="Straight Arrow Connector 42"/>
          <p:cNvCxnSpPr/>
          <p:nvPr/>
        </p:nvCxnSpPr>
        <p:spPr>
          <a:xfrm flipH="1">
            <a:off x="4787640" y="4870080"/>
            <a:ext cx="216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 flipH="1">
            <a:off x="4787640" y="4868640"/>
            <a:ext cx="216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Straight Arrow Connector 48"/>
          <p:cNvCxnSpPr/>
          <p:nvPr/>
        </p:nvCxnSpPr>
        <p:spPr>
          <a:xfrm flipH="1">
            <a:off x="5218920" y="4868640"/>
            <a:ext cx="252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Straight Arrow Connector 49"/>
          <p:cNvCxnSpPr/>
          <p:nvPr/>
        </p:nvCxnSpPr>
        <p:spPr>
          <a:xfrm flipH="1">
            <a:off x="8674920" y="4868640"/>
            <a:ext cx="252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sults for Intra-only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873E-D67D-4D4A-9A70-CB6A3BA1BFFA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916280"/>
          <a:ext cx="7345440" cy="2658960"/>
        </p:xfrm>
        <a:graphic>
          <a:graphicData uri="http://schemas.openxmlformats.org/drawingml/2006/table">
            <a:tbl>
              <a:tblPr/>
              <a:tblGrid>
                <a:gridCol w="3473640"/>
                <a:gridCol w="1290600"/>
                <a:gridCol w="1290600"/>
                <a:gridCol w="12906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 SigCoeff Through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 LastCoeff Through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sults for Random Access and Low-Delay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1808-4ECF-4F97-9D11-AC0C9645BD8D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26920" y="1413000"/>
          <a:ext cx="5832720" cy="2066760"/>
        </p:xfrm>
        <a:graphic>
          <a:graphicData uri="http://schemas.openxmlformats.org/drawingml/2006/table">
            <a:tbl>
              <a:tblPr/>
              <a:tblGrid>
                <a:gridCol w="241560"/>
                <a:gridCol w="2636640"/>
                <a:gridCol w="986040"/>
                <a:gridCol w="984240"/>
                <a:gridCol w="98424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 SigCoeff Through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 LastCoeff Through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116000" y="3789360"/>
          <a:ext cx="5616720" cy="2225520"/>
        </p:xfrm>
        <a:graphic>
          <a:graphicData uri="http://schemas.openxmlformats.org/drawingml/2006/table">
            <a:tbl>
              <a:tblPr/>
              <a:tblGrid>
                <a:gridCol w="2656080"/>
                <a:gridCol w="987120"/>
                <a:gridCol w="986040"/>
                <a:gridCol w="987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 SigCoeff Through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 LastCoeff Through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deset 2 in TMuC 0.7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76230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8840" indent="-4388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ranscoding anchor bitstreams from TMuC 0.7 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5920" indent="-222840"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 decoding (PI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920" indent="-222840"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-encode with Codese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920" indent="-222840"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oded YUVs files should match bit-by-b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ange only the codesets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5920" indent="-222840"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Codeset 1 of PIPE to Codeset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C3B8-BB35-4DC7-AC72-30A2218E24A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147-7FF5-4461-83E8-BEAF54FFF92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1557360"/>
          <a:ext cx="6784920" cy="2593800"/>
        </p:xfrm>
        <a:graphic>
          <a:graphicData uri="http://schemas.openxmlformats.org/drawingml/2006/table">
            <a:tbl>
              <a:tblPr/>
              <a:tblGrid>
                <a:gridCol w="1695600"/>
                <a:gridCol w="1697040"/>
                <a:gridCol w="1695240"/>
                <a:gridCol w="16970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4508640"/>
            <a:ext cx="7623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sured above: (anchor_file_size – v2v_file_size)*100/anchor_file_siz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ults are cross-verified by MediaTek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33:28Z</dcterms:created>
  <dc:creator>Elliot Ng</dc:creator>
  <dc:description/>
  <dc:language>en-US</dc:language>
  <cp:lastModifiedBy>Dake</cp:lastModifiedBy>
  <dcterms:modified xsi:type="dcterms:W3CDTF">2010-10-08T06:35:42Z</dcterms:modified>
  <cp:revision>107</cp:revision>
  <dc:subject/>
  <dc:title>Title of presentation</dc:title>
</cp:coreProperties>
</file>