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7219-3CAF-4F3B-83B3-9E5DFF797A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9BE0-129B-4BEA-97B4-04DFAB99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5E2F-0471-43BB-B4AF-8288AED2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59C3D-A43B-499D-9CF6-F5B86243A4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6AF1-2EF3-46E1-B02F-C395EE43D0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64D-4CBE-408C-8F03-ABA2C284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16B-A7F3-408D-A420-660AA3B2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751-0C9C-4DDF-8F67-8D938846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4858-9651-466C-AE23-5D191240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6160" y="57240"/>
            <a:ext cx="884232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9A22-C79E-4838-BE08-F81616B5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6D8-CC27-4F7F-B14B-48E4566B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B9E4-3B15-4EED-B197-41B78874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EFE-B8DB-4558-B254-3B579A7B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731-3588-4484-8B49-470E6B74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FDE3-5ABB-4C70-BEF8-5F79488E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F23-3F8E-4898-9CAB-6C1A1711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A0C-CA96-42A2-A5FB-1C019CE52B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D301-7FD6-437A-9423-D83E2188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0FE5-24E8-4505-8ABB-96B141DF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407C7-0F23-4495-B74E-6EEEEDBC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6160" y="57240"/>
            <a:ext cx="884232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B865-38C1-43CC-BD65-9962880F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D989-A164-48FE-A563-A780D737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ABA6-DA65-428B-A9F0-764267A7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2D80-28BE-493E-85E6-D4CC0F5A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647640"/>
            <a:ext cx="8839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489720"/>
            <a:ext cx="8839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238880" y="6492960"/>
            <a:ext cx="0" cy="3603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331120" y="6440040"/>
            <a:ext cx="60984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  <a:ea typeface="MS PGothic"/>
              </a:rPr>
              <a:t>Slide </a:t>
            </a:r>
            <a:fld id="{2D36ACCB-CF51-4667-BAF4-B715715849B8}" type="slidenum">
              <a:rPr b="0" lang="en-US" sz="800" spc="-1" strike="noStrike">
                <a:solidFill>
                  <a:srgbClr val="000066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7380000" y="6561720"/>
            <a:ext cx="950760" cy="2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800" spc="-1" strike="noStrike">
                <a:solidFill>
                  <a:srgbClr val="000066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66"/>
                </a:solidFill>
                <a:latin typeface="Arial"/>
                <a:ea typeface="MS PGothic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79280" y="6588000"/>
            <a:ext cx="2737080" cy="18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2590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89720"/>
            <a:ext cx="8839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238880" y="6492960"/>
            <a:ext cx="0" cy="3603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6588000"/>
            <a:ext cx="2737080" cy="182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3"/>
          </p:nvPr>
        </p:nvSpPr>
        <p:spPr>
          <a:xfrm>
            <a:off x="8331120" y="6442200"/>
            <a:ext cx="60984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66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  <a:ea typeface="MS PGothic"/>
              </a:rPr>
              <a:t>Slide </a:t>
            </a:r>
            <a:fld id="{42D2636A-FA3B-4587-A132-0B6960D77FCD}" type="slidenum">
              <a:rPr b="0" lang="en-US" sz="800" spc="-1" strike="noStrike">
                <a:solidFill>
                  <a:srgbClr val="000066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380000" y="6561720"/>
            <a:ext cx="950760" cy="2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800" spc="-1" strike="noStrike">
                <a:solidFill>
                  <a:srgbClr val="000066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66"/>
                </a:solidFill>
                <a:latin typeface="Arial"/>
                <a:ea typeface="MS PGothic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190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1480" algn="ctr">
              <a:spcBef>
                <a:spcPts val="22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460520" algn="ctr">
              <a:spcBef>
                <a:spcPts val="201"/>
              </a:spcBef>
              <a:buClr>
                <a:srgbClr val="000066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79560" algn="ctr">
              <a:spcBef>
                <a:spcPts val="176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2590560"/>
            <a:ext cx="8839440" cy="14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CTVC-C216:</a:t>
            </a:r>
            <a:br>
              <a:rPr sz="2000"/>
            </a:br>
            <a:br>
              <a:rPr sz="2000"/>
            </a:b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TE12.3: results for edge based prediction 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280" y="4268880"/>
            <a:ext cx="88394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Virginie Druge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37A-4579-46D2-B8AE-09910B59FDC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7.10.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5800" y="685440"/>
            <a:ext cx="884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Edge based prediction in TMuC 0.7.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Results for TE12 configur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Additional resul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1EA7-473A-4AFE-B6F5-BB2557EB889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.10.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Edge based prediction in TMuC 0.7.1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Edge detection using the Sobel operators in the neighboring bloc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Extrapolation of the reference pixels along the direction of the detected e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16360" y="2730600"/>
            <a:ext cx="298764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151E-A9EE-43DE-B793-7F30A8CC26A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.10.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Results for TE12 configuration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TMuC 0.7.1 with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 algn="just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SimSun"/>
              </a:rPr>
              <a:t>#define BUGFIX51  1   in TypeDef.h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 algn="just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SimSun"/>
              </a:rPr>
              <a:t>Parameter „EdgePredictionEnable“ modified in the configuration fi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28840" indent="-285840" algn="just">
              <a:spcBef>
                <a:spcPts val="22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SimSun"/>
              </a:rPr>
              <a:t>Reference: EdgePredictionEnable: 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28840" indent="-285840" algn="just">
              <a:spcBef>
                <a:spcPts val="22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SimSun"/>
              </a:rPr>
              <a:t>Alternative setting: EdgePredictionEnable: 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Bug fix 51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 algn="just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SimSun"/>
              </a:rPr>
              <a:t>Effect of bug: turn off edge based prediction for low complexit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 algn="just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SimSun"/>
              </a:rPr>
              <a:t>Anchors had to be changed to show the effect of edge based prediction for low complexit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Compiler: gcc 4.4.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Linux 64 bi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DEFA-8A65-43A6-AA15-77771B3F71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.10.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Results for TE12 configuration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00" y="1270080"/>
            <a:ext cx="4280040" cy="2698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11600" y="1268280"/>
            <a:ext cx="4281480" cy="27003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 fontScale="99000"/>
          </a:bodyPr>
          <a:p>
            <a:pPr marL="380160" indent="-380160" algn="just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Results for intra only configur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16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16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16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16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16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16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160" indent="-380160" algn="just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Very little impact of edge based prediction when all intra tools are enabl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160" indent="-380160" algn="just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Competition with unified intra predi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160" indent="-380160" algn="just">
              <a:lnSpc>
                <a:spcPct val="90000"/>
              </a:lnSpc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Lack of harmonization with important intra tools: MDDT, adaptive residual scan, ROT, A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A795C-7557-440A-A0AC-46C7D4B476A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.10.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Additional result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Second approach: intra tools are turned off and only one tool is turned on for comparis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CIP, ROT, AIS, MDDT, adaptive scan and unified intra are turned of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TMuC 0.7.1 with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 algn="just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SimSun"/>
              </a:rPr>
              <a:t>#define BUGFIX51  1   in TypeDef.h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 algn="just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SimSun"/>
              </a:rPr>
              <a:t>Parameter „EdgePredictionEnable“ modified in the configuration fi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428840" indent="-285840" algn="just">
              <a:spcBef>
                <a:spcPts val="22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SimSun"/>
              </a:rPr>
              <a:t>Reference: EdgePredictionEnable: 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428840" indent="-285840" algn="just">
              <a:spcBef>
                <a:spcPts val="22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SimSun"/>
              </a:rPr>
              <a:t>Alternative setting: EdgePredictionEnable: 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Only two seconds of each sequence encod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3BCE-F470-4B0E-9C08-FA9F689DDE7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.10.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Additional result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6160" y="1557360"/>
            <a:ext cx="4467240" cy="252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64160" y="1557360"/>
            <a:ext cx="4479840" cy="2521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Results for intra only configur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Good for content with sharp ed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Little impact for content with textures such as tre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FE25-2871-4A28-840A-FA3233E311E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.10.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6160" y="57240"/>
            <a:ext cx="88423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66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3200" bIns="43200" anchor="t">
            <a:normAutofit/>
          </a:bodyPr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Little impact of EBP for TE12 test configur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Results with other test configurations show the potential of the techniq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Harmonization with some intra tools is lacking. Better gain is expected if EBP is harmonized with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 algn="just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SimSun"/>
              </a:rPr>
              <a:t>MDD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 algn="just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SimSun"/>
              </a:rPr>
              <a:t>Adaptive sca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52560" indent="-378000" algn="just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SimSun"/>
              </a:rPr>
              <a:t>AI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4120" indent="-384120" algn="just">
              <a:spcBef>
                <a:spcPts val="15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SimSun"/>
              </a:rPr>
              <a:t>Proposal: further study edge based prediction harmonized with other intra tools in the context of a tool/core experi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39FC3-E7BD-4AE6-B826-ABD3E1DF5E0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7.10.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09:08:38Z</dcterms:created>
  <dc:creator>Virginie Drugeon</dc:creator>
  <dc:description/>
  <dc:language>en-US</dc:language>
  <cp:lastModifiedBy>virginie.drugeon</cp:lastModifiedBy>
  <dcterms:modified xsi:type="dcterms:W3CDTF">2010-10-07T03:03:40Z</dcterms:modified>
  <cp:revision>89</cp:revision>
  <dc:subject/>
  <dc:title>Results on edge based prediction</dc:title>
</cp:coreProperties>
</file>