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2903D-A137-4905-A895-33EB3227B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3C3BB-5D3D-4521-9490-12EDC1B2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30F95-64E6-4054-957F-6F2D8185B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11E22-FB41-427F-83D3-17A11F800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2363F-0011-479C-81D1-BD397FF22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A4F75-AB51-4E6F-80FA-936B0803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C7AFF1-E9CD-42A5-B776-F1823945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32539-A3DF-4D08-B86C-92EF56F4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20E75-CD7C-4264-8513-6DC2F0DC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6160" y="57240"/>
            <a:ext cx="8842320" cy="25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0DCCB-4BE4-44E6-AC9A-C65F80F9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BF38F-4C18-47B9-9F58-A4CD8A70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CDBCA-702B-4F6E-B8B2-B84FBAFC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2BAC1-8CFA-403D-A955-FDBD0DB2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C2776-F79B-422F-9D19-D900AB46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6ABBE-C11F-4CE0-B748-8A8270A3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07E08-3486-46F9-8EAC-249A300C6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D0551-19BA-406A-A162-3B0B2A03E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D0004-1854-4711-9B83-2FF41316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26FA8-14E7-4DA1-AE03-2853A516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01394-3BB2-4529-A816-2FDF6F31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6160" y="57240"/>
            <a:ext cx="8842320" cy="25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312E6-DA22-4C21-9508-E0A9C066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8C5B6-033E-4462-8FCA-F5219825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2F224-A192-4449-BA7B-3F4FD66D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C8502-E7E5-41A8-B347-BB1A507F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647640"/>
            <a:ext cx="88394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6489720"/>
            <a:ext cx="88394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238880" y="6492960"/>
            <a:ext cx="0" cy="3603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331120" y="6375600"/>
            <a:ext cx="60984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66"/>
                </a:solidFill>
                <a:latin typeface="Arial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  <a:ea typeface="MS PGothic"/>
              </a:rPr>
              <a:t>Slide </a:t>
            </a:r>
            <a:fld id="{9A65200E-B54A-4CEC-8F97-81EA3A3E3EEC}" type="slidenum">
              <a:rPr b="0" lang="en-US" sz="800" spc="-1" strike="noStrike">
                <a:solidFill>
                  <a:srgbClr val="000066"/>
                </a:solidFill>
                <a:latin typeface="Arial"/>
                <a:ea typeface="MS P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7380000" y="6497280"/>
            <a:ext cx="950760" cy="2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800" spc="-1" strike="noStrike">
                <a:solidFill>
                  <a:srgbClr val="000066"/>
                </a:solidFill>
                <a:latin typeface="Arial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66"/>
                </a:solidFill>
                <a:latin typeface="Arial"/>
                <a:ea typeface="MS PGothic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7380000" y="6735600"/>
            <a:ext cx="1560600" cy="1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66"/>
                </a:solidFill>
                <a:latin typeface="Arial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66"/>
                </a:solidFill>
                <a:latin typeface="Arial"/>
                <a:ea typeface="MS PGothic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179280" y="6588000"/>
            <a:ext cx="2737080" cy="1825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3708360" y="6545160"/>
            <a:ext cx="237492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JCTVC-C21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2590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6489720"/>
            <a:ext cx="88394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38880" y="6492960"/>
            <a:ext cx="0" cy="3603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9280" y="6588000"/>
            <a:ext cx="2737080" cy="1825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ldNum" idx="4"/>
          </p:nvPr>
        </p:nvSpPr>
        <p:spPr>
          <a:xfrm>
            <a:off x="8331120" y="6375600"/>
            <a:ext cx="60984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66"/>
                </a:solidFill>
                <a:latin typeface="Arial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  <a:ea typeface="MS PGothic"/>
              </a:rPr>
              <a:t>Slide </a:t>
            </a:r>
            <a:fld id="{79F36CC8-AAC7-48D6-A858-99DAD8CE2206}" type="slidenum">
              <a:rPr b="0" lang="en-US" sz="800" spc="-1" strike="noStrike">
                <a:solidFill>
                  <a:srgbClr val="000066"/>
                </a:solidFill>
                <a:latin typeface="Arial"/>
                <a:ea typeface="MS P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5"/>
          </p:nvPr>
        </p:nvSpPr>
        <p:spPr>
          <a:xfrm>
            <a:off x="7380000" y="6497280"/>
            <a:ext cx="950760" cy="2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800" spc="-1" strike="noStrike">
                <a:solidFill>
                  <a:srgbClr val="000066"/>
                </a:solidFill>
                <a:latin typeface="Arial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66"/>
                </a:solidFill>
                <a:latin typeface="Arial"/>
                <a:ea typeface="MS PGothic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6"/>
          </p:nvPr>
        </p:nvSpPr>
        <p:spPr>
          <a:xfrm>
            <a:off x="7380000" y="6735600"/>
            <a:ext cx="1560600" cy="1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66"/>
                </a:solidFill>
                <a:latin typeface="Arial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66"/>
                </a:solidFill>
                <a:latin typeface="Arial"/>
                <a:ea typeface="MS PGothic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6545160"/>
            <a:ext cx="237492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JCTVC-C21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904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41480" algn="ctr">
              <a:spcBef>
                <a:spcPts val="22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460520" algn="ctr">
              <a:spcBef>
                <a:spcPts val="201"/>
              </a:spcBef>
              <a:buClr>
                <a:srgbClr val="000066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1879560" algn="ctr">
              <a:spcBef>
                <a:spcPts val="176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5" marL="1879560">
              <a:spcBef>
                <a:spcPts val="349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6" marL="1879560">
              <a:spcBef>
                <a:spcPts val="349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hevc.kw.bbc.co.uk/trac/browser/branches/0.8-panasonic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evc.kw.bbc.co.uk/trac/browser/branches/0.7-panasonic" TargetMode="External"/><Relationship Id="rId2" Type="http://schemas.openxmlformats.org/officeDocument/2006/relationships/hyperlink" Target="http://hevc.kw.bbc.co.uk/trac/browser/branches/0.8-panasonic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evc.kw.bbc.co.uk/trac/browser/branches/0.7-panasonic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2205000"/>
            <a:ext cx="8839440" cy="14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TE12.5: Results for Adaptive loop filter using prediction and residual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52280" y="4268880"/>
            <a:ext cx="88394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Matthias Narroschk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Matthias Narrosch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920D7-C38E-400C-B58D-F0EA257E4AA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>07.10.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66"/>
                </a:solidFill>
                <a:latin typeface="Arial"/>
              </a:rPr>
              <a:t>Sequence dependent Y-BD-rate gains 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marL="38412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Random access, Low Complex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7600" y="1268280"/>
            <a:ext cx="8840880" cy="442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tthias Narrosch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33FD2-8D10-4E4B-ACBF-77AFA63AABE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7.10.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66"/>
                </a:solidFill>
                <a:latin typeface="Arial"/>
              </a:rPr>
              <a:t>Sequence dependent Y-BD-rate gains 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marL="38412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Low delay, High Efficienc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7600" y="1268280"/>
            <a:ext cx="8840880" cy="442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tthias Narrosch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3AAE5-D576-4E50-92A6-6CD6BAA6630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7.10.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66"/>
                </a:solidFill>
                <a:latin typeface="Arial"/>
              </a:rPr>
              <a:t>Sequence dependent Y-BD-rate gains 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marL="38412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Low delay, Low Complex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7600" y="1197000"/>
            <a:ext cx="8840880" cy="442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tthias Narrosch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CE2E5-91E5-401A-AF96-2EEB508C9EB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7.10.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66"/>
                </a:solidFill>
                <a:latin typeface="Arial"/>
              </a:rPr>
              <a:t>Small integration bug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marL="384120" indent="-384120" algn="just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For a couple of frames, an encoder-decoder mismatch occured in software of branch 0.7-panasonic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-378000" algn="just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SimSun"/>
              </a:rPr>
              <a:t>Fix leads to slightly higher coding efficienc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-378000" algn="just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SimSun"/>
              </a:rPr>
              <a:t>Bug is already fixed in branch 0.8-panasonic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tthias Narrosch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EE494-8CD6-4E77-8E18-3576FB72A1E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7.10.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66"/>
                </a:solidFill>
                <a:latin typeface="Arial"/>
              </a:rPr>
              <a:t>Conclusion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7240" y="685800"/>
            <a:ext cx="8844120" cy="59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marL="384120" indent="-384120" algn="just">
              <a:lnSpc>
                <a:spcPct val="90000"/>
              </a:lnSpc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Adaptive-loop filter using prediction and residual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 was first proposed in Dresden as part of the proposal JCTVC-A114 and was introduced in the TMu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 algn="just">
              <a:lnSpc>
                <a:spcPct val="90000"/>
              </a:lnSpc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Software is available in the integration branc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-378000" algn="just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99"/>
                </a:solidFill>
                <a:uFillTx/>
                <a:latin typeface="Arial"/>
                <a:ea typeface="SimSun"/>
                <a:hlinkClick r:id="rId1"/>
              </a:rPr>
              <a:t>http://hevc.kw.bbc.co.uk/trac/browser/branches/0.8-panasonic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-378000" algn="just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SimSun"/>
              </a:rPr>
              <a:t>Currently being double checke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 algn="just">
              <a:lnSpc>
                <a:spcPct val="90000"/>
              </a:lnSpc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Increased coding efficiency for each individual sequence in each individual test compared to QC_AL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 algn="just">
              <a:lnSpc>
                <a:spcPct val="90000"/>
              </a:lnSpc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Overall average bit rate reductions achieved by the harmonized filter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-378000" algn="just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3.5% for All Intra, 4.7% for Random Access, 5.6% for Low Dela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 algn="just">
              <a:lnSpc>
                <a:spcPct val="90000"/>
              </a:lnSpc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The technique seems to have value for the standardiz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 algn="just">
              <a:lnSpc>
                <a:spcPct val="90000"/>
              </a:lnSpc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Proposal: Include into the T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 algn="just">
              <a:lnSpc>
                <a:spcPct val="90000"/>
              </a:lnSpc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Tanks to Qualcomm for supporting the harmonization wor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tthias Narrosch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BDC79-CE02-4A17-AD31-C280A372072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7.10.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66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5800" y="685440"/>
            <a:ext cx="8845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aptive loop filter using the prediction and residu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Software integr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Experiments and resul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tthias Narrosch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A1576-E906-43A7-BC30-173535DDD4B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7.10.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Adaptive loop filter using the prediction and residual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marL="384120" indent="-384120" algn="just">
              <a:lnSpc>
                <a:spcPct val="90000"/>
              </a:lnSpc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To reduce quantization noise, a system of three linear filters is applied t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-378000" algn="just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SimSun"/>
              </a:rPr>
              <a:t>Deblocked signa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-378000" algn="just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SimSun"/>
              </a:rPr>
              <a:t>Prediction signa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-378000" algn="just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SimSun"/>
              </a:rPr>
              <a:t>Quantized prediction erro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412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 algn="just">
              <a:lnSpc>
                <a:spcPct val="90000"/>
              </a:lnSpc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The filter coefficients    and the offset   are estimated once per frame by minimizing the mean squared reconstruction err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 algn="just">
              <a:lnSpc>
                <a:spcPct val="90000"/>
              </a:lnSpc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The estimated filter coefficients are coded and transmitt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 algn="just">
              <a:lnSpc>
                <a:spcPct val="90000"/>
              </a:lnSpc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The filter sizes              are estimated by minimizing RD cos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840" bIns="-428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826920" y="2924280"/>
                <a:ext cx="604872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O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</m:nary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170160" y="1471680"/>
                <a:ext cx="3636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097080" y="1832040"/>
                <a:ext cx="2509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167360" y="2189160"/>
                <a:ext cx="3333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525840" y="4056120"/>
                <a:ext cx="3920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655720" y="5815080"/>
                <a:ext cx="94644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940360" y="4162320"/>
                <a:ext cx="252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tthias Narrosch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2A986-FCBF-4EC3-AC91-E2240EE220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7.10.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Software integration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7240" y="685800"/>
            <a:ext cx="8844120" cy="59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marL="384120" indent="-384120" algn="just">
              <a:lnSpc>
                <a:spcPct val="90000"/>
              </a:lnSpc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Integrated into a branch of the 0.7 TMuC software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	</a:t>
            </a:r>
            <a:r>
              <a:rPr b="0" lang="en-US" sz="2400" spc="-1" strike="noStrike" u="sng">
                <a:solidFill>
                  <a:srgbClr val="00cc99"/>
                </a:solidFill>
                <a:uFillTx/>
                <a:latin typeface="Arial"/>
                <a:ea typeface="SimSun"/>
                <a:hlinkClick r:id="rId1"/>
              </a:rPr>
              <a:t>http://hevc.kw.bbc.co.uk/trac/browser/branches/0.7-panasoni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 algn="just">
              <a:lnSpc>
                <a:spcPct val="90000"/>
              </a:lnSpc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To define a fixed software version for TE12, the branch was write protected by the Chairman of the Software Ah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 algn="just">
              <a:lnSpc>
                <a:spcPct val="90000"/>
              </a:lnSpc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Currently, the software is being merged into the trunk using the 0.8 integration branch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	</a:t>
            </a:r>
            <a:r>
              <a:rPr b="0" lang="en-US" sz="2400" spc="-1" strike="noStrike" u="sng">
                <a:solidFill>
                  <a:srgbClr val="00cc99"/>
                </a:solidFill>
                <a:uFillTx/>
                <a:latin typeface="Arial"/>
                <a:ea typeface="SimSun"/>
                <a:hlinkClick r:id="rId2"/>
              </a:rPr>
              <a:t>http://hevc.kw.bbc.co.uk/trac/browser/branches/0.8-panasoni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 algn="just">
              <a:lnSpc>
                <a:spcPct val="90000"/>
              </a:lnSpc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Integration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-378000" algn="just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SimSun"/>
              </a:rPr>
              <a:t>2 Filter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428840" indent="-285840" algn="just">
              <a:lnSpc>
                <a:spcPct val="90000"/>
              </a:lnSpc>
              <a:spcBef>
                <a:spcPts val="22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  <a:ea typeface="SimSun"/>
              </a:rPr>
              <a:t>Filter of original contribution JCTVC-A114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428840" indent="-285840" algn="just">
              <a:lnSpc>
                <a:spcPct val="90000"/>
              </a:lnSpc>
              <a:spcBef>
                <a:spcPts val="22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  <a:ea typeface="SimSun"/>
              </a:rPr>
              <a:t>Harmonized version with the QC_ALF filt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-378000" algn="just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SimSun"/>
              </a:rPr>
              <a:t>Functionality to write out prediction and quantized prediction error on encoder/decoder sid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tthias Narrosch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BC104-21BF-4BBD-8D78-80E4C738B6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7.10.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66"/>
                </a:solidFill>
                <a:latin typeface="Arial"/>
              </a:rPr>
              <a:t>Experiments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Software:</a:t>
            </a:r>
            <a:br>
              <a:rPr sz="2400"/>
            </a:br>
            <a:r>
              <a:rPr b="0" lang="en-US" sz="2400" spc="-1" strike="noStrike" u="sng">
                <a:solidFill>
                  <a:srgbClr val="00cc99"/>
                </a:solidFill>
                <a:uFillTx/>
                <a:latin typeface="Arial"/>
                <a:ea typeface="SimSun"/>
                <a:hlinkClick r:id="rId1"/>
              </a:rPr>
              <a:t>http://hevc.kw.bbc.co.uk/trac/browser/branches/0.7-panasoni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SimSun"/>
              </a:rPr>
              <a:t>Tested filter: Harmonized version with the QC_ALF filt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Hardware: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SimSun"/>
              </a:rPr>
              <a:t>Linux Cluster with cpus of various types, such a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428840" indent="-285840">
              <a:spcBef>
                <a:spcPts val="22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  <a:ea typeface="SimSun"/>
              </a:rPr>
              <a:t>Intel Xeon E5472  @ 3.00GH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428840" indent="-285840">
              <a:spcBef>
                <a:spcPts val="22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  <a:ea typeface="SimSun"/>
              </a:rPr>
              <a:t>Intel Core i7 970 @ 3.20GH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428840" indent="-285840">
              <a:spcBef>
                <a:spcPts val="22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  <a:ea typeface="SimSun"/>
              </a:rPr>
              <a:t>Intel Core(TM)2 CPU 6600  @ 2.40GH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428840" indent="-285840">
              <a:spcBef>
                <a:spcPts val="22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  <a:ea typeface="SimSun"/>
              </a:rPr>
              <a:t>Intel Pentium D CPU 3.20GH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Fast cpus were assigned with priority to the high efficiency test cas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Configuration: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According to TE12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tthias Narrosch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4FFE4-D2F3-4212-BDBA-9EE4390BB2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7.10.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66"/>
                </a:solidFill>
                <a:latin typeface="Arial"/>
              </a:rPr>
              <a:t>Experimental results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marL="38412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Comparison to the anchors              and to             QC_AL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7600" y="1247760"/>
            <a:ext cx="4829040" cy="5143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87960" y="1238400"/>
            <a:ext cx="2876760" cy="514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tthias Narrosch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58BF6-E479-4413-8A50-9B3E851C98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7.10.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66"/>
                </a:solidFill>
                <a:latin typeface="Arial"/>
              </a:rPr>
              <a:t>Sequence dependent Y-BD-rate gains 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marL="38412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All Intra, High Efficienc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7600" y="1197000"/>
            <a:ext cx="8840880" cy="442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tthias Narrosch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093D3-FB87-444C-BD92-BE16216698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7.10.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66"/>
                </a:solidFill>
                <a:latin typeface="Arial"/>
              </a:rPr>
              <a:t>Sequence dependent Y-BD-rate gains 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marL="38412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All Intra, Low Complex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7600" y="1197000"/>
            <a:ext cx="8840880" cy="442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tthias Narrosch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F15F4-0158-49A5-969F-8BC6BA9F0F2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7.10.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66"/>
                </a:solidFill>
                <a:latin typeface="Arial"/>
              </a:rPr>
              <a:t>Sequence dependent Y-BD-rate gains 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marL="38412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Random access, High Efficienc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7600" y="1125360"/>
            <a:ext cx="8840880" cy="442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tthias Narrosch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5769B-D208-45FB-9CA9-6071FAFDB1A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7.10.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8T09:08:38Z</dcterms:created>
  <dc:creator>Matthias Narroschke</dc:creator>
  <dc:description/>
  <dc:language>en-US</dc:language>
  <cp:lastModifiedBy>Matthias.Narroschke</cp:lastModifiedBy>
  <dcterms:modified xsi:type="dcterms:W3CDTF">2010-10-07T03:04:42Z</dcterms:modified>
  <cp:revision>116</cp:revision>
  <dc:subject/>
  <dc:title>TE12.5: Results for Adaptive loop filter using prediction and residual</dc:title>
</cp:coreProperties>
</file>