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07A4-4F1E-4B59-93EE-B8B1F49BA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00B-2483-463B-B33C-8A39AA6DCE5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ossible predictor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can be generated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FF33-A5F0-4392-A1AC-EAA2FB1DE0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165-C195-4272-A2D4-9C7D1D46ED4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BA5-07AC-4F0F-A761-000EE3DA01C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63D1-FB07-44CD-84D8-8702E9082D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CA1-AE3B-4B3C-8A0A-A7FD482BDE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7A3-4D9D-4B5B-96F2-47CB896A79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1ABC-8F0F-4821-88DC-7C7BBB157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105C-7F9B-47D6-B92B-2217A86F8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6503-FD32-4AF6-AAAC-EB3575DB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2E85-23FB-48C9-A95F-096A17994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37FD-7885-4D74-8ED6-6BF7B6CB2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BA62C-8592-4DAE-9F81-6D56157BC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7228C-4B71-4AA7-9BFF-1A8B2BA11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96A77-D4E6-4E57-B197-1B9777A3F5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84E16-EF54-4D1C-9477-AFC556A78C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02854-DAC1-426A-A9D0-EE0C78030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FC0F-6321-48BA-8865-3C398AA19B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B5139-D45E-4009-9E61-C92A97CD6C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8EA27-53E7-4A98-9290-0230A1C33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AA99-80CD-40AC-9EA5-755CE351C2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29071-99DB-47CF-AFD5-7C1848EDC3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7F105-DFFA-4179-9BC1-361199EDCE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CC1AD-3953-4FB1-80DD-0AB232D7E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49717-DF12-4FC5-B868-05393DB74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2364-80CC-40E7-9149-B1FC0295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2900-2B5A-49FC-9A4C-0335B7C2F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2F8A-2F9F-4805-ABDE-49EF92E21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E4D3-CEAB-4843-BBA3-61807404D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6314-E55C-440E-A9F4-67BF0446E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03E2-0C75-4731-9349-1E98A53B2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48A-15B2-4A57-907E-A39D9196E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FA3-5EE6-482D-A071-F8211523FC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6: Overlapped Block Intra Prediction (OBI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i Zhang, Xun Guo, Jicheng An, Mei Guo, Yu-Wen Huang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Shawmin 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uangzh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-15 October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71680" y="1142640"/>
            <a:ext cx="8054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 pix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being predi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predictor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predictor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predictor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n be calcul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weighting value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n th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mod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on of OBIP Pix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2739960" y="3567240"/>
          <a:ext cx="354672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9960" y="3567240"/>
                    <a:ext cx="3546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1143000" y="4309920"/>
          <a:ext cx="115092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309920"/>
                    <a:ext cx="1150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823D-8AF6-4F9F-85E4-0D7A73692B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tical, horizontal and diagonal directions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of OBIP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214200" y="1863720"/>
            <a:ext cx="8713800" cy="428004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267-188F-4CFF-9BF2-40285D7E11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ample of Weighting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848720" cy="509256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6E88-ACEE-4634-B180-E6312CBAED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0768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ill keep the TMuC anchor intra prediction m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9 OBIP modes ar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to the H.264 intra predic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4x4 and 8x8 block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eighboring blocks are one of 17 or 34 “single-directional” mo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dictor based on this mode is formed as it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weighting coefficients are determined based on the mode mapped from 17 or 34 modes to 9 closest H.264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P on/off switching at TU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incompatibility, OBIP doesn’t support Edge-Based Prediction or Planar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n TMu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9793-1C71-425C-9299-FE87AB4FA7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OBIP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3CA-EF63-4C7E-8A02-D1E41714D1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680" y="1071720"/>
            <a:ext cx="80546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TMuC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nditions – JCTVC-B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Microsoft for cross verifying our results (C27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8A2-BAEB-4353-BC66-6368AD2CFB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71720" y="2700360"/>
          <a:ext cx="7072200" cy="3371760"/>
        </p:xfrm>
        <a:graphic>
          <a:graphicData uri="http://schemas.openxmlformats.org/drawingml/2006/table">
            <a:tbl>
              <a:tblPr/>
              <a:tblGrid>
                <a:gridCol w="1333440"/>
                <a:gridCol w="957240"/>
                <a:gridCol w="955440"/>
                <a:gridCol w="957600"/>
                <a:gridCol w="955440"/>
                <a:gridCol w="957240"/>
                <a:gridCol w="955800"/>
              </a:tblGrid>
              <a:tr h="439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0%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time and decoding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ime is almost 1.83x compared with current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ing time is almost 1.02x compared with current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 execution time provided here is an average of the executions in our computer farm (i.e. computer clusters)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071-6F66-4419-92AC-03EC92F81E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lapped block intra prediction (OBIP) algorithm has been inves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BD-rate reduction is 1% and 1.7% for high efficiency and low complexity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of OBIP will not increase much for th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nly have time to modify our old OBIP proposal to fit in TMuC, and don’t have time to optimiz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continue the investigation of this technique in a Test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486C-EDBA-4541-A9C9-479FE6195C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22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2B7-7189-48AA-BA41-73B14C87F2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OBIP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4278-2F35-4A40-B387-74853C52D5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lapped Block Intra Prediction (OBIP) method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 is analogous to OB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multiple predictors using the modes from the current block and the neighbo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ediction of the current block using the weighted sum of these predi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ra high efficiency – BD-rate reduction of 1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ra low complexity – BD-rate reduction of 1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D45-EE5D-4F72-9DDA-94B5572EBA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OBIP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6C53-2EB2-4DFA-BE3E-0CE70E8ED3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directional pre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directional prediction modes and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M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33 directional modes and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ell in simple textur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directional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-directional intra prediction (B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bination of two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dditional mod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ed6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 Directional Intra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841-B865-43E1-B8BA-0A6856AB24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of images will extend cross block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rection per block may be too 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haracteristic of a block has correlation to its neighboring block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of OB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71760" y="3214800"/>
            <a:ext cx="5905440" cy="275436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 rot="3246600">
            <a:off x="6021000" y="3203640"/>
            <a:ext cx="714600" cy="4158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 rot="8471400">
            <a:off x="5090760" y="5059080"/>
            <a:ext cx="847800" cy="585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141-B931-47CB-8F61-325D169F5F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sed OBIP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933-9FDE-4413-80A5-356BB17B91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ired by the well-known overlapped block motion compensation (OBMC)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the mode correlations among neighbo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 of the current block, the left block and the uppe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ear combination of 3 possible predictors for each pixel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i-directional prediction with little signalin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ch complexity increase for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OBIP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9D6-BB98-4447-88C4-A77C6FB4C7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urrent block is being predi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s of the left block A and upper block B are also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pixel in block C, up to 3 predictors ar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C, on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, no flag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n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, no flag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ustration of OB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00240" y="3500280"/>
            <a:ext cx="1285920" cy="12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000240" y="4786200"/>
            <a:ext cx="1285920" cy="128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714680" y="4786200"/>
            <a:ext cx="1285560" cy="12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12"/>
          <p:cNvCxnSpPr/>
          <p:nvPr/>
        </p:nvCxnSpPr>
        <p:spPr>
          <a:xfrm>
            <a:off x="4214880" y="4000680"/>
            <a:ext cx="1929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Straight Arrow Connector 13"/>
          <p:cNvCxnSpPr/>
          <p:nvPr/>
        </p:nvCxnSpPr>
        <p:spPr>
          <a:xfrm>
            <a:off x="4214880" y="5000760"/>
            <a:ext cx="1929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14"/>
          <p:cNvCxnSpPr/>
          <p:nvPr/>
        </p:nvCxnSpPr>
        <p:spPr>
          <a:xfrm>
            <a:off x="2785680" y="5857920"/>
            <a:ext cx="3358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TextBox 17"/>
          <p:cNvSpPr/>
          <p:nvPr/>
        </p:nvSpPr>
        <p:spPr>
          <a:xfrm>
            <a:off x="6153120" y="564372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6143760" y="378612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6143760" y="477360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46EE-0FE5-48AA-B0AE-598D6B437D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1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0-10-14T14:38:26Z</dcterms:modified>
  <cp:revision>1223</cp:revision>
  <dc:subject/>
  <dc:title>Title: Arial Bold 32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226133</vt:r8>
  </property>
  <property fmtid="{D5CDD505-2E9C-101B-9397-08002B2CF9AE}" pid="3" name="_AuthorEmail">
    <vt:lpwstr>shawmin.lei@mediatek.com</vt:lpwstr>
  </property>
  <property fmtid="{D5CDD505-2E9C-101B-9397-08002B2CF9AE}" pid="4" name="_AuthorEmailDisplayName">
    <vt:lpwstr>Shawmin Lei(雷少民)</vt:lpwstr>
  </property>
  <property fmtid="{D5CDD505-2E9C-101B-9397-08002B2CF9AE}" pid="5" name="_EmailSubject">
    <vt:lpwstr>C193 final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