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845-2F79-4F09-A5D2-FFC772F076E5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name is Kenichi Iwata from Renesas Electronics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present  a Renesas’ response for the CfP. A1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keep working on performance evaluation with TMuC following common tests condition in AHG on Intra Predi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s of Intra-picture averages 26% in alpha anchor,  and 53% at m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, we focused on a much reduction of intra-bit and improve quality. It also good effect on following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VC coding, intra-frame prediction use only neighboring pixel, we propose more pixels to create predicted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idea is based on that 2D picture has it own correLAtion, periodic te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texture often exists in a frame as shown in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reduced this overlapping redundancy using block-matching-based intra vector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is scheme, we can use more pixels than the AVC intra for intra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PEt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E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ts of Intra-picture averages 26% in alpha anchor,  and 53% at m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, we focused on a much reduction of intra-bit and improve quality. It also good effect on following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VC coding, intra-frame prediction use only neighboring pixel, we propose more pixels to create predicted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idea is based on that 2D picture has it own correLAtion, periodic te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texture often exists in a frame as shown in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reduced this overlapping redundancy using block-matching-based intra vector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is scheme, we can use more pixels than the AVC intra for intra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PEt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E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our proposal, search point covers 33x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is contribution, intra vector prediction is conducted by each 8x8 block unit and searches 16 blocks r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otion vectors are signaled by calculating PMV to neighboring 8x8 blocks. The coding mode of the intra vector prediction is identified by I_NxN mode and multiplexed 1-bit intra vector flag. We apply the intra vector prediction only to I sl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expand prediction block in N, integer times ba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 is predicted image of Anchor and Renesas’ propo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image of Renesas’ proposal was improved significantly, as you can s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understood the predicted error is reduced by our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8E48-DF30-4366-BC62-A257FE6F3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C1ED-FE70-4E94-AEEB-4BE51B219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AFD8-DD5E-4C19-B3AD-8E886F55D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1822-5462-4EED-AE48-6C4B46CE1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6A5F-ADEE-4497-AC30-C1CA22962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45F-AAE2-431B-9E6F-ED6E635BB6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E46-555C-4E1D-BC41-B00F3AB040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567E-61D7-4C31-9E00-03386F91BC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CD02-19AD-4F1E-8B0E-3EE0715121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5D15-BFE2-4B4C-8B5D-442EB9E7E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823E-2146-4803-877F-91BB1FCE2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A6F6-B697-46F4-98E7-415798C8F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ECB1-2CF6-4181-BB3C-B33FAEBFD7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576-5049-4DE4-BBFD-538C1C5F84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DD7-12E2-4EC0-B000-3F704FC71D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C0C6-637D-4E0D-9387-171C81F710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A20-1618-4713-B7D7-60A0A1E05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E74C-096B-472E-96E6-123E5A6ADF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EB3B-2712-4FB9-B647-1DDA75274C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AD0F-EAD1-4D33-81C5-127DE2AD7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B3A0-25F3-4B37-A15E-887AF60D0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4DE2-9683-4B00-8748-F73CC3C8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5F38-CFF8-434A-B21C-AF8A3B0BE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0C3A-CBF8-4229-A9AF-E310083E8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77400"/>
            <a:ext cx="8364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74840" y="6580080"/>
            <a:ext cx="418608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589800"/>
            <a:ext cx="420840" cy="2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81E-010E-4736-A2B5-0E33A853A8A6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092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457880"/>
            <a:ext cx="9144000" cy="240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3040" y="5205240"/>
            <a:ext cx="82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iji Mochizuki, Kenichi Iwata, Ryoji Hashi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3040" y="479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nesas Electronic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4760" y="2201760"/>
            <a:ext cx="83646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474840" y="6507000"/>
            <a:ext cx="418608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83840" y="5821200"/>
            <a:ext cx="18558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97480" y="222120"/>
            <a:ext cx="2519640" cy="435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1316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6492960"/>
            <a:ext cx="9144000" cy="365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979360"/>
            <a:ext cx="8364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5"/>
          </p:nvPr>
        </p:nvSpPr>
        <p:spPr>
          <a:xfrm>
            <a:off x="474840" y="6580080"/>
            <a:ext cx="418608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6"/>
          </p:nvPr>
        </p:nvSpPr>
        <p:spPr>
          <a:xfrm>
            <a:off x="-360" y="6589800"/>
            <a:ext cx="420840" cy="2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9EBB-C0A9-4CBF-9289-29B3D6053B00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1440" y="3502080"/>
            <a:ext cx="9148680" cy="335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309840" y="2924280"/>
            <a:ext cx="2519640" cy="434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6257880"/>
            <a:ext cx="82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nesas Electronics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ftr" idx="7"/>
          </p:nvPr>
        </p:nvSpPr>
        <p:spPr>
          <a:xfrm>
            <a:off x="2476080" y="6507000"/>
            <a:ext cx="418644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4760" y="2201760"/>
            <a:ext cx="83646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intra prediction based on repetitive pixel replenishment (JCTVC-C18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" y="3125880"/>
            <a:ext cx="49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eting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angzho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DDF3123-7047-4801-92CD-9B84B57AB6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al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977760"/>
            <a:ext cx="8364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r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: 0.8%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 : 1.2%, V : 1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oding time : About 2 times against w/o Intra-R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 optimized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66760" y="3201840"/>
            <a:ext cx="5010480" cy="25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3557-20A3-4341-9415-3FF6CEB71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results of Intra RPR on TMu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77760"/>
            <a:ext cx="83646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of each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460520" y="1379520"/>
            <a:ext cx="612936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4EAD-03B1-4CE6-946C-0B0C84023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977400"/>
            <a:ext cx="8364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sas proposed intra prediction based on repetitive pixel replenishment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ra RP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mor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more directions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on TM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rate: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-0.8 % (Y), -1.2% (U), -1.3%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-4.1% (Y), -5.8% (U), -6.3%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oding time : About 2 times against w/o Intra-R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examination of Intra RP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 TE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to novel TMuC (or 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uni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monization with other intra cod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7CA2-572E-4E04-92AD-F0F8431A30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Informative] Experimental results on TMuC 0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977760"/>
            <a:ext cx="8364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 comm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 all other intra coding tool used for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a RPR template block size: 8x8, 16x16, 32x32, 64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ictur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98520" y="3201840"/>
            <a:ext cx="8424720" cy="25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D2D8-6F5A-482C-90B3-76E07FAEDB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77400"/>
            <a:ext cx="8364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ious work (JCTVC-B0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sas proposed intra prediction based on repetitive pixel replenishment (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ra RP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mor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mor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PSNR gain of predicted image against CfP alpha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 of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1.33d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up to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3.30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on TMuC at Basketball Drill (Class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D-Bitrate :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-4.7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BD-PSNR :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0.22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contribution presents more evaluation results of Intra RP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FDA7-6AA0-4AB9-BE6C-232525597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977400"/>
            <a:ext cx="83646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c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nough quality of predicted image by conventional intra prediction caused by using only neighboring pix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ing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-D template matc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intra pred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14800" y="2436840"/>
            <a:ext cx="1981080" cy="1671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081080" y="2443320"/>
            <a:ext cx="1982880" cy="1672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04760" y="3427560"/>
            <a:ext cx="2133720" cy="698400"/>
          </a:xfrm>
          <a:custGeom>
            <a:avLst/>
            <a:gdLst/>
            <a:ahLst/>
            <a:rect l="l" t="t" r="r" b="b"/>
            <a:pathLst>
              <a:path w="1344" h="440">
                <a:moveTo>
                  <a:pt x="1056" y="0"/>
                </a:moveTo>
                <a:lnTo>
                  <a:pt x="1056" y="240"/>
                </a:lnTo>
                <a:lnTo>
                  <a:pt x="0" y="240"/>
                </a:lnTo>
                <a:lnTo>
                  <a:pt x="0" y="440"/>
                </a:lnTo>
                <a:lnTo>
                  <a:pt x="1337" y="435"/>
                </a:lnTo>
                <a:lnTo>
                  <a:pt x="1344" y="0"/>
                </a:lnTo>
                <a:lnTo>
                  <a:pt x="10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00400" y="3427560"/>
            <a:ext cx="3808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41320" y="3414600"/>
            <a:ext cx="381240" cy="381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95480" y="357984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3800" y="3427560"/>
            <a:ext cx="2143080" cy="690480"/>
          </a:xfrm>
          <a:custGeom>
            <a:avLst/>
            <a:gdLst/>
            <a:ahLst/>
            <a:rect l="l" t="t" r="r" b="b"/>
            <a:pathLst>
              <a:path w="1350" h="435">
                <a:moveTo>
                  <a:pt x="1011" y="0"/>
                </a:moveTo>
                <a:lnTo>
                  <a:pt x="1011" y="240"/>
                </a:lnTo>
                <a:lnTo>
                  <a:pt x="3" y="240"/>
                </a:lnTo>
                <a:lnTo>
                  <a:pt x="0" y="435"/>
                </a:lnTo>
                <a:lnTo>
                  <a:pt x="1350" y="431"/>
                </a:lnTo>
                <a:lnTo>
                  <a:pt x="1347" y="0"/>
                </a:lnTo>
                <a:lnTo>
                  <a:pt x="101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7800" y="3427560"/>
            <a:ext cx="3808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3960" y="3351240"/>
            <a:ext cx="380880" cy="380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29200" y="3656160"/>
            <a:ext cx="380880" cy="7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348160" y="2441520"/>
            <a:ext cx="1981440" cy="1671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70400" y="3427560"/>
            <a:ext cx="2135160" cy="690480"/>
          </a:xfrm>
          <a:custGeom>
            <a:avLst/>
            <a:gdLst/>
            <a:ahLst/>
            <a:rect l="l" t="t" r="r" b="b"/>
            <a:pathLst>
              <a:path w="1345" h="435">
                <a:moveTo>
                  <a:pt x="1057" y="0"/>
                </a:moveTo>
                <a:lnTo>
                  <a:pt x="1057" y="240"/>
                </a:lnTo>
                <a:lnTo>
                  <a:pt x="1" y="240"/>
                </a:lnTo>
                <a:lnTo>
                  <a:pt x="0" y="435"/>
                </a:lnTo>
                <a:lnTo>
                  <a:pt x="1345" y="435"/>
                </a:lnTo>
                <a:lnTo>
                  <a:pt x="1345" y="0"/>
                </a:lnTo>
                <a:lnTo>
                  <a:pt x="105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7480" y="3427560"/>
            <a:ext cx="3808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83200" y="3224160"/>
            <a:ext cx="381240" cy="380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62560" y="3427560"/>
            <a:ext cx="38124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78920" y="2822400"/>
            <a:ext cx="158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fit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match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her than AV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9360" y="3959280"/>
            <a:ext cx="836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3120" y="4414680"/>
            <a:ext cx="449424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r image is more similar at the most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, nearer image has more not-coded pixels in referenc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hese pixels are processed greatly affects coding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08240" y="4489560"/>
            <a:ext cx="244944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08240" y="4489560"/>
            <a:ext cx="2449440" cy="1371600"/>
          </a:xfrm>
          <a:custGeom>
            <a:avLst/>
            <a:gdLst/>
            <a:ahLst/>
            <a:rect l="l" t="t" r="r" b="b"/>
            <a:pathLst>
              <a:path w="2112" h="864">
                <a:moveTo>
                  <a:pt x="912" y="624"/>
                </a:moveTo>
                <a:lnTo>
                  <a:pt x="2112" y="624"/>
                </a:lnTo>
                <a:lnTo>
                  <a:pt x="2112" y="0"/>
                </a:lnTo>
                <a:lnTo>
                  <a:pt x="0" y="0"/>
                </a:lnTo>
                <a:lnTo>
                  <a:pt x="0" y="864"/>
                </a:lnTo>
                <a:lnTo>
                  <a:pt x="912" y="864"/>
                </a:lnTo>
                <a:lnTo>
                  <a:pt x="912" y="624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8440" y="5479920"/>
            <a:ext cx="381240" cy="38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9360" y="5477040"/>
            <a:ext cx="379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9360" y="5248440"/>
            <a:ext cx="380880" cy="380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97240" y="5248080"/>
            <a:ext cx="222120" cy="23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68520" y="5400720"/>
            <a:ext cx="303120" cy="303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7960" y="5605560"/>
            <a:ext cx="1192320" cy="63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58000" y="46418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d pixe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80600" y="5932440"/>
            <a:ext cx="19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-coded pixe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4000" y="51735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59800" y="54770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360" y="623736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alid to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5FF1-D2E2-4A87-B898-029695E910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etitive pixel replenish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977400"/>
            <a:ext cx="8364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reference block includes a not-coded area, intra vector is multiplied as (2Vx, 2Vy), and adaptively padding such region by using new reference pixel as shown in Fig. (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scheme is especially effective to predict the cyclic patte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764640" y="56167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) Intra vector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5516280" y="56167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) Adaptive pad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06840" y="3657600"/>
            <a:ext cx="4537800" cy="1891800"/>
            <a:chOff x="4506840" y="3657600"/>
            <a:chExt cx="4537800" cy="1891800"/>
          </a:xfrm>
        </p:grpSpPr>
        <p:sp>
          <p:nvSpPr>
            <p:cNvPr id="218" name="右矢印 111"/>
            <p:cNvSpPr/>
            <p:nvPr/>
          </p:nvSpPr>
          <p:spPr>
            <a:xfrm>
              <a:off x="6130800" y="4843440"/>
              <a:ext cx="287640" cy="3603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6530400" y="4314960"/>
              <a:ext cx="1406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dicted blo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正方形/長方形 142"/>
            <p:cNvSpPr/>
            <p:nvPr/>
          </p:nvSpPr>
          <p:spPr>
            <a:xfrm>
              <a:off x="6711840" y="4627440"/>
              <a:ext cx="6238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"/>
            <p:cNvSpPr/>
            <p:nvPr/>
          </p:nvSpPr>
          <p:spPr>
            <a:xfrm>
              <a:off x="6711840" y="5086440"/>
              <a:ext cx="295560" cy="1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"/>
            <p:cNvSpPr/>
            <p:nvPr/>
          </p:nvSpPr>
          <p:spPr>
            <a:xfrm>
              <a:off x="7010280" y="5086440"/>
              <a:ext cx="324000" cy="168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正方形/長方形 145"/>
            <p:cNvSpPr/>
            <p:nvPr/>
          </p:nvSpPr>
          <p:spPr>
            <a:xfrm>
              <a:off x="4906800" y="4627440"/>
              <a:ext cx="62244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正方形/長方形 146"/>
            <p:cNvSpPr/>
            <p:nvPr/>
          </p:nvSpPr>
          <p:spPr>
            <a:xfrm>
              <a:off x="5235480" y="4168800"/>
              <a:ext cx="622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"/>
            <p:cNvSpPr/>
            <p:nvPr/>
          </p:nvSpPr>
          <p:spPr>
            <a:xfrm>
              <a:off x="5235480" y="4627440"/>
              <a:ext cx="293760" cy="169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5532480" y="4627440"/>
              <a:ext cx="323640" cy="168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正方形/長方形 149"/>
            <p:cNvSpPr/>
            <p:nvPr/>
          </p:nvSpPr>
          <p:spPr>
            <a:xfrm>
              <a:off x="5560920" y="3710160"/>
              <a:ext cx="622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"/>
            <p:cNvSpPr/>
            <p:nvPr/>
          </p:nvSpPr>
          <p:spPr>
            <a:xfrm>
              <a:off x="5560920" y="4168800"/>
              <a:ext cx="295200" cy="169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"/>
            <p:cNvSpPr/>
            <p:nvPr/>
          </p:nvSpPr>
          <p:spPr>
            <a:xfrm>
              <a:off x="5859360" y="4168800"/>
              <a:ext cx="324000" cy="169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線コネクタ 152"/>
            <p:cNvSpPr/>
            <p:nvPr/>
          </p:nvSpPr>
          <p:spPr>
            <a:xfrm>
              <a:off x="4618080" y="46274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線コネクタ 153"/>
            <p:cNvSpPr/>
            <p:nvPr/>
          </p:nvSpPr>
          <p:spPr>
            <a:xfrm flipV="1">
              <a:off x="4916520" y="4186080"/>
              <a:ext cx="287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4506840" y="4094280"/>
              <a:ext cx="784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Vx, Vy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線コネクタ 155"/>
            <p:cNvSpPr/>
            <p:nvPr/>
          </p:nvSpPr>
          <p:spPr>
            <a:xfrm flipV="1">
              <a:off x="4954680" y="3742920"/>
              <a:ext cx="576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4728240" y="3657600"/>
              <a:ext cx="966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Vx, 2Vy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曲線コネクタ 107"/>
            <p:cNvCxnSpPr/>
            <p:nvPr/>
          </p:nvCxnSpPr>
          <p:spPr>
            <a:xfrm rot="5400000">
              <a:off x="5783400" y="4437720"/>
              <a:ext cx="372240" cy="177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Rectangle 25"/>
            <p:cNvSpPr/>
            <p:nvPr/>
          </p:nvSpPr>
          <p:spPr>
            <a:xfrm>
              <a:off x="5989680" y="4340160"/>
              <a:ext cx="592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右中かっこ 160"/>
            <p:cNvSpPr/>
            <p:nvPr/>
          </p:nvSpPr>
          <p:spPr>
            <a:xfrm>
              <a:off x="7445520" y="4643280"/>
              <a:ext cx="71280" cy="43200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800 h 432000"/>
                <a:gd name="textAreaBottom" fmla="*/ 4302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9"/>
                    <a:pt x="10800" y="298"/>
                  </a:cubicBezTo>
                  <a:lnTo>
                    <a:pt x="10800" y="10502"/>
                  </a:lnTo>
                  <a:cubicBezTo>
                    <a:pt x="10800" y="10651"/>
                    <a:pt x="16200" y="10800"/>
                    <a:pt x="21600" y="10800"/>
                  </a:cubicBezTo>
                  <a:cubicBezTo>
                    <a:pt x="16200" y="10800"/>
                    <a:pt x="10800" y="10949"/>
                    <a:pt x="10800" y="11098"/>
                  </a:cubicBezTo>
                  <a:lnTo>
                    <a:pt x="10800" y="21302"/>
                  </a:lnTo>
                  <a:cubicBezTo>
                    <a:pt x="10800" y="2145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右中かっこ 161"/>
            <p:cNvSpPr/>
            <p:nvPr/>
          </p:nvSpPr>
          <p:spPr>
            <a:xfrm>
              <a:off x="7445520" y="5110200"/>
              <a:ext cx="71280" cy="14436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1800 h 144360"/>
                <a:gd name="textAreaBottom" fmla="*/ 1425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45"/>
                    <a:pt x="10800" y="890"/>
                  </a:cubicBezTo>
                  <a:lnTo>
                    <a:pt x="10800" y="9910"/>
                  </a:lnTo>
                  <a:cubicBezTo>
                    <a:pt x="10800" y="10355"/>
                    <a:pt x="16200" y="10800"/>
                    <a:pt x="21600" y="10800"/>
                  </a:cubicBezTo>
                  <a:cubicBezTo>
                    <a:pt x="16200" y="10800"/>
                    <a:pt x="10800" y="11245"/>
                    <a:pt x="10800" y="11690"/>
                  </a:cubicBezTo>
                  <a:lnTo>
                    <a:pt x="10800" y="20710"/>
                  </a:lnTo>
                  <a:cubicBezTo>
                    <a:pt x="10800" y="2115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7528320" y="4608360"/>
              <a:ext cx="1332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ied fr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Vx, Vy) reg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7529040" y="5059440"/>
              <a:ext cx="1515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pied  fr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Vx, 2Vy) reg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9840" y="2593800"/>
            <a:ext cx="4324320" cy="2989440"/>
            <a:chOff x="69840" y="2593800"/>
            <a:chExt cx="4324320" cy="2989440"/>
          </a:xfrm>
        </p:grpSpPr>
        <p:sp>
          <p:nvSpPr>
            <p:cNvPr id="242" name="正方形/長方形 33"/>
            <p:cNvSpPr/>
            <p:nvPr/>
          </p:nvSpPr>
          <p:spPr>
            <a:xfrm>
              <a:off x="227160" y="2827440"/>
              <a:ext cx="3816360" cy="191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線コネクタ 35"/>
            <p:cNvSpPr/>
            <p:nvPr/>
          </p:nvSpPr>
          <p:spPr>
            <a:xfrm>
              <a:off x="2130480" y="2649600"/>
              <a:ext cx="0" cy="28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線コネクタ 41"/>
            <p:cNvSpPr/>
            <p:nvPr/>
          </p:nvSpPr>
          <p:spPr>
            <a:xfrm>
              <a:off x="69840" y="458316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正方形/長方形 75"/>
            <p:cNvSpPr/>
            <p:nvPr/>
          </p:nvSpPr>
          <p:spPr>
            <a:xfrm>
              <a:off x="2130480" y="4583160"/>
              <a:ext cx="6220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正方形/長方形 48"/>
            <p:cNvSpPr/>
            <p:nvPr/>
          </p:nvSpPr>
          <p:spPr>
            <a:xfrm>
              <a:off x="2457360" y="4124160"/>
              <a:ext cx="6238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184680" y="4359240"/>
              <a:ext cx="46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S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線コネクタ 77"/>
            <p:cNvSpPr/>
            <p:nvPr/>
          </p:nvSpPr>
          <p:spPr>
            <a:xfrm flipV="1">
              <a:off x="2151000" y="4143240"/>
              <a:ext cx="287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"/>
            <p:cNvSpPr/>
            <p:nvPr/>
          </p:nvSpPr>
          <p:spPr>
            <a:xfrm>
              <a:off x="3640680" y="4340160"/>
              <a:ext cx="505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S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5"/>
            <p:cNvSpPr/>
            <p:nvPr/>
          </p:nvSpPr>
          <p:spPr>
            <a:xfrm>
              <a:off x="2082960" y="3881520"/>
              <a:ext cx="784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Vx, Vy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5"/>
            <p:cNvSpPr/>
            <p:nvPr/>
          </p:nvSpPr>
          <p:spPr>
            <a:xfrm>
              <a:off x="2165400" y="5205240"/>
              <a:ext cx="1250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rrent blo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2781000" y="3862440"/>
              <a:ext cx="1460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ediction blo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1769040" y="2593800"/>
              <a:ext cx="46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S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4103640" y="4581360"/>
              <a:ext cx="290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1882800" y="5291280"/>
              <a:ext cx="290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5"/>
            <p:cNvSpPr/>
            <p:nvPr/>
          </p:nvSpPr>
          <p:spPr>
            <a:xfrm>
              <a:off x="1913400" y="454032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正方形/長方形 94"/>
            <p:cNvSpPr/>
            <p:nvPr/>
          </p:nvSpPr>
          <p:spPr>
            <a:xfrm>
              <a:off x="3090960" y="4595760"/>
              <a:ext cx="9842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5"/>
            <p:cNvSpPr/>
            <p:nvPr/>
          </p:nvSpPr>
          <p:spPr>
            <a:xfrm>
              <a:off x="302760" y="2973240"/>
              <a:ext cx="122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arch r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Coded are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"/>
            <p:cNvSpPr/>
            <p:nvPr/>
          </p:nvSpPr>
          <p:spPr>
            <a:xfrm>
              <a:off x="2457360" y="4583160"/>
              <a:ext cx="623880" cy="168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87920" y="520380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: Search R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5"/>
            <p:cNvSpPr/>
            <p:nvPr/>
          </p:nvSpPr>
          <p:spPr>
            <a:xfrm>
              <a:off x="2852640" y="4726080"/>
              <a:ext cx="1378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t-coded are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6D45-E778-47D8-8DB4-E2B5F4D7A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48320" y="923760"/>
            <a:ext cx="3794040" cy="250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7960" y="923760"/>
            <a:ext cx="3794040" cy="250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7960" y="3429000"/>
            <a:ext cx="3794040" cy="250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Pixels, More Di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76760" y="3535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57640" y="3535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38880" y="3535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19760" y="3535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76760" y="391644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7640" y="3916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8880" y="391644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19760" y="3916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76760" y="4297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57640" y="4297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8880" y="4297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19760" y="4297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76760" y="4678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57640" y="4678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8880" y="4678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19760" y="4678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95880" y="2392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76760" y="239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57640" y="2392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95880" y="2773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76760" y="277344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57640" y="2773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95880" y="3154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76760" y="3154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57640" y="3154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00440" y="345924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95880" y="3535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14640" y="2392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14640" y="277344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14640" y="3154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14640" y="3535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0520" y="2290680"/>
            <a:ext cx="1523880" cy="152424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0" y="960"/>
                </a:lnTo>
                <a:lnTo>
                  <a:pt x="480" y="960"/>
                </a:lnTo>
                <a:lnTo>
                  <a:pt x="480" y="720"/>
                </a:lnTo>
                <a:lnTo>
                  <a:pt x="960" y="720"/>
                </a:lnTo>
                <a:lnTo>
                  <a:pt x="96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38680" y="2316240"/>
            <a:ext cx="761760" cy="3808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6124320" y="3687480"/>
            <a:ext cx="64764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3440" y="3732120"/>
            <a:ext cx="1389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362560" y="2670120"/>
            <a:ext cx="34776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69640" y="2479680"/>
            <a:ext cx="1784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block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660840" y="2670120"/>
            <a:ext cx="3045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96440" y="2746440"/>
            <a:ext cx="1288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 block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95880" y="3916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95880" y="4297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95880" y="4678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38880" y="3154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38880" y="2773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14640" y="3916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14640" y="4297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14640" y="4678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19760" y="3154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00640" y="4297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00640" y="3916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00640" y="4678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205080" y="1228320"/>
            <a:ext cx="1594080" cy="23526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9440" y="3429000"/>
            <a:ext cx="844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572000" y="77328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4240" y="1152360"/>
            <a:ext cx="1524240" cy="1524240"/>
          </a:xfrm>
          <a:prstGeom prst="rect">
            <a:avLst/>
          </a:prstGeom>
          <a:noFill/>
          <a:ln w="381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12560" y="52498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710320" y="317520"/>
            <a:ext cx="1973160" cy="1897200"/>
            <a:chOff x="5710320" y="317520"/>
            <a:chExt cx="1973160" cy="1897200"/>
          </a:xfrm>
        </p:grpSpPr>
        <p:sp>
          <p:nvSpPr>
            <p:cNvPr id="323" name=""/>
            <p:cNvSpPr/>
            <p:nvPr/>
          </p:nvSpPr>
          <p:spPr>
            <a:xfrm>
              <a:off x="5710320" y="317520"/>
              <a:ext cx="1973160" cy="189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38920" y="544680"/>
              <a:ext cx="1523880" cy="152388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0" y="0"/>
                  </a:moveTo>
                  <a:lnTo>
                    <a:pt x="0" y="960"/>
                  </a:lnTo>
                  <a:lnTo>
                    <a:pt x="480" y="960"/>
                  </a:lnTo>
                  <a:lnTo>
                    <a:pt x="480" y="720"/>
                  </a:lnTo>
                  <a:lnTo>
                    <a:pt x="960" y="720"/>
                  </a:lnTo>
                  <a:lnTo>
                    <a:pt x="96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97800" y="1682640"/>
              <a:ext cx="761760" cy="38124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08760" y="620640"/>
              <a:ext cx="228600" cy="2286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9640" y="62064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0520" y="620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51760" y="62064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8760" y="100188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89640" y="1001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0520" y="100188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51760" y="1001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08760" y="1382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9640" y="138276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70520" y="138276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51760" y="1382760"/>
              <a:ext cx="228600" cy="2286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08760" y="1763640"/>
              <a:ext cx="2286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89640" y="176364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0520" y="1763640"/>
              <a:ext cx="228600" cy="2286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51760" y="176364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880960" y="52513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-coded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23440" y="2214720"/>
            <a:ext cx="15814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57040" y="15318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-2, -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3965400" y="2517840"/>
            <a:ext cx="758880" cy="1138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6240" y="1758960"/>
            <a:ext cx="2505240" cy="455760"/>
          </a:xfrm>
          <a:custGeom>
            <a:avLst/>
            <a:gdLst>
              <a:gd name="textAreaLeft" fmla="*/ 0 w 2505240"/>
              <a:gd name="textAreaRight" fmla="*/ 2505600 w 250524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94" stAng="10800000" swAng="5400000"/>
                <a:lnTo>
                  <a:pt x="14920" y="4666"/>
                </a:lnTo>
                <a:lnTo>
                  <a:pt x="14920" y="0"/>
                </a:lnTo>
                <a:lnTo>
                  <a:pt x="21600" y="6079"/>
                </a:lnTo>
                <a:lnTo>
                  <a:pt x="14920" y="12158"/>
                </a:lnTo>
                <a:lnTo>
                  <a:pt x="14920" y="7492"/>
                </a:lnTo>
                <a:lnTo>
                  <a:pt x="12427" y="7492"/>
                </a:lnTo>
                <a:arcTo wR="9601" hR="4668" stAng="16200000" swAng="-5400000"/>
                <a:lnTo>
                  <a:pt x="2826" y="216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0EA1-7578-457C-A777-43F3F58F0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648320" y="923760"/>
            <a:ext cx="3794040" cy="250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960" y="923760"/>
            <a:ext cx="3794040" cy="250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77960" y="3429000"/>
            <a:ext cx="3794040" cy="250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Pixels, More Di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76760" y="3535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57640" y="3535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8880" y="3535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19760" y="3535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76760" y="391644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57640" y="3916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38880" y="391644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19760" y="3916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76760" y="4297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57640" y="4297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38880" y="4297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9760" y="4297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76760" y="4678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57640" y="4678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38880" y="4678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19760" y="4678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95880" y="2392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76760" y="2392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57640" y="2392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95880" y="2773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76760" y="277344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57640" y="2773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95880" y="3154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76760" y="3154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57640" y="3154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00440" y="345924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95880" y="3535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14640" y="239220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14640" y="277344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14640" y="3154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14640" y="35352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38680" y="2316240"/>
            <a:ext cx="761760" cy="3808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6124320" y="3687480"/>
            <a:ext cx="64764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23440" y="3732120"/>
            <a:ext cx="1389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660840" y="2670120"/>
            <a:ext cx="30456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96440" y="2746440"/>
            <a:ext cx="12888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 block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95880" y="3916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95880" y="4297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95880" y="4678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38880" y="3154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38880" y="2773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14640" y="39164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14640" y="429732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14640" y="467820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3154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00640" y="4297320"/>
            <a:ext cx="2286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00640" y="3916440"/>
            <a:ext cx="228600" cy="228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00640" y="46782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3429000"/>
            <a:ext cx="844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572000" y="77328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4240" y="1152360"/>
            <a:ext cx="1524240" cy="1524240"/>
          </a:xfrm>
          <a:prstGeom prst="rect">
            <a:avLst/>
          </a:prstGeom>
          <a:noFill/>
          <a:ln w="381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12560" y="52498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80960" y="525132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-coded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053880" y="3656160"/>
            <a:ext cx="1746360" cy="24285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799160" y="2972880"/>
            <a:ext cx="3489120" cy="682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9593000">
            <a:off x="3357720" y="2082600"/>
            <a:ext cx="2446200" cy="2484360"/>
          </a:xfrm>
          <a:prstGeom prst="blockArc">
            <a:avLst>
              <a:gd name="adj1" fmla="val 8615479"/>
              <a:gd name="adj2" fmla="val 2184521"/>
              <a:gd name="adj3" fmla="val 2384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4040280" y="2517840"/>
            <a:ext cx="758880" cy="1138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D3C6-D726-4480-9EA0-089559CFE9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Image of Anchor (P01S08R1C1, Frame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CA6E-8649-44E8-86C4-D78A7D2B27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Image of Proposal (PxxS08R1C1, Frame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9250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28A8-4030-4FA0-9EA1-B9166151D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98000"/>
            <a:ext cx="8364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evaluation of Intra RPR on TMu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977760"/>
            <a:ext cx="8364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a RPR parameter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range: horizontal [-16, 16], vertical [-16,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late block size: 8x8 (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precision: integer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uC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ion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CU size : 16x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 configuration : ADI, CIP, ALF, IBD, HAD, SRD, R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P : 22, 27, 32,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20 pictures of all sequence, Intra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10 Renesas Electronics Corporation.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B733-FF9E-4B59-9754-0FE58EE374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4:29:26Z</dcterms:created>
  <dc:creator/>
  <dc:description/>
  <dc:language>en-US</dc:language>
  <cp:lastModifiedBy>武蔵事業所</cp:lastModifiedBy>
  <dcterms:modified xsi:type="dcterms:W3CDTF">2010-10-11T08:58:20Z</dcterms:modified>
  <cp:revision>199</cp:revision>
  <dc:subject/>
  <dc:title>Renesas Group presentation templates</dc:title>
</cp:coreProperties>
</file>