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03B0-17B7-42CA-AC81-D554015C9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39C9-10F3-46D0-BA23-FABEEAB3464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E61BA-9724-4205-BB6B-FC7F176332D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CAE5F-4200-4116-960E-C368BFCD7D2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C1E8D5-DABA-4F3E-AE8B-96E08799357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0FB6C-BFC6-48FC-AB0A-7E3DC1B19D5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BA72E-7B81-4D1F-925F-3E76D0700BF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54CD8-402D-418B-8343-C4A5E8448AC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A466D8-5983-4050-AD56-1DF330BBE0E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BF825-B6B6-4D1A-867D-0C7193B9787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A15E5-BEFA-4C8E-B629-468F7698D82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53F780-13E7-4473-914D-E68BBE420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9121-8EDE-47E7-A038-9CD07BBD524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BB3C12-3246-4FA1-A722-710DC6DAA74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883019-A224-4A68-B6D6-A882044126D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B33933-3B9B-49D6-8C6F-F4E1B037FDE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E6F6C3-1276-4D06-9F94-2E911827DD9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6156FF-67DB-4633-BFBF-0C0877DE2F7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9F86E2-BC79-4FE1-BEFA-22C70076E1F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8BB1F6-FC70-4B2D-A9D4-02BB61D8121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97803F-A530-46AB-9B9D-6F9F6C3E1E4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831332-C5DA-4CFE-8CB5-2EA73064D68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85DD85-46BD-41D9-9F56-34B7AF6BC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1103-104C-4959-B23D-B22160241D9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E88A4B-0B1F-4C38-BB0B-9E18C38D741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E4600-2D4E-4C47-9FDB-E7023178DF8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AFA61-F694-4019-A2B9-25D449DD740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C2AF5-4C23-486D-991C-8DB7CEA09AD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6FB6D-0504-400E-9E83-70C273BF6AC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59166-7906-4C8A-BED0-4A53C596355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2A29C-884C-4D2E-95AE-B607F901666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FC94F-A2E2-45FB-BD71-7D24F1A381E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EA4B3-37FB-40FA-8A07-0E15D1FFEEC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AA137-684D-4DDD-8445-F36FF0899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D11-3031-428C-87C1-2F18C912EC9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C7302-226E-4356-B96B-43F5DE042A8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A58AE-3F7D-4273-A86B-6E794C87F64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CD9EF-0EEE-48C8-AD87-E6F0E42C90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7B9-D3CF-4A1E-88BE-A51D6EFF00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382-CE2A-4DA7-9308-8157A5DCBE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DC5-77AE-4411-87A5-B0C0874468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543-5DF0-4BF4-AFC2-E78151721C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E74-1978-4A4A-A4AF-395019C72E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381-9737-42FF-A199-55B00315BF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6CBD-7D08-4CF6-8E33-448186A08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896-9785-44F3-ABE4-569DD1D56C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514-C383-447C-94FB-2ACDA7D0C2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DAC-DF3B-45E0-89E8-B38B522E37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736-D839-416C-A9E4-5840BA67BB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790-E317-4C7A-A3FE-7D5114E97C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11C0F-3D52-4BE2-843D-3832DD9239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C487B-704A-4E9F-8958-4C9B968060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DEEAF-9A9D-4A1A-8CF1-9942BF9C97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F0A69-7AD9-4BEF-93B8-59414668D9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6A941-88F0-494D-846B-B7272CEA13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FBFA-9C58-49D0-85DC-1E7E0AD1F1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530D5-0D97-4500-AB10-47089AD150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F24C0-921D-4FBE-B9BF-B31793048F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7E56C-18E5-47BA-9871-D46B01E763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5A529-88DD-45B2-A2D9-4CF49BFA1D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C069D-560E-4D26-A0AA-C6882BA9E4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C6A22-8E59-4B26-A401-0214C4E120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C9392-087D-43E0-855F-A939982CA5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89A567-4DAD-47D1-A401-4F59EB9B7D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D8667E-908C-47DD-B396-AB2FF7C5C4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4DC0A1-3233-432D-AA17-B380F1EF5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181F-29EE-47E4-B2EB-5A37112FE5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673ADF-CAA9-4990-8DDC-798C6FA3CA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EF57EA-E39C-46AE-B2F6-8D8950BAAF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FBF5B2-1E27-4495-88D2-F3E5EACBA6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3B4C04-4203-4A65-948C-3A8E2BBBC1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C4A7D-D138-45AF-B0E3-D2672484D9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0F5F1E-B5AE-40E3-A1F5-02CBE23BAF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70E8EA-E8B5-44EE-B90C-8B8C71231E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E19311-8923-4070-B971-9B509E1049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0E0CC-894A-4831-B6A4-B8B28735A5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0E791-240E-49B4-AFD4-76A0496BD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348E-DCDB-48EC-99F3-9B79D86FBCE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CC9EF-6AA7-415C-A8E0-3BF6E4E7DC2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069EF-6B56-42F1-A3E6-A4F1E324AF1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A3B95-8909-4D2C-8A9E-D5A28C6DD67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70D3-7B45-47DA-B779-F6A7055A44F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74D4-DF0B-46CB-98A1-285CF2ACC2E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64F8-F3FE-4C4A-955A-CDD44FA8A80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4A972-605C-494D-806B-069C3F4A25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B872-105F-46F5-BDF6-A8A9436A2F6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7336B-9A70-4249-B72C-7B530BD730F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30384-F3FA-4AFE-8512-1724BB2F4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E6A7-A5D2-4143-B59D-625428BA1CD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6AF43-DAA1-4E51-AD28-8AC59126419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C9532-16C2-4852-A020-DFC583ED970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F4B9B-CBE9-401D-9BA7-92FF1871D29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EC166-DEE4-4670-BEC8-537A12FEE3D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35C1A-604C-4923-837C-4AD9B9620B5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86A311-C08E-4E59-AE75-51108D18EEA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799298-EFB5-4B21-BEF7-F9781BBDE1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98A6E0-28BF-46DF-AAAD-8239279EEFF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488E8-3444-4B58-AD9D-CB685B4E337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C0C3BB-B308-4086-8DC0-563D04CC5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73A1-5110-4130-8FC4-3F805726EC2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31DBC-9199-4751-B20E-055EA55BDB7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69BE4-F53A-46B9-A3AE-AB1E51B96E0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16E29B-AE58-46D5-B11A-13E2F39BDC9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AA530D-454A-4EDD-BB40-72FA55E480B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CA15A9-AE87-45D6-B526-5B4872B0F29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AFBBDF-DAFC-4883-840B-D951458CA18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4B6466-F811-467D-8AD7-207DCAF5BAF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879B7C-57B7-4F77-A3E5-E58D77301E2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8588CF-283C-4BCA-AD2B-FE4C20281AC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4E7FB0-62D7-4C82-9438-B246EFD4B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5A81-30E4-4669-969D-D58BCDB9786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2107F3-D27D-48FC-89E1-9862440C7C2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81E3A0-E2DA-4580-8BB1-02E62FD7800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E879D4-D1C9-4365-AA68-35DFB1C8E47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2739B1-BA6A-4D06-A374-E81BE21DCF5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F6F9DF-8D63-4411-8FDD-E9149CD2822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A6F33-BC5B-426D-9089-6A76F2CED88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5E92F-C408-4860-91E8-E07451E1B0A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923D4-C3DF-42B3-A754-1033ED93175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7B98A-E2D4-4CD8-8025-9741D4E6B26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E177D-5579-4561-A8B8-571B5155D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11C8-6AEC-452B-8918-A5799822300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909F8-7D9E-4FEB-BD0B-9A268E1DD91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07CB5-74FD-4DE7-AEFC-2AF4606EAD6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9513F-8A2C-4E3B-B1EF-504CE3C69D4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140EA-B2D8-418A-BAFA-5CC113C3A19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C5A8B-5B1D-430F-8F8D-4D3A5F74D62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49B55-1D4F-42B2-AACF-A036A6EF0F7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AFB9D-48F4-4521-BBF3-FCB9F4008D1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E5E48B-0A58-4772-ABB9-4A05CBA91D6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36FF5-F905-475C-95CD-6D7FC6E0FE1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7BCBD-9A92-4498-B262-39475A059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2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3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1B18-45F2-48E3-B2F3-9FC4FE7BFF87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388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8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9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B209-6004-4E5C-8A69-6023D9ACCFB4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431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20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21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F8ED-D7B1-452D-B240-83F9136AF839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e40e62"/>
              </a:solidFill>
              <a:latin typeface="Nokia Sans Wide"/>
            </a:endParaRPr>
          </a:p>
        </p:txBody>
      </p:sp>
      <p:grpSp>
        <p:nvGrpSpPr>
          <p:cNvPr id="43" name="Group 9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4" name="Picture 6" descr="Logotype_White_33mm300dpi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8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ffffff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85B1-870A-41A5-A838-EAEE9A1B5697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87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08B7-AD24-4E6C-B231-814055844484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130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6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7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D446-8563-423E-8B4A-2ED35D0E51DE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173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8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9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09DF-8E3B-4B2A-A049-148C9A44D3B2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216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0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1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B086-523C-4D4A-920C-2307DC41B2FC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259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2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3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EE09-5F37-4CCC-9D9B-9797A651564D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302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4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15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6467-54B2-45F2-9FA9-440E27A8AF7F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345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16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17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3AE4-CAF1-46E5-AF71-897E18DAD680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35"/>
          <p:cNvSpPr/>
          <p:nvPr/>
        </p:nvSpPr>
        <p:spPr>
          <a:xfrm>
            <a:off x="0" y="0"/>
            <a:ext cx="9906120" cy="60674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B1C9-924D-4638-BE81-77F5E54B8EF4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77840" y="1800360"/>
            <a:ext cx="9539280" cy="30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72800" indent="-172800" algn="ctr">
              <a:spcBef>
                <a:spcPts val="788"/>
              </a:spcBef>
              <a:spcAft>
                <a:spcPts val="788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Nokia Sans Wide"/>
              </a:rPr>
              <a:t>TE12.3: Results for planar prediction tests by Nokia</a:t>
            </a:r>
            <a:endParaRPr b="0" lang="en-US" sz="4200" spc="-1" strike="noStrike">
              <a:solidFill>
                <a:srgbClr val="000000"/>
              </a:solidFill>
              <a:latin typeface="Nokia Sans Wide"/>
            </a:endParaRPr>
          </a:p>
          <a:p>
            <a:pPr marL="172800" indent="-172800" algn="ctr">
              <a:spcBef>
                <a:spcPts val="788"/>
              </a:spcBef>
              <a:spcAft>
                <a:spcPts val="788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4200" spc="-1" strike="noStrike">
                <a:solidFill>
                  <a:srgbClr val="ffffff"/>
                </a:solidFill>
                <a:latin typeface="Nokia Sans Wide"/>
              </a:rPr>
              <a:t>JCTVC-188</a:t>
            </a:r>
            <a:endParaRPr b="0" lang="en-US" sz="4200" spc="-1" strike="noStrike">
              <a:solidFill>
                <a:srgbClr val="000000"/>
              </a:solidFill>
              <a:latin typeface="Nokia Sans Wide"/>
            </a:endParaRPr>
          </a:p>
          <a:p>
            <a:pPr marL="172800" indent="-172800"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Nokia Sans Wide"/>
              </a:rPr>
              <a:t>Jani Lainema, Kemal Ugur, Oguz Bici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0" y="355680"/>
            <a:ext cx="9539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okia Sans Wide"/>
              </a:rPr>
              <a:t>3rd JCT-VC meeting, Guangzhou China</a:t>
            </a:r>
            <a:endParaRPr b="0" lang="en-US" sz="2000" spc="-1" strike="noStrike">
              <a:solidFill>
                <a:srgbClr val="e40e62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okia Sans Wide"/>
              </a:rPr>
              <a:t>October 2010</a:t>
            </a:r>
            <a:endParaRPr b="0" lang="en-US" sz="2000" spc="-1" strike="noStrike">
              <a:solidFill>
                <a:srgbClr val="e40e62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171B-CDEE-43E6-860B-F4192018D18C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1030320" y="2006640"/>
            <a:ext cx="7734240" cy="317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Background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4DE4-3B55-4B8B-9E2A-75403646476B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okia Sans Wide"/>
              </a:rPr>
              <a:t>Planar Prediction is used to reconstruct smooth regions in a visually pleasing wa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Signal the bottom-right sample and reconstruct the macroblock using upper row, left column and signalled sampl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1 bin/bit for Intra CU to indicate if planar mode is activ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pic>
        <p:nvPicPr>
          <p:cNvPr id="480" name="Object 2" descr=""/>
          <p:cNvPicPr/>
          <p:nvPr/>
        </p:nvPicPr>
        <p:blipFill>
          <a:blip r:embed="rId1"/>
          <a:srcRect l="0" t="-200" r="-94" b="-306"/>
          <a:stretch/>
        </p:blipFill>
        <p:spPr>
          <a:xfrm>
            <a:off x="1633680" y="2894040"/>
            <a:ext cx="2528640" cy="2516040"/>
          </a:xfrm>
          <a:prstGeom prst="rect">
            <a:avLst/>
          </a:prstGeom>
          <a:ln w="0">
            <a:noFill/>
          </a:ln>
        </p:spPr>
      </p:pic>
      <p:pic>
        <p:nvPicPr>
          <p:cNvPr id="481" name="Object 1" descr=""/>
          <p:cNvPicPr/>
          <p:nvPr/>
        </p:nvPicPr>
        <p:blipFill>
          <a:blip r:embed="rId2"/>
          <a:srcRect l="0" t="-200" r="-94" b="-306"/>
          <a:stretch/>
        </p:blipFill>
        <p:spPr>
          <a:xfrm>
            <a:off x="5192640" y="2908440"/>
            <a:ext cx="2583000" cy="256860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7"/>
          <p:cNvSpPr/>
          <p:nvPr/>
        </p:nvSpPr>
        <p:spPr>
          <a:xfrm>
            <a:off x="503280" y="5477040"/>
            <a:ext cx="4244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tep – 1: Interpolate rightmost and bottom sample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4826160" y="5532480"/>
            <a:ext cx="4244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tep – 2: Bi-linear interpolation of middle sample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3cc"/>
                </a:solidFill>
                <a:latin typeface="Nokia Large"/>
              </a:rPr>
              <a:t>Results: Intra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814400" y="2052720"/>
          <a:ext cx="5964480" cy="2346120"/>
        </p:xfrm>
        <a:graphic>
          <a:graphicData uri="http://schemas.openxmlformats.org/drawingml/2006/table">
            <a:tbl>
              <a:tblPr/>
              <a:tblGrid>
                <a:gridCol w="1290600"/>
                <a:gridCol w="781200"/>
                <a:gridCol w="782640"/>
                <a:gridCol w="773280"/>
                <a:gridCol w="782640"/>
                <a:gridCol w="780840"/>
                <a:gridCol w="773280"/>
              </a:tblGrid>
              <a:tr h="21348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LoCo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 %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 %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%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 %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6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860F-EB79-410A-8915-D08136135CD4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3cc"/>
                </a:solidFill>
                <a:latin typeface="Nokia Large"/>
              </a:rPr>
              <a:t>Results: Random Access and Low Delay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15E9-A6BD-4A5A-B935-CA1DC42CCE02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486080" y="990720"/>
          <a:ext cx="6281640" cy="2773080"/>
        </p:xfrm>
        <a:graphic>
          <a:graphicData uri="http://schemas.openxmlformats.org/drawingml/2006/table">
            <a:tbl>
              <a:tblPr/>
              <a:tblGrid>
                <a:gridCol w="1363320"/>
                <a:gridCol w="819360"/>
                <a:gridCol w="819000"/>
                <a:gridCol w="820800"/>
                <a:gridCol w="819360"/>
                <a:gridCol w="819000"/>
                <a:gridCol w="820800"/>
              </a:tblGrid>
              <a:tr h="63972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oCo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 %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 %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 %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 %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474920" y="4043520"/>
          <a:ext cx="6291000" cy="2346120"/>
        </p:xfrm>
        <a:graphic>
          <a:graphicData uri="http://schemas.openxmlformats.org/drawingml/2006/table">
            <a:tbl>
              <a:tblPr/>
              <a:tblGrid>
                <a:gridCol w="1415880"/>
                <a:gridCol w="614520"/>
                <a:gridCol w="858600"/>
                <a:gridCol w="847800"/>
                <a:gridCol w="847800"/>
                <a:gridCol w="858960"/>
                <a:gridCol w="847440"/>
              </a:tblGrid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LoCo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%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 %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 %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 %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3cc"/>
                </a:solidFill>
                <a:latin typeface="Nokia Large"/>
              </a:rPr>
              <a:t>Indicating planar mode in LCEC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184320" indent="-1843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According to low complexity results the current signalling for planar mode is not optima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39720" indent="-18720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Nokia Sans Wide"/>
              </a:rPr>
              <a:t>~0.9% objective penalty in low complexity intra configura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39720" indent="-18720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Nokia Sans Wide"/>
              </a:rPr>
              <a:t>1 bit used to indicate if Intra CU is planar coded (typically 10-15% of CUs)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84320" indent="-1843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Joint coding of planar_flag and intra_split_flag seems to compensate majority of the inefficiency giving 0.6% gain over the anchor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4320" indent="-1843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4320" indent="-1843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4320" indent="-1843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4320" indent="-1843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4320" indent="-1843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4320" indent="-1843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4320" indent="-1843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Propose to include joint coding of planar and split flags to future LCEC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4320" indent="-1843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4320" indent="-1843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D2E5-2420-4AC1-A94E-A0A2896FB084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74680" y="3390840"/>
          <a:ext cx="3657600" cy="854280"/>
        </p:xfrm>
        <a:graphic>
          <a:graphicData uri="http://schemas.openxmlformats.org/drawingml/2006/table">
            <a:tbl>
              <a:tblPr/>
              <a:tblGrid>
                <a:gridCol w="944640"/>
                <a:gridCol w="1049040"/>
                <a:gridCol w="166392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word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ar_flag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_split_flag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4105440" y="3386160"/>
          <a:ext cx="5402160" cy="2133720"/>
        </p:xfrm>
        <a:graphic>
          <a:graphicData uri="http://schemas.openxmlformats.org/drawingml/2006/table">
            <a:tbl>
              <a:tblPr/>
              <a:tblGrid>
                <a:gridCol w="1852560"/>
                <a:gridCol w="1187280"/>
                <a:gridCol w="1187640"/>
                <a:gridCol w="1174680"/>
              </a:tblGrid>
              <a:tr h="21348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LoCo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 %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 %</a:t>
                      </a:r>
                      <a:endParaRPr b="0" lang="en-US" sz="14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0e62"/>
                        </a:solidFill>
                        <a:latin typeface="Nokia Sans Wi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F8FE-3B47-4F05-A627-FE7664299F20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0" y="866880"/>
            <a:ext cx="9906120" cy="599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447B-324B-4CD8-9594-22358283A6FF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287360" y="1633680"/>
            <a:ext cx="7353360" cy="16477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"/>
          <p:cNvPicPr/>
          <p:nvPr/>
        </p:nvPicPr>
        <p:blipFill>
          <a:blip r:embed="rId2"/>
          <a:stretch/>
        </p:blipFill>
        <p:spPr>
          <a:xfrm>
            <a:off x="2236680" y="3602160"/>
            <a:ext cx="5450040" cy="1646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0F7E-A1B0-4BE6-8533-0802D380C2A4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1620720" y="1371600"/>
            <a:ext cx="6377040" cy="497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D64C-851E-433A-AF8E-BDF8255FBB9A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1176480" y="1128600"/>
            <a:ext cx="7573680" cy="497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6:33:40Z</dcterms:created>
  <dc:creator>Ugur Kemal</dc:creator>
  <dc:description/>
  <cp:keywords/>
  <dc:language>en-US</dc:language>
  <cp:lastModifiedBy>lainema</cp:lastModifiedBy>
  <cp:lastPrinted>1998-09-04T08:04:32Z</cp:lastPrinted>
  <dcterms:modified xsi:type="dcterms:W3CDTF">2010-10-07T07:25:47Z</dcterms:modified>
  <cp:revision>41</cp:revision>
  <dc:subject/>
  <dc:title>Slide 1</dc:title>
</cp:coreProperties>
</file>