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dt" idx="3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ftr" idx="3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 type="sldNum" idx="3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AD37-ADA9-47C9-9DA5-29891B5E02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FD06-9898-4B53-996C-93B9FC576B6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705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535A-A1F9-4D1E-AE09-33128B94EE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708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F791-F9C3-462A-9AF7-4EBC32ABCB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711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3613-09B1-4229-9E08-08C14246CF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714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FFDB-7789-45DA-87B5-CD5C311160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717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A23E-5CAC-45DD-9652-5B4C235211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720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BB7E-FA4A-4D8C-B528-778F89604E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723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21D5-065B-4C87-A432-23EA3F6B7F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9CAB-94DB-4AB7-8CB4-50D07F07E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C4F2-2900-4841-AE6B-12074A21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66C41-0683-40DD-A7AE-8BF86A73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C87DD-A788-4244-81DC-819D16DF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A0648-3AF3-4CC6-950C-2166EAB3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E6781-3595-4CDA-B944-A19B0015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5E54F-CC05-4513-BF34-F2F5B45F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042C4-0931-4361-8F98-289B7858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6572F-B735-4D18-A931-BF81C358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64AF4-9D2E-4CF7-BEBE-9B1F885DD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89763-14F1-403E-A8A8-33E5E5409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09D656-ED22-4CBF-954D-39AEF4043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9144-39A1-4485-83F0-4C556FEB6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1CC19-A54A-4CD8-9776-7AD44F12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7A8DC-703F-4D23-A5DA-614810BC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99414-58D6-4ACA-8DB2-62F83969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8A9B8-8DB6-4035-9D3B-A41B08FF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4B6E1-DE4D-4886-8665-F29ADEFB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CA762-7442-471A-9158-0A36D414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99AC9-2056-4177-9BA4-332B83D9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2917E-4A3C-4ECD-A55B-512674A5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D355D-BA47-4BE1-A624-4B9475F8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48D412-3492-4473-9241-70E993C8D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DAE0-167F-4AC1-9C40-B3E6B3E89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1C3DE7-C879-49DC-BD02-91A214871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10424F-CB44-48E2-B797-12058431F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E5C1C8-568C-45A8-85EF-E94FBCF5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C5383E-62CE-49DA-9294-1BA0008E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3B1707-9CE7-4664-9753-517D3E9A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E4B7E3-DD66-4537-8EDF-9FDCE9A7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9AEFC5-0C4E-4DD0-BE6F-72BD6662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4DB38-556D-4A22-8608-36B5A440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9B6D52-AE5E-446A-82BC-806E7047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415C8-4764-40E6-9441-A44C6E4C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F0FDA6-55C9-4456-8FF3-419EE95C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DA508B-8664-4DAE-82D4-A7CABEF90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0C0C50-F9E8-4DC4-9583-AF44BD9E9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5E87-039E-43B7-A5CD-CA8D024A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EF55-FDFD-4B6A-A814-3697E3EB6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316C-8824-473E-8B98-665DF8A9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F054-A37B-4852-A64A-4AAE44A2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75C6-F3EF-4168-B0CD-B75BBA5C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86F5-9A3E-4B71-BE78-3260DEF4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041D-0B54-4E5D-A05D-D77BA209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9A78-0B45-4FDA-AA26-F47D48FB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2AF8-E418-4529-A30D-48EAA9CF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AC9B-2210-4AA3-B2A7-591C639C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4B07-58B7-46B5-92EA-74A0C956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582F-E4E8-44EC-B0BD-06F47E8E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983C-90FD-4A74-87AB-749AFCFB0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E776-15A8-452F-85CB-6B39BF0D8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18D9B-D4F5-48B3-9684-12D42F66B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8F660-089A-4C1D-A4AF-C3052483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207B1-1847-45C1-8327-88CC0F5A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C22D-718C-49E6-A497-B11E3D8F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15181-974E-4D9B-A60B-85B22ED6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C18BD-AD72-4BF4-976A-205368C6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0FAF8-632C-45EA-8C4C-A92BBEAC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73DF1-9DA4-444A-8BF5-F5D88314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27E25-F752-4E5E-B74E-B3E4A31E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B99BB-177E-45EF-B807-A998A571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0F2A0-034B-4349-A1CC-55C4A820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DD8FE-4264-464B-8AA4-90EF338F7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B195E-0482-4D20-ADE8-96B29F5E7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EEAF4-AAB3-4AE1-8564-1CEEC1BA1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F3EA-3DDF-4621-BF15-7DFE534D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54FAA-64AF-4622-952E-510ED386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19006-40A3-4181-9266-1DD96974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9DA2C-0EB3-4BBA-99A9-7EE738AF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9606F-9B94-44FF-85D8-4C3227F0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67F5F-D8BB-48A4-995B-1A3B8B9D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A5A7E-4567-4485-9C3F-98C30B1D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FB4B6-5A30-4D12-BC24-2C663863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ED3C8-41C1-472B-AFFF-86ABD8E4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F470E-12BA-4EC1-ABB8-4C9A26F5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C006D-0CE5-4D0A-8154-BD57DAAE0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8A81-F892-476E-950C-5AE77FFA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58746-319A-440F-924D-F897875F8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362E6-49C4-4A28-93BF-4AAB3C03A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9EE0B-8B1E-4088-A940-4FF18082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040DE-25F7-4CBF-892E-CF352520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4C28E-3D45-4494-A444-C9740554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3CC4A-D984-40AF-995F-DF1B1F9D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49883-E9E3-4769-AE12-E91E6B87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04F1A-0850-4057-A657-BE79EA33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A8F1A-8593-4B7F-A264-65EE645A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C951D-60D4-42AE-81CB-BE55C246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445A-D8CC-4CCB-BF24-117041B2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4FF2E-AB29-4FCA-9CBD-6D08672F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3D8EE-A8BA-47D5-B854-87B595945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F0424-ED9D-4911-96FF-DBA5BD04A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15E7B-EEC7-47B1-B689-DCFAEBA04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2BCA9-EEA6-46D0-BEAB-ED190B78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4457D-E700-4394-A1FC-4CDFAE3D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30E9D-1FC4-4FFA-AA03-30AE8047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D19F2-B653-44AF-A3F1-1B9DB6B4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BFF7E-5ACF-4FA2-9254-D3646EBD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DFC17-AFE2-4639-A947-3447D938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E42E-8135-45CC-835C-91080EC8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FD3EF-A6BD-44DF-98E0-2E3308CD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1A00E-EA7A-4947-8D2A-136E728A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46583-E66B-410B-8B13-E491FCE1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D798C-E52A-49C0-AD4F-165B05F72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D400A-A233-4BDC-89F0-1DE38865D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FE5B1-786D-45F3-8EC0-3E4673C2A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E6D49-8F1D-46B2-88E2-61B91240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4D80D-EAF7-4C01-8F02-954EC7F2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71D49-6D7E-4764-8DA8-75821E6A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123A2-9984-460B-A52C-8A60DEDF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EB7E-7253-4987-B818-C3949E8C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58672-0854-427A-988D-0F63FAE2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9F9D4-5E94-4F14-8016-76747AA5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79ABF-31F4-42F4-B04B-85372FCF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4AC32-3126-4BC4-9BC1-CD6E2194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99630-AAD6-4A7E-83CD-09B8B430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CF69C-BD32-488B-BE20-4FBD4CB8A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D0950-BD75-4C84-B285-FD8275B74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AB5BA-78B2-4790-927B-371D9EEA8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32E06-F8E3-40A9-838F-5F11FF20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F145B-4B5C-45F4-9040-49B285F8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297C-3FE0-44D3-BA27-7E54C6F187CB}" type="slidenum">
              <a:rPr b="0" lang="en-US" sz="1400" spc="-1" strike="noStrike">
                <a:solidFill>
                  <a:srgbClr val="222222"/>
                </a:solidFill>
                <a:latin typeface="Verdana"/>
                <a:ea typeface="HGｺﾞｼｯ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5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6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7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8807-7DDB-4DE6-B973-B18A810BDBFC}" type="slidenum">
              <a:rPr b="0" lang="en-US" sz="1400" spc="-1" strike="noStrike">
                <a:solidFill>
                  <a:srgbClr val="222222"/>
                </a:solidFill>
                <a:latin typeface="Verdana"/>
                <a:ea typeface="HGｺﾞｼｯ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正方形/長方形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正方形/長方形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28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29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0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972F-72E7-461F-A873-5DECEF2EEE2B}" type="slidenum">
              <a:rPr b="0" lang="en-US" sz="1400" spc="-1" strike="noStrike">
                <a:solidFill>
                  <a:srgbClr val="222222"/>
                </a:solidFill>
                <a:latin typeface="Verdana"/>
                <a:ea typeface="HGｺﾞｼｯ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正方形/長方形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正方形/長方形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1166760" indent="-1839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1166760" indent="-1839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6"/>
          <p:cNvPicPr/>
          <p:nvPr/>
        </p:nvPicPr>
        <p:blipFill>
          <a:blip r:embed="rId2"/>
          <a:stretch/>
        </p:blipFill>
        <p:spPr>
          <a:xfrm>
            <a:off x="0" y="6515280"/>
            <a:ext cx="9182160" cy="3427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C7BE-064D-4A06-AEB2-9DE648BD986B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正方形/長方形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正方形/長方形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1166760" indent="-1839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1166760" indent="-1839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44BF-238C-4A0E-B521-BFEC2BDA65B3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5722-1111-48A5-ADF4-403FB2B75562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689B-E538-43DD-824B-57C826DA987C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7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8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D27F-0583-4464-8339-3C7DB01C37E6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正方形/長方形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正方形/長方形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0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1961-CDAA-49C5-B86F-78B689A0BCF6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正方形/長方形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正方形/長方形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2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3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0166-FFA0-4F87-A497-3A20CD1DAD50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1571760"/>
            <a:ext cx="8077320" cy="10000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arallel adaptive loop filter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357520" y="3212640"/>
            <a:ext cx="3405240" cy="161604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omoyuki Yamamoto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omohiro Ika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ARP Corpo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571320" y="6429240"/>
            <a:ext cx="4360680" cy="285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1000"/>
          </a:bodyPr>
          <a:p>
            <a:pPr marL="29160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3rd Meeting: Guangzhou, CN, 7-15 October, 2010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10 experi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osed/Evaluated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erimental resul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F9C5-938D-4259-8E0A-5718ACD7389F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TE10 experiment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btest 2:Wiener-based in-loop filt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JCTVC-C083 [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 coordinators (NEC and TOSHIBA)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ch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MuC 0.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m-modified Laplacian based AL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osscheck &amp; Complexity analy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CTVC-C145 [MediaTek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CTVC-C071 [Zhejiang Univ.]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80DE-110D-40FA-AC70-C72BBF0D33A9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1476360" y="2060640"/>
          <a:ext cx="7210440" cy="1006560"/>
        </p:xfrm>
        <a:graphic>
          <a:graphicData uri="http://schemas.openxmlformats.org/drawingml/2006/table">
            <a:tbl>
              <a:tblPr/>
              <a:tblGrid>
                <a:gridCol w="1440000"/>
                <a:gridCol w="1655640"/>
                <a:gridCol w="4114800"/>
              </a:tblGrid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ub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Propon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Method name[JCTVC-B310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MediaTe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Quadtree-based Adaptive Resto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Qualcomm (Ancho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Adaptive Filter based on Combination of Sum-Modified Laplacian Filter Index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har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Parallel adaptive loop fil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Toshib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Quadtree-based Adaptive Loop Fil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2" name="Rectangle 5"/>
          <p:cNvSpPr/>
          <p:nvPr/>
        </p:nvSpPr>
        <p:spPr>
          <a:xfrm>
            <a:off x="3840840" y="29160"/>
            <a:ext cx="146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5335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 1  Cross check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53352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roposed/Evaluated system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539640" y="83628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posed system combines De-blocking filter and Wiener-based fil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improve coding effici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process filters in parall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D8B4-0D8B-458E-8220-457B29D51EC7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正方形/長方形 123"/>
          <p:cNvSpPr/>
          <p:nvPr/>
        </p:nvSpPr>
        <p:spPr>
          <a:xfrm>
            <a:off x="4114800" y="2451240"/>
            <a:ext cx="1220760" cy="56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HGｺﾞｼｯｸM"/>
              </a:rPr>
              <a:t>De-blocking filter ( DF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正方形/長方形 126"/>
          <p:cNvSpPr/>
          <p:nvPr/>
        </p:nvSpPr>
        <p:spPr>
          <a:xfrm>
            <a:off x="5983200" y="2451240"/>
            <a:ext cx="1314360" cy="5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HGｺﾞｼｯｸM"/>
              </a:rPr>
              <a:t>Wiener-based filter ( ALF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8" name="直線矢印コネクタ 140"/>
          <p:cNvCxnSpPr/>
          <p:nvPr/>
        </p:nvCxnSpPr>
        <p:spPr>
          <a:xfrm>
            <a:off x="5340240" y="2708280"/>
            <a:ext cx="6433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9" name="直線矢印コネクタ 141"/>
          <p:cNvCxnSpPr/>
          <p:nvPr/>
        </p:nvCxnSpPr>
        <p:spPr>
          <a:xfrm>
            <a:off x="7297560" y="2708280"/>
            <a:ext cx="6433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0" name="直線コネクタ 150"/>
          <p:cNvSpPr/>
          <p:nvPr/>
        </p:nvSpPr>
        <p:spPr>
          <a:xfrm>
            <a:off x="3635280" y="4562640"/>
            <a:ext cx="302436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1" name="直線矢印コネクタ 152"/>
          <p:cNvCxnSpPr/>
          <p:nvPr/>
        </p:nvCxnSpPr>
        <p:spPr>
          <a:xfrm flipH="1" flipV="1">
            <a:off x="6646320" y="4317480"/>
            <a:ext cx="13320" cy="2642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2" name="直線コネクタ 154"/>
          <p:cNvSpPr/>
          <p:nvPr/>
        </p:nvSpPr>
        <p:spPr>
          <a:xfrm>
            <a:off x="3635280" y="4002120"/>
            <a:ext cx="0" cy="560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テキスト ボックス 24"/>
          <p:cNvSpPr/>
          <p:nvPr/>
        </p:nvSpPr>
        <p:spPr>
          <a:xfrm>
            <a:off x="6107040" y="3357720"/>
            <a:ext cx="18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-DF sig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テキスト ボックス 24"/>
          <p:cNvSpPr/>
          <p:nvPr/>
        </p:nvSpPr>
        <p:spPr>
          <a:xfrm>
            <a:off x="2463840" y="4683240"/>
            <a:ext cx="184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-DF sig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5" name="直線矢印コネクタ 163"/>
          <p:cNvCxnSpPr/>
          <p:nvPr/>
        </p:nvCxnSpPr>
        <p:spPr>
          <a:xfrm>
            <a:off x="2916360" y="2708280"/>
            <a:ext cx="11815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6" name="直線コネクタ 166"/>
          <p:cNvSpPr/>
          <p:nvPr/>
        </p:nvSpPr>
        <p:spPr>
          <a:xfrm flipH="1">
            <a:off x="3139920" y="3987720"/>
            <a:ext cx="247680" cy="52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直線コネクタ 167"/>
          <p:cNvSpPr/>
          <p:nvPr/>
        </p:nvSpPr>
        <p:spPr>
          <a:xfrm flipH="1">
            <a:off x="3332160" y="4303080"/>
            <a:ext cx="303120" cy="27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テキスト ボックス 14"/>
          <p:cNvSpPr/>
          <p:nvPr/>
        </p:nvSpPr>
        <p:spPr>
          <a:xfrm>
            <a:off x="1042920" y="2451240"/>
            <a:ext cx="1631880" cy="70380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n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テキスト ボックス 15"/>
          <p:cNvSpPr/>
          <p:nvPr/>
        </p:nvSpPr>
        <p:spPr>
          <a:xfrm>
            <a:off x="1062000" y="3803760"/>
            <a:ext cx="1609920" cy="70380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正方形/長方形 174"/>
          <p:cNvSpPr/>
          <p:nvPr/>
        </p:nvSpPr>
        <p:spPr>
          <a:xfrm>
            <a:off x="4114800" y="3741840"/>
            <a:ext cx="1220760" cy="56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HGｺﾞｼｯｸM"/>
              </a:rPr>
              <a:t>De-blocking filter ( DF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正方形/長方形 175"/>
          <p:cNvSpPr/>
          <p:nvPr/>
        </p:nvSpPr>
        <p:spPr>
          <a:xfrm>
            <a:off x="5983200" y="3741840"/>
            <a:ext cx="1314360" cy="5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HGｺﾞｼｯｸM"/>
              </a:rPr>
              <a:t>Wiener-based filter ( ALF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直線矢印コネクタ 176"/>
          <p:cNvCxnSpPr/>
          <p:nvPr/>
        </p:nvCxnSpPr>
        <p:spPr>
          <a:xfrm>
            <a:off x="5340240" y="4000680"/>
            <a:ext cx="6433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3" name="直線矢印コネクタ 177"/>
          <p:cNvCxnSpPr/>
          <p:nvPr/>
        </p:nvCxnSpPr>
        <p:spPr>
          <a:xfrm>
            <a:off x="7297560" y="4000680"/>
            <a:ext cx="6433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4" name="直線矢印コネクタ 178"/>
          <p:cNvCxnSpPr/>
          <p:nvPr/>
        </p:nvCxnSpPr>
        <p:spPr>
          <a:xfrm>
            <a:off x="2916360" y="4000680"/>
            <a:ext cx="11815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5" name="直線コネクタ 184"/>
          <p:cNvSpPr/>
          <p:nvPr/>
        </p:nvSpPr>
        <p:spPr>
          <a:xfrm flipH="1">
            <a:off x="5538960" y="3525840"/>
            <a:ext cx="444240" cy="48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roposed/Evaluated system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539640" y="83628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allel friendly fe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inly pre-DF signal is u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ly one post-DF signal is u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utcome by the fe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DF and most of ALF can be processed in parall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e-DF spatial filters(#1 and #2) are independent each oth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正方形/長方形 110"/>
          <p:cNvSpPr/>
          <p:nvPr/>
        </p:nvSpPr>
        <p:spPr>
          <a:xfrm>
            <a:off x="2276640" y="4114800"/>
            <a:ext cx="1962000" cy="16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直線矢印コネクタ 126"/>
          <p:cNvCxnSpPr/>
          <p:nvPr/>
        </p:nvCxnSpPr>
        <p:spPr>
          <a:xfrm>
            <a:off x="4064040" y="4761000"/>
            <a:ext cx="114696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20" name="直線コネクタ 127"/>
          <p:cNvSpPr/>
          <p:nvPr/>
        </p:nvSpPr>
        <p:spPr>
          <a:xfrm flipV="1">
            <a:off x="1771560" y="6156360"/>
            <a:ext cx="4219560" cy="9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1" name="直線矢印コネクタ 128"/>
          <p:cNvCxnSpPr/>
          <p:nvPr/>
        </p:nvCxnSpPr>
        <p:spPr>
          <a:xfrm flipV="1">
            <a:off x="5990040" y="5660640"/>
            <a:ext cx="1080" cy="496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22" name="直線コネクタ 129"/>
          <p:cNvSpPr/>
          <p:nvPr/>
        </p:nvSpPr>
        <p:spPr>
          <a:xfrm>
            <a:off x="1771560" y="4781520"/>
            <a:ext cx="0" cy="1374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テキスト ボックス 24"/>
          <p:cNvSpPr/>
          <p:nvPr/>
        </p:nvSpPr>
        <p:spPr>
          <a:xfrm>
            <a:off x="4519440" y="3630600"/>
            <a:ext cx="183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-DF sig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テキスト ボックス 24"/>
          <p:cNvSpPr/>
          <p:nvPr/>
        </p:nvSpPr>
        <p:spPr>
          <a:xfrm>
            <a:off x="407880" y="5997600"/>
            <a:ext cx="14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-DF sig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5" name="直線矢印コネクタ 132"/>
          <p:cNvCxnSpPr/>
          <p:nvPr/>
        </p:nvCxnSpPr>
        <p:spPr>
          <a:xfrm>
            <a:off x="1142640" y="4781160"/>
            <a:ext cx="134640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26" name="正方形/長方形 134"/>
          <p:cNvSpPr/>
          <p:nvPr/>
        </p:nvSpPr>
        <p:spPr>
          <a:xfrm>
            <a:off x="2470320" y="4591080"/>
            <a:ext cx="1596960" cy="3524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HGｺﾞｼｯｸM"/>
              </a:rPr>
              <a:t>spatial fitler#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正方形/長方形 139"/>
          <p:cNvSpPr/>
          <p:nvPr/>
        </p:nvSpPr>
        <p:spPr>
          <a:xfrm>
            <a:off x="4896000" y="4105440"/>
            <a:ext cx="3085920" cy="169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正方形/長方形 140"/>
          <p:cNvSpPr/>
          <p:nvPr/>
        </p:nvSpPr>
        <p:spPr>
          <a:xfrm>
            <a:off x="5203800" y="5308560"/>
            <a:ext cx="1596960" cy="3524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HGｺﾞｼｯｸM"/>
              </a:rPr>
              <a:t>spatial fitler#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正方形/長方形 143"/>
          <p:cNvSpPr/>
          <p:nvPr/>
        </p:nvSpPr>
        <p:spPr>
          <a:xfrm>
            <a:off x="5213520" y="4591080"/>
            <a:ext cx="159696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HGｺﾞｼｯｸM"/>
              </a:rPr>
              <a:t>weigh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円/楕円 144"/>
          <p:cNvSpPr/>
          <p:nvPr/>
        </p:nvSpPr>
        <p:spPr>
          <a:xfrm>
            <a:off x="7432560" y="5002200"/>
            <a:ext cx="301680" cy="29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HGｺﾞｼｯｸM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直線コネクタ 153"/>
          <p:cNvSpPr/>
          <p:nvPr/>
        </p:nvSpPr>
        <p:spPr>
          <a:xfrm flipH="1">
            <a:off x="1133640" y="4781520"/>
            <a:ext cx="419040" cy="12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直線コネクタ 154"/>
          <p:cNvSpPr/>
          <p:nvPr/>
        </p:nvSpPr>
        <p:spPr>
          <a:xfrm flipH="1">
            <a:off x="1152360" y="5562000"/>
            <a:ext cx="619200" cy="40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直線コネクタ 157"/>
          <p:cNvSpPr/>
          <p:nvPr/>
        </p:nvSpPr>
        <p:spPr>
          <a:xfrm flipH="1">
            <a:off x="4476240" y="3990960"/>
            <a:ext cx="428760" cy="77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4" name="図形 162"/>
          <p:cNvCxnSpPr>
            <a:stCxn id="529" idx="3"/>
            <a:endCxn id="530" idx="0"/>
          </p:cNvCxnSpPr>
          <p:nvPr/>
        </p:nvCxnSpPr>
        <p:spPr>
          <a:xfrm>
            <a:off x="6810120" y="4766760"/>
            <a:ext cx="773640" cy="235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5" name="図形 167"/>
          <p:cNvCxnSpPr>
            <a:stCxn id="528" idx="3"/>
            <a:endCxn id="530" idx="4"/>
          </p:cNvCxnSpPr>
          <p:nvPr/>
        </p:nvCxnSpPr>
        <p:spPr>
          <a:xfrm flipV="1">
            <a:off x="6800760" y="5300280"/>
            <a:ext cx="783360" cy="185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6" name="直線矢印コネクタ 171"/>
          <p:cNvCxnSpPr>
            <a:stCxn id="530" idx="6"/>
          </p:cNvCxnSpPr>
          <p:nvPr/>
        </p:nvCxnSpPr>
        <p:spPr>
          <a:xfrm>
            <a:off x="7734240" y="5151240"/>
            <a:ext cx="94392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7" name="テキスト ボックス 173"/>
          <p:cNvSpPr/>
          <p:nvPr/>
        </p:nvSpPr>
        <p:spPr>
          <a:xfrm>
            <a:off x="2924280" y="4191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テキスト ボックス 174"/>
          <p:cNvSpPr/>
          <p:nvPr/>
        </p:nvSpPr>
        <p:spPr>
          <a:xfrm>
            <a:off x="5648400" y="4200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roposed/Evaluated system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76500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 spec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ter shap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amond 1/2 point-symmetric filter with dc offs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al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lter coeffs. are intra-predicted and signaled in slice head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lter control(on/off) flags are signaled in CU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ventional 1 input ALF or proposed 2 input ALF can be switched by alf_parallel_mode in slice head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E9BF-ED14-4B59-AC71-8AEAAE9FF88D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正方形/長方形 140"/>
          <p:cNvSpPr/>
          <p:nvPr/>
        </p:nvSpPr>
        <p:spPr>
          <a:xfrm>
            <a:off x="2627280" y="2637000"/>
            <a:ext cx="730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正方形/長方形 141"/>
          <p:cNvSpPr/>
          <p:nvPr/>
        </p:nvSpPr>
        <p:spPr>
          <a:xfrm>
            <a:off x="2627280" y="2349360"/>
            <a:ext cx="73080" cy="7164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正方形/長方形 142"/>
          <p:cNvSpPr/>
          <p:nvPr/>
        </p:nvSpPr>
        <p:spPr>
          <a:xfrm>
            <a:off x="2700360" y="2349360"/>
            <a:ext cx="71280" cy="7164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正方形/長方形 143"/>
          <p:cNvSpPr/>
          <p:nvPr/>
        </p:nvSpPr>
        <p:spPr>
          <a:xfrm>
            <a:off x="2771640" y="2349360"/>
            <a:ext cx="71640" cy="7164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正方形/長方形 144"/>
          <p:cNvSpPr/>
          <p:nvPr/>
        </p:nvSpPr>
        <p:spPr>
          <a:xfrm>
            <a:off x="2700360" y="2276640"/>
            <a:ext cx="71280" cy="7272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正方形/長方形 145"/>
          <p:cNvSpPr/>
          <p:nvPr/>
        </p:nvSpPr>
        <p:spPr>
          <a:xfrm>
            <a:off x="2556000" y="2421000"/>
            <a:ext cx="7128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正方形/長方形 146"/>
          <p:cNvSpPr/>
          <p:nvPr/>
        </p:nvSpPr>
        <p:spPr>
          <a:xfrm>
            <a:off x="2627280" y="2421000"/>
            <a:ext cx="7308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正方形/長方形 147"/>
          <p:cNvSpPr/>
          <p:nvPr/>
        </p:nvSpPr>
        <p:spPr>
          <a:xfrm>
            <a:off x="2556000" y="2492280"/>
            <a:ext cx="7128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正方形/長方形 148"/>
          <p:cNvSpPr/>
          <p:nvPr/>
        </p:nvSpPr>
        <p:spPr>
          <a:xfrm>
            <a:off x="2627280" y="2492280"/>
            <a:ext cx="7308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正方形/長方形 149"/>
          <p:cNvSpPr/>
          <p:nvPr/>
        </p:nvSpPr>
        <p:spPr>
          <a:xfrm>
            <a:off x="2700360" y="2492280"/>
            <a:ext cx="7128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正方形/長方形 150"/>
          <p:cNvSpPr/>
          <p:nvPr/>
        </p:nvSpPr>
        <p:spPr>
          <a:xfrm>
            <a:off x="2771640" y="2492280"/>
            <a:ext cx="7164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正方形/長方形 151"/>
          <p:cNvSpPr/>
          <p:nvPr/>
        </p:nvSpPr>
        <p:spPr>
          <a:xfrm>
            <a:off x="2843280" y="2492280"/>
            <a:ext cx="7308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正方形/長方形 152"/>
          <p:cNvSpPr/>
          <p:nvPr/>
        </p:nvSpPr>
        <p:spPr>
          <a:xfrm>
            <a:off x="2700360" y="2421000"/>
            <a:ext cx="7128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正方形/長方形 153"/>
          <p:cNvSpPr/>
          <p:nvPr/>
        </p:nvSpPr>
        <p:spPr>
          <a:xfrm>
            <a:off x="2771640" y="2421000"/>
            <a:ext cx="7164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正方形/長方形 154"/>
          <p:cNvSpPr/>
          <p:nvPr/>
        </p:nvSpPr>
        <p:spPr>
          <a:xfrm>
            <a:off x="2843280" y="2421000"/>
            <a:ext cx="7308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正方形/長方形 155"/>
          <p:cNvSpPr/>
          <p:nvPr/>
        </p:nvSpPr>
        <p:spPr>
          <a:xfrm>
            <a:off x="2556000" y="2565360"/>
            <a:ext cx="71280" cy="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正方形/長方形 156"/>
          <p:cNvSpPr/>
          <p:nvPr/>
        </p:nvSpPr>
        <p:spPr>
          <a:xfrm>
            <a:off x="2627280" y="2565360"/>
            <a:ext cx="73080" cy="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正方形/長方形 157"/>
          <p:cNvSpPr/>
          <p:nvPr/>
        </p:nvSpPr>
        <p:spPr>
          <a:xfrm>
            <a:off x="2700360" y="2708280"/>
            <a:ext cx="7128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正方形/長方形 158"/>
          <p:cNvSpPr/>
          <p:nvPr/>
        </p:nvSpPr>
        <p:spPr>
          <a:xfrm>
            <a:off x="2916360" y="2492280"/>
            <a:ext cx="7128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正方形/長方形 159"/>
          <p:cNvSpPr/>
          <p:nvPr/>
        </p:nvSpPr>
        <p:spPr>
          <a:xfrm>
            <a:off x="2700360" y="2637000"/>
            <a:ext cx="712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正方形/長方形 160"/>
          <p:cNvSpPr/>
          <p:nvPr/>
        </p:nvSpPr>
        <p:spPr>
          <a:xfrm>
            <a:off x="2771640" y="2637000"/>
            <a:ext cx="7164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正方形/長方形 161"/>
          <p:cNvSpPr/>
          <p:nvPr/>
        </p:nvSpPr>
        <p:spPr>
          <a:xfrm>
            <a:off x="2484360" y="2492280"/>
            <a:ext cx="7164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正方形/長方形 162"/>
          <p:cNvSpPr/>
          <p:nvPr/>
        </p:nvSpPr>
        <p:spPr>
          <a:xfrm>
            <a:off x="2700360" y="2565360"/>
            <a:ext cx="71280" cy="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正方形/長方形 163"/>
          <p:cNvSpPr/>
          <p:nvPr/>
        </p:nvSpPr>
        <p:spPr>
          <a:xfrm>
            <a:off x="2771640" y="2565360"/>
            <a:ext cx="71640" cy="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正方形/長方形 164"/>
          <p:cNvSpPr/>
          <p:nvPr/>
        </p:nvSpPr>
        <p:spPr>
          <a:xfrm>
            <a:off x="2843280" y="2565360"/>
            <a:ext cx="73080" cy="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正方形/長方形 165"/>
          <p:cNvSpPr/>
          <p:nvPr/>
        </p:nvSpPr>
        <p:spPr>
          <a:xfrm>
            <a:off x="3867120" y="2637000"/>
            <a:ext cx="730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正方形/長方形 166"/>
          <p:cNvSpPr/>
          <p:nvPr/>
        </p:nvSpPr>
        <p:spPr>
          <a:xfrm>
            <a:off x="3867120" y="2349360"/>
            <a:ext cx="73080" cy="7164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正方形/長方形 167"/>
          <p:cNvSpPr/>
          <p:nvPr/>
        </p:nvSpPr>
        <p:spPr>
          <a:xfrm>
            <a:off x="3940200" y="2349360"/>
            <a:ext cx="71280" cy="7164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正方形/長方形 168"/>
          <p:cNvSpPr/>
          <p:nvPr/>
        </p:nvSpPr>
        <p:spPr>
          <a:xfrm>
            <a:off x="4011480" y="2349360"/>
            <a:ext cx="73080" cy="7164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正方形/長方形 169"/>
          <p:cNvSpPr/>
          <p:nvPr/>
        </p:nvSpPr>
        <p:spPr>
          <a:xfrm>
            <a:off x="3940200" y="2276640"/>
            <a:ext cx="71280" cy="7272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正方形/長方形 170"/>
          <p:cNvSpPr/>
          <p:nvPr/>
        </p:nvSpPr>
        <p:spPr>
          <a:xfrm>
            <a:off x="3795840" y="2421000"/>
            <a:ext cx="7128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正方形/長方形 171"/>
          <p:cNvSpPr/>
          <p:nvPr/>
        </p:nvSpPr>
        <p:spPr>
          <a:xfrm>
            <a:off x="3867120" y="2421000"/>
            <a:ext cx="7308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正方形/長方形 172"/>
          <p:cNvSpPr/>
          <p:nvPr/>
        </p:nvSpPr>
        <p:spPr>
          <a:xfrm>
            <a:off x="3795840" y="2492280"/>
            <a:ext cx="7128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正方形/長方形 173"/>
          <p:cNvSpPr/>
          <p:nvPr/>
        </p:nvSpPr>
        <p:spPr>
          <a:xfrm>
            <a:off x="3867120" y="2492280"/>
            <a:ext cx="7308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正方形/長方形 174"/>
          <p:cNvSpPr/>
          <p:nvPr/>
        </p:nvSpPr>
        <p:spPr>
          <a:xfrm>
            <a:off x="3940200" y="2492280"/>
            <a:ext cx="7128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正方形/長方形 175"/>
          <p:cNvSpPr/>
          <p:nvPr/>
        </p:nvSpPr>
        <p:spPr>
          <a:xfrm>
            <a:off x="4011480" y="2492280"/>
            <a:ext cx="7308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正方形/長方形 176"/>
          <p:cNvSpPr/>
          <p:nvPr/>
        </p:nvSpPr>
        <p:spPr>
          <a:xfrm>
            <a:off x="4084560" y="2492280"/>
            <a:ext cx="7164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正方形/長方形 177"/>
          <p:cNvSpPr/>
          <p:nvPr/>
        </p:nvSpPr>
        <p:spPr>
          <a:xfrm>
            <a:off x="3940200" y="2421000"/>
            <a:ext cx="7128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正方形/長方形 178"/>
          <p:cNvSpPr/>
          <p:nvPr/>
        </p:nvSpPr>
        <p:spPr>
          <a:xfrm>
            <a:off x="4011480" y="2421000"/>
            <a:ext cx="7308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正方形/長方形 179"/>
          <p:cNvSpPr/>
          <p:nvPr/>
        </p:nvSpPr>
        <p:spPr>
          <a:xfrm>
            <a:off x="4084560" y="2421000"/>
            <a:ext cx="7164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正方形/長方形 180"/>
          <p:cNvSpPr/>
          <p:nvPr/>
        </p:nvSpPr>
        <p:spPr>
          <a:xfrm>
            <a:off x="3795840" y="2565360"/>
            <a:ext cx="71280" cy="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正方形/長方形 181"/>
          <p:cNvSpPr/>
          <p:nvPr/>
        </p:nvSpPr>
        <p:spPr>
          <a:xfrm>
            <a:off x="3867120" y="2565360"/>
            <a:ext cx="73080" cy="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正方形/長方形 182"/>
          <p:cNvSpPr/>
          <p:nvPr/>
        </p:nvSpPr>
        <p:spPr>
          <a:xfrm>
            <a:off x="3940200" y="2708280"/>
            <a:ext cx="7128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正方形/長方形 183"/>
          <p:cNvSpPr/>
          <p:nvPr/>
        </p:nvSpPr>
        <p:spPr>
          <a:xfrm>
            <a:off x="4156200" y="2492280"/>
            <a:ext cx="7128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正方形/長方形 184"/>
          <p:cNvSpPr/>
          <p:nvPr/>
        </p:nvSpPr>
        <p:spPr>
          <a:xfrm>
            <a:off x="3940200" y="2637000"/>
            <a:ext cx="712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正方形/長方形 185"/>
          <p:cNvSpPr/>
          <p:nvPr/>
        </p:nvSpPr>
        <p:spPr>
          <a:xfrm>
            <a:off x="4011480" y="2637000"/>
            <a:ext cx="730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正方形/長方形 186"/>
          <p:cNvSpPr/>
          <p:nvPr/>
        </p:nvSpPr>
        <p:spPr>
          <a:xfrm>
            <a:off x="3724200" y="2492280"/>
            <a:ext cx="7164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正方形/長方形 187"/>
          <p:cNvSpPr/>
          <p:nvPr/>
        </p:nvSpPr>
        <p:spPr>
          <a:xfrm>
            <a:off x="3940200" y="2565360"/>
            <a:ext cx="71280" cy="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正方形/長方形 188"/>
          <p:cNvSpPr/>
          <p:nvPr/>
        </p:nvSpPr>
        <p:spPr>
          <a:xfrm>
            <a:off x="4011480" y="2565360"/>
            <a:ext cx="73080" cy="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正方形/長方形 189"/>
          <p:cNvSpPr/>
          <p:nvPr/>
        </p:nvSpPr>
        <p:spPr>
          <a:xfrm>
            <a:off x="4084560" y="2565360"/>
            <a:ext cx="71640" cy="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正方形/長方形 190"/>
          <p:cNvSpPr/>
          <p:nvPr/>
        </p:nvSpPr>
        <p:spPr>
          <a:xfrm>
            <a:off x="4156200" y="2421000"/>
            <a:ext cx="7128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正方形/長方形 191"/>
          <p:cNvSpPr/>
          <p:nvPr/>
        </p:nvSpPr>
        <p:spPr>
          <a:xfrm>
            <a:off x="4084560" y="2349360"/>
            <a:ext cx="71640" cy="7164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正方形/長方形 192"/>
          <p:cNvSpPr/>
          <p:nvPr/>
        </p:nvSpPr>
        <p:spPr>
          <a:xfrm>
            <a:off x="4227480" y="2492280"/>
            <a:ext cx="7308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正方形/長方形 193"/>
          <p:cNvSpPr/>
          <p:nvPr/>
        </p:nvSpPr>
        <p:spPr>
          <a:xfrm>
            <a:off x="4011480" y="2276640"/>
            <a:ext cx="73080" cy="7272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正方形/長方形 194"/>
          <p:cNvSpPr/>
          <p:nvPr/>
        </p:nvSpPr>
        <p:spPr>
          <a:xfrm>
            <a:off x="4011480" y="2708280"/>
            <a:ext cx="7308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正方形/長方形 195"/>
          <p:cNvSpPr/>
          <p:nvPr/>
        </p:nvSpPr>
        <p:spPr>
          <a:xfrm>
            <a:off x="4084560" y="2708280"/>
            <a:ext cx="7164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正方形/長方形 196"/>
          <p:cNvSpPr/>
          <p:nvPr/>
        </p:nvSpPr>
        <p:spPr>
          <a:xfrm>
            <a:off x="4084560" y="2637000"/>
            <a:ext cx="7164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正方形/長方形 197"/>
          <p:cNvSpPr/>
          <p:nvPr/>
        </p:nvSpPr>
        <p:spPr>
          <a:xfrm>
            <a:off x="4011480" y="2781360"/>
            <a:ext cx="730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正方形/長方形 198"/>
          <p:cNvSpPr/>
          <p:nvPr/>
        </p:nvSpPr>
        <p:spPr>
          <a:xfrm>
            <a:off x="4011480" y="2205000"/>
            <a:ext cx="73080" cy="7164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正方形/長方形 199"/>
          <p:cNvSpPr/>
          <p:nvPr/>
        </p:nvSpPr>
        <p:spPr>
          <a:xfrm>
            <a:off x="4084560" y="2276640"/>
            <a:ext cx="71640" cy="7272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正方形/長方形 200"/>
          <p:cNvSpPr/>
          <p:nvPr/>
        </p:nvSpPr>
        <p:spPr>
          <a:xfrm>
            <a:off x="4156200" y="2349360"/>
            <a:ext cx="71280" cy="7164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正方形/長方形 201"/>
          <p:cNvSpPr/>
          <p:nvPr/>
        </p:nvSpPr>
        <p:spPr>
          <a:xfrm>
            <a:off x="4227480" y="2421000"/>
            <a:ext cx="7308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正方形/長方形 202"/>
          <p:cNvSpPr/>
          <p:nvPr/>
        </p:nvSpPr>
        <p:spPr>
          <a:xfrm>
            <a:off x="4156200" y="2565360"/>
            <a:ext cx="71280" cy="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正方形/長方形 203"/>
          <p:cNvSpPr/>
          <p:nvPr/>
        </p:nvSpPr>
        <p:spPr>
          <a:xfrm>
            <a:off x="4156200" y="2637000"/>
            <a:ext cx="712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正方形/長方形 204"/>
          <p:cNvSpPr/>
          <p:nvPr/>
        </p:nvSpPr>
        <p:spPr>
          <a:xfrm>
            <a:off x="4227480" y="2565360"/>
            <a:ext cx="73080" cy="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正方形/長方形 205"/>
          <p:cNvSpPr/>
          <p:nvPr/>
        </p:nvSpPr>
        <p:spPr>
          <a:xfrm>
            <a:off x="4300560" y="2492280"/>
            <a:ext cx="7128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正方形/長方形 206"/>
          <p:cNvSpPr/>
          <p:nvPr/>
        </p:nvSpPr>
        <p:spPr>
          <a:xfrm>
            <a:off x="5308560" y="2637000"/>
            <a:ext cx="7164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正方形/長方形 207"/>
          <p:cNvSpPr/>
          <p:nvPr/>
        </p:nvSpPr>
        <p:spPr>
          <a:xfrm>
            <a:off x="5308560" y="2349360"/>
            <a:ext cx="71640" cy="7164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正方形/長方形 208"/>
          <p:cNvSpPr/>
          <p:nvPr/>
        </p:nvSpPr>
        <p:spPr>
          <a:xfrm>
            <a:off x="5380200" y="2349360"/>
            <a:ext cx="71280" cy="7164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正方形/長方形 209"/>
          <p:cNvSpPr/>
          <p:nvPr/>
        </p:nvSpPr>
        <p:spPr>
          <a:xfrm>
            <a:off x="5451480" y="2349360"/>
            <a:ext cx="73080" cy="7164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正方形/長方形 210"/>
          <p:cNvSpPr/>
          <p:nvPr/>
        </p:nvSpPr>
        <p:spPr>
          <a:xfrm>
            <a:off x="5380200" y="2276640"/>
            <a:ext cx="71280" cy="7272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正方形/長方形 211"/>
          <p:cNvSpPr/>
          <p:nvPr/>
        </p:nvSpPr>
        <p:spPr>
          <a:xfrm>
            <a:off x="5235480" y="2421000"/>
            <a:ext cx="7308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正方形/長方形 212"/>
          <p:cNvSpPr/>
          <p:nvPr/>
        </p:nvSpPr>
        <p:spPr>
          <a:xfrm>
            <a:off x="5308560" y="2421000"/>
            <a:ext cx="7164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正方形/長方形 213"/>
          <p:cNvSpPr/>
          <p:nvPr/>
        </p:nvSpPr>
        <p:spPr>
          <a:xfrm>
            <a:off x="5235480" y="2492280"/>
            <a:ext cx="7308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正方形/長方形 214"/>
          <p:cNvSpPr/>
          <p:nvPr/>
        </p:nvSpPr>
        <p:spPr>
          <a:xfrm>
            <a:off x="5308560" y="2492280"/>
            <a:ext cx="7164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正方形/長方形 215"/>
          <p:cNvSpPr/>
          <p:nvPr/>
        </p:nvSpPr>
        <p:spPr>
          <a:xfrm>
            <a:off x="5380200" y="2492280"/>
            <a:ext cx="7128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正方形/長方形 216"/>
          <p:cNvSpPr/>
          <p:nvPr/>
        </p:nvSpPr>
        <p:spPr>
          <a:xfrm>
            <a:off x="5451480" y="2492280"/>
            <a:ext cx="7308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正方形/長方形 217"/>
          <p:cNvSpPr/>
          <p:nvPr/>
        </p:nvSpPr>
        <p:spPr>
          <a:xfrm>
            <a:off x="5524560" y="2492280"/>
            <a:ext cx="7128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正方形/長方形 218"/>
          <p:cNvSpPr/>
          <p:nvPr/>
        </p:nvSpPr>
        <p:spPr>
          <a:xfrm>
            <a:off x="5380200" y="2421000"/>
            <a:ext cx="7128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正方形/長方形 219"/>
          <p:cNvSpPr/>
          <p:nvPr/>
        </p:nvSpPr>
        <p:spPr>
          <a:xfrm>
            <a:off x="5451480" y="2421000"/>
            <a:ext cx="7308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正方形/長方形 220"/>
          <p:cNvSpPr/>
          <p:nvPr/>
        </p:nvSpPr>
        <p:spPr>
          <a:xfrm>
            <a:off x="5524560" y="2421000"/>
            <a:ext cx="7128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正方形/長方形 221"/>
          <p:cNvSpPr/>
          <p:nvPr/>
        </p:nvSpPr>
        <p:spPr>
          <a:xfrm>
            <a:off x="5235480" y="2565360"/>
            <a:ext cx="73080" cy="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正方形/長方形 222"/>
          <p:cNvSpPr/>
          <p:nvPr/>
        </p:nvSpPr>
        <p:spPr>
          <a:xfrm>
            <a:off x="5308560" y="2565360"/>
            <a:ext cx="71640" cy="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正方形/長方形 223"/>
          <p:cNvSpPr/>
          <p:nvPr/>
        </p:nvSpPr>
        <p:spPr>
          <a:xfrm>
            <a:off x="5380200" y="2708280"/>
            <a:ext cx="7128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正方形/長方形 224"/>
          <p:cNvSpPr/>
          <p:nvPr/>
        </p:nvSpPr>
        <p:spPr>
          <a:xfrm>
            <a:off x="5595840" y="2492280"/>
            <a:ext cx="7164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正方形/長方形 225"/>
          <p:cNvSpPr/>
          <p:nvPr/>
        </p:nvSpPr>
        <p:spPr>
          <a:xfrm>
            <a:off x="5380200" y="2637000"/>
            <a:ext cx="712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正方形/長方形 226"/>
          <p:cNvSpPr/>
          <p:nvPr/>
        </p:nvSpPr>
        <p:spPr>
          <a:xfrm>
            <a:off x="5451480" y="2637000"/>
            <a:ext cx="730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正方形/長方形 227"/>
          <p:cNvSpPr/>
          <p:nvPr/>
        </p:nvSpPr>
        <p:spPr>
          <a:xfrm>
            <a:off x="5164200" y="2492280"/>
            <a:ext cx="7128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正方形/長方形 228"/>
          <p:cNvSpPr/>
          <p:nvPr/>
        </p:nvSpPr>
        <p:spPr>
          <a:xfrm>
            <a:off x="5380200" y="2565360"/>
            <a:ext cx="71280" cy="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正方形/長方形 229"/>
          <p:cNvSpPr/>
          <p:nvPr/>
        </p:nvSpPr>
        <p:spPr>
          <a:xfrm>
            <a:off x="5451480" y="2565360"/>
            <a:ext cx="73080" cy="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正方形/長方形 230"/>
          <p:cNvSpPr/>
          <p:nvPr/>
        </p:nvSpPr>
        <p:spPr>
          <a:xfrm>
            <a:off x="5524560" y="2565360"/>
            <a:ext cx="71280" cy="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正方形/長方形 231"/>
          <p:cNvSpPr/>
          <p:nvPr/>
        </p:nvSpPr>
        <p:spPr>
          <a:xfrm>
            <a:off x="5595840" y="2421000"/>
            <a:ext cx="7164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正方形/長方形 232"/>
          <p:cNvSpPr/>
          <p:nvPr/>
        </p:nvSpPr>
        <p:spPr>
          <a:xfrm>
            <a:off x="5524560" y="2349360"/>
            <a:ext cx="71280" cy="7164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正方形/長方形 233"/>
          <p:cNvSpPr/>
          <p:nvPr/>
        </p:nvSpPr>
        <p:spPr>
          <a:xfrm>
            <a:off x="5667480" y="2492280"/>
            <a:ext cx="7308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正方形/長方形 234"/>
          <p:cNvSpPr/>
          <p:nvPr/>
        </p:nvSpPr>
        <p:spPr>
          <a:xfrm>
            <a:off x="5451480" y="2276640"/>
            <a:ext cx="73080" cy="7272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正方形/長方形 235"/>
          <p:cNvSpPr/>
          <p:nvPr/>
        </p:nvSpPr>
        <p:spPr>
          <a:xfrm>
            <a:off x="5451480" y="2708280"/>
            <a:ext cx="7308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正方形/長方形 236"/>
          <p:cNvSpPr/>
          <p:nvPr/>
        </p:nvSpPr>
        <p:spPr>
          <a:xfrm>
            <a:off x="5524560" y="2708280"/>
            <a:ext cx="7128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正方形/長方形 237"/>
          <p:cNvSpPr/>
          <p:nvPr/>
        </p:nvSpPr>
        <p:spPr>
          <a:xfrm>
            <a:off x="5524560" y="2637000"/>
            <a:ext cx="712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正方形/長方形 238"/>
          <p:cNvSpPr/>
          <p:nvPr/>
        </p:nvSpPr>
        <p:spPr>
          <a:xfrm>
            <a:off x="5451480" y="2781360"/>
            <a:ext cx="730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正方形/長方形 239"/>
          <p:cNvSpPr/>
          <p:nvPr/>
        </p:nvSpPr>
        <p:spPr>
          <a:xfrm>
            <a:off x="5451480" y="2205000"/>
            <a:ext cx="73080" cy="7164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正方形/長方形 240"/>
          <p:cNvSpPr/>
          <p:nvPr/>
        </p:nvSpPr>
        <p:spPr>
          <a:xfrm>
            <a:off x="5524560" y="2276640"/>
            <a:ext cx="71280" cy="7272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正方形/長方形 241"/>
          <p:cNvSpPr/>
          <p:nvPr/>
        </p:nvSpPr>
        <p:spPr>
          <a:xfrm>
            <a:off x="5595840" y="2349360"/>
            <a:ext cx="71640" cy="7164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正方形/長方形 242"/>
          <p:cNvSpPr/>
          <p:nvPr/>
        </p:nvSpPr>
        <p:spPr>
          <a:xfrm>
            <a:off x="5667480" y="2421000"/>
            <a:ext cx="7308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正方形/長方形 243"/>
          <p:cNvSpPr/>
          <p:nvPr/>
        </p:nvSpPr>
        <p:spPr>
          <a:xfrm>
            <a:off x="5595840" y="2565360"/>
            <a:ext cx="71640" cy="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正方形/長方形 244"/>
          <p:cNvSpPr/>
          <p:nvPr/>
        </p:nvSpPr>
        <p:spPr>
          <a:xfrm>
            <a:off x="5595840" y="2637000"/>
            <a:ext cx="7164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正方形/長方形 245"/>
          <p:cNvSpPr/>
          <p:nvPr/>
        </p:nvSpPr>
        <p:spPr>
          <a:xfrm>
            <a:off x="5667480" y="2565360"/>
            <a:ext cx="73080" cy="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正方形/長方形 246"/>
          <p:cNvSpPr/>
          <p:nvPr/>
        </p:nvSpPr>
        <p:spPr>
          <a:xfrm>
            <a:off x="5740560" y="2492280"/>
            <a:ext cx="7128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正方形/長方形 247"/>
          <p:cNvSpPr/>
          <p:nvPr/>
        </p:nvSpPr>
        <p:spPr>
          <a:xfrm>
            <a:off x="5524560" y="2852640"/>
            <a:ext cx="71280" cy="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正方形/長方形 248"/>
          <p:cNvSpPr/>
          <p:nvPr/>
        </p:nvSpPr>
        <p:spPr>
          <a:xfrm>
            <a:off x="5524560" y="2781360"/>
            <a:ext cx="712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正方形/長方形 249"/>
          <p:cNvSpPr/>
          <p:nvPr/>
        </p:nvSpPr>
        <p:spPr>
          <a:xfrm>
            <a:off x="5595840" y="2708280"/>
            <a:ext cx="7164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正方形/長方形 250"/>
          <p:cNvSpPr/>
          <p:nvPr/>
        </p:nvSpPr>
        <p:spPr>
          <a:xfrm>
            <a:off x="5595840" y="2781360"/>
            <a:ext cx="7164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正方形/長方形 251"/>
          <p:cNvSpPr/>
          <p:nvPr/>
        </p:nvSpPr>
        <p:spPr>
          <a:xfrm>
            <a:off x="5667480" y="2637000"/>
            <a:ext cx="730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正方形/長方形 252"/>
          <p:cNvSpPr/>
          <p:nvPr/>
        </p:nvSpPr>
        <p:spPr>
          <a:xfrm>
            <a:off x="5667480" y="2708280"/>
            <a:ext cx="7308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正方形/長方形 253"/>
          <p:cNvSpPr/>
          <p:nvPr/>
        </p:nvSpPr>
        <p:spPr>
          <a:xfrm>
            <a:off x="5740560" y="2565360"/>
            <a:ext cx="71280" cy="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正方形/長方形 254"/>
          <p:cNvSpPr/>
          <p:nvPr/>
        </p:nvSpPr>
        <p:spPr>
          <a:xfrm>
            <a:off x="5740560" y="2637000"/>
            <a:ext cx="712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正方形/長方形 255"/>
          <p:cNvSpPr/>
          <p:nvPr/>
        </p:nvSpPr>
        <p:spPr>
          <a:xfrm>
            <a:off x="5811840" y="2492280"/>
            <a:ext cx="7128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正方形/長方形 256"/>
          <p:cNvSpPr/>
          <p:nvPr/>
        </p:nvSpPr>
        <p:spPr>
          <a:xfrm>
            <a:off x="5811840" y="2565360"/>
            <a:ext cx="71280" cy="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正方形/長方形 257"/>
          <p:cNvSpPr/>
          <p:nvPr/>
        </p:nvSpPr>
        <p:spPr>
          <a:xfrm>
            <a:off x="5524560" y="2133720"/>
            <a:ext cx="7128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正方形/長方形 258"/>
          <p:cNvSpPr/>
          <p:nvPr/>
        </p:nvSpPr>
        <p:spPr>
          <a:xfrm>
            <a:off x="5524560" y="2205000"/>
            <a:ext cx="71280" cy="7164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正方形/長方形 259"/>
          <p:cNvSpPr/>
          <p:nvPr/>
        </p:nvSpPr>
        <p:spPr>
          <a:xfrm>
            <a:off x="5595840" y="2205000"/>
            <a:ext cx="71640" cy="7164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正方形/長方形 260"/>
          <p:cNvSpPr/>
          <p:nvPr/>
        </p:nvSpPr>
        <p:spPr>
          <a:xfrm>
            <a:off x="5595840" y="2276640"/>
            <a:ext cx="71640" cy="7272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正方形/長方形 261"/>
          <p:cNvSpPr/>
          <p:nvPr/>
        </p:nvSpPr>
        <p:spPr>
          <a:xfrm>
            <a:off x="5667480" y="2276640"/>
            <a:ext cx="73080" cy="7272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正方形/長方形 262"/>
          <p:cNvSpPr/>
          <p:nvPr/>
        </p:nvSpPr>
        <p:spPr>
          <a:xfrm>
            <a:off x="5667480" y="2349360"/>
            <a:ext cx="73080" cy="7164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正方形/長方形 263"/>
          <p:cNvSpPr/>
          <p:nvPr/>
        </p:nvSpPr>
        <p:spPr>
          <a:xfrm>
            <a:off x="5740560" y="2349360"/>
            <a:ext cx="71280" cy="7164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正方形/長方形 264"/>
          <p:cNvSpPr/>
          <p:nvPr/>
        </p:nvSpPr>
        <p:spPr>
          <a:xfrm>
            <a:off x="5740560" y="2421000"/>
            <a:ext cx="7128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正方形/長方形 265"/>
          <p:cNvSpPr/>
          <p:nvPr/>
        </p:nvSpPr>
        <p:spPr>
          <a:xfrm>
            <a:off x="5883120" y="2492280"/>
            <a:ext cx="7308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正方形/長方形 266"/>
          <p:cNvSpPr/>
          <p:nvPr/>
        </p:nvSpPr>
        <p:spPr>
          <a:xfrm>
            <a:off x="5811840" y="2421000"/>
            <a:ext cx="7128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テキスト ボックス 272"/>
          <p:cNvSpPr/>
          <p:nvPr/>
        </p:nvSpPr>
        <p:spPr>
          <a:xfrm>
            <a:off x="1951200" y="2924280"/>
            <a:ext cx="120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x5: 15 coeff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テキスト ボックス 273"/>
          <p:cNvSpPr/>
          <p:nvPr/>
        </p:nvSpPr>
        <p:spPr>
          <a:xfrm>
            <a:off x="3544920" y="2924280"/>
            <a:ext cx="120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x7: 24 coeff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テキスト ボックス 274"/>
          <p:cNvSpPr/>
          <p:nvPr/>
        </p:nvSpPr>
        <p:spPr>
          <a:xfrm>
            <a:off x="5308560" y="2938320"/>
            <a:ext cx="120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9: 34 coeff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正方形/長方形 275"/>
          <p:cNvSpPr/>
          <p:nvPr/>
        </p:nvSpPr>
        <p:spPr>
          <a:xfrm>
            <a:off x="2700360" y="2860560"/>
            <a:ext cx="7128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正方形/長方形 276"/>
          <p:cNvSpPr/>
          <p:nvPr/>
        </p:nvSpPr>
        <p:spPr>
          <a:xfrm>
            <a:off x="2852640" y="2860560"/>
            <a:ext cx="7164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正方形/長方形 277"/>
          <p:cNvSpPr/>
          <p:nvPr/>
        </p:nvSpPr>
        <p:spPr>
          <a:xfrm>
            <a:off x="4148280" y="2852640"/>
            <a:ext cx="71280" cy="7164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正方形/長方形 278"/>
          <p:cNvSpPr/>
          <p:nvPr/>
        </p:nvSpPr>
        <p:spPr>
          <a:xfrm>
            <a:off x="4300560" y="2852640"/>
            <a:ext cx="71280" cy="7164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正方形/長方形 279"/>
          <p:cNvSpPr/>
          <p:nvPr/>
        </p:nvSpPr>
        <p:spPr>
          <a:xfrm>
            <a:off x="5740560" y="2852640"/>
            <a:ext cx="71280" cy="7164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正方形/長方形 280"/>
          <p:cNvSpPr/>
          <p:nvPr/>
        </p:nvSpPr>
        <p:spPr>
          <a:xfrm>
            <a:off x="5892840" y="2852640"/>
            <a:ext cx="71280" cy="7164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テキスト ボックス 281"/>
          <p:cNvSpPr/>
          <p:nvPr/>
        </p:nvSpPr>
        <p:spPr>
          <a:xfrm>
            <a:off x="2871720" y="5022720"/>
            <a:ext cx="1427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ce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テキスト ボックス 282"/>
          <p:cNvSpPr/>
          <p:nvPr/>
        </p:nvSpPr>
        <p:spPr>
          <a:xfrm>
            <a:off x="4299120" y="5022720"/>
            <a:ext cx="2504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テキスト ボックス 283"/>
          <p:cNvSpPr/>
          <p:nvPr/>
        </p:nvSpPr>
        <p:spPr>
          <a:xfrm>
            <a:off x="5091120" y="5600880"/>
            <a:ext cx="576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テキスト ボックス 286"/>
          <p:cNvSpPr/>
          <p:nvPr/>
        </p:nvSpPr>
        <p:spPr>
          <a:xfrm>
            <a:off x="3087720" y="6227640"/>
            <a:ext cx="9604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eff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直線コネクタ 288"/>
          <p:cNvSpPr/>
          <p:nvPr/>
        </p:nvSpPr>
        <p:spPr>
          <a:xfrm>
            <a:off x="4299120" y="5392800"/>
            <a:ext cx="792000" cy="20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直線コネクタ 289"/>
          <p:cNvSpPr/>
          <p:nvPr/>
        </p:nvSpPr>
        <p:spPr>
          <a:xfrm>
            <a:off x="4859280" y="5392800"/>
            <a:ext cx="808200" cy="20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直線コネクタ 290"/>
          <p:cNvSpPr/>
          <p:nvPr/>
        </p:nvSpPr>
        <p:spPr>
          <a:xfrm flipH="1">
            <a:off x="1618920" y="5392080"/>
            <a:ext cx="2103480" cy="83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直線コネクタ 293"/>
          <p:cNvSpPr/>
          <p:nvPr/>
        </p:nvSpPr>
        <p:spPr>
          <a:xfrm>
            <a:off x="3858480" y="5392800"/>
            <a:ext cx="189000" cy="83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テキスト ボックス 297"/>
          <p:cNvSpPr/>
          <p:nvPr/>
        </p:nvSpPr>
        <p:spPr>
          <a:xfrm>
            <a:off x="4875120" y="6248520"/>
            <a:ext cx="9604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f 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直線コネクタ 298"/>
          <p:cNvSpPr/>
          <p:nvPr/>
        </p:nvSpPr>
        <p:spPr>
          <a:xfrm>
            <a:off x="5303880" y="5970600"/>
            <a:ext cx="531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直線コネクタ 300"/>
          <p:cNvSpPr/>
          <p:nvPr/>
        </p:nvSpPr>
        <p:spPr>
          <a:xfrm flipH="1">
            <a:off x="4875120" y="5961240"/>
            <a:ext cx="35568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テキスト ボックス 286"/>
          <p:cNvSpPr/>
          <p:nvPr/>
        </p:nvSpPr>
        <p:spPr>
          <a:xfrm>
            <a:off x="1619280" y="6227640"/>
            <a:ext cx="14684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f_parallel_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xperimental results (Summary)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A9E4-DBDD-4C03-9510-FF9C58DB74BE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テキスト ボックス 24"/>
          <p:cNvSpPr/>
          <p:nvPr/>
        </p:nvSpPr>
        <p:spPr>
          <a:xfrm>
            <a:off x="2050920" y="6184800"/>
            <a:ext cx="633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The number of encoding pass i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is the same as the anch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3" name=""/>
          <p:cNvGraphicFramePr/>
          <p:nvPr/>
        </p:nvGraphicFramePr>
        <p:xfrm>
          <a:off x="1116000" y="785880"/>
          <a:ext cx="6491160" cy="5333760"/>
        </p:xfrm>
        <a:graphic>
          <a:graphicData uri="http://schemas.openxmlformats.org/drawingml/2006/table">
            <a:tbl>
              <a:tblPr/>
              <a:tblGrid>
                <a:gridCol w="1079640"/>
                <a:gridCol w="1515960"/>
                <a:gridCol w="1298520"/>
                <a:gridCol w="1298520"/>
                <a:gridCol w="1298520"/>
              </a:tblGrid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BD-rate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BD-rate 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BD-rate 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rowSpan="8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Int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On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(option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Encoding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0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Decoding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93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 rowSpan="8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Rand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A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(mandat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Encoding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0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Decoding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96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 rowSpan="8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De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(mandat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Encoding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0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Decoding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96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xperimental results (BD-rate Y details)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5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8EAE-FB85-4D30-ABFB-CD9D4667E3B0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6" name=""/>
          <p:cNvGraphicFramePr/>
          <p:nvPr/>
        </p:nvGraphicFramePr>
        <p:xfrm>
          <a:off x="755640" y="836640"/>
          <a:ext cx="7161120" cy="5334120"/>
        </p:xfrm>
        <a:graphic>
          <a:graphicData uri="http://schemas.openxmlformats.org/drawingml/2006/table">
            <a:tbl>
              <a:tblPr/>
              <a:tblGrid>
                <a:gridCol w="1341360"/>
                <a:gridCol w="1455840"/>
                <a:gridCol w="1454040"/>
                <a:gridCol w="1454400"/>
                <a:gridCol w="1455480"/>
              </a:tblGrid>
              <a:tr h="213480"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equen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IntraOn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RandamA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LowDe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Traff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PeopleOnStre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Kimo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ParkSc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Cac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BasketballDr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BQTerr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BasketballDri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BQM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PartySc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RaceHo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BasketballPa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BQSqu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</a:tr>
              <a:tr h="213480"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BlowingBubb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RaceHo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Vidyo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Vidyo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Vidyo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rowSpan="6"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457200" y="78588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61000"/>
          </a:bodyPr>
          <a:p>
            <a:pPr marL="219600" indent="-14688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allel adaptive loop fil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79440" indent="-15984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aluated in TE10 subtest 2 propos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492840" indent="-113040">
              <a:spcBef>
                <a:spcPts val="349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JCTVC-C083 [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 coordinators (NEC and TOSHIBA)</a:t>
            </a: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9440" indent="-15984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osscheck &amp; Complexity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492840" indent="-113040">
              <a:spcBef>
                <a:spcPts val="349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CTVC-C145 [MediaTek], JCTVC-C071 [Zhejiang Univ.]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9440" indent="-15984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eat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492840" indent="-11304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bine DF and Wiener-based fil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599400" indent="-10620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ing pre-DF and post-DF sig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492840" indent="-11304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nef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599400" indent="-10620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ding efficienc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599400" indent="-10620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19600" indent="-14688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19600" indent="-14688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erimental resul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492840" indent="-11304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0.7 %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0.4 %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0.4 %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it-rate reductio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599400" indent="-106200">
              <a:spcBef>
                <a:spcPts val="349"/>
              </a:spcBef>
              <a:buClr>
                <a:srgbClr val="4ea5d8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IntraOnly / RandamAccess / LowDel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492840" indent="-11304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coding time ratio is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0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492840" indent="-11304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coding time ratio is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93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o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96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%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79440" indent="-159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5909-B144-47B6-96BA-559BE293CCDF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01:38:00Z</dcterms:created>
  <dc:creator/>
  <dc:description/>
  <dc:language>en-US</dc:language>
  <cp:lastModifiedBy/>
  <dcterms:modified xsi:type="dcterms:W3CDTF">2010-10-09T09:33:04Z</dcterms:modified>
  <cp:revision>2</cp:revision>
  <dc:subject/>
  <dc:title>Parallel adaptive loop filt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71231033</vt:lpwstr>
  </property>
</Properties>
</file>