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0  |  2010-10-06  |  Page </a:t>
            </a:r>
            <a:fld id="{E9E18659-F795-4151-964F-2316A4C9068F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174400"/>
            <a:ext cx="8351640" cy="1341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TMuC 0.7 results with sequence dependent QPs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JCTVC-C155 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Kenneth Andersson, Rickard Sjöberg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Ericsson AB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Random access high-efficienc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12" name="Content_SM"/>
          <p:cNvGraphicFramePr/>
          <p:nvPr/>
        </p:nvGraphicFramePr>
        <p:xfrm>
          <a:off x="1401840" y="1376280"/>
          <a:ext cx="634212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Content_SM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1376280"/>
                    <a:ext cx="634212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487600" y="5634000"/>
            <a:ext cx="3530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chor:      QP=37, 32, 27, 2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using: QP=41, 37, 34, 3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BDrate performance using Linux cluster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5920" y="1133640"/>
          <a:ext cx="8351640" cy="5330520"/>
        </p:xfrm>
        <a:graphic>
          <a:graphicData uri="http://schemas.openxmlformats.org/drawingml/2006/table">
            <a:tbl>
              <a:tblPr/>
              <a:tblGrid>
                <a:gridCol w="1352520"/>
                <a:gridCol w="893520"/>
                <a:gridCol w="1446120"/>
                <a:gridCol w="895680"/>
                <a:gridCol w="893520"/>
                <a:gridCol w="1974960"/>
                <a:gridCol w="895320"/>
              </a:tblGrid>
              <a:tr h="249120">
                <a:tc rowSpan="2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3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3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0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9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9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0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0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0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All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98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97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100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99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0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6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8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3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3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0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4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5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0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,8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All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4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0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0,1 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99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98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98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98%</a:t>
                      </a:r>
                      <a:endParaRPr b="0" lang="en-US" sz="1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use of sequence specific QPs has a marginal effect on BDrate measurements compared to B300, e.g. RD curves for TMuC at various QP behave simila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quence specific QPs can avoid future optimization of codec performance at bitrates far from application bitrat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quence specific QPs can in most cases give rate points better suited for subjective evaluation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advantage of keeping one fixed set of QPs for all sequences is simplicity and a large span of QP values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s informative contribution investigates performance for random access and low delay when using bitrates closer to CfP conditions instead of common conditions B300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D curves shows that a fixed QP range cause high rate points for some sequenc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High rate points can cause optimization of codec performance for high rat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Despite large rate differences, using sequence specific QPs has a small effect on BDrate performance using common conditions as ancho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equence dependent QPs can potentially better address application bitrates and also produce better rate points for subjective assessmen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 positive side effect is that worst case simulation time is reduced by about 20%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mmon conditions B300 uses the same fixed QP set for all sequenc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P 22 results in high bitrates (&gt;40Mbps) for some of the common condition sequences, far from application bitrates in broadcast and video communic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t low QP it is hard to distinguish coding artifacts for some sequences (could potentially be verified at informal viewing at the meeting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Experimental setup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nchor: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MuC 0.7 for B300 using QP = 37, 32, 27 and 2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est: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MuC 0.7 for B300 using sequence specific QP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r simplicity the max and min QPs from Samsungs CfP configuration have been used for generation of two inbetween QPs e.g. in total 4 QP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ow-delay high-efficienc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92" name="Content_SM"/>
          <p:cNvGraphicFramePr/>
          <p:nvPr/>
        </p:nvGraphicFramePr>
        <p:xfrm>
          <a:off x="1401840" y="1376280"/>
          <a:ext cx="634212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Content_SM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1376280"/>
                    <a:ext cx="634212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487600" y="5634000"/>
            <a:ext cx="3530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chor:      QP=37, 32, 27, 2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using: QP=32, 30, 28, 26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ow-delay high-efficienc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96" name="Content_SM"/>
          <p:cNvGraphicFramePr/>
          <p:nvPr/>
        </p:nvGraphicFramePr>
        <p:xfrm>
          <a:off x="1401840" y="1376280"/>
          <a:ext cx="634212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Content_SM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1376280"/>
                    <a:ext cx="634212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487600" y="5634000"/>
            <a:ext cx="353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chor:      QP=37, 32, 27, 2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using: QP=36, 32, 29, 26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ow-delay high-efficienc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00" name="Content_SM"/>
          <p:cNvGraphicFramePr/>
          <p:nvPr/>
        </p:nvGraphicFramePr>
        <p:xfrm>
          <a:off x="1401840" y="1376280"/>
          <a:ext cx="634212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Content_SM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1376280"/>
                    <a:ext cx="634212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487600" y="5634000"/>
            <a:ext cx="3530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chor:      QP=37, 32, 27, 2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using: QP=40, 36, 33, 3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Random access high-efficienc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04" name="Content_SM"/>
          <p:cNvGraphicFramePr/>
          <p:nvPr/>
        </p:nvGraphicFramePr>
        <p:xfrm>
          <a:off x="1401840" y="1376280"/>
          <a:ext cx="634212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Content_SM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1376280"/>
                    <a:ext cx="634212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487600" y="5634000"/>
            <a:ext cx="353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chor:      QP=37, 32, 27, 2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using: QP=33, 31, 28, 26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Random access high-efficienc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01840" y="1376280"/>
          <a:ext cx="634212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1376280"/>
                    <a:ext cx="634212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487600" y="5634000"/>
            <a:ext cx="3530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chor:      QP=37, 32, 27, 2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using: QP=35, 32, 28, 25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Ericsson: Kenneth Andersson  </cp:lastModifiedBy>
  <dcterms:modified xsi:type="dcterms:W3CDTF">2010-10-08T17:15:02Z</dcterms:modified>
  <cp:revision>1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6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0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6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