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8e8e95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1142640" y="4343400"/>
            <a:ext cx="457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ftr" idx="2"/>
          </p:nvPr>
        </p:nvSpPr>
        <p:spPr>
          <a:xfrm>
            <a:off x="103320" y="8794800"/>
            <a:ext cx="298296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e8e95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e8e95"/>
                </a:solidFill>
                <a:latin typeface="Times New Roman"/>
                <a:ea typeface="Arial"/>
              </a:rPr>
              <a:t>© 2009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e8e95"/>
                </a:solidFill>
                <a:latin typeface="Times New Roman"/>
                <a:ea typeface="Arial"/>
              </a:rPr>
              <a:t>Presentation_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sldNum" idx="3"/>
          </p:nvPr>
        </p:nvSpPr>
        <p:spPr>
          <a:xfrm>
            <a:off x="6366960" y="8785800"/>
            <a:ext cx="3891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e8e9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9475-3868-4877-9B06-F2CAAE0934AE}" type="slidenum">
              <a:rPr b="0" lang="en-US" sz="800" spc="-1" strike="noStrike">
                <a:solidFill>
                  <a:srgbClr val="8e8e95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10"/>
          <p:cNvSpPr/>
          <p:nvPr/>
        </p:nvSpPr>
        <p:spPr>
          <a:xfrm>
            <a:off x="103320" y="8799480"/>
            <a:ext cx="6653160" cy="0"/>
          </a:xfrm>
          <a:prstGeom prst="line">
            <a:avLst/>
          </a:prstGeom>
          <a:ln w="12600">
            <a:solidFill>
              <a:srgbClr val="8e8e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3107160" y="880848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1142640" y="4343400"/>
            <a:ext cx="4576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ong the 14 test sequences, 6 are 1080p, 25fps, progressive scan, 4:2:0, 4 are 720p, 50fps, progressive scan, 4:2:0 and 4 are 4CIF, 30fps, progressive scan, 4:2: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the bit rate used for coding Luma component is included in the resul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oter Placeholder 3"/>
          <p:cNvSpPr/>
          <p:nvPr/>
        </p:nvSpPr>
        <p:spPr>
          <a:xfrm>
            <a:off x="103320" y="8800560"/>
            <a:ext cx="29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e8e95"/>
                </a:solidFill>
                <a:latin typeface="Arial"/>
                <a:ea typeface="Arial"/>
              </a:rPr>
              <a:t>© 2009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e8e95"/>
                </a:solidFill>
                <a:latin typeface="Arial"/>
                <a:ea typeface="Arial"/>
              </a:rPr>
              <a:t>Presentation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6367320" y="8786160"/>
            <a:ext cx="38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945D-7DFB-4382-A144-AB19FABA8893}" type="slidenum">
              <a:rPr b="0" lang="en-US" sz="8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1142640" y="4343400"/>
            <a:ext cx="4576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the bit rate used for coding Luma component is included in th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Footer Placeholder 3"/>
          <p:cNvSpPr/>
          <p:nvPr/>
        </p:nvSpPr>
        <p:spPr>
          <a:xfrm>
            <a:off x="103320" y="8800560"/>
            <a:ext cx="29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e8e95"/>
                </a:solidFill>
                <a:latin typeface="Arial"/>
                <a:ea typeface="Arial"/>
              </a:rPr>
              <a:t>© 2009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e8e95"/>
                </a:solidFill>
                <a:latin typeface="Arial"/>
                <a:ea typeface="Arial"/>
              </a:rPr>
              <a:t>Presentation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4"/>
          <p:cNvSpPr/>
          <p:nvPr/>
        </p:nvSpPr>
        <p:spPr>
          <a:xfrm>
            <a:off x="6367320" y="8786160"/>
            <a:ext cx="38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2ED5-9FF1-4853-B50A-D7B4910C8098}" type="slidenum">
              <a:rPr b="0" lang="en-US" sz="8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1142640" y="4343400"/>
            <a:ext cx="4576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 ste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 the algorithm in TMuC based on LC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 the coding efficiency improvement to LCEC and consolidate with LC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 complexity and table opti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1142640" y="4343400"/>
            <a:ext cx="4576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the distribution of transform coefficients varies with different blocks and sequences, multiple code tables representing different possibility distribution and a context-adaptive code table switch scheme is designed to further improve the coding efficiency. Context information is based on either the coded portion of the current block or coded neighboring bloc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ooter Placeholder 3"/>
          <p:cNvSpPr/>
          <p:nvPr/>
        </p:nvSpPr>
        <p:spPr>
          <a:xfrm>
            <a:off x="103320" y="8800560"/>
            <a:ext cx="29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e8e95"/>
                </a:solidFill>
                <a:latin typeface="Arial"/>
                <a:ea typeface="Arial"/>
              </a:rPr>
              <a:t>© 2009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e8e95"/>
                </a:solidFill>
                <a:latin typeface="Arial"/>
                <a:ea typeface="Arial"/>
              </a:rPr>
              <a:t>Presentation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4"/>
          <p:cNvSpPr/>
          <p:nvPr/>
        </p:nvSpPr>
        <p:spPr>
          <a:xfrm>
            <a:off x="6367320" y="8786160"/>
            <a:ext cx="38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E776-B2A1-47A9-88CD-FD64AA463470}" type="slidenum">
              <a:rPr b="0" lang="en-US" sz="8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3DDE-E050-4B25-A107-150E0A29292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D9E3-EBF9-4247-A86D-C55657F4FA6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2ABB-69E5-4EE2-8D26-66DF438CF6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8EAAB-E6CD-4A2F-9759-501A6ABE2BD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6C24-D792-4F5F-90D6-ACD683822F8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1BFB-A49B-4ECA-84E9-A14F4FF5EF9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7B55-8EBE-42C3-83BA-44ED1C97F38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76B6-9AA0-463D-856D-8D53C76045D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7035-68C0-4668-9B12-2D3C4B00F6E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A0F8-1B48-4CDC-88D1-0B32150EC88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C7D6-D325-4D12-800E-DBFDA0C27E1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42A6-004A-4050-BF4C-7424C6DB31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793440" y="304920"/>
            <a:ext cx="7435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793440" y="3964320"/>
            <a:ext cx="743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79344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03680" y="3964320"/>
            <a:ext cx="362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0768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821560" y="160020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79344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0768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821560" y="3964320"/>
            <a:ext cx="239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21680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9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9320" y="663408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8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38EEF97-F9F5-48B1-9CAE-90C977D8E1FF}" type="slidenum">
              <a:rPr b="0" lang="en-US" sz="10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48"/>
          <p:cNvSpPr/>
          <p:nvPr/>
        </p:nvSpPr>
        <p:spPr>
          <a:xfrm flipV="1">
            <a:off x="0" y="5910120"/>
            <a:ext cx="9144000" cy="5810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183b7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6"/>
          <p:cNvSpPr/>
          <p:nvPr/>
        </p:nvSpPr>
        <p:spPr>
          <a:xfrm>
            <a:off x="0" y="3424320"/>
            <a:ext cx="9144000" cy="5810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183b7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1"/>
          <p:cNvSpPr/>
          <p:nvPr/>
        </p:nvSpPr>
        <p:spPr>
          <a:xfrm>
            <a:off x="0" y="4006800"/>
            <a:ext cx="9144000" cy="1920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C110DF0-C67E-4352-A707-853F40B66B38}" type="slidenum">
              <a:rPr b="0" lang="en-US" sz="10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121680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9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49320" y="663408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2"/>
          <a:stretch/>
        </p:blipFill>
        <p:spPr>
          <a:xfrm>
            <a:off x="-14400" y="2092320"/>
            <a:ext cx="5548320" cy="239544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13"/>
          <p:cNvSpPr/>
          <p:nvPr/>
        </p:nvSpPr>
        <p:spPr>
          <a:xfrm>
            <a:off x="5343480" y="4483080"/>
            <a:ext cx="3800520" cy="2374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5343480" y="0"/>
            <a:ext cx="3800520" cy="2087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6"/>
          <p:cNvSpPr/>
          <p:nvPr/>
        </p:nvSpPr>
        <p:spPr>
          <a:xfrm>
            <a:off x="5343480" y="2095560"/>
            <a:ext cx="3800520" cy="23875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87059CC-26F2-45E3-808B-0714F56A188C}" type="slidenum">
              <a:rPr b="0" lang="en-US" sz="10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77724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9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49320" y="663408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"/>
          <p:cNvPicPr/>
          <p:nvPr/>
        </p:nvPicPr>
        <p:blipFill>
          <a:blip r:embed="rId2"/>
          <a:stretch/>
        </p:blipFill>
        <p:spPr>
          <a:xfrm>
            <a:off x="-6480" y="2081160"/>
            <a:ext cx="9156960" cy="238932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7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A3E1DCF-ECE8-4C8B-9AE4-2F7DF995E5BC}" type="slidenum">
              <a:rPr b="0" lang="en-US" sz="10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121680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9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5"/>
          <p:cNvSpPr/>
          <p:nvPr/>
        </p:nvSpPr>
        <p:spPr>
          <a:xfrm>
            <a:off x="49320" y="663408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"/>
          <p:cNvPicPr/>
          <p:nvPr/>
        </p:nvPicPr>
        <p:blipFill>
          <a:blip r:embed="rId2"/>
          <a:stretch/>
        </p:blipFill>
        <p:spPr>
          <a:xfrm>
            <a:off x="0" y="2085840"/>
            <a:ext cx="5486400" cy="238932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9"/>
          <p:cNvSpPr/>
          <p:nvPr/>
        </p:nvSpPr>
        <p:spPr>
          <a:xfrm>
            <a:off x="5362560" y="0"/>
            <a:ext cx="3781440" cy="6858000"/>
          </a:xfrm>
          <a:prstGeom prst="rect">
            <a:avLst/>
          </a:prstGeom>
          <a:solidFill>
            <a:srgbClr val="8e8e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77724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9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5"/>
          <p:cNvSpPr/>
          <p:nvPr/>
        </p:nvSpPr>
        <p:spPr>
          <a:xfrm>
            <a:off x="49320" y="663408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"/>
          <p:cNvPicPr/>
          <p:nvPr/>
        </p:nvPicPr>
        <p:blipFill>
          <a:blip r:embed="rId2"/>
          <a:stretch/>
        </p:blipFill>
        <p:spPr>
          <a:xfrm>
            <a:off x="0" y="2085840"/>
            <a:ext cx="5486400" cy="23893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6"/>
          <p:cNvSpPr/>
          <p:nvPr/>
        </p:nvSpPr>
        <p:spPr>
          <a:xfrm>
            <a:off x="5362560" y="0"/>
            <a:ext cx="3781440" cy="6858000"/>
          </a:xfrm>
          <a:prstGeom prst="rect">
            <a:avLst/>
          </a:prstGeom>
          <a:solidFill>
            <a:srgbClr val="8e8e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0"/>
          <p:cNvSpPr/>
          <p:nvPr/>
        </p:nvSpPr>
        <p:spPr>
          <a:xfrm>
            <a:off x="5343480" y="0"/>
            <a:ext cx="3800520" cy="2087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0"/>
          <p:cNvSpPr/>
          <p:nvPr/>
        </p:nvSpPr>
        <p:spPr>
          <a:xfrm>
            <a:off x="5343480" y="4464000"/>
            <a:ext cx="3800520" cy="2394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77724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9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49320" y="663408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"/>
          <p:cNvPicPr/>
          <p:nvPr/>
        </p:nvPicPr>
        <p:blipFill>
          <a:blip r:embed="rId2"/>
          <a:stretch/>
        </p:blipFill>
        <p:spPr>
          <a:xfrm>
            <a:off x="0" y="2085840"/>
            <a:ext cx="5486400" cy="238932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9"/>
          <p:cNvSpPr/>
          <p:nvPr/>
        </p:nvSpPr>
        <p:spPr>
          <a:xfrm>
            <a:off x="5343480" y="0"/>
            <a:ext cx="3800520" cy="2276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8"/>
          <p:cNvSpPr/>
          <p:nvPr/>
        </p:nvSpPr>
        <p:spPr>
          <a:xfrm>
            <a:off x="5343480" y="4483080"/>
            <a:ext cx="3800520" cy="2374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0"/>
          <p:cNvSpPr/>
          <p:nvPr/>
        </p:nvSpPr>
        <p:spPr>
          <a:xfrm>
            <a:off x="5343480" y="2095560"/>
            <a:ext cx="3800520" cy="23875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4"/>
          <p:cNvSpPr/>
          <p:nvPr/>
        </p:nvSpPr>
        <p:spPr>
          <a:xfrm>
            <a:off x="77724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9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6"/>
          <p:cNvSpPr/>
          <p:nvPr/>
        </p:nvSpPr>
        <p:spPr>
          <a:xfrm>
            <a:off x="49320" y="663408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6"/>
          <p:cNvSpPr/>
          <p:nvPr/>
        </p:nvSpPr>
        <p:spPr>
          <a:xfrm>
            <a:off x="-19080" y="1647720"/>
            <a:ext cx="9182160" cy="2368800"/>
          </a:xfrm>
          <a:prstGeom prst="rect">
            <a:avLst/>
          </a:prstGeom>
          <a:solidFill>
            <a:srgbClr val="8e8e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D99BAC4-2D8B-4C51-9053-C5B447AF89A0}" type="slidenum">
              <a:rPr b="0" lang="en-US" sz="10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121680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9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5"/>
          <p:cNvSpPr/>
          <p:nvPr/>
        </p:nvSpPr>
        <p:spPr>
          <a:xfrm>
            <a:off x="49320" y="663408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0"/>
          <p:cNvSpPr/>
          <p:nvPr/>
        </p:nvSpPr>
        <p:spPr>
          <a:xfrm>
            <a:off x="0" y="3992400"/>
            <a:ext cx="9144000" cy="1186200"/>
          </a:xfrm>
          <a:prstGeom prst="rect">
            <a:avLst/>
          </a:prstGeom>
          <a:gradFill rotWithShape="0">
            <a:gsLst>
              <a:gs pos="0">
                <a:srgbClr val="8e8e95">
                  <a:alpha val="49803"/>
                </a:srgbClr>
              </a:gs>
              <a:gs pos="100000">
                <a:srgbClr val="42424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-19080" y="1646280"/>
            <a:ext cx="9182160" cy="2367000"/>
          </a:xfrm>
          <a:prstGeom prst="rect">
            <a:avLst/>
          </a:prstGeom>
          <a:solidFill>
            <a:srgbClr val="8e8e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EC067F2-CE26-4D38-A6A2-7113E5510721}" type="slidenum">
              <a:rPr b="0" lang="en-US" sz="10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121680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9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6"/>
          <p:cNvSpPr/>
          <p:nvPr/>
        </p:nvSpPr>
        <p:spPr>
          <a:xfrm>
            <a:off x="49320" y="663408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12" descr="Cisco_Logo_rgb_large2"/>
          <p:cNvPicPr/>
          <p:nvPr/>
        </p:nvPicPr>
        <p:blipFill>
          <a:blip r:embed="rId2"/>
          <a:stretch/>
        </p:blipFill>
        <p:spPr>
          <a:xfrm>
            <a:off x="2803680" y="2421000"/>
            <a:ext cx="3528720" cy="185724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4"/>
          <p:cNvSpPr/>
          <p:nvPr/>
        </p:nvSpPr>
        <p:spPr>
          <a:xfrm>
            <a:off x="121680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9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49320" y="663408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8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7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D7D4185-78A2-4E38-A850-61244F8F0A8E}" type="slidenum">
              <a:rPr b="0" lang="en-US" sz="10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Num" idx="1"/>
          </p:nvPr>
        </p:nvSpPr>
        <p:spPr>
          <a:xfrm>
            <a:off x="8686440" y="6645240"/>
            <a:ext cx="2300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C2A5-A29E-45AD-A12E-C1982FF178F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8"/>
          <p:cNvSpPr/>
          <p:nvPr/>
        </p:nvSpPr>
        <p:spPr>
          <a:xfrm>
            <a:off x="1440" y="1619280"/>
            <a:ext cx="9182160" cy="2367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46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1015560" y="1035000"/>
              <a:ext cx="66240" cy="25020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1399680" y="1028880"/>
              <a:ext cx="19080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741240" y="1028880"/>
              <a:ext cx="19080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1660320" y="1028880"/>
              <a:ext cx="26208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1166400" y="1028880"/>
              <a:ext cx="17172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609480" y="733680"/>
              <a:ext cx="6192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78408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953640" y="528480"/>
              <a:ext cx="61920" cy="3945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112824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1298520" y="733680"/>
              <a:ext cx="6660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147312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1646280" y="528480"/>
              <a:ext cx="63360" cy="3945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181728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1990800" y="733680"/>
              <a:ext cx="6336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0" y="3962520"/>
            <a:ext cx="9144000" cy="1199880"/>
          </a:xfrm>
          <a:prstGeom prst="rect">
            <a:avLst/>
          </a:prstGeom>
          <a:gradFill rotWithShape="0">
            <a:gsLst>
              <a:gs pos="0">
                <a:srgbClr val="8e8e95">
                  <a:alpha val="50196"/>
                </a:srgbClr>
              </a:gs>
              <a:gs pos="100000">
                <a:srgbClr val="42424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1440" y="1619280"/>
            <a:ext cx="9182160" cy="2367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105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9"/>
            <p:cNvSpPr/>
            <p:nvPr/>
          </p:nvSpPr>
          <p:spPr>
            <a:xfrm>
              <a:off x="1015560" y="1035000"/>
              <a:ext cx="66240" cy="25020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"/>
            <p:cNvSpPr/>
            <p:nvPr/>
          </p:nvSpPr>
          <p:spPr>
            <a:xfrm>
              <a:off x="1399680" y="1028880"/>
              <a:ext cx="19080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"/>
            <p:cNvSpPr/>
            <p:nvPr/>
          </p:nvSpPr>
          <p:spPr>
            <a:xfrm>
              <a:off x="741240" y="1028880"/>
              <a:ext cx="19080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2"/>
            <p:cNvSpPr/>
            <p:nvPr/>
          </p:nvSpPr>
          <p:spPr>
            <a:xfrm>
              <a:off x="1660320" y="1028880"/>
              <a:ext cx="26208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3"/>
            <p:cNvSpPr/>
            <p:nvPr/>
          </p:nvSpPr>
          <p:spPr>
            <a:xfrm>
              <a:off x="1166400" y="1028880"/>
              <a:ext cx="17172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4"/>
            <p:cNvSpPr/>
            <p:nvPr/>
          </p:nvSpPr>
          <p:spPr>
            <a:xfrm>
              <a:off x="609480" y="733680"/>
              <a:ext cx="6192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"/>
            <p:cNvSpPr/>
            <p:nvPr/>
          </p:nvSpPr>
          <p:spPr>
            <a:xfrm>
              <a:off x="78408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6"/>
            <p:cNvSpPr/>
            <p:nvPr/>
          </p:nvSpPr>
          <p:spPr>
            <a:xfrm>
              <a:off x="953640" y="528480"/>
              <a:ext cx="61920" cy="3945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7"/>
            <p:cNvSpPr/>
            <p:nvPr/>
          </p:nvSpPr>
          <p:spPr>
            <a:xfrm>
              <a:off x="112824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8"/>
            <p:cNvSpPr/>
            <p:nvPr/>
          </p:nvSpPr>
          <p:spPr>
            <a:xfrm>
              <a:off x="1298520" y="733680"/>
              <a:ext cx="6660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9"/>
            <p:cNvSpPr/>
            <p:nvPr/>
          </p:nvSpPr>
          <p:spPr>
            <a:xfrm>
              <a:off x="147312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0"/>
            <p:cNvSpPr/>
            <p:nvPr/>
          </p:nvSpPr>
          <p:spPr>
            <a:xfrm>
              <a:off x="1646280" y="528480"/>
              <a:ext cx="63360" cy="3945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1"/>
            <p:cNvSpPr/>
            <p:nvPr/>
          </p:nvSpPr>
          <p:spPr>
            <a:xfrm>
              <a:off x="181728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2"/>
            <p:cNvSpPr/>
            <p:nvPr/>
          </p:nvSpPr>
          <p:spPr>
            <a:xfrm>
              <a:off x="1990800" y="733680"/>
              <a:ext cx="6336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-9360" y="2081160"/>
            <a:ext cx="5371920" cy="238932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164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9"/>
            <p:cNvSpPr/>
            <p:nvPr/>
          </p:nvSpPr>
          <p:spPr>
            <a:xfrm>
              <a:off x="1015560" y="1035000"/>
              <a:ext cx="66240" cy="25020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1399680" y="1028880"/>
              <a:ext cx="19080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741240" y="1028880"/>
              <a:ext cx="19080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1660320" y="1028880"/>
              <a:ext cx="26208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"/>
            <p:cNvSpPr/>
            <p:nvPr/>
          </p:nvSpPr>
          <p:spPr>
            <a:xfrm>
              <a:off x="1166400" y="1028880"/>
              <a:ext cx="17172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609480" y="733680"/>
              <a:ext cx="6192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78408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953640" y="528480"/>
              <a:ext cx="61920" cy="3945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112824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1298520" y="733680"/>
              <a:ext cx="6660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147312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1646280" y="528480"/>
              <a:ext cx="63360" cy="3945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181728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1990800" y="733680"/>
              <a:ext cx="6336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8"/>
          <p:cNvSpPr/>
          <p:nvPr/>
        </p:nvSpPr>
        <p:spPr>
          <a:xfrm>
            <a:off x="5362560" y="0"/>
            <a:ext cx="3781440" cy="6858000"/>
          </a:xfrm>
          <a:prstGeom prst="rect">
            <a:avLst/>
          </a:prstGeom>
          <a:solidFill>
            <a:srgbClr val="8e8e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-9360" y="2081160"/>
            <a:ext cx="5371920" cy="23893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3"/>
          <p:cNvSpPr/>
          <p:nvPr/>
        </p:nvSpPr>
        <p:spPr>
          <a:xfrm>
            <a:off x="5362560" y="0"/>
            <a:ext cx="3781440" cy="6858000"/>
          </a:xfrm>
          <a:prstGeom prst="rect">
            <a:avLst/>
          </a:prstGeom>
          <a:solidFill>
            <a:srgbClr val="8e8e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223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1015560" y="1035000"/>
              <a:ext cx="66240" cy="25020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1399680" y="1028880"/>
              <a:ext cx="19080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741240" y="1028880"/>
              <a:ext cx="19080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2"/>
            <p:cNvSpPr/>
            <p:nvPr/>
          </p:nvSpPr>
          <p:spPr>
            <a:xfrm>
              <a:off x="1660320" y="1028880"/>
              <a:ext cx="26208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"/>
            <p:cNvSpPr/>
            <p:nvPr/>
          </p:nvSpPr>
          <p:spPr>
            <a:xfrm>
              <a:off x="1166400" y="1028880"/>
              <a:ext cx="17172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609480" y="733680"/>
              <a:ext cx="6192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78408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953640" y="528480"/>
              <a:ext cx="61920" cy="3945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112824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1298520" y="733680"/>
              <a:ext cx="6660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147312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1646280" y="528480"/>
              <a:ext cx="63360" cy="3945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181728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2"/>
            <p:cNvSpPr/>
            <p:nvPr/>
          </p:nvSpPr>
          <p:spPr>
            <a:xfrm>
              <a:off x="1990800" y="733680"/>
              <a:ext cx="6336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10"/>
          <p:cNvSpPr/>
          <p:nvPr/>
        </p:nvSpPr>
        <p:spPr>
          <a:xfrm>
            <a:off x="5349960" y="0"/>
            <a:ext cx="3840120" cy="20811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5349960" y="4476600"/>
            <a:ext cx="3833640" cy="23814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-9360" y="2081160"/>
            <a:ext cx="5371920" cy="238932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9"/>
          <p:cNvSpPr/>
          <p:nvPr/>
        </p:nvSpPr>
        <p:spPr>
          <a:xfrm>
            <a:off x="5340240" y="4370400"/>
            <a:ext cx="3803760" cy="2487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8"/>
          <p:cNvSpPr/>
          <p:nvPr/>
        </p:nvSpPr>
        <p:spPr>
          <a:xfrm>
            <a:off x="5340240" y="2092320"/>
            <a:ext cx="3803760" cy="23781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5340240" y="0"/>
            <a:ext cx="3803760" cy="2093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285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9"/>
            <p:cNvSpPr/>
            <p:nvPr/>
          </p:nvSpPr>
          <p:spPr>
            <a:xfrm>
              <a:off x="1015560" y="1035000"/>
              <a:ext cx="66240" cy="25020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1399680" y="1028880"/>
              <a:ext cx="19080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741240" y="1028880"/>
              <a:ext cx="19080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1660320" y="1028880"/>
              <a:ext cx="26208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1166400" y="1028880"/>
              <a:ext cx="171720" cy="26316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4"/>
            <p:cNvSpPr/>
            <p:nvPr/>
          </p:nvSpPr>
          <p:spPr>
            <a:xfrm>
              <a:off x="609480" y="733680"/>
              <a:ext cx="6192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5"/>
            <p:cNvSpPr/>
            <p:nvPr/>
          </p:nvSpPr>
          <p:spPr>
            <a:xfrm>
              <a:off x="78408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6"/>
            <p:cNvSpPr/>
            <p:nvPr/>
          </p:nvSpPr>
          <p:spPr>
            <a:xfrm>
              <a:off x="953640" y="528480"/>
              <a:ext cx="61920" cy="3945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"/>
            <p:cNvSpPr/>
            <p:nvPr/>
          </p:nvSpPr>
          <p:spPr>
            <a:xfrm>
              <a:off x="112824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8"/>
            <p:cNvSpPr/>
            <p:nvPr/>
          </p:nvSpPr>
          <p:spPr>
            <a:xfrm>
              <a:off x="1298520" y="733680"/>
              <a:ext cx="6660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147312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>
              <a:off x="1646280" y="528480"/>
              <a:ext cx="63360" cy="3945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"/>
            <p:cNvSpPr/>
            <p:nvPr/>
          </p:nvSpPr>
          <p:spPr>
            <a:xfrm>
              <a:off x="1817280" y="646200"/>
              <a:ext cx="61920" cy="21564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2"/>
            <p:cNvSpPr/>
            <p:nvPr/>
          </p:nvSpPr>
          <p:spPr>
            <a:xfrm>
              <a:off x="1990800" y="733680"/>
              <a:ext cx="6336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21680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9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9320" y="663408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8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DD6FE9F-C791-4050-8773-AE5615F7EA08}" type="slidenum">
              <a:rPr b="0" lang="en-US" sz="10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0" y="3360600"/>
            <a:ext cx="9144000" cy="3497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e8e95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121680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9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9320" y="663408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8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69B4E1F-4C8E-4984-BD89-CF5AEEB6F8D0}" type="slidenum">
              <a:rPr b="0" lang="en-US" sz="10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0" y="3360600"/>
            <a:ext cx="9144000" cy="3497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183b7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2"/>
          <a:stretch/>
        </p:blipFill>
        <p:spPr>
          <a:xfrm>
            <a:off x="-9360" y="1144440"/>
            <a:ext cx="9156600" cy="47736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3"/>
          <p:cNvSpPr/>
          <p:nvPr/>
        </p:nvSpPr>
        <p:spPr>
          <a:xfrm>
            <a:off x="5354640" y="1146240"/>
            <a:ext cx="3781440" cy="4773600"/>
          </a:xfrm>
          <a:prstGeom prst="rect">
            <a:avLst/>
          </a:prstGeom>
          <a:solidFill>
            <a:srgbClr val="8e8e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0" y="0"/>
            <a:ext cx="9144000" cy="161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25C2B2C-B23F-4B80-BB54-E9113F26ECA6}" type="slidenum">
              <a:rPr b="0" lang="en-US" sz="10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0" y="4952880"/>
            <a:ext cx="9144000" cy="161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121680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9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49320" y="663408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3985200" y="6635160"/>
            <a:ext cx="11721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15f85"/>
                </a:solidFill>
                <a:latin typeface="Arial"/>
              </a:rPr>
              <a:t>Cisco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2206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650880" y="5243040"/>
            <a:ext cx="8059680" cy="10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6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ian Xu, Junlin Li, Dihong Tian, Wen H. 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sco Systems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ober, 7-15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title"/>
          </p:nvPr>
        </p:nvSpPr>
        <p:spPr>
          <a:xfrm>
            <a:off x="650880" y="4114800"/>
            <a:ext cx="8112240" cy="102240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ext-Adaptive Hybrid Variable Length Coding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923" name="Picture 2" descr="http://www.muurprint.nl/cms_c01/UploadData/images/239/0/fotos_uitzoeken/Earth_in_rising_sun_20.jpg"/>
          <p:cNvPicPr/>
          <p:nvPr/>
        </p:nvPicPr>
        <p:blipFill>
          <a:blip r:embed="rId1"/>
          <a:srcRect l="0" t="29257" r="0" b="29257"/>
          <a:stretch/>
        </p:blipFill>
        <p:spPr>
          <a:xfrm>
            <a:off x="-36360" y="1619280"/>
            <a:ext cx="9234360" cy="2359080"/>
          </a:xfrm>
          <a:prstGeom prst="rect">
            <a:avLst/>
          </a:prstGeom>
          <a:ln w="19080">
            <a:solidFill>
              <a:srgbClr val="c0c0c4"/>
            </a:solidFill>
            <a:miter/>
          </a:ln>
        </p:spPr>
      </p:pic>
      <p:sp>
        <p:nvSpPr>
          <p:cNvPr id="924" name="TextBox 5"/>
          <p:cNvSpPr/>
          <p:nvPr/>
        </p:nvSpPr>
        <p:spPr>
          <a:xfrm>
            <a:off x="6012000" y="642960"/>
            <a:ext cx="27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CTVC-C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8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ontext-Adaptive Code Table Design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Table switch sch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previous cluster with nonzero run-leng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zero run-leng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ded using the code tabl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0 ≤ i, j ≤ 4), then the code table for coding the current cluster is chosen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f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≤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i+1)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f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(j+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f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≤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≤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i+1)(j+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f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≤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793800" y="6372000"/>
            <a:ext cx="7461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ontext-Adaptive Code Table Design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consecutive nonzero coefficients of each block: the average number of nonzero coefficients N in the left and above neighboring blocks is used as the context information to choose the code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793800" y="6372000"/>
            <a:ext cx="7461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947880" y="4361040"/>
          <a:ext cx="7569000" cy="1346040"/>
        </p:xfrm>
        <a:graphic>
          <a:graphicData uri="http://schemas.openxmlformats.org/drawingml/2006/table">
            <a:tbl>
              <a:tblPr/>
              <a:tblGrid>
                <a:gridCol w="1081080"/>
                <a:gridCol w="1081080"/>
                <a:gridCol w="1081080"/>
                <a:gridCol w="1082520"/>
                <a:gridCol w="1081080"/>
                <a:gridCol w="1081080"/>
                <a:gridCol w="108108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1,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5,8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9,16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17,2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25,36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37,6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ontext-Adaptive Code Table Design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 Amplitude C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ly coded amplitude is used as the context information to choose the code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93800" y="6372000"/>
            <a:ext cx="7461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322200" y="3360600"/>
          <a:ext cx="7958160" cy="1346400"/>
        </p:xfrm>
        <a:graphic>
          <a:graphicData uri="http://schemas.openxmlformats.org/drawingml/2006/table">
            <a:tbl>
              <a:tblPr/>
              <a:tblGrid>
                <a:gridCol w="1354320"/>
                <a:gridCol w="779400"/>
                <a:gridCol w="850680"/>
                <a:gridCol w="995400"/>
                <a:gridCol w="993960"/>
                <a:gridCol w="995400"/>
                <a:gridCol w="995400"/>
                <a:gridCol w="993600"/>
              </a:tblGrid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plitude a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ontext-Adaptive Code Table Design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Table switch sch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previous nonzero coefficient with amplitud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ded with code table T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0 ≤ i ≤ 5), then the code table for coding the current nonzero coefficient is chosen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= T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≤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= T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 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793800" y="6372000"/>
            <a:ext cx="7461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93440" y="304560"/>
            <a:ext cx="7435800" cy="42372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Simulation Results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793440" y="855720"/>
            <a:ext cx="74358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31480" indent="-2314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on JM High Profile with fixed 8x8 trans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ulation results are compared with H.264 High Profile CAVLC with fixed 8x8 transfo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ropy coding tables were generated once in advance by running through 14 other test sequ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guration is based on the low delay, low complexity se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93440" y="304560"/>
            <a:ext cx="7435800" cy="42372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83b7"/>
                </a:solidFill>
                <a:latin typeface="Arial"/>
              </a:rPr>
              <a:t>Simulation Results</a:t>
            </a:r>
            <a:endParaRPr b="1" lang="en-US" sz="2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1440000" y="747720"/>
          <a:ext cx="4198680" cy="6095880"/>
        </p:xfrm>
        <a:graphic>
          <a:graphicData uri="http://schemas.openxmlformats.org/drawingml/2006/table">
            <a:tbl>
              <a:tblPr/>
              <a:tblGrid>
                <a:gridCol w="2057400"/>
                <a:gridCol w="21412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 BD Bitrate 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-1600p-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OnStreet-1600p-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4d5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4d58b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Scene-1080p-2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ono-1080p-2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.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tus-1080p-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ketballDrive-1080p-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QTerrace-1080p-6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lass B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4d5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4d58b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ketballDrill-480p-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QMall-480p-6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yScene-480p-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Horses-480p-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lass 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4d5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4d58b"/>
                    </a:solidFill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ketballPass-240p-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QSquare-240p-6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wingBubbles-240p-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Horses-240p-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lass 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4d5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4d58b"/>
                    </a:solidFill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yo1-720p-6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yo3-720p-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yo4-720p-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4d5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4d58b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a3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a361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10680" y="297000"/>
            <a:ext cx="7435800" cy="52848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793440" y="1069560"/>
            <a:ext cx="74358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using Context-adaptive Hybrid variable length coding method, an average BD-rate reduction of 6.7% for all the classes for low delay, low complexity 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ulation results show that the algorithm has better performance for high-resolution vide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lgorithm is targeted at larger transform block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Next Step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he algorithm in TMuC based on LC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coding efficiency improvement to LCEC and consolidate with LC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omplexity and tabl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commend the algorithm to be considered for VLC TE group for further eval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93800" y="6372000"/>
            <a:ext cx="7461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4" descr=""/>
          <p:cNvPicPr/>
          <p:nvPr/>
        </p:nvPicPr>
        <p:blipFill>
          <a:blip r:embed="rId1"/>
          <a:stretch/>
        </p:blipFill>
        <p:spPr>
          <a:xfrm>
            <a:off x="38160" y="339840"/>
            <a:ext cx="9105840" cy="6518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10680" y="296640"/>
            <a:ext cx="7435800" cy="78732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4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93440" y="1069560"/>
            <a:ext cx="74358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e a context-adaptive hybrid variable length coding method (CAHVLC) using multiple code table switch scheme to improve the coding efficiency of low complexity entropy co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an average BD-rate reduction of 6.7% for low delay, low complexity configuration compared with H.264 High Profile CAVLC with fixed 8x8 trans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mplement the algorithm in TMuC based on LC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10680" y="296640"/>
            <a:ext cx="7435800" cy="78732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183b7"/>
                </a:solidFill>
                <a:latin typeface="Arial"/>
              </a:rPr>
              <a:t>CAHVLC – First Improvement</a:t>
            </a:r>
            <a:endParaRPr b="1" lang="en-US" sz="34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793440" y="1069560"/>
            <a:ext cx="74358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coding consecutive nonzero transform coefficients: the runs of consecutive zero coefficients and runs of consecutive nonzero coefficients are jointly coded to reflect the positions info of the nonzero coeffici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dvantage when there are many clusters of nonzero coefficients, especially in the low frequency are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10680" y="296640"/>
            <a:ext cx="7435800" cy="78732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183b7"/>
                </a:solidFill>
                <a:latin typeface="Arial"/>
              </a:rPr>
              <a:t>Hybrid VLC – Second Improvement</a:t>
            </a:r>
            <a:endParaRPr b="1" lang="en-US" sz="34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793440" y="1069560"/>
            <a:ext cx="74358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plitudes of the trailing coefficients in each nonzero cluster are often sequences of 1 or -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trailing ones in the nonzero cluster is jointly coded as a triple using a three-dimensional table to improve the coding efficiency for the amplitudes of the nonzero coeffic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10680" y="296640"/>
            <a:ext cx="7435800" cy="78732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183b7"/>
                </a:solidFill>
                <a:latin typeface="Arial"/>
              </a:rPr>
              <a:t>Algorithm Description</a:t>
            </a:r>
            <a:endParaRPr b="1" lang="en-US" sz="34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775800" y="1069560"/>
            <a:ext cx="74358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Dimensional Position and Amplitude Code Symbol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,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for the first symbol in a b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1,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otherw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run of the consecutive zero-valued coefficients that precede the nonzero-valued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run of the consecutive nonzero-valued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10680" y="296640"/>
            <a:ext cx="7435800" cy="78732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183b7"/>
                </a:solidFill>
                <a:latin typeface="Arial"/>
              </a:rPr>
              <a:t>Algorithm Description</a:t>
            </a:r>
            <a:endParaRPr b="1" lang="en-US" sz="34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793440" y="1069560"/>
            <a:ext cx="74358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996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amplitude information of the nonzero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f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L, if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number of trailing coefficients with amplitude 1/-1 in the nonzero clust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: the amplitude of an isolated nonzero coeffic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One-dimensional amplitude coding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code the nonzero coefficients except the trailing ones in the nonzero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Example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406440" y="2120760"/>
          <a:ext cx="8458200" cy="1376640"/>
        </p:xfrm>
        <a:graphic>
          <a:graphicData uri="http://schemas.openxmlformats.org/drawingml/2006/table">
            <a:tbl>
              <a:tblPr/>
              <a:tblGrid>
                <a:gridCol w="1452600"/>
                <a:gridCol w="7005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2  3  4  5  6  7  8  9  10  11  12  13  14  15  16  17  18  19  20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-5 3 -2  1  0  0  2  1  1     0    0    0    -1   1    0    0    0    2    0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ing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5,1)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)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,2)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,2)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</a:tr>
            </a:tbl>
          </a:graphicData>
        </a:graphic>
      </p:graphicFrame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793800" y="6372000"/>
            <a:ext cx="7461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7"/>
          <p:cNvSpPr/>
          <p:nvPr/>
        </p:nvSpPr>
        <p:spPr>
          <a:xfrm>
            <a:off x="622440" y="3797280"/>
            <a:ext cx="817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un of zero coefficients can be reduced by 1 except the first run at the beginning of a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mplitude of the coefficient immediately preceding the trailing ones will minus 1 since it must be larger than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st nonzero coefficient information and sign information are omitted in the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ontext-Adaptive Code Table Design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triple coding symbol, the nonzero run-length and zero run-length of the previously coded cluster are used as the context information to choose the cod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793800" y="6372000"/>
            <a:ext cx="7461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793440" y="304920"/>
            <a:ext cx="7435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b7"/>
                </a:solidFill>
                <a:latin typeface="Arial"/>
              </a:rPr>
              <a:t>Context-Adaptive Code Table Design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79344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793800" y="6372000"/>
            <a:ext cx="7461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401760" y="1355760"/>
          <a:ext cx="8348400" cy="4486320"/>
        </p:xfrm>
        <a:graphic>
          <a:graphicData uri="http://schemas.openxmlformats.org/drawingml/2006/table">
            <a:tbl>
              <a:tblPr/>
              <a:tblGrid>
                <a:gridCol w="2336760"/>
                <a:gridCol w="1015920"/>
                <a:gridCol w="1168560"/>
                <a:gridCol w="982440"/>
                <a:gridCol w="819360"/>
                <a:gridCol w="942840"/>
                <a:gridCol w="1082520"/>
              </a:tblGrid>
              <a:tr h="12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zero run 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ro Run z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3b7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6"/>
                    </a:solidFill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3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3:12:25Z</dcterms:created>
  <dc:creator>Kathy Xu</dc:creator>
  <dc:description/>
  <dc:language>en-US</dc:language>
  <cp:lastModifiedBy>Kathy Xu</cp:lastModifiedBy>
  <dcterms:modified xsi:type="dcterms:W3CDTF">2010-10-11T00:02:17Z</dcterms:modified>
  <cp:revision>517</cp:revision>
  <dc:subject/>
  <dc:title>Cisco_Video_Overview</dc:title>
</cp:coreProperties>
</file>