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69289-5557-48D2-B2C4-76CB125057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804EC-4B8A-4248-87D3-2A3BB009E4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444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784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4BB31-BAA2-46D0-8F9C-8D22C53C9A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58720" y="259920"/>
            <a:ext cx="806472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49000" y="1484280"/>
            <a:ext cx="806436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49000" y="3605400"/>
            <a:ext cx="806436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D9B9F-08B5-4794-933B-F7D4D1DB0D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58720" y="259920"/>
            <a:ext cx="806472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49000" y="1484280"/>
            <a:ext cx="393516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1440" y="1484280"/>
            <a:ext cx="393516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49000" y="3605400"/>
            <a:ext cx="393516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1440" y="3605400"/>
            <a:ext cx="393516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EF6A2-8B56-4498-B9A0-94A1BE0361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58720" y="259920"/>
            <a:ext cx="806472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49000" y="1484280"/>
            <a:ext cx="259632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75640" y="1484280"/>
            <a:ext cx="259632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01920" y="1484280"/>
            <a:ext cx="259632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49000" y="3605400"/>
            <a:ext cx="259632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75640" y="3605400"/>
            <a:ext cx="259632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01920" y="3605400"/>
            <a:ext cx="259632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89773-2724-43E0-BE9A-6F9ACB87CAB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58720" y="259920"/>
            <a:ext cx="806472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49000" y="1484280"/>
            <a:ext cx="806436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5EC1A-77C5-4237-BD4D-870628A95BD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58720" y="259920"/>
            <a:ext cx="806472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49000" y="1484280"/>
            <a:ext cx="806436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FA7EA-D6AD-4280-8E40-9C1E66872B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58720" y="259920"/>
            <a:ext cx="806472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49000" y="1484280"/>
            <a:ext cx="393516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1440" y="1484280"/>
            <a:ext cx="393516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26E8F-0FB0-4926-80E6-E8C0002C98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58720" y="259920"/>
            <a:ext cx="806472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94CBD-92BC-4681-AEC1-92C9F0D78E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58720" y="259920"/>
            <a:ext cx="8064720" cy="43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577EF-8630-4699-ABF2-72BD7F9B13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58720" y="259920"/>
            <a:ext cx="806472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49000" y="1484280"/>
            <a:ext cx="393516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440" y="1484280"/>
            <a:ext cx="393516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49000" y="3605400"/>
            <a:ext cx="393516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20268-5CDA-435F-9FF5-74D5C282E3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58720" y="259920"/>
            <a:ext cx="806472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49000" y="1484280"/>
            <a:ext cx="393516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1440" y="1484280"/>
            <a:ext cx="393516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1440" y="3605400"/>
            <a:ext cx="393516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0F21A-17C1-4951-ADEA-6781F770B4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58720" y="259920"/>
            <a:ext cx="806472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49000" y="1484280"/>
            <a:ext cx="393516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1440" y="1484280"/>
            <a:ext cx="393516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49000" y="3605400"/>
            <a:ext cx="806436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A422D-F087-4DEE-B7B7-2EFC522805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BlackBerry_Logo_Preferred_Black_New"/>
          <p:cNvPicPr/>
          <p:nvPr/>
        </p:nvPicPr>
        <p:blipFill>
          <a:blip r:embed="rId2"/>
          <a:stretch/>
        </p:blipFill>
        <p:spPr>
          <a:xfrm>
            <a:off x="423720" y="6343560"/>
            <a:ext cx="1633680" cy="3636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58720" y="259920"/>
            <a:ext cx="806472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49000" y="1484280"/>
            <a:ext cx="806436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2520" indent="-452520">
              <a:spcBef>
                <a:spcPts val="6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861840" indent="-230040">
              <a:spcBef>
                <a:spcPts val="649"/>
              </a:spcBef>
              <a:buClr>
                <a:srgbClr val="000000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255680" indent="-214200">
              <a:spcBef>
                <a:spcPts val="649"/>
              </a:spcBef>
              <a:buClr>
                <a:srgbClr val="00000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844640" indent="-228600">
              <a:spcBef>
                <a:spcPts val="649"/>
              </a:spcBef>
              <a:buClr>
                <a:srgbClr val="00000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2252520" indent="-228600">
              <a:spcBef>
                <a:spcPts val="649"/>
              </a:spcBef>
              <a:buClr>
                <a:srgbClr val="00000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2252520" indent="-228600">
              <a:spcBef>
                <a:spcPts val="649"/>
              </a:spcBef>
              <a:buClr>
                <a:srgbClr val="00000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2252520" indent="-228600">
              <a:spcBef>
                <a:spcPts val="649"/>
              </a:spcBef>
              <a:buClr>
                <a:srgbClr val="00000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953120" y="6424200"/>
            <a:ext cx="87444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ABA00-28DB-489A-A01A-E555B4F8528B}" type="slidenum">
              <a:rPr b="0" lang="en-US" sz="11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5"/>
          <p:cNvSpPr/>
          <p:nvPr/>
        </p:nvSpPr>
        <p:spPr>
          <a:xfrm>
            <a:off x="7953480" y="6424560"/>
            <a:ext cx="87444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220E7-8C2C-470A-A6A8-03A3F1DE0411}" type="slidenum">
              <a:rPr b="0" lang="en-US" sz="11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BlackBerry_PPT_Titlepage.jpg"/>
          <p:cNvPicPr/>
          <p:nvPr/>
        </p:nvPicPr>
        <p:blipFill>
          <a:blip r:embed="rId1"/>
          <a:stretch/>
        </p:blipFill>
        <p:spPr>
          <a:xfrm>
            <a:off x="3240" y="44280"/>
            <a:ext cx="914076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6"/>
          <p:cNvSpPr/>
          <p:nvPr/>
        </p:nvSpPr>
        <p:spPr>
          <a:xfrm>
            <a:off x="7288920" y="6381720"/>
            <a:ext cx="146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arch 31, 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000" y="2276640"/>
            <a:ext cx="7167240" cy="127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omments on V2V Coding for HEVC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133360" y="3475080"/>
            <a:ext cx="557676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ke He, Gergely Korodi, 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ul Imthurn, Joel Jamias,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niel O’Loughlin, Gaelle Martin-Cocher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earch In Motion Ltd.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8"/>
          <p:cNvSpPr/>
          <p:nvPr/>
        </p:nvSpPr>
        <p:spPr>
          <a:xfrm>
            <a:off x="1231920" y="654048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58720" y="259920"/>
            <a:ext cx="806472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Interaction with context modeling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549000" y="1484280"/>
            <a:ext cx="8064360" cy="406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spcBef>
                <a:spcPts val="6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Context model should not be stalled too frequently due to an empty bin buffer.</a:t>
            </a:r>
            <a:endParaRPr b="1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>
              <a:spcBef>
                <a:spcPts val="6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>
              <a:spcBef>
                <a:spcPts val="6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Bin decoders need to provide a higher throughput than the context model.</a:t>
            </a:r>
            <a:endParaRPr b="1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>
              <a:spcBef>
                <a:spcPts val="6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>
              <a:spcBef>
                <a:spcPts val="6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Example:</a:t>
            </a:r>
            <a:endParaRPr b="1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861840" indent="-230040">
              <a:spcBef>
                <a:spcPts val="601"/>
              </a:spcBef>
              <a:buClr>
                <a:srgbClr val="000000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an overall throughput of 4, bin decoders might run at 6 bins/cycl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4"/>
          <p:cNvSpPr/>
          <p:nvPr/>
        </p:nvSpPr>
        <p:spPr>
          <a:xfrm>
            <a:off x="7953480" y="6424560"/>
            <a:ext cx="87444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54F10-FD77-4C49-A632-B8BBFB7E3D02}" type="slidenum">
              <a:rPr b="0" lang="en-US" sz="11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58720" y="259920"/>
            <a:ext cx="806472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Recommendations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49000" y="1483920"/>
            <a:ext cx="77677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4160" indent="-434160"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onsider an alternative set of V2V codes, e.g., Codeset 2 tested in TE8 for applications demanding high throughput. 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27280" indent="-220680">
              <a:spcBef>
                <a:spcPts val="451"/>
              </a:spcBef>
              <a:buClr>
                <a:srgbClr val="000000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se codes can be used in both operational modes: parallel or interleave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34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34160" indent="-434160"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efine throughput requirements, possibly depending upon profiles.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34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34160" indent="-434160"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efine size requirements, possibly depending upon profiles. 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34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34160" indent="-434160"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dopt the implementation of Codeset 2 for improved throughput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34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34160" indent="-434160"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dopt solutions for context modeling in TE8 to improve throughput.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34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4"/>
          <p:cNvSpPr/>
          <p:nvPr/>
        </p:nvSpPr>
        <p:spPr>
          <a:xfrm>
            <a:off x="7953480" y="6424560"/>
            <a:ext cx="87444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1B393-EF3E-4E96-BB6E-14D8ED080871}" type="slidenum">
              <a:rPr b="0" lang="en-US" sz="11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5"/>
          <p:cNvSpPr/>
          <p:nvPr/>
        </p:nvSpPr>
        <p:spPr>
          <a:xfrm>
            <a:off x="7953480" y="6424560"/>
            <a:ext cx="87444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FECFE-74C1-4B40-B922-7825124C328B}" type="slidenum">
              <a:rPr b="0" lang="en-US" sz="11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58720" y="259920"/>
            <a:ext cx="806472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b8576"/>
                </a:solidFill>
                <a:latin typeface="Calibri"/>
              </a:rPr>
              <a:t>V2V Coding for HEVC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549360" y="1484280"/>
            <a:ext cx="762300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2520" indent="-452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MuC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9720" indent="-452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nabled (PIPE) when symbol_mode=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9720" indent="-452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IPE makes use of 12 V2V codes (Codeset 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ool Experiment 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9720" indent="-452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IPE is evaluated against CABAC, LC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ool Experiment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9720" indent="-452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odeset 1 is evaluated against another set of 12 V2V codes (Codeset 2) from RIM, defined for the same probability se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58720" y="259920"/>
            <a:ext cx="806472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TE8 Results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4"/>
          <p:cNvSpPr/>
          <p:nvPr/>
        </p:nvSpPr>
        <p:spPr>
          <a:xfrm>
            <a:off x="7953480" y="6424560"/>
            <a:ext cx="87444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C4F44-0179-4FEA-922B-843B28B995E6}" type="slidenum">
              <a:rPr b="0" lang="en-US" sz="11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755640" y="3716280"/>
          <a:ext cx="7632720" cy="2517840"/>
        </p:xfrm>
        <a:graphic>
          <a:graphicData uri="http://schemas.openxmlformats.org/drawingml/2006/table">
            <a:tbl>
              <a:tblPr/>
              <a:tblGrid>
                <a:gridCol w="1527120"/>
                <a:gridCol w="1525680"/>
                <a:gridCol w="1527120"/>
                <a:gridCol w="1525680"/>
                <a:gridCol w="1527120"/>
              </a:tblGrid>
              <a:tr h="46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dese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ad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o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ad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nc. Thr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ad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c. Thr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ad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ross-check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add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C (JM11/KT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3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3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7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3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4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3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3f0"/>
                    </a:solidFill>
                  </a:tcPr>
                </a:tc>
              </a:tr>
              <a:tr h="46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C (JM1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6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8"/>
                    </a:solidFill>
                  </a:tcPr>
                </a:tc>
              </a:tr>
              <a:tr h="46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deset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3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3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8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3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0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3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3f0"/>
                    </a:solidFill>
                  </a:tcPr>
                </a:tc>
              </a:tr>
              <a:tr h="46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deset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2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1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8"/>
                    </a:solidFill>
                  </a:tcPr>
                </a:tc>
              </a:tr>
            </a:tbl>
          </a:graphicData>
        </a:graphic>
      </p:graphicFrame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49360" y="1267920"/>
            <a:ext cx="769464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desets are tested on bernoulli bin sequences generated according to probabilities defined by PIPE. Each sequence consists of 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1billion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bins.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Loss (in percentage) is measured against the entropy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ncoding and decoding throughput data show the million bin symbols processed per second. 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esults are cross verified by TI. 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st environment: Core-i7 860@2.80GHz, Linux, g++ 4.4.1 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58720" y="259920"/>
            <a:ext cx="806472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Hardware Results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Slide Number Placeholder 4"/>
          <p:cNvSpPr/>
          <p:nvPr/>
        </p:nvSpPr>
        <p:spPr>
          <a:xfrm>
            <a:off x="7953480" y="6424560"/>
            <a:ext cx="87444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A691B-857D-4C50-B87B-FC10A43F567C}" type="slidenum">
              <a:rPr b="0" lang="en-US" sz="11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6"/>
          <p:cNvSpPr/>
          <p:nvPr/>
        </p:nvSpPr>
        <p:spPr>
          <a:xfrm>
            <a:off x="1380960" y="5867280"/>
            <a:ext cx="553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 that hardware results are not yet cross verifi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Chart 6" descr=""/>
          <p:cNvPicPr/>
          <p:nvPr/>
        </p:nvPicPr>
        <p:blipFill>
          <a:blip r:embed="rId1"/>
          <a:stretch/>
        </p:blipFill>
        <p:spPr>
          <a:xfrm>
            <a:off x="895320" y="1335240"/>
            <a:ext cx="7559640" cy="46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58720" y="259920"/>
            <a:ext cx="806472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Hardware Results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4"/>
          <p:cNvSpPr/>
          <p:nvPr/>
        </p:nvSpPr>
        <p:spPr>
          <a:xfrm>
            <a:off x="7953480" y="6424560"/>
            <a:ext cx="87444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25D24-FEC6-4130-9E30-98869F1C72A3}" type="slidenum">
              <a:rPr b="0" lang="en-US" sz="11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1258920" y="2349360"/>
          <a:ext cx="6361200" cy="1514520"/>
        </p:xfrm>
        <a:graphic>
          <a:graphicData uri="http://schemas.openxmlformats.org/drawingml/2006/table">
            <a:tbl>
              <a:tblPr/>
              <a:tblGrid>
                <a:gridCol w="1590480"/>
                <a:gridCol w="1589400"/>
                <a:gridCol w="1590480"/>
                <a:gridCol w="1590840"/>
              </a:tblGrid>
              <a:tr h="505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esig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Me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High Ran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Low Ran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deset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.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.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.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deset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8.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8.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7.6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" name="TextBox 7"/>
          <p:cNvSpPr/>
          <p:nvPr/>
        </p:nvSpPr>
        <p:spPr>
          <a:xfrm>
            <a:off x="1897920" y="1844640"/>
            <a:ext cx="516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5% Confidence Interval for Bins per Clock Cy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8"/>
          <p:cNvSpPr/>
          <p:nvPr/>
        </p:nvSpPr>
        <p:spPr>
          <a:xfrm>
            <a:off x="1380960" y="5796000"/>
            <a:ext cx="553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 that hardware results are not yet cross verifi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58720" y="259920"/>
            <a:ext cx="806472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Tree Design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49360" y="1484280"/>
            <a:ext cx="7694640" cy="406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02480" indent="-402480"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mplementation is constrained by design.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02480" indent="-402480"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onflicting objectives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66800" indent="-204480">
              <a:spcBef>
                <a:spcPts val="451"/>
              </a:spcBef>
              <a:buClr>
                <a:srgbClr val="000000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mpression efficienc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66800" indent="-204480">
              <a:spcBef>
                <a:spcPts val="451"/>
              </a:spcBef>
              <a:buClr>
                <a:srgbClr val="000000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coding throughput, encoding throughpu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66800" indent="-204480">
              <a:spcBef>
                <a:spcPts val="451"/>
              </a:spcBef>
              <a:buClr>
                <a:srgbClr val="000000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ze (storage complexity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66800" indent="-204480">
              <a:spcBef>
                <a:spcPts val="451"/>
              </a:spcBef>
              <a:buClr>
                <a:srgbClr val="000000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ower consumption in hardwa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02480" indent="-402480"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Under the constraint of compression efficiency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66800" indent="-204480">
              <a:spcBef>
                <a:spcPts val="451"/>
              </a:spcBef>
              <a:buClr>
                <a:srgbClr val="000000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tradeoff between size and decoding throughput cannot be avoide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02480" indent="-402480"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ower consumption 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66800" indent="-204480">
              <a:spcBef>
                <a:spcPts val="451"/>
              </a:spcBef>
              <a:buClr>
                <a:srgbClr val="000000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re area does not necessarily mean higher power consump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66800" indent="-204480">
              <a:spcBef>
                <a:spcPts val="451"/>
              </a:spcBef>
              <a:buClr>
                <a:srgbClr val="000000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igher clock rate =&gt; higher power consump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02480" indent="-402480"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hoice: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66800" indent="-204480">
              <a:spcBef>
                <a:spcPts val="451"/>
              </a:spcBef>
              <a:buClr>
                <a:srgbClr val="000000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sign the trees for high throughput and low power consumptio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lide Number Placeholder 4"/>
          <p:cNvSpPr/>
          <p:nvPr/>
        </p:nvSpPr>
        <p:spPr>
          <a:xfrm>
            <a:off x="7953480" y="6424560"/>
            <a:ext cx="87444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39ED7-F147-4D3B-8B97-BE31D61EC8E8}" type="slidenum">
              <a:rPr b="0" lang="en-US" sz="11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58720" y="259920"/>
            <a:ext cx="806472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Implementation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49000" y="1484280"/>
            <a:ext cx="8055000" cy="28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spcBef>
                <a:spcPts val="6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PIPE in TMuC</a:t>
            </a:r>
            <a:endParaRPr b="1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861840" indent="-230040">
              <a:spcBef>
                <a:spcPts val="601"/>
              </a:spcBef>
              <a:buClr>
                <a:srgbClr val="000000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in decoder reads one bit at a time same as CABA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25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>
              <a:spcBef>
                <a:spcPts val="6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V2V codes are known. </a:t>
            </a:r>
            <a:endParaRPr b="1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861840" indent="-230040">
              <a:spcBef>
                <a:spcPts val="601"/>
              </a:spcBef>
              <a:buClr>
                <a:srgbClr val="000000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in decoder can read and process as many bits as possibl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25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25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4"/>
          <p:cNvSpPr/>
          <p:nvPr/>
        </p:nvSpPr>
        <p:spPr>
          <a:xfrm>
            <a:off x="7953480" y="6424560"/>
            <a:ext cx="87444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E6B63-B03A-4D04-88FC-B8A622EAF260}" type="slidenum">
              <a:rPr b="0" lang="en-US" sz="11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826920" y="4653000"/>
            <a:ext cx="649440" cy="144360"/>
          </a:xfrm>
          <a:prstGeom prst="rect">
            <a:avLst/>
          </a:prstGeom>
          <a:solidFill>
            <a:srgbClr val="00b0f0"/>
          </a:solidFill>
          <a:ln w="9360">
            <a:solidFill>
              <a:srgbClr val="00acd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"/>
          <p:cNvSpPr/>
          <p:nvPr/>
        </p:nvSpPr>
        <p:spPr>
          <a:xfrm>
            <a:off x="1476360" y="4653000"/>
            <a:ext cx="1150920" cy="144360"/>
          </a:xfrm>
          <a:prstGeom prst="rect">
            <a:avLst/>
          </a:prstGeom>
          <a:solidFill>
            <a:srgbClr val="c00000"/>
          </a:solidFill>
          <a:ln w="9360">
            <a:solidFill>
              <a:srgbClr val="00acd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9"/>
          <p:cNvSpPr/>
          <p:nvPr/>
        </p:nvSpPr>
        <p:spPr>
          <a:xfrm>
            <a:off x="2627280" y="4653000"/>
            <a:ext cx="2665440" cy="144360"/>
          </a:xfrm>
          <a:prstGeom prst="rect">
            <a:avLst/>
          </a:prstGeom>
          <a:solidFill>
            <a:srgbClr val="ffc000"/>
          </a:solidFill>
          <a:ln w="9360">
            <a:solidFill>
              <a:srgbClr val="00acd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0"/>
          <p:cNvSpPr/>
          <p:nvPr/>
        </p:nvSpPr>
        <p:spPr>
          <a:xfrm>
            <a:off x="5292720" y="4653000"/>
            <a:ext cx="287280" cy="144360"/>
          </a:xfrm>
          <a:prstGeom prst="rect">
            <a:avLst/>
          </a:prstGeom>
          <a:solidFill>
            <a:srgbClr val="00b050"/>
          </a:solidFill>
          <a:ln w="9360">
            <a:solidFill>
              <a:srgbClr val="00acd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1"/>
          <p:cNvSpPr/>
          <p:nvPr/>
        </p:nvSpPr>
        <p:spPr>
          <a:xfrm>
            <a:off x="5580000" y="4653000"/>
            <a:ext cx="1800360" cy="144360"/>
          </a:xfrm>
          <a:prstGeom prst="rect">
            <a:avLst/>
          </a:prstGeom>
          <a:solidFill>
            <a:srgbClr val="7030a0"/>
          </a:solidFill>
          <a:ln w="9360">
            <a:solidFill>
              <a:srgbClr val="00acd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58720" y="259920"/>
            <a:ext cx="806472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An example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Slide Number Placeholder 4"/>
          <p:cNvSpPr/>
          <p:nvPr/>
        </p:nvSpPr>
        <p:spPr>
          <a:xfrm>
            <a:off x="7953480" y="6424560"/>
            <a:ext cx="87444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490A1-071F-4E65-A9E8-F6362F684E14}" type="slidenum">
              <a:rPr b="0" lang="en-US" sz="11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755640" y="1123920"/>
          <a:ext cx="6337440" cy="2683080"/>
        </p:xfrm>
        <a:graphic>
          <a:graphicData uri="http://schemas.openxmlformats.org/drawingml/2006/table">
            <a:tbl>
              <a:tblPr/>
              <a:tblGrid>
                <a:gridCol w="2017800"/>
                <a:gridCol w="2195280"/>
                <a:gridCol w="2124360"/>
              </a:tblGrid>
              <a:tr h="244080"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Parsed Sequence  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Probabil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dewo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0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.09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SimSun"/>
                        </a:rPr>
                        <a:t>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1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.063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SimSun"/>
                        </a:rPr>
                        <a:t>110</a:t>
                      </a:r>
                      <a:r>
                        <a:rPr b="0" lang="en-US" sz="1600" spc="-1" strike="noStrike">
                          <a:solidFill>
                            <a:srgbClr val="0070c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.147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SimSun"/>
                        </a:rPr>
                        <a:t>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.063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SimSun"/>
                        </a:rPr>
                        <a:t>110</a:t>
                      </a:r>
                      <a:r>
                        <a:rPr b="0" lang="en-US" sz="1600" spc="-1" strike="noStrike">
                          <a:solidFill>
                            <a:srgbClr val="0070c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.147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SimSun"/>
                        </a:rPr>
                        <a:t>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.147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SimSun"/>
                        </a:rPr>
                        <a:t>0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.1029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SimSu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1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.0720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SimSun"/>
                        </a:rPr>
                        <a:t>111</a:t>
                      </a:r>
                      <a:r>
                        <a:rPr b="0" lang="en-US" sz="1600" spc="-1" strike="noStrike">
                          <a:solidFill>
                            <a:srgbClr val="0070c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11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.0504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SimSun"/>
                        </a:rPr>
                        <a:t>111</a:t>
                      </a:r>
                      <a:r>
                        <a:rPr b="0" lang="en-US" sz="1600" spc="-1" strike="noStrike">
                          <a:solidFill>
                            <a:srgbClr val="0070c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111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.1176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SimSun"/>
                        </a:rPr>
                        <a:t>1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" name="Straight Connector 4"/>
          <p:cNvSpPr/>
          <p:nvPr/>
        </p:nvSpPr>
        <p:spPr>
          <a:xfrm flipH="1">
            <a:off x="1834920" y="4149720"/>
            <a:ext cx="865080" cy="2872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traight Connector 6"/>
          <p:cNvSpPr/>
          <p:nvPr/>
        </p:nvSpPr>
        <p:spPr>
          <a:xfrm flipH="1">
            <a:off x="1403280" y="4507920"/>
            <a:ext cx="378000" cy="360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traight Connector 7"/>
          <p:cNvSpPr/>
          <p:nvPr/>
        </p:nvSpPr>
        <p:spPr>
          <a:xfrm>
            <a:off x="1854360" y="4508640"/>
            <a:ext cx="414000" cy="360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traight Connector 8"/>
          <p:cNvSpPr/>
          <p:nvPr/>
        </p:nvSpPr>
        <p:spPr>
          <a:xfrm>
            <a:off x="2771640" y="4149720"/>
            <a:ext cx="936720" cy="2872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traight Connector 9"/>
          <p:cNvSpPr/>
          <p:nvPr/>
        </p:nvSpPr>
        <p:spPr>
          <a:xfrm>
            <a:off x="1116000" y="5373720"/>
            <a:ext cx="3384720" cy="0"/>
          </a:xfrm>
          <a:prstGeom prst="line">
            <a:avLst/>
          </a:prstGeom>
          <a:ln w="93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traight Connector 10"/>
          <p:cNvSpPr/>
          <p:nvPr/>
        </p:nvSpPr>
        <p:spPr>
          <a:xfrm flipH="1">
            <a:off x="1187280" y="4940280"/>
            <a:ext cx="216000" cy="360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traight Connector 11"/>
          <p:cNvSpPr/>
          <p:nvPr/>
        </p:nvSpPr>
        <p:spPr>
          <a:xfrm>
            <a:off x="1403280" y="4940280"/>
            <a:ext cx="208080" cy="352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Curved Right Arrow 13"/>
          <p:cNvSpPr/>
          <p:nvPr/>
        </p:nvSpPr>
        <p:spPr>
          <a:xfrm rot="1231800">
            <a:off x="1249200" y="4403880"/>
            <a:ext cx="287640" cy="360360"/>
          </a:xfrm>
          <a:custGeom>
            <a:avLst/>
            <a:gdLst>
              <a:gd name="textAreaLeft" fmla="*/ 38520 w 287640"/>
              <a:gd name="textAreaRight" fmla="*/ 249120 w 287640"/>
              <a:gd name="textAreaTop" fmla="*/ 63000 h 360360"/>
              <a:gd name="textAreaBottom" fmla="*/ 261360 h 36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71" stAng="-5400000" swAng="-5400000"/>
                <a:lnTo>
                  <a:pt x="0" y="11876"/>
                </a:lnTo>
                <a:arcTo wR="21600" hR="7571" stAng="10800000" swAng="-3217391"/>
                <a:lnTo>
                  <a:pt x="16200" y="21360"/>
                </a:lnTo>
                <a:lnTo>
                  <a:pt x="21600" y="17295"/>
                </a:lnTo>
                <a:lnTo>
                  <a:pt x="16200" y="12749"/>
                </a:lnTo>
                <a:lnTo>
                  <a:pt x="16200" y="14902"/>
                </a:lnTo>
                <a:arcTo wR="21600" hR="7571" stAng="7582609" swAng="2861343"/>
                <a:lnTo>
                  <a:pt x="891" y="9724"/>
                </a:lnTo>
                <a:arcTo wR="21600" hR="7571" stAng="-10443952" swAng="5043952"/>
                <a:close/>
              </a:path>
              <a:path fill="darkenLess" w="21600" h="21600">
                <a:moveTo>
                  <a:pt x="21600" y="0"/>
                </a:moveTo>
                <a:arcTo wR="21600" hR="7571" stAng="-5400000" swAng="-5400000"/>
                <a:lnTo>
                  <a:pt x="0" y="7571"/>
                </a:lnTo>
                <a:arcTo wR="21600" hR="7571" stAng="10800000" swAng="-356048"/>
                <a:lnTo>
                  <a:pt x="891" y="9724"/>
                </a:lnTo>
                <a:arcTo wR="21600" hR="7571" stAng="-10443952" swAng="5043952"/>
                <a:close/>
              </a:path>
            </a:pathLst>
          </a:custGeom>
          <a:gradFill rotWithShape="0">
            <a:gsLst>
              <a:gs pos="0">
                <a:srgbClr val="00c1f8"/>
              </a:gs>
              <a:gs pos="100000">
                <a:srgbClr val="7eedff"/>
              </a:gs>
            </a:gsLst>
            <a:lin ang="14970000"/>
          </a:gradFill>
          <a:ln w="9360">
            <a:solidFill>
              <a:srgbClr val="00acd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Curved Right Arrow 21"/>
          <p:cNvSpPr/>
          <p:nvPr/>
        </p:nvSpPr>
        <p:spPr>
          <a:xfrm rot="3318000">
            <a:off x="4962960" y="3493080"/>
            <a:ext cx="615960" cy="1798920"/>
          </a:xfrm>
          <a:custGeom>
            <a:avLst/>
            <a:gdLst>
              <a:gd name="textAreaLeft" fmla="*/ 82440 w 615960"/>
              <a:gd name="textAreaRight" fmla="*/ 533520 w 615960"/>
              <a:gd name="textAreaTop" fmla="*/ 392040 h 1798920"/>
              <a:gd name="textAreaBottom" fmla="*/ 1329840 h 1798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414" stAng="-5400000" swAng="-5400000"/>
                <a:lnTo>
                  <a:pt x="0" y="11262"/>
                </a:lnTo>
                <a:arcTo wR="21600" hR="9414" stAng="10800000" swAng="-3526597"/>
                <a:lnTo>
                  <a:pt x="16083" y="21288"/>
                </a:lnTo>
                <a:lnTo>
                  <a:pt x="21600" y="19751"/>
                </a:lnTo>
                <a:lnTo>
                  <a:pt x="16083" y="17590"/>
                </a:lnTo>
                <a:lnTo>
                  <a:pt x="16083" y="18515"/>
                </a:lnTo>
                <a:arcTo wR="21600" hR="9414" stAng="7273403" swAng="3378915"/>
                <a:lnTo>
                  <a:pt x="104" y="10337"/>
                </a:lnTo>
                <a:arcTo wR="21600" hR="9414" stAng="-10652318" swAng="5252318"/>
                <a:close/>
              </a:path>
              <a:path fill="darkenLess" w="21600" h="21600">
                <a:moveTo>
                  <a:pt x="21600" y="0"/>
                </a:moveTo>
                <a:arcTo wR="21600" hR="9414" stAng="-5400000" swAng="-5400000"/>
                <a:lnTo>
                  <a:pt x="0" y="9414"/>
                </a:lnTo>
                <a:arcTo wR="21600" hR="9414" stAng="10800000" swAng="-147682"/>
                <a:lnTo>
                  <a:pt x="104" y="10337"/>
                </a:lnTo>
                <a:arcTo wR="21600" hR="9414" stAng="-10652318" swAng="5252318"/>
                <a:close/>
              </a:path>
            </a:pathLst>
          </a:custGeom>
          <a:gradFill rotWithShape="0">
            <a:gsLst>
              <a:gs pos="0">
                <a:srgbClr val="00c1f8"/>
              </a:gs>
              <a:gs pos="100000">
                <a:srgbClr val="7eedff"/>
              </a:gs>
            </a:gsLst>
            <a:lin ang="12882000"/>
          </a:gradFill>
          <a:ln w="9360">
            <a:solidFill>
              <a:srgbClr val="00acd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traight Connector 26"/>
          <p:cNvSpPr/>
          <p:nvPr/>
        </p:nvSpPr>
        <p:spPr>
          <a:xfrm>
            <a:off x="2340000" y="4940280"/>
            <a:ext cx="208080" cy="352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traight Connector 27"/>
          <p:cNvSpPr/>
          <p:nvPr/>
        </p:nvSpPr>
        <p:spPr>
          <a:xfrm flipH="1">
            <a:off x="1979640" y="4940280"/>
            <a:ext cx="216000" cy="360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traight Connector 42"/>
          <p:cNvSpPr/>
          <p:nvPr/>
        </p:nvSpPr>
        <p:spPr>
          <a:xfrm flipH="1">
            <a:off x="3276360" y="4507920"/>
            <a:ext cx="377640" cy="360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traight Connector 43"/>
          <p:cNvSpPr/>
          <p:nvPr/>
        </p:nvSpPr>
        <p:spPr>
          <a:xfrm>
            <a:off x="3726000" y="4508640"/>
            <a:ext cx="414360" cy="360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traight Connector 44"/>
          <p:cNvSpPr/>
          <p:nvPr/>
        </p:nvSpPr>
        <p:spPr>
          <a:xfrm flipH="1">
            <a:off x="3060720" y="4940280"/>
            <a:ext cx="216000" cy="360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traight Connector 45"/>
          <p:cNvSpPr/>
          <p:nvPr/>
        </p:nvSpPr>
        <p:spPr>
          <a:xfrm>
            <a:off x="3276000" y="4940280"/>
            <a:ext cx="207720" cy="352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traight Connector 46"/>
          <p:cNvSpPr/>
          <p:nvPr/>
        </p:nvSpPr>
        <p:spPr>
          <a:xfrm>
            <a:off x="4140360" y="4941720"/>
            <a:ext cx="279360" cy="3510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traight Connector 47"/>
          <p:cNvSpPr/>
          <p:nvPr/>
        </p:nvSpPr>
        <p:spPr>
          <a:xfrm flipH="1">
            <a:off x="3851280" y="4941720"/>
            <a:ext cx="216000" cy="3589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traight Connector 50"/>
          <p:cNvSpPr/>
          <p:nvPr/>
        </p:nvSpPr>
        <p:spPr>
          <a:xfrm>
            <a:off x="3850560" y="5373720"/>
            <a:ext cx="144360" cy="358920"/>
          </a:xfrm>
          <a:prstGeom prst="line">
            <a:avLst/>
          </a:prstGeom>
          <a:ln w="25560">
            <a:solidFill>
              <a:srgbClr val="00ad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traight Connector 51"/>
          <p:cNvSpPr/>
          <p:nvPr/>
        </p:nvSpPr>
        <p:spPr>
          <a:xfrm flipH="1">
            <a:off x="3708000" y="5373720"/>
            <a:ext cx="71640" cy="360360"/>
          </a:xfrm>
          <a:prstGeom prst="line">
            <a:avLst/>
          </a:prstGeom>
          <a:ln w="25560">
            <a:solidFill>
              <a:srgbClr val="00ad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traight Connector 58"/>
          <p:cNvSpPr/>
          <p:nvPr/>
        </p:nvSpPr>
        <p:spPr>
          <a:xfrm>
            <a:off x="4426920" y="5373720"/>
            <a:ext cx="144360" cy="360360"/>
          </a:xfrm>
          <a:prstGeom prst="line">
            <a:avLst/>
          </a:prstGeom>
          <a:ln w="25560">
            <a:solidFill>
              <a:srgbClr val="00ad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59"/>
          <p:cNvSpPr/>
          <p:nvPr/>
        </p:nvSpPr>
        <p:spPr>
          <a:xfrm flipH="1">
            <a:off x="4284720" y="5373720"/>
            <a:ext cx="71280" cy="360360"/>
          </a:xfrm>
          <a:prstGeom prst="line">
            <a:avLst/>
          </a:prstGeom>
          <a:ln w="25560">
            <a:solidFill>
              <a:srgbClr val="00ad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60"/>
          <p:cNvSpPr/>
          <p:nvPr/>
        </p:nvSpPr>
        <p:spPr>
          <a:xfrm flipH="1">
            <a:off x="5570280" y="4149720"/>
            <a:ext cx="863640" cy="2872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61"/>
          <p:cNvSpPr/>
          <p:nvPr/>
        </p:nvSpPr>
        <p:spPr>
          <a:xfrm flipH="1">
            <a:off x="5138640" y="4507920"/>
            <a:ext cx="378000" cy="360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62"/>
          <p:cNvSpPr/>
          <p:nvPr/>
        </p:nvSpPr>
        <p:spPr>
          <a:xfrm>
            <a:off x="5587920" y="4508640"/>
            <a:ext cx="414360" cy="360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63"/>
          <p:cNvSpPr/>
          <p:nvPr/>
        </p:nvSpPr>
        <p:spPr>
          <a:xfrm>
            <a:off x="6507000" y="4149720"/>
            <a:ext cx="935280" cy="2872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64"/>
          <p:cNvSpPr/>
          <p:nvPr/>
        </p:nvSpPr>
        <p:spPr>
          <a:xfrm>
            <a:off x="4849920" y="5373720"/>
            <a:ext cx="3384360" cy="0"/>
          </a:xfrm>
          <a:prstGeom prst="line">
            <a:avLst/>
          </a:prstGeom>
          <a:ln w="93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65"/>
          <p:cNvSpPr/>
          <p:nvPr/>
        </p:nvSpPr>
        <p:spPr>
          <a:xfrm flipH="1">
            <a:off x="4922640" y="4940280"/>
            <a:ext cx="215640" cy="360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traight Connector 66"/>
          <p:cNvSpPr/>
          <p:nvPr/>
        </p:nvSpPr>
        <p:spPr>
          <a:xfrm>
            <a:off x="5138640" y="4940280"/>
            <a:ext cx="208080" cy="352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traight Connector 67"/>
          <p:cNvSpPr/>
          <p:nvPr/>
        </p:nvSpPr>
        <p:spPr>
          <a:xfrm>
            <a:off x="6075360" y="4940280"/>
            <a:ext cx="208080" cy="352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traight Connector 68"/>
          <p:cNvSpPr/>
          <p:nvPr/>
        </p:nvSpPr>
        <p:spPr>
          <a:xfrm flipH="1">
            <a:off x="5715000" y="4940280"/>
            <a:ext cx="216000" cy="360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traight Connector 69"/>
          <p:cNvSpPr/>
          <p:nvPr/>
        </p:nvSpPr>
        <p:spPr>
          <a:xfrm flipH="1">
            <a:off x="7010280" y="4507920"/>
            <a:ext cx="378000" cy="360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traight Connector 70"/>
          <p:cNvSpPr/>
          <p:nvPr/>
        </p:nvSpPr>
        <p:spPr>
          <a:xfrm>
            <a:off x="7461360" y="4508640"/>
            <a:ext cx="414360" cy="360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traight Connector 71"/>
          <p:cNvSpPr/>
          <p:nvPr/>
        </p:nvSpPr>
        <p:spPr>
          <a:xfrm flipH="1">
            <a:off x="6794280" y="4940280"/>
            <a:ext cx="215640" cy="360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traight Connector 72"/>
          <p:cNvSpPr/>
          <p:nvPr/>
        </p:nvSpPr>
        <p:spPr>
          <a:xfrm>
            <a:off x="7010280" y="4940280"/>
            <a:ext cx="208080" cy="352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traight Connector 73"/>
          <p:cNvSpPr/>
          <p:nvPr/>
        </p:nvSpPr>
        <p:spPr>
          <a:xfrm>
            <a:off x="7875720" y="4941720"/>
            <a:ext cx="279360" cy="3510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traight Connector 74"/>
          <p:cNvSpPr/>
          <p:nvPr/>
        </p:nvSpPr>
        <p:spPr>
          <a:xfrm flipH="1">
            <a:off x="7586640" y="4941720"/>
            <a:ext cx="216000" cy="3589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traight Connector 75"/>
          <p:cNvSpPr/>
          <p:nvPr/>
        </p:nvSpPr>
        <p:spPr>
          <a:xfrm>
            <a:off x="7585920" y="5373720"/>
            <a:ext cx="144360" cy="358920"/>
          </a:xfrm>
          <a:prstGeom prst="line">
            <a:avLst/>
          </a:prstGeom>
          <a:ln w="25560">
            <a:solidFill>
              <a:srgbClr val="00ad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traight Connector 76"/>
          <p:cNvSpPr/>
          <p:nvPr/>
        </p:nvSpPr>
        <p:spPr>
          <a:xfrm flipH="1">
            <a:off x="7441920" y="5373720"/>
            <a:ext cx="73080" cy="358920"/>
          </a:xfrm>
          <a:prstGeom prst="line">
            <a:avLst/>
          </a:prstGeom>
          <a:ln w="25560">
            <a:solidFill>
              <a:srgbClr val="00ad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traight Connector 77"/>
          <p:cNvSpPr/>
          <p:nvPr/>
        </p:nvSpPr>
        <p:spPr>
          <a:xfrm>
            <a:off x="8162280" y="5373720"/>
            <a:ext cx="144360" cy="358920"/>
          </a:xfrm>
          <a:prstGeom prst="line">
            <a:avLst/>
          </a:prstGeom>
          <a:ln w="25560">
            <a:solidFill>
              <a:srgbClr val="00ad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traight Connector 78"/>
          <p:cNvSpPr/>
          <p:nvPr/>
        </p:nvSpPr>
        <p:spPr>
          <a:xfrm flipH="1">
            <a:off x="8018640" y="5373720"/>
            <a:ext cx="72720" cy="358920"/>
          </a:xfrm>
          <a:prstGeom prst="line">
            <a:avLst/>
          </a:prstGeom>
          <a:ln w="25560">
            <a:solidFill>
              <a:srgbClr val="00ad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Curved Right Arrow 79"/>
          <p:cNvSpPr/>
          <p:nvPr/>
        </p:nvSpPr>
        <p:spPr>
          <a:xfrm rot="1231800">
            <a:off x="880920" y="4908600"/>
            <a:ext cx="287640" cy="360360"/>
          </a:xfrm>
          <a:custGeom>
            <a:avLst/>
            <a:gdLst>
              <a:gd name="textAreaLeft" fmla="*/ 38520 w 287640"/>
              <a:gd name="textAreaRight" fmla="*/ 249120 w 287640"/>
              <a:gd name="textAreaTop" fmla="*/ 63000 h 360360"/>
              <a:gd name="textAreaBottom" fmla="*/ 261360 h 36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71" stAng="-5400000" swAng="-5400000"/>
                <a:lnTo>
                  <a:pt x="0" y="11876"/>
                </a:lnTo>
                <a:arcTo wR="21600" hR="7571" stAng="10800000" swAng="-3217391"/>
                <a:lnTo>
                  <a:pt x="16200" y="21360"/>
                </a:lnTo>
                <a:lnTo>
                  <a:pt x="21600" y="17295"/>
                </a:lnTo>
                <a:lnTo>
                  <a:pt x="16200" y="12749"/>
                </a:lnTo>
                <a:lnTo>
                  <a:pt x="16200" y="14902"/>
                </a:lnTo>
                <a:arcTo wR="21600" hR="7571" stAng="7582609" swAng="2861343"/>
                <a:lnTo>
                  <a:pt x="891" y="9724"/>
                </a:lnTo>
                <a:arcTo wR="21600" hR="7571" stAng="-10443952" swAng="5043952"/>
                <a:close/>
              </a:path>
              <a:path fill="darkenLess" w="21600" h="21600">
                <a:moveTo>
                  <a:pt x="21600" y="0"/>
                </a:moveTo>
                <a:arcTo wR="21600" hR="7571" stAng="-5400000" swAng="-5400000"/>
                <a:lnTo>
                  <a:pt x="0" y="7571"/>
                </a:lnTo>
                <a:arcTo wR="21600" hR="7571" stAng="10800000" swAng="-356048"/>
                <a:lnTo>
                  <a:pt x="891" y="9724"/>
                </a:lnTo>
                <a:arcTo wR="21600" hR="7571" stAng="-10443952" swAng="5043952"/>
                <a:close/>
              </a:path>
            </a:pathLst>
          </a:custGeom>
          <a:gradFill rotWithShape="0">
            <a:gsLst>
              <a:gs pos="0">
                <a:srgbClr val="00c1f8"/>
              </a:gs>
              <a:gs pos="100000">
                <a:srgbClr val="7eedff"/>
              </a:gs>
            </a:gsLst>
            <a:lin ang="14970000"/>
          </a:gradFill>
          <a:ln w="9360">
            <a:solidFill>
              <a:srgbClr val="00acd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Curved Right Arrow 80"/>
          <p:cNvSpPr/>
          <p:nvPr/>
        </p:nvSpPr>
        <p:spPr>
          <a:xfrm rot="4242000">
            <a:off x="2032920" y="3900240"/>
            <a:ext cx="287280" cy="360360"/>
          </a:xfrm>
          <a:custGeom>
            <a:avLst/>
            <a:gdLst>
              <a:gd name="textAreaLeft" fmla="*/ 38520 w 287280"/>
              <a:gd name="textAreaRight" fmla="*/ 248760 w 287280"/>
              <a:gd name="textAreaTop" fmla="*/ 63000 h 360360"/>
              <a:gd name="textAreaBottom" fmla="*/ 261360 h 36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71" stAng="-5400000" swAng="-5400000"/>
                <a:lnTo>
                  <a:pt x="0" y="11876"/>
                </a:lnTo>
                <a:arcTo wR="21600" hR="7571" stAng="10800000" swAng="-3217391"/>
                <a:lnTo>
                  <a:pt x="16200" y="21360"/>
                </a:lnTo>
                <a:lnTo>
                  <a:pt x="21600" y="17295"/>
                </a:lnTo>
                <a:lnTo>
                  <a:pt x="16200" y="12749"/>
                </a:lnTo>
                <a:lnTo>
                  <a:pt x="16200" y="14902"/>
                </a:lnTo>
                <a:arcTo wR="21600" hR="7571" stAng="7582609" swAng="2861343"/>
                <a:lnTo>
                  <a:pt x="891" y="9724"/>
                </a:lnTo>
                <a:arcTo wR="21600" hR="7571" stAng="-10443952" swAng="5043952"/>
                <a:close/>
              </a:path>
              <a:path fill="darkenLess" w="21600" h="21600">
                <a:moveTo>
                  <a:pt x="21600" y="0"/>
                </a:moveTo>
                <a:arcTo wR="21600" hR="7571" stAng="-5400000" swAng="-5400000"/>
                <a:lnTo>
                  <a:pt x="0" y="7571"/>
                </a:lnTo>
                <a:arcTo wR="21600" hR="7571" stAng="10800000" swAng="-356048"/>
                <a:lnTo>
                  <a:pt x="891" y="9724"/>
                </a:lnTo>
                <a:arcTo wR="21600" hR="7571" stAng="-10443952" swAng="5043952"/>
                <a:close/>
              </a:path>
            </a:pathLst>
          </a:custGeom>
          <a:gradFill rotWithShape="0">
            <a:gsLst>
              <a:gs pos="0">
                <a:srgbClr val="00c1f8"/>
              </a:gs>
              <a:gs pos="100000">
                <a:srgbClr val="7eedff"/>
              </a:gs>
            </a:gsLst>
            <a:lin ang="11958000"/>
          </a:gradFill>
          <a:ln w="9360">
            <a:solidFill>
              <a:srgbClr val="00acd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81"/>
          <p:cNvSpPr/>
          <p:nvPr/>
        </p:nvSpPr>
        <p:spPr>
          <a:xfrm>
            <a:off x="475920" y="414972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dese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82"/>
          <p:cNvSpPr/>
          <p:nvPr/>
        </p:nvSpPr>
        <p:spPr>
          <a:xfrm>
            <a:off x="6947280" y="393372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dese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58720" y="259920"/>
            <a:ext cx="806472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Interaction with Context Modeling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49000" y="1484280"/>
            <a:ext cx="7910280" cy="28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47840" indent="-44784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ontext modeling and bin decoding are two stages in a pipeline. 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53200" indent="-227520">
              <a:spcBef>
                <a:spcPts val="499"/>
              </a:spcBef>
              <a:buClr>
                <a:srgbClr val="000000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sign choice made for one will directly affect the othe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3 tools on how to improve throughput of context modeling.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IPE is intended to improve throughput of bin decoding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bviously, a match in throughput is preferred.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4"/>
          <p:cNvSpPr/>
          <p:nvPr/>
        </p:nvSpPr>
        <p:spPr>
          <a:xfrm>
            <a:off x="7953480" y="6424560"/>
            <a:ext cx="87444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4BAA2-FE49-4353-B525-CC3043D36059}" type="slidenum">
              <a:rPr b="0" lang="en-US" sz="11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2665440" y="4653000"/>
            <a:ext cx="1440000" cy="503280"/>
          </a:xfrm>
          <a:prstGeom prst="rect">
            <a:avLst/>
          </a:prstGeom>
          <a:gradFill rotWithShape="0">
            <a:gsLst>
              <a:gs pos="0">
                <a:srgbClr val="00c1f8"/>
              </a:gs>
              <a:gs pos="100000">
                <a:srgbClr val="7eedff"/>
              </a:gs>
            </a:gsLst>
            <a:lin ang="16200000"/>
          </a:gradFill>
          <a:ln w="9360">
            <a:solidFill>
              <a:srgbClr val="00acd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in deco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6"/>
          <p:cNvSpPr/>
          <p:nvPr/>
        </p:nvSpPr>
        <p:spPr>
          <a:xfrm>
            <a:off x="4681440" y="4653000"/>
            <a:ext cx="1440000" cy="503280"/>
          </a:xfrm>
          <a:prstGeom prst="rect">
            <a:avLst/>
          </a:prstGeom>
          <a:gradFill rotWithShape="0">
            <a:gsLst>
              <a:gs pos="0">
                <a:srgbClr val="00c1f8"/>
              </a:gs>
              <a:gs pos="100000">
                <a:srgbClr val="7eedff"/>
              </a:gs>
            </a:gsLst>
            <a:lin ang="16200000"/>
          </a:gradFill>
          <a:ln w="9360">
            <a:solidFill>
              <a:srgbClr val="00acd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ontext mode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Straight Arrow Connector 8"/>
          <p:cNvCxnSpPr>
            <a:stCxn id="130" idx="3"/>
            <a:endCxn id="131" idx="1"/>
          </p:cNvCxnSpPr>
          <p:nvPr/>
        </p:nvCxnSpPr>
        <p:spPr>
          <a:xfrm>
            <a:off x="4105440" y="4903920"/>
            <a:ext cx="576360" cy="2160"/>
          </a:xfrm>
          <a:prstGeom prst="straightConnector1">
            <a:avLst/>
          </a:prstGeom>
          <a:ln w="25560">
            <a:solidFill>
              <a:srgbClr val="00add8"/>
            </a:solidFill>
            <a:miter/>
            <a:tailEnd len="med" type="arrow" w="med"/>
          </a:ln>
        </p:spPr>
      </p:cxnSp>
      <p:cxnSp>
        <p:nvCxnSpPr>
          <p:cNvPr id="133" name="Elbow Connector 10"/>
          <p:cNvCxnSpPr>
            <a:stCxn id="131" idx="2"/>
            <a:endCxn id="130" idx="2"/>
          </p:cNvCxnSpPr>
          <p:nvPr/>
        </p:nvCxnSpPr>
        <p:spPr>
          <a:xfrm rot="5400000">
            <a:off x="4392720" y="4149000"/>
            <a:ext cx="2160" cy="2016720"/>
          </a:xfrm>
          <a:prstGeom prst="bentConnector3">
            <a:avLst>
              <a:gd name="adj1" fmla="val 14380000"/>
            </a:avLst>
          </a:prstGeom>
          <a:ln w="25560">
            <a:solidFill>
              <a:srgbClr val="00add8"/>
            </a:solidFill>
            <a:miter/>
            <a:tailEnd len="med" type="arrow" w="med"/>
          </a:ln>
        </p:spPr>
      </p:cxnSp>
      <p:cxnSp>
        <p:nvCxnSpPr>
          <p:cNvPr id="134" name="Straight Arrow Connector 18"/>
          <p:cNvCxnSpPr>
            <a:endCxn id="130" idx="1"/>
          </p:cNvCxnSpPr>
          <p:nvPr/>
        </p:nvCxnSpPr>
        <p:spPr>
          <a:xfrm>
            <a:off x="1856880" y="4900320"/>
            <a:ext cx="808920" cy="3960"/>
          </a:xfrm>
          <a:prstGeom prst="straightConnector1">
            <a:avLst/>
          </a:prstGeom>
          <a:ln w="25560">
            <a:solidFill>
              <a:srgbClr val="00add8"/>
            </a:solidFill>
            <a:miter/>
            <a:tailEnd len="med" type="arrow" w="med"/>
          </a:ln>
        </p:spPr>
      </p:cxnSp>
      <p:cxnSp>
        <p:nvCxnSpPr>
          <p:cNvPr id="135" name="Straight Arrow Connector 20"/>
          <p:cNvCxnSpPr>
            <a:stCxn id="131" idx="3"/>
          </p:cNvCxnSpPr>
          <p:nvPr/>
        </p:nvCxnSpPr>
        <p:spPr>
          <a:xfrm flipV="1">
            <a:off x="6121440" y="4890600"/>
            <a:ext cx="899280" cy="13680"/>
          </a:xfrm>
          <a:prstGeom prst="straightConnector1">
            <a:avLst/>
          </a:prstGeom>
          <a:ln w="25560">
            <a:solidFill>
              <a:srgbClr val="00add8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4T18:57:19Z</dcterms:created>
  <dc:creator>Elliot Ng</dc:creator>
  <dc:description/>
  <dc:language>en-US</dc:language>
  <cp:lastModifiedBy>Dake</cp:lastModifiedBy>
  <dcterms:modified xsi:type="dcterms:W3CDTF">2010-10-09T03:24:29Z</dcterms:modified>
  <cp:revision>187</cp:revision>
  <dc:subject/>
  <dc:title>Title of presentation</dc:title>
</cp:coreProperties>
</file>