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97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91080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6"/>
          </p:nvPr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FE516E-9E50-4A63-825E-D07C40CC5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14B3D9-C789-44CA-827E-46BBC3B09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51960" y="637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51960" y="637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51960" y="637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51960" y="637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713520" y="6438960"/>
            <a:ext cx="26348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2" name="Picture 4" descr="8"/>
          <p:cNvPicPr/>
          <p:nvPr/>
        </p:nvPicPr>
        <p:blipFill>
          <a:blip r:embed="rId3"/>
          <a:stretch/>
        </p:blipFill>
        <p:spPr>
          <a:xfrm>
            <a:off x="7508880" y="6400800"/>
            <a:ext cx="1309680" cy="30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264000" y="6400800"/>
            <a:ext cx="209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-184464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英文标题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32-35pt 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 R153 G0 B0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内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FrutigerNext LT Medium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外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 Arial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中文标题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30-32pt 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 R153 G0 B0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字体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黑体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英文正文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20-22pt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子目录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(2-5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级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) :18pt 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黑色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内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FrutigerNext LT Regular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外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 Arial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中文正文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18-20pt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子目录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(2-5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级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):18pt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黑色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字体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细黑体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6" name="Group 9"/>
          <p:cNvGrpSpPr/>
          <p:nvPr/>
        </p:nvGrpSpPr>
        <p:grpSpPr>
          <a:xfrm>
            <a:off x="9269280" y="4292640"/>
            <a:ext cx="917640" cy="2627280"/>
            <a:chOff x="9269280" y="4292640"/>
            <a:chExt cx="917640" cy="2627280"/>
          </a:xfrm>
        </p:grpSpPr>
        <p:sp>
          <p:nvSpPr>
            <p:cNvPr id="7" name="Rectangle 10"/>
            <p:cNvSpPr/>
            <p:nvPr/>
          </p:nvSpPr>
          <p:spPr>
            <a:xfrm>
              <a:off x="9269280" y="4292640"/>
              <a:ext cx="917640" cy="262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grpSp>
          <p:nvGrpSpPr>
            <p:cNvPr id="8" name="Group 11"/>
            <p:cNvGrpSpPr/>
            <p:nvPr/>
          </p:nvGrpSpPr>
          <p:grpSpPr>
            <a:xfrm>
              <a:off x="9352080" y="4353480"/>
              <a:ext cx="739080" cy="2526120"/>
              <a:chOff x="9352080" y="4353480"/>
              <a:chExt cx="739080" cy="2526120"/>
            </a:xfrm>
          </p:grpSpPr>
          <p:sp>
            <p:nvSpPr>
              <p:cNvPr id="9" name="Rectangle 12"/>
              <p:cNvSpPr/>
              <p:nvPr/>
            </p:nvSpPr>
            <p:spPr>
              <a:xfrm flipV="1">
                <a:off x="9537480" y="5276880"/>
                <a:ext cx="182520" cy="1839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0" name="Rectangle 13"/>
              <p:cNvSpPr/>
              <p:nvPr/>
            </p:nvSpPr>
            <p:spPr>
              <a:xfrm flipV="1">
                <a:off x="9723240" y="5276880"/>
                <a:ext cx="186840" cy="1839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1" name="Rectangle 14"/>
              <p:cNvSpPr/>
              <p:nvPr/>
            </p:nvSpPr>
            <p:spPr>
              <a:xfrm flipV="1">
                <a:off x="9908640" y="5276880"/>
                <a:ext cx="182520" cy="183960"/>
              </a:xfrm>
              <a:prstGeom prst="rect">
                <a:avLst/>
              </a:prstGeom>
              <a:solidFill>
                <a:srgbClr val="996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2" name="Rectangle 15"/>
              <p:cNvSpPr/>
              <p:nvPr/>
            </p:nvSpPr>
            <p:spPr>
              <a:xfrm flipV="1">
                <a:off x="9352080" y="5276880"/>
                <a:ext cx="186840" cy="18396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3" name="Rectangle 16"/>
              <p:cNvSpPr/>
              <p:nvPr/>
            </p:nvSpPr>
            <p:spPr>
              <a:xfrm flipV="1">
                <a:off x="9537480" y="6202080"/>
                <a:ext cx="182520" cy="183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4" name="Rectangle 17"/>
              <p:cNvSpPr/>
              <p:nvPr/>
            </p:nvSpPr>
            <p:spPr>
              <a:xfrm flipV="1">
                <a:off x="9723240" y="6202080"/>
                <a:ext cx="186840" cy="183600"/>
              </a:xfrm>
              <a:prstGeom prst="rect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5" name="Rectangle 18"/>
              <p:cNvSpPr/>
              <p:nvPr/>
            </p:nvSpPr>
            <p:spPr>
              <a:xfrm flipV="1">
                <a:off x="9908640" y="6202080"/>
                <a:ext cx="182520" cy="1836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6" name="Rectangle 19"/>
              <p:cNvSpPr/>
              <p:nvPr/>
            </p:nvSpPr>
            <p:spPr>
              <a:xfrm flipV="1">
                <a:off x="9352080" y="6202080"/>
                <a:ext cx="186840" cy="1836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7" name="Rectangle 20"/>
              <p:cNvSpPr/>
              <p:nvPr/>
            </p:nvSpPr>
            <p:spPr>
              <a:xfrm flipV="1">
                <a:off x="9537480" y="6448320"/>
                <a:ext cx="182520" cy="183600"/>
              </a:xfrm>
              <a:prstGeom prst="rect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8" name="Rectangle 21"/>
              <p:cNvSpPr/>
              <p:nvPr/>
            </p:nvSpPr>
            <p:spPr>
              <a:xfrm flipV="1">
                <a:off x="9723240" y="6448320"/>
                <a:ext cx="186840" cy="18360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9" name="Rectangle 22"/>
              <p:cNvSpPr/>
              <p:nvPr/>
            </p:nvSpPr>
            <p:spPr>
              <a:xfrm flipV="1">
                <a:off x="9908640" y="6448320"/>
                <a:ext cx="182520" cy="1836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0" name="Rectangle 23"/>
              <p:cNvSpPr/>
              <p:nvPr/>
            </p:nvSpPr>
            <p:spPr>
              <a:xfrm flipV="1">
                <a:off x="9352080" y="6448320"/>
                <a:ext cx="186840" cy="18360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1" name="Rectangle 24"/>
              <p:cNvSpPr/>
              <p:nvPr/>
            </p:nvSpPr>
            <p:spPr>
              <a:xfrm flipV="1">
                <a:off x="9352080" y="5525280"/>
                <a:ext cx="186840" cy="183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2" name="Rectangle 25"/>
              <p:cNvSpPr/>
              <p:nvPr/>
            </p:nvSpPr>
            <p:spPr>
              <a:xfrm flipV="1">
                <a:off x="9537480" y="5525280"/>
                <a:ext cx="182520" cy="1836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3" name="Rectangle 26"/>
              <p:cNvSpPr/>
              <p:nvPr/>
            </p:nvSpPr>
            <p:spPr>
              <a:xfrm flipV="1">
                <a:off x="9723240" y="5525280"/>
                <a:ext cx="186840" cy="1836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4" name="Rectangle 27"/>
              <p:cNvSpPr/>
              <p:nvPr/>
            </p:nvSpPr>
            <p:spPr>
              <a:xfrm flipV="1">
                <a:off x="9908640" y="5525280"/>
                <a:ext cx="182520" cy="18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5" name="Rectangle 28"/>
              <p:cNvSpPr/>
              <p:nvPr/>
            </p:nvSpPr>
            <p:spPr>
              <a:xfrm flipV="1">
                <a:off x="9537480" y="5956920"/>
                <a:ext cx="182520" cy="18360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6" name="Rectangle 29"/>
              <p:cNvSpPr/>
              <p:nvPr/>
            </p:nvSpPr>
            <p:spPr>
              <a:xfrm flipV="1">
                <a:off x="9723240" y="5956920"/>
                <a:ext cx="186840" cy="1836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7" name="Rectangle 30"/>
              <p:cNvSpPr/>
              <p:nvPr/>
            </p:nvSpPr>
            <p:spPr>
              <a:xfrm flipV="1">
                <a:off x="9908640" y="5956920"/>
                <a:ext cx="182520" cy="18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8" name="Rectangle 31"/>
              <p:cNvSpPr/>
              <p:nvPr/>
            </p:nvSpPr>
            <p:spPr>
              <a:xfrm flipV="1">
                <a:off x="9352080" y="5956920"/>
                <a:ext cx="186840" cy="183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9" name="Rectangle 32"/>
              <p:cNvSpPr/>
              <p:nvPr/>
            </p:nvSpPr>
            <p:spPr>
              <a:xfrm flipV="1">
                <a:off x="9537480" y="6695280"/>
                <a:ext cx="182520" cy="183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30" name="Rectangle 33"/>
              <p:cNvSpPr/>
              <p:nvPr/>
            </p:nvSpPr>
            <p:spPr>
              <a:xfrm flipV="1">
                <a:off x="9723240" y="6695280"/>
                <a:ext cx="186840" cy="18396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31" name="Rectangle 34"/>
              <p:cNvSpPr/>
              <p:nvPr/>
            </p:nvSpPr>
            <p:spPr>
              <a:xfrm flipV="1">
                <a:off x="9908640" y="6695280"/>
                <a:ext cx="182520" cy="183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32" name="Rectangle 35"/>
              <p:cNvSpPr/>
              <p:nvPr/>
            </p:nvSpPr>
            <p:spPr>
              <a:xfrm flipV="1">
                <a:off x="9352080" y="6695280"/>
                <a:ext cx="186840" cy="1839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33" name="Rectangle 36"/>
              <p:cNvSpPr/>
              <p:nvPr/>
            </p:nvSpPr>
            <p:spPr>
              <a:xfrm flipV="1">
                <a:off x="9537480" y="5031000"/>
                <a:ext cx="182520" cy="1836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34" name="Rectangle 37"/>
              <p:cNvSpPr/>
              <p:nvPr/>
            </p:nvSpPr>
            <p:spPr>
              <a:xfrm flipV="1">
                <a:off x="9723240" y="5031000"/>
                <a:ext cx="186840" cy="183600"/>
              </a:xfrm>
              <a:prstGeom prst="rect">
                <a:avLst/>
              </a:prstGeom>
              <a:solidFill>
                <a:srgbClr val="996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35" name="Rectangle 38"/>
              <p:cNvSpPr/>
              <p:nvPr/>
            </p:nvSpPr>
            <p:spPr>
              <a:xfrm flipV="1">
                <a:off x="9908640" y="5031000"/>
                <a:ext cx="182520" cy="1836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36" name="Rectangle 39"/>
              <p:cNvSpPr/>
              <p:nvPr/>
            </p:nvSpPr>
            <p:spPr>
              <a:xfrm flipV="1">
                <a:off x="9352080" y="5031000"/>
                <a:ext cx="186840" cy="18360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37" name="Rectangle 40"/>
              <p:cNvSpPr/>
              <p:nvPr/>
            </p:nvSpPr>
            <p:spPr>
              <a:xfrm flipV="1">
                <a:off x="9723240" y="4598280"/>
                <a:ext cx="186840" cy="1836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38" name="Rectangle 41"/>
              <p:cNvSpPr/>
              <p:nvPr/>
            </p:nvSpPr>
            <p:spPr>
              <a:xfrm flipV="1">
                <a:off x="9908640" y="4598280"/>
                <a:ext cx="182520" cy="183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39" name="Rectangle 42"/>
              <p:cNvSpPr/>
              <p:nvPr/>
            </p:nvSpPr>
            <p:spPr>
              <a:xfrm flipV="1">
                <a:off x="9352080" y="4598280"/>
                <a:ext cx="186840" cy="183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40" name="Rectangle 43"/>
              <p:cNvSpPr/>
              <p:nvPr/>
            </p:nvSpPr>
            <p:spPr>
              <a:xfrm flipV="1">
                <a:off x="9537480" y="4598280"/>
                <a:ext cx="182520" cy="1836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41" name="Rectangle 44"/>
              <p:cNvSpPr/>
              <p:nvPr/>
            </p:nvSpPr>
            <p:spPr>
              <a:xfrm flipV="1">
                <a:off x="9723240" y="4353480"/>
                <a:ext cx="186840" cy="183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42" name="Rectangle 45"/>
              <p:cNvSpPr/>
              <p:nvPr/>
            </p:nvSpPr>
            <p:spPr>
              <a:xfrm flipV="1">
                <a:off x="9908640" y="4353480"/>
                <a:ext cx="182520" cy="1836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43" name="Rectangle 46"/>
              <p:cNvSpPr/>
              <p:nvPr/>
            </p:nvSpPr>
            <p:spPr>
              <a:xfrm flipV="1">
                <a:off x="9352080" y="4353480"/>
                <a:ext cx="186840" cy="1836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44" name="Rectangle 47"/>
              <p:cNvSpPr/>
              <p:nvPr/>
            </p:nvSpPr>
            <p:spPr>
              <a:xfrm flipV="1">
                <a:off x="9537480" y="4353480"/>
                <a:ext cx="182520" cy="18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45" name="Rectangle 48"/>
          <p:cNvSpPr/>
          <p:nvPr/>
        </p:nvSpPr>
        <p:spPr>
          <a:xfrm>
            <a:off x="9199440" y="2378160"/>
            <a:ext cx="1049400" cy="26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配色参考方案：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建议同一页面内不超过四种颜色，以下是９组配色方案，同一页面内只选择一组使用。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（仅供参考）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" name="Rectangle 49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客户或者合作伙伴的标志放在右上角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华文细黑"/>
              </a:rPr>
              <a:t>.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979560" indent="-195480">
              <a:lnSpc>
                <a:spcPct val="140000"/>
              </a:lnSpc>
              <a:buClr>
                <a:srgbClr val="000000"/>
              </a:buClr>
              <a:buFont typeface="FrutigerNext LT Light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37160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8" name="Text Box 51"/>
          <p:cNvSpPr/>
          <p:nvPr/>
        </p:nvSpPr>
        <p:spPr>
          <a:xfrm>
            <a:off x="-1042920" y="5958000"/>
            <a:ext cx="1042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  <a:ea typeface="华文细黑"/>
              </a:rPr>
              <a:t>新建内页请在选定内页的前提下新建；目录页同理。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Logo"/>
          <p:cNvPicPr/>
          <p:nvPr/>
        </p:nvPicPr>
        <p:blipFill>
          <a:blip r:embed="rId2"/>
          <a:stretch/>
        </p:blipFill>
        <p:spPr>
          <a:xfrm>
            <a:off x="7508880" y="5578560"/>
            <a:ext cx="820800" cy="822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2"/>
          <p:cNvPicPr/>
          <p:nvPr/>
        </p:nvPicPr>
        <p:blipFill>
          <a:blip r:embed="rId3"/>
          <a:stretch/>
        </p:blipFill>
        <p:spPr>
          <a:xfrm>
            <a:off x="0" y="784080"/>
            <a:ext cx="9144000" cy="3810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99480" y="6205680"/>
            <a:ext cx="25617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981480" y="4092480"/>
            <a:ext cx="18820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FrutigerNext LT Regular"/>
                <a:ea typeface="MS PGothic"/>
              </a:rPr>
              <a:t>http://www.huawei.com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-1968480" y="1322280"/>
            <a:ext cx="1968480" cy="37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英文标题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:40-47pt 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副标题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:26-30pt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字体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反白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内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: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FrutigerNext LT Medium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外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: Arial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中文标题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:35-47pt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字体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黑体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  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副标题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:24-28pt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字体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反白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字体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细黑体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979560" indent="-195480">
              <a:lnSpc>
                <a:spcPct val="140000"/>
              </a:lnSpc>
              <a:buClr>
                <a:srgbClr val="000000"/>
              </a:buClr>
              <a:buFont typeface="FrutigerNext LT Light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37160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2"/>
          </p:nvPr>
        </p:nvSpPr>
        <p:spPr>
          <a:xfrm>
            <a:off x="684360" y="2811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713520" y="6438960"/>
            <a:ext cx="26348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131" name="Picture 4" descr="8"/>
          <p:cNvPicPr/>
          <p:nvPr/>
        </p:nvPicPr>
        <p:blipFill>
          <a:blip r:embed="rId3"/>
          <a:stretch/>
        </p:blipFill>
        <p:spPr>
          <a:xfrm>
            <a:off x="7508880" y="6400800"/>
            <a:ext cx="1309680" cy="309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-184464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英文标题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32-35pt 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 R153 G0 B0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内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FrutigerNext LT Medium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外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 Arial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中文标题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30-32pt 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 R153 G0 B0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字体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黑体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英文正文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20-22pt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子目录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(2-5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级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) :18pt 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黑色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内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FrutigerNext LT Regular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外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 Arial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中文正文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18-20pt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子目录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(2-5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级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):18pt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黑色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字体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细黑体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133" name="Group 9"/>
          <p:cNvGrpSpPr/>
          <p:nvPr/>
        </p:nvGrpSpPr>
        <p:grpSpPr>
          <a:xfrm>
            <a:off x="9269280" y="4292640"/>
            <a:ext cx="917640" cy="2627280"/>
            <a:chOff x="9269280" y="4292640"/>
            <a:chExt cx="917640" cy="2627280"/>
          </a:xfrm>
        </p:grpSpPr>
        <p:sp>
          <p:nvSpPr>
            <p:cNvPr id="134" name="Rectangle 10"/>
            <p:cNvSpPr/>
            <p:nvPr/>
          </p:nvSpPr>
          <p:spPr>
            <a:xfrm>
              <a:off x="9269280" y="4292640"/>
              <a:ext cx="917640" cy="262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grpSp>
          <p:nvGrpSpPr>
            <p:cNvPr id="135" name="Group 11"/>
            <p:cNvGrpSpPr/>
            <p:nvPr/>
          </p:nvGrpSpPr>
          <p:grpSpPr>
            <a:xfrm>
              <a:off x="9352080" y="4353480"/>
              <a:ext cx="739080" cy="2526120"/>
              <a:chOff x="9352080" y="4353480"/>
              <a:chExt cx="739080" cy="2526120"/>
            </a:xfrm>
          </p:grpSpPr>
          <p:sp>
            <p:nvSpPr>
              <p:cNvPr id="136" name="Rectangle 12"/>
              <p:cNvSpPr/>
              <p:nvPr/>
            </p:nvSpPr>
            <p:spPr>
              <a:xfrm flipV="1">
                <a:off x="9537480" y="5276880"/>
                <a:ext cx="182520" cy="1839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37" name="Rectangle 13"/>
              <p:cNvSpPr/>
              <p:nvPr/>
            </p:nvSpPr>
            <p:spPr>
              <a:xfrm flipV="1">
                <a:off x="9723240" y="5276880"/>
                <a:ext cx="186840" cy="1839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38" name="Rectangle 14"/>
              <p:cNvSpPr/>
              <p:nvPr/>
            </p:nvSpPr>
            <p:spPr>
              <a:xfrm flipV="1">
                <a:off x="9908640" y="5276880"/>
                <a:ext cx="182520" cy="183960"/>
              </a:xfrm>
              <a:prstGeom prst="rect">
                <a:avLst/>
              </a:prstGeom>
              <a:solidFill>
                <a:srgbClr val="996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39" name="Rectangle 15"/>
              <p:cNvSpPr/>
              <p:nvPr/>
            </p:nvSpPr>
            <p:spPr>
              <a:xfrm flipV="1">
                <a:off x="9352080" y="5276880"/>
                <a:ext cx="186840" cy="18396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40" name="Rectangle 16"/>
              <p:cNvSpPr/>
              <p:nvPr/>
            </p:nvSpPr>
            <p:spPr>
              <a:xfrm flipV="1">
                <a:off x="9537480" y="6202080"/>
                <a:ext cx="182520" cy="183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41" name="Rectangle 17"/>
              <p:cNvSpPr/>
              <p:nvPr/>
            </p:nvSpPr>
            <p:spPr>
              <a:xfrm flipV="1">
                <a:off x="9723240" y="6202080"/>
                <a:ext cx="186840" cy="183600"/>
              </a:xfrm>
              <a:prstGeom prst="rect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42" name="Rectangle 18"/>
              <p:cNvSpPr/>
              <p:nvPr/>
            </p:nvSpPr>
            <p:spPr>
              <a:xfrm flipV="1">
                <a:off x="9908640" y="6202080"/>
                <a:ext cx="182520" cy="1836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43" name="Rectangle 19"/>
              <p:cNvSpPr/>
              <p:nvPr/>
            </p:nvSpPr>
            <p:spPr>
              <a:xfrm flipV="1">
                <a:off x="9352080" y="6202080"/>
                <a:ext cx="186840" cy="1836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44" name="Rectangle 20"/>
              <p:cNvSpPr/>
              <p:nvPr/>
            </p:nvSpPr>
            <p:spPr>
              <a:xfrm flipV="1">
                <a:off x="9537480" y="6448320"/>
                <a:ext cx="182520" cy="183600"/>
              </a:xfrm>
              <a:prstGeom prst="rect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45" name="Rectangle 21"/>
              <p:cNvSpPr/>
              <p:nvPr/>
            </p:nvSpPr>
            <p:spPr>
              <a:xfrm flipV="1">
                <a:off x="9723240" y="6448320"/>
                <a:ext cx="186840" cy="18360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46" name="Rectangle 22"/>
              <p:cNvSpPr/>
              <p:nvPr/>
            </p:nvSpPr>
            <p:spPr>
              <a:xfrm flipV="1">
                <a:off x="9908640" y="6448320"/>
                <a:ext cx="182520" cy="1836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47" name="Rectangle 23"/>
              <p:cNvSpPr/>
              <p:nvPr/>
            </p:nvSpPr>
            <p:spPr>
              <a:xfrm flipV="1">
                <a:off x="9352080" y="6448320"/>
                <a:ext cx="186840" cy="18360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48" name="Rectangle 24"/>
              <p:cNvSpPr/>
              <p:nvPr/>
            </p:nvSpPr>
            <p:spPr>
              <a:xfrm flipV="1">
                <a:off x="9352080" y="5525280"/>
                <a:ext cx="186840" cy="183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49" name="Rectangle 25"/>
              <p:cNvSpPr/>
              <p:nvPr/>
            </p:nvSpPr>
            <p:spPr>
              <a:xfrm flipV="1">
                <a:off x="9537480" y="5525280"/>
                <a:ext cx="182520" cy="1836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50" name="Rectangle 26"/>
              <p:cNvSpPr/>
              <p:nvPr/>
            </p:nvSpPr>
            <p:spPr>
              <a:xfrm flipV="1">
                <a:off x="9723240" y="5525280"/>
                <a:ext cx="186840" cy="1836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51" name="Rectangle 27"/>
              <p:cNvSpPr/>
              <p:nvPr/>
            </p:nvSpPr>
            <p:spPr>
              <a:xfrm flipV="1">
                <a:off x="9908640" y="5525280"/>
                <a:ext cx="182520" cy="18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52" name="Rectangle 28"/>
              <p:cNvSpPr/>
              <p:nvPr/>
            </p:nvSpPr>
            <p:spPr>
              <a:xfrm flipV="1">
                <a:off x="9537480" y="5956920"/>
                <a:ext cx="182520" cy="18360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53" name="Rectangle 29"/>
              <p:cNvSpPr/>
              <p:nvPr/>
            </p:nvSpPr>
            <p:spPr>
              <a:xfrm flipV="1">
                <a:off x="9723240" y="5956920"/>
                <a:ext cx="186840" cy="1836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54" name="Rectangle 30"/>
              <p:cNvSpPr/>
              <p:nvPr/>
            </p:nvSpPr>
            <p:spPr>
              <a:xfrm flipV="1">
                <a:off x="9908640" y="5956920"/>
                <a:ext cx="182520" cy="18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55" name="Rectangle 31"/>
              <p:cNvSpPr/>
              <p:nvPr/>
            </p:nvSpPr>
            <p:spPr>
              <a:xfrm flipV="1">
                <a:off x="9352080" y="5956920"/>
                <a:ext cx="186840" cy="183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56" name="Rectangle 32"/>
              <p:cNvSpPr/>
              <p:nvPr/>
            </p:nvSpPr>
            <p:spPr>
              <a:xfrm flipV="1">
                <a:off x="9537480" y="6695280"/>
                <a:ext cx="182520" cy="183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57" name="Rectangle 33"/>
              <p:cNvSpPr/>
              <p:nvPr/>
            </p:nvSpPr>
            <p:spPr>
              <a:xfrm flipV="1">
                <a:off x="9723240" y="6695280"/>
                <a:ext cx="186840" cy="18396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58" name="Rectangle 34"/>
              <p:cNvSpPr/>
              <p:nvPr/>
            </p:nvSpPr>
            <p:spPr>
              <a:xfrm flipV="1">
                <a:off x="9908640" y="6695280"/>
                <a:ext cx="182520" cy="183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59" name="Rectangle 35"/>
              <p:cNvSpPr/>
              <p:nvPr/>
            </p:nvSpPr>
            <p:spPr>
              <a:xfrm flipV="1">
                <a:off x="9352080" y="6695280"/>
                <a:ext cx="186840" cy="1839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60" name="Rectangle 36"/>
              <p:cNvSpPr/>
              <p:nvPr/>
            </p:nvSpPr>
            <p:spPr>
              <a:xfrm flipV="1">
                <a:off x="9537480" y="5031000"/>
                <a:ext cx="182520" cy="1836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61" name="Rectangle 37"/>
              <p:cNvSpPr/>
              <p:nvPr/>
            </p:nvSpPr>
            <p:spPr>
              <a:xfrm flipV="1">
                <a:off x="9723240" y="5031000"/>
                <a:ext cx="186840" cy="183600"/>
              </a:xfrm>
              <a:prstGeom prst="rect">
                <a:avLst/>
              </a:prstGeom>
              <a:solidFill>
                <a:srgbClr val="996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62" name="Rectangle 38"/>
              <p:cNvSpPr/>
              <p:nvPr/>
            </p:nvSpPr>
            <p:spPr>
              <a:xfrm flipV="1">
                <a:off x="9908640" y="5031000"/>
                <a:ext cx="182520" cy="1836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63" name="Rectangle 39"/>
              <p:cNvSpPr/>
              <p:nvPr/>
            </p:nvSpPr>
            <p:spPr>
              <a:xfrm flipV="1">
                <a:off x="9352080" y="5031000"/>
                <a:ext cx="186840" cy="18360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64" name="Rectangle 40"/>
              <p:cNvSpPr/>
              <p:nvPr/>
            </p:nvSpPr>
            <p:spPr>
              <a:xfrm flipV="1">
                <a:off x="9723240" y="4598280"/>
                <a:ext cx="186840" cy="1836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65" name="Rectangle 41"/>
              <p:cNvSpPr/>
              <p:nvPr/>
            </p:nvSpPr>
            <p:spPr>
              <a:xfrm flipV="1">
                <a:off x="9908640" y="4598280"/>
                <a:ext cx="182520" cy="183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66" name="Rectangle 42"/>
              <p:cNvSpPr/>
              <p:nvPr/>
            </p:nvSpPr>
            <p:spPr>
              <a:xfrm flipV="1">
                <a:off x="9352080" y="4598280"/>
                <a:ext cx="186840" cy="183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67" name="Rectangle 43"/>
              <p:cNvSpPr/>
              <p:nvPr/>
            </p:nvSpPr>
            <p:spPr>
              <a:xfrm flipV="1">
                <a:off x="9537480" y="4598280"/>
                <a:ext cx="182520" cy="1836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68" name="Rectangle 44"/>
              <p:cNvSpPr/>
              <p:nvPr/>
            </p:nvSpPr>
            <p:spPr>
              <a:xfrm flipV="1">
                <a:off x="9723240" y="4353480"/>
                <a:ext cx="186840" cy="183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69" name="Rectangle 45"/>
              <p:cNvSpPr/>
              <p:nvPr/>
            </p:nvSpPr>
            <p:spPr>
              <a:xfrm flipV="1">
                <a:off x="9908640" y="4353480"/>
                <a:ext cx="182520" cy="1836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70" name="Rectangle 46"/>
              <p:cNvSpPr/>
              <p:nvPr/>
            </p:nvSpPr>
            <p:spPr>
              <a:xfrm flipV="1">
                <a:off x="9352080" y="4353480"/>
                <a:ext cx="186840" cy="1836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71" name="Rectangle 47"/>
              <p:cNvSpPr/>
              <p:nvPr/>
            </p:nvSpPr>
            <p:spPr>
              <a:xfrm flipV="1">
                <a:off x="9537480" y="4353480"/>
                <a:ext cx="182520" cy="18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72" name="Rectangle 48"/>
          <p:cNvSpPr/>
          <p:nvPr/>
        </p:nvSpPr>
        <p:spPr>
          <a:xfrm>
            <a:off x="9199440" y="2378160"/>
            <a:ext cx="1049400" cy="26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配色参考方案：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建议同一页面内不超过四种颜色，以下是９组配色方案，同一页面内只选择一组使用。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（仅供参考）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客户或者合作伙伴的标志放在右上角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华文细黑"/>
              </a:rPr>
              <a:t>.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4" name="Text Box 51"/>
          <p:cNvSpPr/>
          <p:nvPr/>
        </p:nvSpPr>
        <p:spPr>
          <a:xfrm>
            <a:off x="-1042920" y="5958000"/>
            <a:ext cx="1042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  <a:ea typeface="华文细黑"/>
              </a:rPr>
              <a:t>新建内页请在选定内页的前提下新建；目录页同理。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979560" indent="-195480">
              <a:lnSpc>
                <a:spcPct val="140000"/>
              </a:lnSpc>
              <a:buClr>
                <a:srgbClr val="000000"/>
              </a:buClr>
              <a:buFont typeface="FrutigerNext LT Light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37160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713520" y="6438960"/>
            <a:ext cx="26348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215" name="Picture 4" descr="8"/>
          <p:cNvPicPr/>
          <p:nvPr/>
        </p:nvPicPr>
        <p:blipFill>
          <a:blip r:embed="rId3"/>
          <a:stretch/>
        </p:blipFill>
        <p:spPr>
          <a:xfrm>
            <a:off x="7508880" y="6400800"/>
            <a:ext cx="1309680" cy="3096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8"/>
          <p:cNvSpPr/>
          <p:nvPr/>
        </p:nvSpPr>
        <p:spPr>
          <a:xfrm>
            <a:off x="-184464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英文标题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32-35pt 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 R153 G0 B0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内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FrutigerNext LT Medium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外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 Arial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中文标题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30-32pt 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 R153 G0 B0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字体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黑体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英文正文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20-22pt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子目录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(2-5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级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) :18pt 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黑色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内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FrutigerNext LT Regular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外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 Arial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中文正文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18-20pt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子目录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(2-5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级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):18pt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黑色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字体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细黑体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217" name="Group 9"/>
          <p:cNvGrpSpPr/>
          <p:nvPr/>
        </p:nvGrpSpPr>
        <p:grpSpPr>
          <a:xfrm>
            <a:off x="9269280" y="4292640"/>
            <a:ext cx="917640" cy="2627280"/>
            <a:chOff x="9269280" y="4292640"/>
            <a:chExt cx="917640" cy="2627280"/>
          </a:xfrm>
        </p:grpSpPr>
        <p:sp>
          <p:nvSpPr>
            <p:cNvPr id="218" name="Rectangle 10"/>
            <p:cNvSpPr/>
            <p:nvPr/>
          </p:nvSpPr>
          <p:spPr>
            <a:xfrm>
              <a:off x="9269280" y="4292640"/>
              <a:ext cx="917640" cy="262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grpSp>
          <p:nvGrpSpPr>
            <p:cNvPr id="219" name="Group 11"/>
            <p:cNvGrpSpPr/>
            <p:nvPr/>
          </p:nvGrpSpPr>
          <p:grpSpPr>
            <a:xfrm>
              <a:off x="9352080" y="4353480"/>
              <a:ext cx="739080" cy="2526120"/>
              <a:chOff x="9352080" y="4353480"/>
              <a:chExt cx="739080" cy="2526120"/>
            </a:xfrm>
          </p:grpSpPr>
          <p:sp>
            <p:nvSpPr>
              <p:cNvPr id="220" name="Rectangle 12"/>
              <p:cNvSpPr/>
              <p:nvPr/>
            </p:nvSpPr>
            <p:spPr>
              <a:xfrm flipV="1">
                <a:off x="9537480" y="5276880"/>
                <a:ext cx="182520" cy="1839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21" name="Rectangle 13"/>
              <p:cNvSpPr/>
              <p:nvPr/>
            </p:nvSpPr>
            <p:spPr>
              <a:xfrm flipV="1">
                <a:off x="9723240" y="5276880"/>
                <a:ext cx="186840" cy="1839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22" name="Rectangle 14"/>
              <p:cNvSpPr/>
              <p:nvPr/>
            </p:nvSpPr>
            <p:spPr>
              <a:xfrm flipV="1">
                <a:off x="9908640" y="5276880"/>
                <a:ext cx="182520" cy="183960"/>
              </a:xfrm>
              <a:prstGeom prst="rect">
                <a:avLst/>
              </a:prstGeom>
              <a:solidFill>
                <a:srgbClr val="996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23" name="Rectangle 15"/>
              <p:cNvSpPr/>
              <p:nvPr/>
            </p:nvSpPr>
            <p:spPr>
              <a:xfrm flipV="1">
                <a:off x="9352080" y="5276880"/>
                <a:ext cx="186840" cy="18396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24" name="Rectangle 16"/>
              <p:cNvSpPr/>
              <p:nvPr/>
            </p:nvSpPr>
            <p:spPr>
              <a:xfrm flipV="1">
                <a:off x="9537480" y="6202080"/>
                <a:ext cx="182520" cy="183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25" name="Rectangle 17"/>
              <p:cNvSpPr/>
              <p:nvPr/>
            </p:nvSpPr>
            <p:spPr>
              <a:xfrm flipV="1">
                <a:off x="9723240" y="6202080"/>
                <a:ext cx="186840" cy="183600"/>
              </a:xfrm>
              <a:prstGeom prst="rect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26" name="Rectangle 18"/>
              <p:cNvSpPr/>
              <p:nvPr/>
            </p:nvSpPr>
            <p:spPr>
              <a:xfrm flipV="1">
                <a:off x="9908640" y="6202080"/>
                <a:ext cx="182520" cy="1836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27" name="Rectangle 19"/>
              <p:cNvSpPr/>
              <p:nvPr/>
            </p:nvSpPr>
            <p:spPr>
              <a:xfrm flipV="1">
                <a:off x="9352080" y="6202080"/>
                <a:ext cx="186840" cy="1836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28" name="Rectangle 20"/>
              <p:cNvSpPr/>
              <p:nvPr/>
            </p:nvSpPr>
            <p:spPr>
              <a:xfrm flipV="1">
                <a:off x="9537480" y="6448320"/>
                <a:ext cx="182520" cy="183600"/>
              </a:xfrm>
              <a:prstGeom prst="rect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29" name="Rectangle 21"/>
              <p:cNvSpPr/>
              <p:nvPr/>
            </p:nvSpPr>
            <p:spPr>
              <a:xfrm flipV="1">
                <a:off x="9723240" y="6448320"/>
                <a:ext cx="186840" cy="18360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30" name="Rectangle 22"/>
              <p:cNvSpPr/>
              <p:nvPr/>
            </p:nvSpPr>
            <p:spPr>
              <a:xfrm flipV="1">
                <a:off x="9908640" y="6448320"/>
                <a:ext cx="182520" cy="1836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31" name="Rectangle 23"/>
              <p:cNvSpPr/>
              <p:nvPr/>
            </p:nvSpPr>
            <p:spPr>
              <a:xfrm flipV="1">
                <a:off x="9352080" y="6448320"/>
                <a:ext cx="186840" cy="18360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32" name="Rectangle 24"/>
              <p:cNvSpPr/>
              <p:nvPr/>
            </p:nvSpPr>
            <p:spPr>
              <a:xfrm flipV="1">
                <a:off x="9352080" y="5525280"/>
                <a:ext cx="186840" cy="183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33" name="Rectangle 25"/>
              <p:cNvSpPr/>
              <p:nvPr/>
            </p:nvSpPr>
            <p:spPr>
              <a:xfrm flipV="1">
                <a:off x="9537480" y="5525280"/>
                <a:ext cx="182520" cy="1836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34" name="Rectangle 26"/>
              <p:cNvSpPr/>
              <p:nvPr/>
            </p:nvSpPr>
            <p:spPr>
              <a:xfrm flipV="1">
                <a:off x="9723240" y="5525280"/>
                <a:ext cx="186840" cy="1836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35" name="Rectangle 27"/>
              <p:cNvSpPr/>
              <p:nvPr/>
            </p:nvSpPr>
            <p:spPr>
              <a:xfrm flipV="1">
                <a:off x="9908640" y="5525280"/>
                <a:ext cx="182520" cy="18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36" name="Rectangle 28"/>
              <p:cNvSpPr/>
              <p:nvPr/>
            </p:nvSpPr>
            <p:spPr>
              <a:xfrm flipV="1">
                <a:off x="9537480" y="5956920"/>
                <a:ext cx="182520" cy="18360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37" name="Rectangle 29"/>
              <p:cNvSpPr/>
              <p:nvPr/>
            </p:nvSpPr>
            <p:spPr>
              <a:xfrm flipV="1">
                <a:off x="9723240" y="5956920"/>
                <a:ext cx="186840" cy="1836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38" name="Rectangle 30"/>
              <p:cNvSpPr/>
              <p:nvPr/>
            </p:nvSpPr>
            <p:spPr>
              <a:xfrm flipV="1">
                <a:off x="9908640" y="5956920"/>
                <a:ext cx="182520" cy="18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39" name="Rectangle 31"/>
              <p:cNvSpPr/>
              <p:nvPr/>
            </p:nvSpPr>
            <p:spPr>
              <a:xfrm flipV="1">
                <a:off x="9352080" y="5956920"/>
                <a:ext cx="186840" cy="183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40" name="Rectangle 32"/>
              <p:cNvSpPr/>
              <p:nvPr/>
            </p:nvSpPr>
            <p:spPr>
              <a:xfrm flipV="1">
                <a:off x="9537480" y="6695280"/>
                <a:ext cx="182520" cy="183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41" name="Rectangle 33"/>
              <p:cNvSpPr/>
              <p:nvPr/>
            </p:nvSpPr>
            <p:spPr>
              <a:xfrm flipV="1">
                <a:off x="9723240" y="6695280"/>
                <a:ext cx="186840" cy="18396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42" name="Rectangle 34"/>
              <p:cNvSpPr/>
              <p:nvPr/>
            </p:nvSpPr>
            <p:spPr>
              <a:xfrm flipV="1">
                <a:off x="9908640" y="6695280"/>
                <a:ext cx="182520" cy="183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43" name="Rectangle 35"/>
              <p:cNvSpPr/>
              <p:nvPr/>
            </p:nvSpPr>
            <p:spPr>
              <a:xfrm flipV="1">
                <a:off x="9352080" y="6695280"/>
                <a:ext cx="186840" cy="1839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44" name="Rectangle 36"/>
              <p:cNvSpPr/>
              <p:nvPr/>
            </p:nvSpPr>
            <p:spPr>
              <a:xfrm flipV="1">
                <a:off x="9537480" y="5031000"/>
                <a:ext cx="182520" cy="1836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45" name="Rectangle 37"/>
              <p:cNvSpPr/>
              <p:nvPr/>
            </p:nvSpPr>
            <p:spPr>
              <a:xfrm flipV="1">
                <a:off x="9723240" y="5031000"/>
                <a:ext cx="186840" cy="183600"/>
              </a:xfrm>
              <a:prstGeom prst="rect">
                <a:avLst/>
              </a:prstGeom>
              <a:solidFill>
                <a:srgbClr val="996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46" name="Rectangle 38"/>
              <p:cNvSpPr/>
              <p:nvPr/>
            </p:nvSpPr>
            <p:spPr>
              <a:xfrm flipV="1">
                <a:off x="9908640" y="5031000"/>
                <a:ext cx="182520" cy="1836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47" name="Rectangle 39"/>
              <p:cNvSpPr/>
              <p:nvPr/>
            </p:nvSpPr>
            <p:spPr>
              <a:xfrm flipV="1">
                <a:off x="9352080" y="5031000"/>
                <a:ext cx="186840" cy="18360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48" name="Rectangle 40"/>
              <p:cNvSpPr/>
              <p:nvPr/>
            </p:nvSpPr>
            <p:spPr>
              <a:xfrm flipV="1">
                <a:off x="9723240" y="4598280"/>
                <a:ext cx="186840" cy="1836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49" name="Rectangle 41"/>
              <p:cNvSpPr/>
              <p:nvPr/>
            </p:nvSpPr>
            <p:spPr>
              <a:xfrm flipV="1">
                <a:off x="9908640" y="4598280"/>
                <a:ext cx="182520" cy="183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50" name="Rectangle 42"/>
              <p:cNvSpPr/>
              <p:nvPr/>
            </p:nvSpPr>
            <p:spPr>
              <a:xfrm flipV="1">
                <a:off x="9352080" y="4598280"/>
                <a:ext cx="186840" cy="183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51" name="Rectangle 43"/>
              <p:cNvSpPr/>
              <p:nvPr/>
            </p:nvSpPr>
            <p:spPr>
              <a:xfrm flipV="1">
                <a:off x="9537480" y="4598280"/>
                <a:ext cx="182520" cy="1836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52" name="Rectangle 44"/>
              <p:cNvSpPr/>
              <p:nvPr/>
            </p:nvSpPr>
            <p:spPr>
              <a:xfrm flipV="1">
                <a:off x="9723240" y="4353480"/>
                <a:ext cx="186840" cy="183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53" name="Rectangle 45"/>
              <p:cNvSpPr/>
              <p:nvPr/>
            </p:nvSpPr>
            <p:spPr>
              <a:xfrm flipV="1">
                <a:off x="9908640" y="4353480"/>
                <a:ext cx="182520" cy="1836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54" name="Rectangle 46"/>
              <p:cNvSpPr/>
              <p:nvPr/>
            </p:nvSpPr>
            <p:spPr>
              <a:xfrm flipV="1">
                <a:off x="9352080" y="4353480"/>
                <a:ext cx="186840" cy="1836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55" name="Rectangle 47"/>
              <p:cNvSpPr/>
              <p:nvPr/>
            </p:nvSpPr>
            <p:spPr>
              <a:xfrm flipV="1">
                <a:off x="9537480" y="4353480"/>
                <a:ext cx="182520" cy="18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256" name="Rectangle 48"/>
          <p:cNvSpPr/>
          <p:nvPr/>
        </p:nvSpPr>
        <p:spPr>
          <a:xfrm>
            <a:off x="9199440" y="2378160"/>
            <a:ext cx="1049400" cy="26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配色参考方案：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建议同一页面内不超过四种颜色，以下是９组配色方案，同一页面内只选择一组使用。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（仅供参考）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7" name="Rectangle 49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客户或者合作伙伴的标志放在右上角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华文细黑"/>
              </a:rPr>
              <a:t>.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8" name="Text Box 51"/>
          <p:cNvSpPr/>
          <p:nvPr/>
        </p:nvSpPr>
        <p:spPr>
          <a:xfrm>
            <a:off x="-1042920" y="5958000"/>
            <a:ext cx="1042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  <a:ea typeface="华文细黑"/>
              </a:rPr>
              <a:t>新建内页请在选定内页的前提下新建；目录页同理。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979560" indent="-195480">
              <a:lnSpc>
                <a:spcPct val="140000"/>
              </a:lnSpc>
              <a:buClr>
                <a:srgbClr val="000000"/>
              </a:buClr>
              <a:buFont typeface="FrutigerNext LT Light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37160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3"/>
          </p:nvPr>
        </p:nvSpPr>
        <p:spPr>
          <a:xfrm>
            <a:off x="6360840" y="6400800"/>
            <a:ext cx="209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7960" y="1336320"/>
            <a:ext cx="6283440" cy="28573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 algn="ctr">
              <a:spcBef>
                <a:spcPts val="6599"/>
              </a:spcBef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</a:rPr>
              <a:t>Symmetry-based Scan Order Sharing Scheme for MDDT</a:t>
            </a: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(JCTVC-C106)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545840" y="4628880"/>
            <a:ext cx="4600440" cy="11206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Haitao Yang, Jiantong Zhou, Haoping Yu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Huawei Technologies</a:t>
            </a: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7" name="DtsShapeName" hidden="1"/>
          <p:cNvSpPr/>
          <p:nvPr/>
        </p:nvSpPr>
        <p:spPr>
          <a:xfrm>
            <a:off x="0" y="0"/>
            <a:ext cx="1440" cy="1440"/>
          </a:xfrm>
          <a:prstGeom prst="pie">
            <a:avLst/>
          </a:prstGeom>
          <a:solidFill>
            <a:srgbClr val="ccff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5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42800" y="2131920"/>
            <a:ext cx="26632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Next LT Medium"/>
                <a:ea typeface="MS PGothic"/>
              </a:rPr>
              <a:t>Thank You</a:t>
            </a:r>
            <a:endParaRPr b="0" lang="en-US" sz="4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39360" y="3330720"/>
            <a:ext cx="23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2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  <a:ea typeface="Arial"/>
              </a:rPr>
              <a:t>Introduction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MDDT was adopted in TMuC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intra prediction mode use a corresponding transform matrix and a scan order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TE7: MDDT simplification (JCTVC-B307)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duce the number of transforms and scan orders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duce the operation counts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Symmetry-based Scan Order (SSO) has been implemented in TMuC0.7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Reduce the number of scan orders of MDDT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The performance of SSO in TMuC is reported in this contribution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0">
              <a:lnSpc>
                <a:spcPct val="14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Observation &amp; Motivation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74840" y="1362240"/>
            <a:ext cx="792936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MDDT mode in TMuC</a:t>
            </a: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Scan maps in MDDT</a:t>
            </a: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NxN matrices with statistical data representing the occurrence of non-zero coefficient at each coefficient position</a:t>
            </a: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It is used to calculate the scan order for the corresponding MDDT mode</a:t>
            </a: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Symmetry in original scan maps -&gt;  Similarity in the scan map after alignment</a:t>
            </a: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06360" y="3344760"/>
            <a:ext cx="4259160" cy="31147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327560" y="3313080"/>
            <a:ext cx="4251240" cy="31798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407200" y="3500280"/>
            <a:ext cx="2670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b) Scan maps for 8x8 blocks</a:t>
            </a:r>
            <a:endParaRPr b="0" lang="en-US" sz="15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211400" y="3508200"/>
            <a:ext cx="276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(a) Scan maps for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x4 blocks</a:t>
            </a:r>
            <a:r>
              <a:rPr b="0" lang="en-US" sz="15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15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SSO scheme description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74480" y="1590480"/>
            <a:ext cx="3887640" cy="449244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 fontScale="98000"/>
          </a:bodyPr>
          <a:p>
            <a:pPr marL="287640" indent="-28764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Next LT Regular"/>
              </a:rPr>
              <a:t>The proposed method</a:t>
            </a:r>
            <a:endParaRPr b="1" lang="en-US" sz="17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23520" indent="-2394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Use the table on the right to select the scan mode for each MDDT mode. </a:t>
            </a: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23520" indent="-2394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The scan map of each scan mode is computed by averaging all the aligned MDDT scan maps corresponds to the scan mode. </a:t>
            </a: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23520" indent="-2394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If the prediction direction of the two MDDT modes are transposing symmetric, the two components of a scan position (x, y) should be swapped, so (y, x) is actually used for locating the coefficient position in a block. </a:t>
            </a: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692600" y="1641600"/>
          <a:ext cx="3889080" cy="4193640"/>
        </p:xfrm>
        <a:graphic>
          <a:graphicData uri="http://schemas.openxmlformats.org/drawingml/2006/table">
            <a:tbl>
              <a:tblPr/>
              <a:tblGrid>
                <a:gridCol w="1924200"/>
                <a:gridCol w="196488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568520"/>
                          <a:tab algn="l" pos="2352600"/>
                          <a:tab algn="l" pos="3137040"/>
                          <a:tab algn="l" pos="3921120"/>
                          <a:tab algn="l" pos="4705200"/>
                          <a:tab algn="l" pos="5489640"/>
                          <a:tab algn="l" pos="6273720"/>
                          <a:tab algn="l" pos="7058160"/>
                          <a:tab algn="l" pos="7842240"/>
                          <a:tab algn="l" pos="8626320"/>
                          <a:tab algn="l" pos="9410760"/>
                          <a:tab algn="l" pos="1019484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MDDT mode</a:t>
                      </a:r>
                      <a:endParaRPr b="0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568520"/>
                          <a:tab algn="l" pos="2352600"/>
                          <a:tab algn="l" pos="3137040"/>
                          <a:tab algn="l" pos="3921120"/>
                          <a:tab algn="l" pos="4705200"/>
                          <a:tab algn="l" pos="5489640"/>
                          <a:tab algn="l" pos="6273720"/>
                          <a:tab algn="l" pos="7058160"/>
                          <a:tab algn="l" pos="7842240"/>
                          <a:tab algn="l" pos="8626320"/>
                          <a:tab algn="l" pos="9410760"/>
                          <a:tab algn="l" pos="1019484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Scan mode</a:t>
                      </a:r>
                      <a:endParaRPr b="0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568520"/>
                          <a:tab algn="l" pos="2352600"/>
                          <a:tab algn="l" pos="3137040"/>
                          <a:tab algn="l" pos="3921120"/>
                          <a:tab algn="l" pos="4705200"/>
                          <a:tab algn="l" pos="5489640"/>
                          <a:tab algn="l" pos="6273720"/>
                          <a:tab algn="l" pos="7058160"/>
                          <a:tab algn="l" pos="7842240"/>
                          <a:tab algn="l" pos="8626320"/>
                          <a:tab algn="l" pos="9410760"/>
                          <a:tab algn="l" pos="1019484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568520"/>
                          <a:tab algn="l" pos="2352600"/>
                          <a:tab algn="l" pos="3137040"/>
                          <a:tab algn="l" pos="3921120"/>
                          <a:tab algn="l" pos="4705200"/>
                          <a:tab algn="l" pos="5489640"/>
                          <a:tab algn="l" pos="6273720"/>
                          <a:tab algn="l" pos="7058160"/>
                          <a:tab algn="l" pos="7842240"/>
                          <a:tab algn="l" pos="8626320"/>
                          <a:tab algn="l" pos="9410760"/>
                          <a:tab algn="l" pos="1019484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568520"/>
                          <a:tab algn="l" pos="2352600"/>
                          <a:tab algn="l" pos="3137040"/>
                          <a:tab algn="l" pos="3921120"/>
                          <a:tab algn="l" pos="4705200"/>
                          <a:tab algn="l" pos="5489640"/>
                          <a:tab algn="l" pos="6273720"/>
                          <a:tab algn="l" pos="7058160"/>
                          <a:tab algn="l" pos="7842240"/>
                          <a:tab algn="l" pos="8626320"/>
                          <a:tab algn="l" pos="9410760"/>
                          <a:tab algn="l" pos="1019484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568520"/>
                          <a:tab algn="l" pos="2352600"/>
                          <a:tab algn="l" pos="3137040"/>
                          <a:tab algn="l" pos="3921120"/>
                          <a:tab algn="l" pos="4705200"/>
                          <a:tab algn="l" pos="5489640"/>
                          <a:tab algn="l" pos="6273720"/>
                          <a:tab algn="l" pos="7058160"/>
                          <a:tab algn="l" pos="7842240"/>
                          <a:tab algn="l" pos="8626320"/>
                          <a:tab algn="l" pos="9410760"/>
                          <a:tab algn="l" pos="1019484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568520"/>
                          <a:tab algn="l" pos="2352600"/>
                          <a:tab algn="l" pos="3137040"/>
                          <a:tab algn="l" pos="3921120"/>
                          <a:tab algn="l" pos="4705200"/>
                          <a:tab algn="l" pos="5489640"/>
                          <a:tab algn="l" pos="6273720"/>
                          <a:tab algn="l" pos="7058160"/>
                          <a:tab algn="l" pos="7842240"/>
                          <a:tab algn="l" pos="8626320"/>
                          <a:tab algn="l" pos="9410760"/>
                          <a:tab algn="l" pos="1019484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568520"/>
                          <a:tab algn="l" pos="2352600"/>
                          <a:tab algn="l" pos="3137040"/>
                          <a:tab algn="l" pos="3921120"/>
                          <a:tab algn="l" pos="4705200"/>
                          <a:tab algn="l" pos="5489640"/>
                          <a:tab algn="l" pos="6273720"/>
                          <a:tab algn="l" pos="7058160"/>
                          <a:tab algn="l" pos="7842240"/>
                          <a:tab algn="l" pos="8626320"/>
                          <a:tab algn="l" pos="9410760"/>
                          <a:tab algn="l" pos="1019484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568520"/>
                          <a:tab algn="l" pos="2352600"/>
                          <a:tab algn="l" pos="3137040"/>
                          <a:tab algn="l" pos="3921120"/>
                          <a:tab algn="l" pos="4705200"/>
                          <a:tab algn="l" pos="5489640"/>
                          <a:tab algn="l" pos="6273720"/>
                          <a:tab algn="l" pos="7058160"/>
                          <a:tab algn="l" pos="7842240"/>
                          <a:tab algn="l" pos="8626320"/>
                          <a:tab algn="l" pos="9410760"/>
                          <a:tab algn="l" pos="1019484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568520"/>
                          <a:tab algn="l" pos="2352600"/>
                          <a:tab algn="l" pos="3137040"/>
                          <a:tab algn="l" pos="3921120"/>
                          <a:tab algn="l" pos="4705200"/>
                          <a:tab algn="l" pos="5489640"/>
                          <a:tab algn="l" pos="6273720"/>
                          <a:tab algn="l" pos="7058160"/>
                          <a:tab algn="l" pos="7842240"/>
                          <a:tab algn="l" pos="8626320"/>
                          <a:tab algn="l" pos="9410760"/>
                          <a:tab algn="l" pos="1019484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568520"/>
                          <a:tab algn="l" pos="2352600"/>
                          <a:tab algn="l" pos="3137040"/>
                          <a:tab algn="l" pos="3921120"/>
                          <a:tab algn="l" pos="4705200"/>
                          <a:tab algn="l" pos="5489640"/>
                          <a:tab algn="l" pos="6273720"/>
                          <a:tab algn="l" pos="7058160"/>
                          <a:tab algn="l" pos="7842240"/>
                          <a:tab algn="l" pos="8626320"/>
                          <a:tab algn="l" pos="9410760"/>
                          <a:tab algn="l" pos="1019484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568520"/>
                          <a:tab algn="l" pos="2352600"/>
                          <a:tab algn="l" pos="3137040"/>
                          <a:tab algn="l" pos="3921120"/>
                          <a:tab algn="l" pos="4705200"/>
                          <a:tab algn="l" pos="5489640"/>
                          <a:tab algn="l" pos="6273720"/>
                          <a:tab algn="l" pos="7058160"/>
                          <a:tab algn="l" pos="7842240"/>
                          <a:tab algn="l" pos="8626320"/>
                          <a:tab algn="l" pos="9410760"/>
                          <a:tab algn="l" pos="1019484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568520"/>
                          <a:tab algn="l" pos="2352600"/>
                          <a:tab algn="l" pos="3137040"/>
                          <a:tab algn="l" pos="3921120"/>
                          <a:tab algn="l" pos="4705200"/>
                          <a:tab algn="l" pos="5489640"/>
                          <a:tab algn="l" pos="6273720"/>
                          <a:tab algn="l" pos="7058160"/>
                          <a:tab algn="l" pos="7842240"/>
                          <a:tab algn="l" pos="8626320"/>
                          <a:tab algn="l" pos="9410760"/>
                          <a:tab algn="l" pos="1019484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568520"/>
                          <a:tab algn="l" pos="2352600"/>
                          <a:tab algn="l" pos="3137040"/>
                          <a:tab algn="l" pos="3921120"/>
                          <a:tab algn="l" pos="4705200"/>
                          <a:tab algn="l" pos="5489640"/>
                          <a:tab algn="l" pos="6273720"/>
                          <a:tab algn="l" pos="7058160"/>
                          <a:tab algn="l" pos="7842240"/>
                          <a:tab algn="l" pos="8626320"/>
                          <a:tab algn="l" pos="9410760"/>
                          <a:tab algn="l" pos="1019484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568520"/>
                          <a:tab algn="l" pos="2352600"/>
                          <a:tab algn="l" pos="3137040"/>
                          <a:tab algn="l" pos="3921120"/>
                          <a:tab algn="l" pos="4705200"/>
                          <a:tab algn="l" pos="5489640"/>
                          <a:tab algn="l" pos="6273720"/>
                          <a:tab algn="l" pos="7058160"/>
                          <a:tab algn="l" pos="7842240"/>
                          <a:tab algn="l" pos="8626320"/>
                          <a:tab algn="l" pos="9410760"/>
                          <a:tab algn="l" pos="1019484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568520"/>
                          <a:tab algn="l" pos="2352600"/>
                          <a:tab algn="l" pos="3137040"/>
                          <a:tab algn="l" pos="3921120"/>
                          <a:tab algn="l" pos="4705200"/>
                          <a:tab algn="l" pos="5489640"/>
                          <a:tab algn="l" pos="6273720"/>
                          <a:tab algn="l" pos="7058160"/>
                          <a:tab algn="l" pos="7842240"/>
                          <a:tab algn="l" pos="8626320"/>
                          <a:tab algn="l" pos="9410760"/>
                          <a:tab algn="l" pos="1019484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568520"/>
                          <a:tab algn="l" pos="2352600"/>
                          <a:tab algn="l" pos="3137040"/>
                          <a:tab algn="l" pos="3921120"/>
                          <a:tab algn="l" pos="4705200"/>
                          <a:tab algn="l" pos="5489640"/>
                          <a:tab algn="l" pos="6273720"/>
                          <a:tab algn="l" pos="7058160"/>
                          <a:tab algn="l" pos="7842240"/>
                          <a:tab algn="l" pos="8626320"/>
                          <a:tab algn="l" pos="9410760"/>
                          <a:tab algn="l" pos="1019484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568520"/>
                          <a:tab algn="l" pos="2352600"/>
                          <a:tab algn="l" pos="3137040"/>
                          <a:tab algn="l" pos="3921120"/>
                          <a:tab algn="l" pos="4705200"/>
                          <a:tab algn="l" pos="5489640"/>
                          <a:tab algn="l" pos="6273720"/>
                          <a:tab algn="l" pos="7058160"/>
                          <a:tab algn="l" pos="7842240"/>
                          <a:tab algn="l" pos="8626320"/>
                          <a:tab algn="l" pos="9410760"/>
                          <a:tab algn="l" pos="1019484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568520"/>
                          <a:tab algn="l" pos="2352600"/>
                          <a:tab algn="l" pos="3137040"/>
                          <a:tab algn="l" pos="3921120"/>
                          <a:tab algn="l" pos="4705200"/>
                          <a:tab algn="l" pos="5489640"/>
                          <a:tab algn="l" pos="6273720"/>
                          <a:tab algn="l" pos="7058160"/>
                          <a:tab algn="l" pos="7842240"/>
                          <a:tab algn="l" pos="8626320"/>
                          <a:tab algn="l" pos="9410760"/>
                          <a:tab algn="l" pos="1019484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568520"/>
                          <a:tab algn="l" pos="2352600"/>
                          <a:tab algn="l" pos="3137040"/>
                          <a:tab algn="l" pos="3921120"/>
                          <a:tab algn="l" pos="4705200"/>
                          <a:tab algn="l" pos="5489640"/>
                          <a:tab algn="l" pos="6273720"/>
                          <a:tab algn="l" pos="7058160"/>
                          <a:tab algn="l" pos="7842240"/>
                          <a:tab algn="l" pos="8626320"/>
                          <a:tab algn="l" pos="9410760"/>
                          <a:tab algn="l" pos="1019484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Simulation results-1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1960" y="1539720"/>
            <a:ext cx="7929720" cy="47037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Software platform: TMuC 0.7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Test condition: JCTVC-B300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The following coding performances are provided: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SSO vs. anchor (ASO on)                    SSO vs. anchor (ASO off)</a:t>
            </a: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Next LT Regular"/>
              </a:rPr>
              <a:t>SSO can achieve the same coding gain as MDDT no matter the adaptive scan order update is used or not.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560520" y="3230640"/>
            <a:ext cx="3938400" cy="17683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560840" y="3243240"/>
            <a:ext cx="39481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Simulation results-2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1960" y="1514160"/>
            <a:ext cx="7929720" cy="48546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Adaptive scan order update actually has limited coding performance improvement 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For the sequence with higher resolution, the adaptation tends to have better performance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For the sequences with lower resolution, the negative performance can be seen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389320" y="3967200"/>
            <a:ext cx="4535280" cy="20350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3726720" y="3547440"/>
            <a:ext cx="1920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O off vs. ASO on</a:t>
            </a:r>
            <a:r>
              <a:rPr b="0" lang="en-US" sz="15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15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Simulation results-3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 fontScale="97000"/>
          </a:bodyPr>
          <a:p>
            <a:pPr marL="284760" indent="-284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SSO can also be combined with various simplified MDDT schemes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7040" indent="-23688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It can be directly combined with the schemes in  JCTVC-C037 and JCTVC-C080 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7040" indent="-23688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It can be combined with the SMDDT proposed in JCTVC-C102 with a few modifications. In this case the flip and transpose operation on the residual blocks are not needed any more. The performance of this combined scheme is shown below: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704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704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704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704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704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7040" indent="-23688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Compared with SMDDT in JCTVC-C102, the averaged performance of the Y component for the Class C and the Class D are the same. 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641840" y="3870360"/>
            <a:ext cx="3659040" cy="9460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882720" y="3873600"/>
            <a:ext cx="3645000" cy="9316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323800" y="3496680"/>
            <a:ext cx="97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O ON</a:t>
            </a:r>
            <a:r>
              <a:rPr b="0" lang="en-US" sz="15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15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7720" y="3496680"/>
            <a:ext cx="1014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O OFF</a:t>
            </a:r>
            <a:endParaRPr b="0" lang="en-US" sz="15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omplexity analysis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77520" y="1590480"/>
            <a:ext cx="7929720" cy="209844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Because the number of scan maps is reduced from 9 to 4, the memory storage is saved. 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As for the computational complexity, no extra calculation is needed.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onclusion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The number of the scan maps can be reduced by the proposed SSO scheme while the performance of MDDT is maintained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The memory storage can be saved by SSO, and no extra computational complexity is needed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We suggest that the proposed SSO is adopted as an improvement of the current MDDT scheme in TMuC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6T09:41:22Z</dcterms:created>
  <dc:creator>ggb1</dc:creator>
  <dc:description/>
  <dc:language>en-US</dc:language>
  <cp:lastModifiedBy>Haitao Yang</cp:lastModifiedBy>
  <cp:lastPrinted>2002-09-26T02:29:13Z</cp:lastPrinted>
  <dcterms:modified xsi:type="dcterms:W3CDTF">2010-10-09T08:51:07Z</dcterms:modified>
  <cp:revision>2903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6285063</vt:lpwstr>
  </property>
</Properties>
</file>