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91080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6"/>
          </p:nvPr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29F0B-EC00-4BBB-A712-B62271B6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EB5D0-7FA0-46AC-9CB7-41E34ECE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3324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14160" y="164160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19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3324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14160" y="3832560"/>
            <a:ext cx="25531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1960" y="637920"/>
            <a:ext cx="7745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383256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1641600"/>
            <a:ext cx="386964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1960" y="3832560"/>
            <a:ext cx="7929720" cy="2000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64000" y="64008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6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7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8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9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2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8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9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0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1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6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7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8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9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0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1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2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3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4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5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6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7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8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0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1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2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3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44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5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2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99480" y="6205680"/>
            <a:ext cx="2561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981480" y="4092480"/>
            <a:ext cx="1882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FrutigerNext LT Regular"/>
                <a:ea typeface="MS PGothic"/>
              </a:rPr>
              <a:t>http://www.huawei.co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-1968480" y="1322280"/>
            <a:ext cx="19684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40-47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副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26-3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反白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35-47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  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副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24-28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反白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  <a:ea typeface="华文细黑"/>
              </a:rPr>
              <a:t>细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31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134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135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136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39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0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1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2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3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4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5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7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8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49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0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1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2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3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4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5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6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7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8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59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0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1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2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3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4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5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6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7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8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69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0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171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2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713520" y="6438960"/>
            <a:ext cx="2634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215" name="Picture 4" descr="8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-184464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2-35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Medium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标题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30-32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 R153 G0 B0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体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英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20-22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 :18pt 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内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FrutigerNext LT Regular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外部使用字体 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FrutigerNext LT Regular"/>
              </a:rPr>
              <a:t>: Arial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中文正文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18-20pt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子目录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(2-5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级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):18pt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颜色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黑色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字体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Arial"/>
              </a:rPr>
              <a:t>细黑体 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9269280" y="4292640"/>
            <a:ext cx="917640" cy="2627280"/>
            <a:chOff x="9269280" y="4292640"/>
            <a:chExt cx="917640" cy="2627280"/>
          </a:xfrm>
        </p:grpSpPr>
        <p:sp>
          <p:nvSpPr>
            <p:cNvPr id="218" name="Rectangle 10"/>
            <p:cNvSpPr/>
            <p:nvPr/>
          </p:nvSpPr>
          <p:spPr>
            <a:xfrm>
              <a:off x="9269280" y="4292640"/>
              <a:ext cx="917640" cy="26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grpSp>
          <p:nvGrpSpPr>
            <p:cNvPr id="219" name="Group 11"/>
            <p:cNvGrpSpPr/>
            <p:nvPr/>
          </p:nvGrpSpPr>
          <p:grpSpPr>
            <a:xfrm>
              <a:off x="9352080" y="4353480"/>
              <a:ext cx="739080" cy="2526120"/>
              <a:chOff x="9352080" y="4353480"/>
              <a:chExt cx="739080" cy="2526120"/>
            </a:xfrm>
          </p:grpSpPr>
          <p:sp>
            <p:nvSpPr>
              <p:cNvPr id="220" name="Rectangle 12"/>
              <p:cNvSpPr/>
              <p:nvPr/>
            </p:nvSpPr>
            <p:spPr>
              <a:xfrm flipV="1">
                <a:off x="9537480" y="5276880"/>
                <a:ext cx="182520" cy="1839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1" name="Rectangle 13"/>
              <p:cNvSpPr/>
              <p:nvPr/>
            </p:nvSpPr>
            <p:spPr>
              <a:xfrm flipV="1">
                <a:off x="9723240" y="5276880"/>
                <a:ext cx="186840" cy="1839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2" name="Rectangle 14"/>
              <p:cNvSpPr/>
              <p:nvPr/>
            </p:nvSpPr>
            <p:spPr>
              <a:xfrm flipV="1">
                <a:off x="9908640" y="5276880"/>
                <a:ext cx="182520" cy="18396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 flipV="1">
                <a:off x="9352080" y="5276880"/>
                <a:ext cx="186840" cy="1839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4" name="Rectangle 16"/>
              <p:cNvSpPr/>
              <p:nvPr/>
            </p:nvSpPr>
            <p:spPr>
              <a:xfrm flipV="1">
                <a:off x="9537480" y="6202080"/>
                <a:ext cx="18252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5" name="Rectangle 17"/>
              <p:cNvSpPr/>
              <p:nvPr/>
            </p:nvSpPr>
            <p:spPr>
              <a:xfrm flipV="1">
                <a:off x="9723240" y="6202080"/>
                <a:ext cx="18684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6" name="Rectangle 18"/>
              <p:cNvSpPr/>
              <p:nvPr/>
            </p:nvSpPr>
            <p:spPr>
              <a:xfrm flipV="1">
                <a:off x="9908640" y="6202080"/>
                <a:ext cx="182520" cy="183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7" name="Rectangle 19"/>
              <p:cNvSpPr/>
              <p:nvPr/>
            </p:nvSpPr>
            <p:spPr>
              <a:xfrm flipV="1">
                <a:off x="9352080" y="6202080"/>
                <a:ext cx="186840" cy="183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8" name="Rectangle 20"/>
              <p:cNvSpPr/>
              <p:nvPr/>
            </p:nvSpPr>
            <p:spPr>
              <a:xfrm flipV="1">
                <a:off x="9537480" y="6448320"/>
                <a:ext cx="182520" cy="183600"/>
              </a:xfrm>
              <a:prstGeom prst="rect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29" name="Rectangle 21"/>
              <p:cNvSpPr/>
              <p:nvPr/>
            </p:nvSpPr>
            <p:spPr>
              <a:xfrm flipV="1">
                <a:off x="9723240" y="6448320"/>
                <a:ext cx="186840" cy="183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0" name="Rectangle 22"/>
              <p:cNvSpPr/>
              <p:nvPr/>
            </p:nvSpPr>
            <p:spPr>
              <a:xfrm flipV="1">
                <a:off x="9908640" y="6448320"/>
                <a:ext cx="182520" cy="1836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1" name="Rectangle 23"/>
              <p:cNvSpPr/>
              <p:nvPr/>
            </p:nvSpPr>
            <p:spPr>
              <a:xfrm flipV="1">
                <a:off x="9352080" y="6448320"/>
                <a:ext cx="18684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2" name="Rectangle 24"/>
              <p:cNvSpPr/>
              <p:nvPr/>
            </p:nvSpPr>
            <p:spPr>
              <a:xfrm flipV="1">
                <a:off x="9352080" y="552528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3" name="Rectangle 25"/>
              <p:cNvSpPr/>
              <p:nvPr/>
            </p:nvSpPr>
            <p:spPr>
              <a:xfrm flipV="1">
                <a:off x="9537480" y="552528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4" name="Rectangle 26"/>
              <p:cNvSpPr/>
              <p:nvPr/>
            </p:nvSpPr>
            <p:spPr>
              <a:xfrm flipV="1">
                <a:off x="9723240" y="55252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5" name="Rectangle 27"/>
              <p:cNvSpPr/>
              <p:nvPr/>
            </p:nvSpPr>
            <p:spPr>
              <a:xfrm flipV="1">
                <a:off x="9908640" y="55252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6" name="Rectangle 28"/>
              <p:cNvSpPr/>
              <p:nvPr/>
            </p:nvSpPr>
            <p:spPr>
              <a:xfrm flipV="1">
                <a:off x="9537480" y="5956920"/>
                <a:ext cx="182520" cy="18360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7" name="Rectangle 29"/>
              <p:cNvSpPr/>
              <p:nvPr/>
            </p:nvSpPr>
            <p:spPr>
              <a:xfrm flipV="1">
                <a:off x="9723240" y="5956920"/>
                <a:ext cx="18684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8" name="Rectangle 30"/>
              <p:cNvSpPr/>
              <p:nvPr/>
            </p:nvSpPr>
            <p:spPr>
              <a:xfrm flipV="1">
                <a:off x="9908640" y="595692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39" name="Rectangle 31"/>
              <p:cNvSpPr/>
              <p:nvPr/>
            </p:nvSpPr>
            <p:spPr>
              <a:xfrm flipV="1">
                <a:off x="9352080" y="5956920"/>
                <a:ext cx="18684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0" name="Rectangle 32"/>
              <p:cNvSpPr/>
              <p:nvPr/>
            </p:nvSpPr>
            <p:spPr>
              <a:xfrm flipV="1">
                <a:off x="9537480" y="6695280"/>
                <a:ext cx="182520" cy="183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1" name="Rectangle 33"/>
              <p:cNvSpPr/>
              <p:nvPr/>
            </p:nvSpPr>
            <p:spPr>
              <a:xfrm flipV="1">
                <a:off x="9723240" y="6695280"/>
                <a:ext cx="186840" cy="1839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2" name="Rectangle 34"/>
              <p:cNvSpPr/>
              <p:nvPr/>
            </p:nvSpPr>
            <p:spPr>
              <a:xfrm flipV="1">
                <a:off x="9908640" y="6695280"/>
                <a:ext cx="182520" cy="18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3" name="Rectangle 35"/>
              <p:cNvSpPr/>
              <p:nvPr/>
            </p:nvSpPr>
            <p:spPr>
              <a:xfrm flipV="1">
                <a:off x="9352080" y="6695280"/>
                <a:ext cx="186840" cy="183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4" name="Rectangle 36"/>
              <p:cNvSpPr/>
              <p:nvPr/>
            </p:nvSpPr>
            <p:spPr>
              <a:xfrm flipV="1">
                <a:off x="9537480" y="5031000"/>
                <a:ext cx="18252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5" name="Rectangle 37"/>
              <p:cNvSpPr/>
              <p:nvPr/>
            </p:nvSpPr>
            <p:spPr>
              <a:xfrm flipV="1">
                <a:off x="9723240" y="5031000"/>
                <a:ext cx="186840" cy="183600"/>
              </a:xfrm>
              <a:prstGeom prst="rect">
                <a:avLst/>
              </a:prstGeom>
              <a:solidFill>
                <a:srgbClr val="996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6" name="Rectangle 38"/>
              <p:cNvSpPr/>
              <p:nvPr/>
            </p:nvSpPr>
            <p:spPr>
              <a:xfrm flipV="1">
                <a:off x="9908640" y="5031000"/>
                <a:ext cx="18252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7" name="Rectangle 39"/>
              <p:cNvSpPr/>
              <p:nvPr/>
            </p:nvSpPr>
            <p:spPr>
              <a:xfrm flipV="1">
                <a:off x="9352080" y="5031000"/>
                <a:ext cx="186840" cy="183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8" name="Rectangle 40"/>
              <p:cNvSpPr/>
              <p:nvPr/>
            </p:nvSpPr>
            <p:spPr>
              <a:xfrm flipV="1">
                <a:off x="9723240" y="4598280"/>
                <a:ext cx="186840" cy="183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49" name="Rectangle 41"/>
              <p:cNvSpPr/>
              <p:nvPr/>
            </p:nvSpPr>
            <p:spPr>
              <a:xfrm flipV="1">
                <a:off x="9908640" y="4598280"/>
                <a:ext cx="182520" cy="183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0" name="Rectangle 42"/>
              <p:cNvSpPr/>
              <p:nvPr/>
            </p:nvSpPr>
            <p:spPr>
              <a:xfrm flipV="1">
                <a:off x="9352080" y="4598280"/>
                <a:ext cx="186840" cy="183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1" name="Rectangle 43"/>
              <p:cNvSpPr/>
              <p:nvPr/>
            </p:nvSpPr>
            <p:spPr>
              <a:xfrm flipV="1">
                <a:off x="9537480" y="4598280"/>
                <a:ext cx="182520" cy="1836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2" name="Rectangle 44"/>
              <p:cNvSpPr/>
              <p:nvPr/>
            </p:nvSpPr>
            <p:spPr>
              <a:xfrm flipV="1">
                <a:off x="9723240" y="4353480"/>
                <a:ext cx="186840" cy="183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3" name="Rectangle 45"/>
              <p:cNvSpPr/>
              <p:nvPr/>
            </p:nvSpPr>
            <p:spPr>
              <a:xfrm flipV="1">
                <a:off x="9908640" y="4353480"/>
                <a:ext cx="182520" cy="1836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4" name="Rectangle 46"/>
              <p:cNvSpPr/>
              <p:nvPr/>
            </p:nvSpPr>
            <p:spPr>
              <a:xfrm flipV="1">
                <a:off x="9352080" y="4353480"/>
                <a:ext cx="186840" cy="1836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  <p:sp>
            <p:nvSpPr>
              <p:cNvPr id="255" name="Rectangle 47"/>
              <p:cNvSpPr/>
              <p:nvPr/>
            </p:nvSpPr>
            <p:spPr>
              <a:xfrm flipV="1">
                <a:off x="9537480" y="4353480"/>
                <a:ext cx="182520" cy="18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 u="sng">
                  <a:solidFill>
                    <a:srgbClr val="0000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56" name="Rectangle 48"/>
          <p:cNvSpPr/>
          <p:nvPr/>
        </p:nvSpPr>
        <p:spPr>
          <a:xfrm>
            <a:off x="9199440" y="2378160"/>
            <a:ext cx="10494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配色参考方案：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建议同一页面内不超过四种颜色，以下是９组配色方案，同一页面内只选择一组使用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（仅供参考）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Rectangle 4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华文细黑"/>
              </a:rPr>
              <a:t>客户或者合作伙伴的标志放在右上角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华文细黑"/>
              </a:rPr>
              <a:t>.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25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-1042920" y="5958000"/>
            <a:ext cx="10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1100" spc="-1" strike="noStrike" u="sng">
                <a:solidFill>
                  <a:srgbClr val="ffffff"/>
                </a:solidFill>
                <a:uFillTx/>
                <a:latin typeface="FrutigerNext LT Regular"/>
                <a:ea typeface="华文细黑"/>
              </a:rPr>
              <a:t>新建内页请在选定内页的前提下新建；目录页同理。</a:t>
            </a:r>
            <a:endParaRPr b="0" lang="en-US" sz="1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979560" indent="-195480">
              <a:lnSpc>
                <a:spcPct val="140000"/>
              </a:lnSpc>
              <a:buClr>
                <a:srgbClr val="000000"/>
              </a:buClr>
              <a:buFont typeface="FrutigerNext LT Light"/>
              <a:buChar char="»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37160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763640" indent="-19692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3"/>
          </p:nvPr>
        </p:nvSpPr>
        <p:spPr>
          <a:xfrm>
            <a:off x="6360840" y="6400800"/>
            <a:ext cx="209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1336320"/>
            <a:ext cx="6283440" cy="28573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 algn="ctr">
              <a:spcBef>
                <a:spcPts val="6599"/>
              </a:spcBef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FrutigerNext LT Medium"/>
              </a:rPr>
              <a:t>TE7: Symmetry-based simplification of MDDT</a:t>
            </a: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(JCTVC-C102)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545840" y="4628880"/>
            <a:ext cx="4600440" cy="11206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Haitao Yang, Jiantong Zhou, Haoping Yu</a:t>
            </a: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Huawei Technologies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cc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Arial"/>
              </a:rPr>
              <a:t>Introduct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implified MDDT (SMDDT) was proposed in JCTVC-B039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the number of transforms and the corresponding scan orders based on symmetry of prediction direction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E7: MDDT simplification (JCTVC-B307)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the number of transforms and scan order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the operation count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MDDT has been implemented in TMuC0.7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Extended to accommodate the unified intra prediction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performance of SMDDT in TMuC is reported in this contribution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Brief review of SMDDT in JCTVC-B039 (1)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Observation &amp; Motivation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ymmetry in prediction directions -&gt; symmetry in the dominant patterns of residual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0">
              <a:lnSpc>
                <a:spcPct val="14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-&gt; Similarity in the pattern after alignment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Residual pattern: the basis image of non-separable KLT for the residual dataset 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lignment: flip or transpose of the residual pattern based on the symmetry of the prediction direction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90480" y="3608280"/>
          <a:ext cx="17701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3608280"/>
                    <a:ext cx="17701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186000" y="3608280"/>
          <a:ext cx="1737000" cy="19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6000" y="3608280"/>
                    <a:ext cx="173700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5595840" y="3597120"/>
          <a:ext cx="2981520" cy="195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95840" y="3597120"/>
                    <a:ext cx="2981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52320" y="5527800"/>
            <a:ext cx="18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a) Pattern of Mode 0, 1 separately and jointly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46400" y="55069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b) Pattern of Mode 3, 4 separately and jointly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58080" y="5527800"/>
            <a:ext cx="21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(c) Pattern of Mode 5, 6, 7, 8 separately and jointly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Brief review of SMDDT in JCTVC-B039 (2)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6209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 fontScale="99000"/>
          </a:bodyPr>
          <a:p>
            <a:pPr marL="290520" indent="-290520">
              <a:lnSpc>
                <a:spcPct val="13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proposed method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-241920">
              <a:lnSpc>
                <a:spcPct val="13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Grouping of intra prediction modes based on symmetry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0">
              <a:lnSpc>
                <a:spcPct val="13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0">
              <a:lnSpc>
                <a:spcPct val="13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0">
              <a:lnSpc>
                <a:spcPct val="13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0">
              <a:lnSpc>
                <a:spcPct val="13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0">
              <a:lnSpc>
                <a:spcPct val="13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-241920">
              <a:lnSpc>
                <a:spcPct val="13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X: no operation;  F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FrutigerNext LT Regular"/>
              </a:rPr>
              <a:t>V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: flip around the vertical axis;  F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FrutigerNext LT Regular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: flip around the horizontal axis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-241920">
              <a:lnSpc>
                <a:spcPct val="13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rain a pair of separable KLT for each group, and apply it to the residual block from the corresponding group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-241920">
              <a:lnSpc>
                <a:spcPct val="13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everal CIF and 720P sequences are used for training the transforms, CfP sequences are not used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0000" indent="-241920">
              <a:lnSpc>
                <a:spcPct val="13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e pattern of group 1 is transposing symmetric, so the horizontal and vertical transform are the same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76320" y="2505240"/>
          <a:ext cx="5470560" cy="1287360"/>
        </p:xfrm>
        <a:graphic>
          <a:graphicData uri="http://schemas.openxmlformats.org/drawingml/2006/table">
            <a:tbl>
              <a:tblPr/>
              <a:tblGrid>
                <a:gridCol w="1515960"/>
                <a:gridCol w="495360"/>
                <a:gridCol w="493920"/>
                <a:gridCol w="493560"/>
                <a:gridCol w="495360"/>
                <a:gridCol w="493560"/>
                <a:gridCol w="495360"/>
                <a:gridCol w="493920"/>
                <a:gridCol w="493560"/>
              </a:tblGrid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DDT mode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wd blk operation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T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wd blk operation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+F</a:t>
                      </a:r>
                      <a:r>
                        <a:rPr b="0" lang="en-US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xtend SMDDT in TMuC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325" name="Rectangle 50"/>
          <p:cNvGraphicFramePr/>
          <p:nvPr/>
        </p:nvGraphicFramePr>
        <p:xfrm>
          <a:off x="1335240" y="2425680"/>
          <a:ext cx="6289560" cy="36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Rectangle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2425680"/>
                    <a:ext cx="62895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52320" y="1608120"/>
            <a:ext cx="792972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rmAutofit fontScale="97000"/>
          </a:bodyPr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apping relationship among prediction modes, MDDT modes and SMDDT modes, and the block operations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284760" indent="-284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can orders of transform mode 0, 4 and 5 in the MDDT implementation are used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Simulation result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7037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oftware platform: TMuC 0.7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est condition: JCTVC-B300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RD performance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0">
              <a:lnSpc>
                <a:spcPct val="140000"/>
              </a:lnSpc>
              <a:buNone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ubjective evaluation: no preference in the viewing experience compared with the anchor</a:t>
            </a:r>
            <a:endParaRPr b="1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330" name="Rectangle 50"/>
          <p:cNvGraphicFramePr/>
          <p:nvPr/>
        </p:nvGraphicFramePr>
        <p:xfrm>
          <a:off x="731880" y="2827440"/>
          <a:ext cx="7807320" cy="37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Rectangle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2827440"/>
                    <a:ext cx="780732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omplexity analysi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Memory requirement (for directional prediction modes)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e number of transforms: 16 -&gt; 5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e number of scan orders: 8 -&gt; 3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Computational complexity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ransform is implemented as matrix multiplication in the current SMDDT, which is the same as MDDT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e flip and transpose of residual blocks can be easily implemented especially in the hardware design, and the complexity is negligible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1960" y="637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880" bIns="38880" anchor="t">
            <a:normAutofit/>
          </a:bodyPr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MDDT performance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proximately the same in terms of objective performance and subjective quality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MDDT complexity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The number of transforms and scan orders in MDDT are reduced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293760" indent="-29376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uggestion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36480" indent="-24444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dopt SMDDT  as an improvement of the current MDDT in TMuC 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4280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3936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ggb1</dc:creator>
  <dc:description/>
  <dc:language>en-US</dc:language>
  <cp:lastModifiedBy>Haitao Yang</cp:lastModifiedBy>
  <cp:lastPrinted>2002-09-26T02:29:13Z</cp:lastPrinted>
  <dcterms:modified xsi:type="dcterms:W3CDTF">2010-10-09T06:52:26Z</dcterms:modified>
  <cp:revision>2868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6285063</vt:lpwstr>
  </property>
</Properties>
</file>