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2340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604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516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4944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516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4944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0FDC1-DAE1-40BB-BC78-4E3B9C26F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0AEFC2-F1FC-4812-A578-AE581B61D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173188-CF2D-43F3-B4A9-B31EA7BAB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C69F84-46CB-4115-9800-7ABC1E92D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EFEBE4-719C-4B46-B897-A358DC987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79440" y="0"/>
            <a:ext cx="83836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3C8220-6F98-4EB0-B79E-AB93D918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3F48D-A2BF-4C1A-BF0B-5EB7DDC7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604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963883-0A19-4C92-97E3-6D0E0D37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0215F3-9671-42A2-A133-D45F874C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880" y="362340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87B887-3628-4B9E-BC00-61E2430BD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604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4EE0B5-522F-4682-BD5F-6ED592A6C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1516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49440" y="83628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88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1516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49440" y="3623400"/>
            <a:ext cx="26989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D8309-CD8F-447B-9EDA-B93B2A668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79440" y="0"/>
            <a:ext cx="8383680" cy="28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6040" y="362340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6040" y="836280"/>
            <a:ext cx="409032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23400"/>
            <a:ext cx="8382240" cy="25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8" descr=""/>
          <p:cNvPicPr/>
          <p:nvPr/>
        </p:nvPicPr>
        <p:blipFill>
          <a:blip r:embed="rId2"/>
          <a:stretch/>
        </p:blipFill>
        <p:spPr>
          <a:xfrm>
            <a:off x="74520" y="6419880"/>
            <a:ext cx="1297080" cy="4190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spcAft>
                <a:spcPts val="7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-27936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778440" y="6477120"/>
            <a:ext cx="1322280" cy="30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09CF-0ADB-4D89-8570-CB7894D8F5BB}" type="datetime">
              <a:rPr b="0" lang="ja-JP" sz="1100" spc="-1" strike="noStrike">
                <a:solidFill>
                  <a:srgbClr val="000000"/>
                </a:solidFill>
                <a:latin typeface="Arial"/>
              </a:rPr>
              <a:t>26/07/28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523880" y="6477120"/>
            <a:ext cx="5927760" cy="3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TE10 Informal Subjective View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54"/>
          <p:cNvSpPr/>
          <p:nvPr/>
        </p:nvSpPr>
        <p:spPr>
          <a:xfrm>
            <a:off x="0" y="6400800"/>
            <a:ext cx="9144000" cy="0"/>
          </a:xfrm>
          <a:prstGeom prst="line">
            <a:avLst/>
          </a:prstGeom>
          <a:ln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57" descr=""/>
          <p:cNvPicPr/>
          <p:nvPr/>
        </p:nvPicPr>
        <p:blipFill>
          <a:blip r:embed="rId3"/>
          <a:stretch/>
        </p:blipFill>
        <p:spPr>
          <a:xfrm>
            <a:off x="74520" y="6431040"/>
            <a:ext cx="1224000" cy="395280"/>
          </a:xfrm>
          <a:prstGeom prst="rect">
            <a:avLst/>
          </a:prstGeom>
          <a:ln w="0">
            <a:noFill/>
          </a:ln>
        </p:spPr>
      </p:pic>
      <p:sp>
        <p:nvSpPr>
          <p:cNvPr id="7" name="Rectangle 61"/>
          <p:cNvSpPr/>
          <p:nvPr/>
        </p:nvSpPr>
        <p:spPr>
          <a:xfrm>
            <a:off x="8172360" y="6477120"/>
            <a:ext cx="3826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80509-865C-4A39-9314-CBCB846BC10E}" type="slidenum">
              <a:rPr b="1" lang="ja-JP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62"/>
          <p:cNvSpPr/>
          <p:nvPr/>
        </p:nvSpPr>
        <p:spPr>
          <a:xfrm>
            <a:off x="380880" y="692280"/>
            <a:ext cx="8382240" cy="0"/>
          </a:xfrm>
          <a:prstGeom prst="line">
            <a:avLst/>
          </a:prstGeom>
          <a:ln w="2844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2" descr=""/>
          <p:cNvPicPr/>
          <p:nvPr/>
        </p:nvPicPr>
        <p:blipFill>
          <a:blip r:embed="rId2"/>
          <a:stretch/>
        </p:blipFill>
        <p:spPr>
          <a:xfrm>
            <a:off x="379440" y="184320"/>
            <a:ext cx="3201840" cy="1035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1065240" y="6477120"/>
            <a:ext cx="37130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pyright 2010, Toshiba Corpora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0" descr=""/>
          <p:cNvPicPr/>
          <p:nvPr/>
        </p:nvPicPr>
        <p:blipFill>
          <a:blip r:embed="rId3"/>
          <a:stretch/>
        </p:blipFill>
        <p:spPr>
          <a:xfrm>
            <a:off x="250920" y="103320"/>
            <a:ext cx="3313080" cy="1069920"/>
          </a:xfrm>
          <a:prstGeom prst="rect">
            <a:avLst/>
          </a:prstGeom>
          <a:ln w="0">
            <a:noFill/>
          </a:ln>
        </p:spPr>
      </p:pic>
      <p:sp>
        <p:nvSpPr>
          <p:cNvPr id="48" name="Line 38"/>
          <p:cNvSpPr/>
          <p:nvPr/>
        </p:nvSpPr>
        <p:spPr>
          <a:xfrm>
            <a:off x="0" y="1268280"/>
            <a:ext cx="9144000" cy="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57160" indent="-282600">
              <a:spcAft>
                <a:spcPts val="751"/>
              </a:spcAft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38320" indent="-279360">
              <a:spcAft>
                <a:spcPts val="75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25600" indent="-28404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1065240" y="5524560"/>
            <a:ext cx="7502400" cy="68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lnSpc>
                <a:spcPts val="21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1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ts val="2112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BF576-13CB-4A40-8513-A258EE0B4DB9}" type="datetime">
              <a:rPr b="1" lang="ja-JP" sz="1900" spc="-1" strike="noStrike">
                <a:solidFill>
                  <a:srgbClr val="000000"/>
                </a:solidFill>
                <a:latin typeface="Times New Roman"/>
              </a:rPr>
              <a:t>26/07/28</a:t>
            </a:fld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4"/>
          </p:nvPr>
        </p:nvSpPr>
        <p:spPr>
          <a:xfrm>
            <a:off x="4780080" y="6477120"/>
            <a:ext cx="3752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Times New Roman"/>
              </a:rPr>
              <a:t>TE10 Informal Subjective View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5"/>
          </p:nvPr>
        </p:nvSpPr>
        <p:spPr>
          <a:xfrm>
            <a:off x="-360" y="6477120"/>
            <a:ext cx="10666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100" spc="-1" strike="noStrike">
                <a:solidFill>
                  <a:srgbClr val="cccc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5F7E2-C5FB-4870-BE4C-7A02F0678A10}" type="slidenum">
              <a:rPr b="0" lang="ja-JP" sz="1100" spc="-1" strike="noStrike">
                <a:solidFill>
                  <a:srgbClr val="cccccc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920" y="2060280"/>
            <a:ext cx="885672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10 Informal Subjective Vi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820800" y="5733720"/>
            <a:ext cx="7502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E10 Coordinator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フッター プレースホルダ 4"/>
          <p:cNvSpPr/>
          <p:nvPr/>
        </p:nvSpPr>
        <p:spPr>
          <a:xfrm>
            <a:off x="1523880" y="6477120"/>
            <a:ext cx="5927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TE10 Informal Subjective Vie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79440" y="70920"/>
            <a:ext cx="8383680" cy="6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trate (kbps) for Subtest 3 (HE/L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63440" y="981000"/>
          <a:ext cx="8801280" cy="2282760"/>
        </p:xfrm>
        <a:graphic>
          <a:graphicData uri="http://schemas.openxmlformats.org/drawingml/2006/table">
            <a:tbl>
              <a:tblPr/>
              <a:tblGrid>
                <a:gridCol w="3451320"/>
                <a:gridCol w="1368360"/>
                <a:gridCol w="1230480"/>
                <a:gridCol w="1368360"/>
                <a:gridCol w="1382760"/>
              </a:tblGrid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ketballDri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kSce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chor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QC_ALF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1.2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2.1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21.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8.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Tek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14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6.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0.2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4.6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0.4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12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9.8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9.2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0.1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フッター プレースホルダ 4"/>
          <p:cNvSpPr/>
          <p:nvPr/>
        </p:nvSpPr>
        <p:spPr>
          <a:xfrm>
            <a:off x="1523880" y="6477120"/>
            <a:ext cx="5927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TE10 Informal Subjective Vie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e, Time and Pl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e / T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80880"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. 8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5800" indent="0">
              <a:spcAft>
                <a:spcPts val="7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11am to 5pm, including coffee break and lunch break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80880"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.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5800" indent="0">
              <a:spcAft>
                <a:spcPts val="7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2pm to 5pm, including coffee break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55800" indent="0">
              <a:spcAft>
                <a:spcPts val="75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Aft>
                <a:spcPts val="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: No additional session/viewing is planned next we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808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m 3410, on the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loor of the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フッター プレースホルダ 4"/>
          <p:cNvSpPr/>
          <p:nvPr/>
        </p:nvSpPr>
        <p:spPr>
          <a:xfrm>
            <a:off x="1523880" y="6477120"/>
            <a:ext cx="5927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TE10 Informal Subjective Vie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qu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836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457200">
              <a:spcAft>
                <a:spcPts val="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quen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: Anchor includes TENTM deblocking filter and Qualcomm QC_AL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80880"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est 1 (Deblocking/debanding): High Efficiency, I only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5800" indent="-381240"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omo(22,37), BQMall(27,37) and Parkscene(22,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5800" indent="-381240"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chor, Microsoft, NEC, SKKU/SKT, MediaTek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80880"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est 2 (Wiener-based filtering): High Efficiency, Low Delay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5800" indent="-381240"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kScene(27,37) and BasketballDrill(27,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5800" indent="-381240"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chor, No-filter, MediaTek(*), Sharp, Toshiba, Post-filter(Qualcom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Aft>
                <a:spcPts val="56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80880"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test 3 (Offset): High Efficiency, Low Delay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5800" indent="-381240"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kScene(27,37) and BasketballDrill(27,3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5800" indent="-381240">
              <a:spcAft>
                <a:spcPts val="56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chor, MediaTek(*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55800" indent="0">
              <a:spcAft>
                <a:spcPts val="561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*) MediaTek’s results were reviewed on the second day on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5940720" y="4257720"/>
            <a:ext cx="3161520" cy="532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Best performing post-filter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 terms of coding effici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フッター プレースホルダ 4"/>
          <p:cNvSpPr/>
          <p:nvPr/>
        </p:nvSpPr>
        <p:spPr>
          <a:xfrm>
            <a:off x="1523880" y="6477120"/>
            <a:ext cx="5927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TE10 Informal Subjective Vie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iewing Equipments and Volunte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ndows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ID with 8 300GB SAS 15000rpm di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7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ny 42’’ LCD LDM-4251TD (2D/3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0">
              <a:spcAft>
                <a:spcPts val="62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roximately 20 volunteers made comments and/or joined the discussion on TE10 informal viewing resul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84040">
              <a:spcAft>
                <a:spcPts val="624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CT-VC chairs quickly review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フッター プレースホルダ 4"/>
          <p:cNvSpPr/>
          <p:nvPr/>
        </p:nvSpPr>
        <p:spPr>
          <a:xfrm>
            <a:off x="1523880" y="6477120"/>
            <a:ext cx="5927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TE10 Informal Subjective Vie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ents of Informal Viewing (1/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601"/>
              </a:spcAft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[TE10 Subset1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QMall QP2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MS's result was fluctuating and worse than Anchor. Others were similar to Anchor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QMall QP37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SKKU's result was more pulsy than Anchor. NEC's result looked blurred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Kimon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NEC proposal de-bands both QP=22 and 37. MS's results looked blurred. SKKU's results showed less pulsing than Anchor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kSce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MS's result was flickering. Anchor is better than MS at QP=22. Others were similar to Anchor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3081960" y="836640"/>
            <a:ext cx="4138560" cy="34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blocking filter in Anchor is TENTM’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669600" y="5157720"/>
            <a:ext cx="7247520" cy="108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banding filtering from NEC showed banding noise reduc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Edge conscious deblocking filter from SKKU/SKT were not consist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blocikng filter from Microsoft looked blur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eblocikng filter from MediaTek looked similar to TENTM’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フッター プレースホルダ 4"/>
          <p:cNvSpPr/>
          <p:nvPr/>
        </p:nvSpPr>
        <p:spPr>
          <a:xfrm>
            <a:off x="1523880" y="6477120"/>
            <a:ext cx="5927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TE10 Informal Subjective Vie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ents  of Preliminary Informal Viewing (2/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[TE10 Subset2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sketballDri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Post-filtering was pulsing both QP=27 and 37. Sharp's result showed more tailing than Anchor at QP=37. Toshiba's result showed tailing and worse than Anchor at QP=37. Anchor looked stable than No-filtering at QP=37.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kSce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Post-filtering was less consistency in temporal and showed smooth tailing than Anchor. Sharp is better than Anchor at QP=27 but bad at QP=37 due to more artifacts (tailing). Anchor is best at QP=37. Loop filtering schemes (Anchor, Sharp, and Toshiba) showed better temporal consistency than Post-filtering (and No-filtering)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081960" y="776160"/>
            <a:ext cx="3948120" cy="34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-loop filtering in Anchor is QC_A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642960" y="5711760"/>
            <a:ext cx="7232400" cy="5871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-loop filtering performs better than both post-filtering and no filte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mong in-loop filtering proposals, the results were not consist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フッター プレースホルダ 4"/>
          <p:cNvSpPr/>
          <p:nvPr/>
        </p:nvSpPr>
        <p:spPr>
          <a:xfrm>
            <a:off x="1523880" y="6477120"/>
            <a:ext cx="5927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TE10 Informal Subjective Vie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79440" y="0"/>
            <a:ext cx="8383680" cy="62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ents  of Preliminary Informal Viewing (3/3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836280"/>
            <a:ext cx="8382240" cy="53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7280" indent="-287280">
              <a:spcAft>
                <a:spcPts val="751"/>
              </a:spcAft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[TE10 Subset3]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asketballDril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There was a comment on QP=37 that anchor is better.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kScen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There was comments on QP=37 that MediaTek is better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639360" y="2708280"/>
            <a:ext cx="3404160" cy="34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e results were not consist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フッター プレースホルダ 4"/>
          <p:cNvSpPr/>
          <p:nvPr/>
        </p:nvSpPr>
        <p:spPr>
          <a:xfrm>
            <a:off x="1523880" y="6477120"/>
            <a:ext cx="5927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TE10 Informal Subjective Vie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79440" y="70920"/>
            <a:ext cx="8383680" cy="6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trate (kbps) for Subtest 1 (HE/I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450720" y="1197000"/>
          <a:ext cx="8224920" cy="4113360"/>
        </p:xfrm>
        <a:graphic>
          <a:graphicData uri="http://schemas.openxmlformats.org/drawingml/2006/table">
            <a:tbl>
              <a:tblPr/>
              <a:tblGrid>
                <a:gridCol w="1552680"/>
                <a:gridCol w="1127160"/>
                <a:gridCol w="1081080"/>
                <a:gridCol w="1108080"/>
                <a:gridCol w="1123920"/>
                <a:gridCol w="1108080"/>
                <a:gridCol w="1123920"/>
              </a:tblGrid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mo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kSce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QM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cho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Aft>
                          <a:spcPts val="56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ENT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50.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19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370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19.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3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96.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Tek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14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52.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011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20.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021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369.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00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18.5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014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39.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00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95.9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000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rosof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27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50.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001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19.9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00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370.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00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19.1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06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39.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00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95.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001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C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09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55.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023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19.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02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372.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004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17.5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02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4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00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96.3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00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KU/SK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Aft>
                          <a:spcPts val="4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13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650.8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004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20.6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017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371.3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00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20.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009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54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00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97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026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フッター プレースホルダ 4"/>
          <p:cNvSpPr/>
          <p:nvPr/>
        </p:nvSpPr>
        <p:spPr>
          <a:xfrm>
            <a:off x="1523880" y="6477120"/>
            <a:ext cx="59277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ctr" pos="568440"/>
                <a:tab algn="l" pos="857160"/>
                <a:tab algn="l" pos="108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 Black"/>
                <a:ea typeface="HGP創英角ｺﾞｼｯｸUB"/>
              </a:rPr>
              <a:t>TE10 Informal Subjective Vie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79440" y="70920"/>
            <a:ext cx="8383680" cy="62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itrate (kbps) for Subtest 2 (HE/L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63440" y="765000"/>
          <a:ext cx="8801280" cy="5364360"/>
        </p:xfrm>
        <a:graphic>
          <a:graphicData uri="http://schemas.openxmlformats.org/drawingml/2006/table">
            <a:tbl>
              <a:tblPr/>
              <a:tblGrid>
                <a:gridCol w="3451320"/>
                <a:gridCol w="1368360"/>
                <a:gridCol w="1230480"/>
                <a:gridCol w="1368360"/>
                <a:gridCol w="13827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que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sketballDri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kSce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624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chor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QC_ALF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1.2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2.18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21.4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Aft>
                          <a:spcPts val="75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8.59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filtering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QC_ALF off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4.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0.5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6.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9.0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94.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1.8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1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1.8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diaTek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14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6.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9.8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9.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9.6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11.2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9.7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6.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9.7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rp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17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03.2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9.7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0.5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9.7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3.6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9.6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9.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0.1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shiba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08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14.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0.2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8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9.4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25.9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0.1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1.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0.5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st filtering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11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25.2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0.6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7.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9.2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94.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1.8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1.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90000"/>
                        </a:lnSpc>
                        <a:spcAft>
                          <a:spcPts val="499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01.9%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2:51:22Z</dcterms:created>
  <dc:creator>RDC</dc:creator>
  <dc:description/>
  <dc:language>en-US</dc:language>
  <cp:lastModifiedBy>chono</cp:lastModifiedBy>
  <dcterms:modified xsi:type="dcterms:W3CDTF">2010-10-10T23:41:44Z</dcterms:modified>
  <cp:revision>159</cp:revision>
  <dc:subject/>
  <dc:title>[MML]2009年度下期期初方針</dc:title>
</cp:coreProperties>
</file>