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8E68-7F3E-4AC0-96D2-8CEC2EA1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D06-98BC-40DF-A4A9-2408F610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FEE00-F28B-4461-9692-E880C806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78D34-6F22-476D-A8E8-4A72A2A5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2BCAB-0B3B-4FD9-AD71-CB87763E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37071-187B-4E77-B9FA-CC4E4274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14289-975A-4FDC-88C0-1736267C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82E4C-F493-4FB6-A2E1-2B148600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04B1F-6183-453D-AACB-19CA4DBC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E749C-5CB3-4B6F-90C7-DD0FEC4B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1DBDD-77EE-4427-A132-A14417D2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37B84-305A-43CA-B5C1-47265E40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F1E-E4B0-45B9-9390-571E9B24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F4C6A-D304-44A3-B235-5F9BC819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5ABB2-F679-4277-8A63-DAF800BE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43327-5B7F-474E-899E-F54EAA40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91EA0-F81D-4828-970A-CB064821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235C7-6330-4099-9AA1-7256ED78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6B009-C3CC-4E53-B492-28AB2C88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6692C-F89F-4E34-B025-3207FCE9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23DDE-B86A-4328-BE0F-A368FB00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DE307-9E1E-4D90-8816-708A0927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59E95-1682-49EA-82B0-0CC479E6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D3D-09B9-4F4B-BE09-BB7525AD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15090-26BF-45F6-ADCD-2A7913DB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96BC2-832A-400E-B322-EDBAD68E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ABCE5-98CD-4D3D-9213-4F28A56F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B092F-88BA-4AA9-8F05-08545C0F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3A903-4D1C-4924-A4F6-02E75E90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6C125-641E-4A4F-8A6E-D2E1D481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7CC4E-1C7D-43A7-A844-79C79DF4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6EE61-304F-41CA-B490-B9DBC3ED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A08CC-31A8-4379-A98E-B23F78BF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FB548-11AF-4F81-94BF-9C5BAA5B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7217-5781-41A7-980C-A9FDF2CE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1012B-F6FA-466D-BE5B-C442F14F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7BB2E-EA79-46D3-9E2B-FC2914EE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58A03-C6E9-4514-9663-EAFBEEB0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33D7E-BE00-414B-AC04-E397B844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E5B00-07AD-4A6E-8483-447E5949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B0EB3-4AD9-435E-B134-0D7D1DA0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CFA0D-86CF-42C5-BA24-FBA94A17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6AD1C-11D6-4328-B6D2-00FD97C2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B58DC-D952-42B4-B7EF-7DC94AF3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F7EB4-EC71-4C36-8CD5-8238AA35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4DC5-0E44-4891-ADAC-EC48071F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24185-B01E-44ED-B50F-20249098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3306B-AC1F-4061-84DF-379EF753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030C8-04F2-4D9C-8EC8-DB106325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EE16A-7378-466C-8DFA-6648E2C7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9821C-45BB-4B88-B5F1-0D53E0D6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063E-080A-438E-8BAC-4A8D2AF5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29DC-D0FE-41DF-B988-7612631E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9582-36F6-4BDD-A500-6DBB0609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AC04-A167-413D-A4E3-4AA7E716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EE53-14A1-47C4-BAF6-A5F034C3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F5F-9897-4E04-8166-00B03BD1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BBCD-0377-4458-AF9C-4A969646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57C7-39CE-4FFA-BFF4-262C7778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F283-D0FC-49E6-B1C3-86F9CF22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7C68-AEE4-4A4A-8092-696B7FA7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C35F-F1BE-4C7F-B049-378847CD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8C9E-0419-42EF-A982-957605CE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7659-C9C6-4DFC-B3FE-F38DA6B5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06AB8-D3B3-4CD6-86A5-CF4F4012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2A0A1-406B-45F4-B74D-613E2B6D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241A3-F563-41CD-8D70-08E3E72A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061-4371-48D6-BE54-D0E7DEEA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4BCF-D8C2-47BF-AEB0-6CCF94AB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3E39C-6147-4651-90DC-337ED797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E38F7-ACA9-4825-A9F3-341B22B4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51E8-CCC7-43B0-BE7B-6E4695FE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D0DAD-4857-4D2F-B739-F89E0B88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40C3A-532D-4B40-AA15-375FC9E4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72A37-D69F-4C43-A3B7-3B5C527F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17DFA-084C-464C-A4A9-F3B3A042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56C3D-EDE2-4333-9248-1337F6E7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F659-9281-4F60-A289-823655E9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AA6-845B-4039-BCDB-22CA103B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67AF0-9D39-4B32-9359-A6F4D169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0BED5-2685-4317-8A1F-19B38E27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A8D29-F92D-45F4-9017-4DC5EF2E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9E8D2-907C-46E0-B2BF-2803D2C2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2C292-DC9A-4357-B1E8-52C57F21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EF0A7-9BC2-49D1-8D19-E9FF89F7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6F124-1B5E-4696-B964-4AE3A689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658F3-4313-4356-8036-0BD5DFAC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271A4-D969-4060-B88D-36743006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9EF2A-E3D6-4D92-9A04-85938081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DF8-DD6C-41AB-B8F8-68344527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735B0-FEF3-4A66-A839-B227D798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84C83-3811-4FD8-9BA9-E4B2939F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25C47-FFD2-4CA4-AFFE-4336ADD2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992DF-F1D7-4AA0-ACA0-93C20ADD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A3193-DD08-4151-9F84-45BFD68C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25C83-0371-43F4-898D-AC8E43D4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E0075-B5D5-40C8-9447-BDC342E2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179B3-2692-4252-B4CE-FE4FF95A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DE58B-880A-4155-8DE2-AFA6B600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74F39-DDF0-4595-90A4-A0D8927C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191-D498-4734-AD24-490D64BA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1286C-504C-4265-BC72-E4C1344A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74294-BEB7-4D86-A605-69D5365E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724A7-96F4-4B19-A5F1-9F20D3AA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F0499-2413-4101-AB27-0A6D3D17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7B6FC-1974-455D-B4DD-02E6917C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FD6B7-C98B-4CD6-9DAE-65C2A747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967C3-F14C-4B1E-9BE9-C79D12D1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6DD12-F646-4390-BBD8-04A6AA50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37B67-5897-46CB-8C6D-207BFDAE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92143-BC11-4908-BF11-E74D7DB6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7A1-31FE-4B1A-9C5A-6CE0CA17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EDA44-D98C-4C89-9C06-F80E5B82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B4B73-2F99-4235-A7D7-EA1EE6F1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37675-9E50-439C-AC8A-D860A173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6638E-CCD2-4517-8311-50BD79A2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DEF19-3967-4342-A14D-C26DEC99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FFD8D-8266-4CFB-8792-272909CE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287A7-EAD2-492E-BCE4-168B358A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2FFE7-0000-4675-852A-B273C11A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18C4F-98D4-4466-BC6A-85F516BE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7B691-0241-41C1-846D-FF84A533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94E-6A9D-4CB8-BFF8-CAEDF6B8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2659A-9643-4F7A-AA0E-0DF32E52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6F7EA-101C-421F-BEDF-E4FB810F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2995A-EF00-44E4-9870-96626F19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E3428-02F4-4DEE-ABBA-111CA5F1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7C5FD-5CFE-425B-AE87-AEE4296C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C4371-C4AD-41BB-9AA6-20274D27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23AE2-57B4-4851-ACFD-0DABBB4F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9A0EB-4437-4625-A732-3FB7EEC4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C6738-AE4B-48A4-BE95-F4A61A70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C8EA2-AA3B-456C-9DDF-C8793705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0DF-B536-4F0C-8250-688987F8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6F3E5-D587-4023-8A22-F0135472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03357-A449-4912-B69D-D5D0E7DB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9C334-F465-431A-A93D-D2A99ED4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E88FE-48CC-4A02-8F27-E7078713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B8870-2BA1-4971-8CFD-DE79CB7E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ABC82-685B-47A3-9198-854279FA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21290-A96B-4501-8FDC-35CC395F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AE8F0-02DD-463F-9E2E-7D5DAAAF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5555A-FA5C-4286-B29F-0C17D429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3EA09-37BA-4673-B60D-7D4B1558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009D-58B0-4E9C-A2C6-15843E2E9076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C96C-5851-4BC1-ACB0-178B107E0616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109F-442E-46CE-8D2C-DAEA4316F3C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26DE-D741-4ED2-ACE4-6C192531008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7DA6-466A-496B-8A67-B197141A45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05DF-6A66-434B-86E2-053FE70704C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F4CF-BB85-43AE-AF68-47E3E292463D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F877-21FA-4308-9432-C11636E77687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7A28-C62D-4F6D-80EA-EAC8A2A3D561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DE45-5909-433D-8A90-AC7919E30AF7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9BA4-DF25-4539-9A21-E2AC30959335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6FAB-1E44-4DA8-9F6A-7E83BC4995D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CTVC-C010 / WG11 m1805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rd Meeting: Guangzhou, CN, 7-15 October, 2010</a:t>
            </a:r>
            <a:br>
              <a:rPr sz="2400"/>
            </a:b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CT-VC AHG report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xity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66320" y="419112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aniele Alfonso, STMicroelectron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Justin Ridge, Nok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Xing Wen, Hong Kong Univ. of Science &amp;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e measurement criteria to assess the complexity of encoder and decoder algorithmic design elements, including computational complexity, parallelism, memory bandwidth, memory capacity, dynamic range requirement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and recommend tools for algorithmic complexity assess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7252-C737-4D19-A3D6-F6EE4FFBB255}" type="slidenum">
              <a:rPr b="0" lang="it-IT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or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total of 18 e-mails on the subject were exchang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has been pointed out that the concept of “complexity” still needs a satisfactory defini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has been suggested that the computational complexity could be assessed by measuring the CPU clock cycles, but there was no consensus on the reliability of this kind of measu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has been suggested to use profile tools like e.g. Vtune or oprofile, although no results have been proposed so f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simulation results showed discrepancy between computational complexity measures obtained with TMuC 0.7 decoder on Linux machines and a Windows XP machine running Cygwin. The reason for that has not been clarified y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A5A2-F53A-4453-87DC-89B08E1683DE}" type="slidenum">
              <a:rPr b="0" lang="it-IT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ed Contrib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Tool Experiments ran between the last meeting and the current meeting aimed at providing both coding efficiency and complexity measurement result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HG recommends the JCT-VC experts to review the complexity results considering possible issues with precision, accuracy and reproducibility on different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008C-C2DC-4882-8EC0-7DE0ECC495A6}" type="slidenum">
              <a:rPr b="0" lang="it-IT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HG encourages further simulation experiments and discussions among JCT-VC experts to reach consensus on suitable complexity definitions and methods to measure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B212-054A-4732-A698-4824D0E09089}" type="slidenum">
              <a:rPr b="0" lang="it-IT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3:54:16Z</dcterms:created>
  <dc:creator>Daniele Alfonso</dc:creator>
  <dc:description/>
  <dc:language>en-US</dc:language>
  <cp:lastModifiedBy>Daniele Alfonso</cp:lastModifiedBy>
  <dcterms:modified xsi:type="dcterms:W3CDTF">2010-10-01T16:02:01Z</dcterms:modified>
  <cp:revision>3</cp:revision>
  <dc:subject/>
  <dc:title>Slide 0</dc:title>
</cp:coreProperties>
</file>