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C94-212E-4EA0-801F-CD216532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87D-B207-4FA8-8B8A-C9F72D8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6A8-F06B-46CA-B709-56F920C0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94F-B90D-426A-A2D9-FFDBB640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FBC6-4E35-4175-BEEE-6852C713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048-6F7E-46F6-A943-E2D4DA0D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CD49-EA2A-4E62-BE13-878242C4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CA5-FE3A-4ACE-AD4D-81899E98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FEC4-4734-4B0B-ADBB-BA19169D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D75D-FACD-4A7C-ABA1-1D9EADF3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F50C-DD24-405A-BE84-25AD95C4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A1F-6F81-4DAA-8C31-925D2A2A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BA0E-28A8-4F84-89DD-572172D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9D82-EF30-4F26-B38E-543A42F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360-FA56-47AF-8070-70F53767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57BF-F549-424B-8FCE-ED0BA0FE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56D-7FC2-4202-A628-F23271D8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0653-5E5E-4EF0-9363-0C03D858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04F9-9F39-4352-BAFC-F5E543F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E752-06AA-4643-8B5F-42E58BA3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1F28-F04C-4D46-8EF8-E65F2F1E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5711C-A50C-4C49-A0B6-38BB5DD0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0037-7A95-4091-ABD2-F045AEFA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9595-B84F-4020-9A5A-0D135AE1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A9E3-609F-44A8-BF04-5295A30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6FBA-2EF7-4BC8-999F-03589A7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16A0-DEBD-4AEE-BB0E-65D9259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825E-F3D7-4721-BF29-23C64BF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CB2D-9786-4A48-8143-65576319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46FD-053A-4BA0-93AA-0BA94B2A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C209-96AA-40E1-B1DE-B2EB01F2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004C-1392-4BB4-A995-67E9B2EC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38391-7EAC-4048-AD0A-28FEBD64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8D4-B10D-4E22-9341-7958F67A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596E-6471-4AC5-8622-948C42AA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5CBA-979D-403B-8E5B-5A4540C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5B7A-67F9-4F87-90A5-372155D2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937C-72C3-4195-B064-69FA089C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E2D1-469F-416C-9135-4A44C7B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8BBF-D7F8-4252-8E34-2BA26565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8FEB-AD0C-44B7-9BB5-D03AB5B7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D536-D45C-49E9-8CFA-86F42204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B585-ABA7-41DA-8A29-EC45DBD2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3AA5-E6A0-4953-B572-52F6C9BF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DDE-500C-405A-A44D-E0E9D26A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0FB2-FD79-405F-BB4D-9D0427BE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729B-E962-4AD7-9BB9-FB3033AF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0BBAB-9F6D-4C62-A4A3-47946902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52E8-5080-4987-9010-98EDB1C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A8F32-3E2C-4B79-B52B-FA08361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5A4B-4500-425F-9FBA-85C30A2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F4D74-A01A-4E91-81B4-8D0AFAAF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44A43-8674-4F2D-807B-4740AAD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2FFA-9F64-4721-8BBB-5F30B072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105EF-FC86-430E-BD2F-4D2D6D4B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366-3915-4815-9ACF-2BC3503E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5F87-33E5-492E-8B60-2F23BC43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DF08-40DC-4C51-B23B-32A2E8D4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DEBB-50C1-469A-B9B3-4829873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53538-D90E-43CA-918E-486936AB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3573-0124-4956-938C-EB6C77B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31174-322C-44EC-AE0F-0F60509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FD996-7BD5-4392-BB08-9396DDC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20BA-B4B3-450F-B826-4E12D13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26652-1603-4853-BB89-EC042AC2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3EADB-E035-4592-94F9-FCAC631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93B-DBEC-4C6C-BB51-14DC3CA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5C203-505D-4F06-BCAF-BBB19C46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F4570-CE68-4CD8-9AFD-1DBCAC3E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59BD4-55EF-46F1-9563-48FCF067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C13-B42A-4ACA-AAA4-EF62140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690-B471-45DC-95A4-8D27E244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5680" y="60782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F806-FD2F-40C2-8EF7-0F37D32E573C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F4BE-26EA-4B4C-A7B3-E15507A7C68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1DB9-22F2-4721-93B5-5C4C48F981A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27A-1682-44BE-B909-1012FF0C505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3460-D35D-4691-B9AF-C0323C944C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6E2D-2857-4D8D-B582-687093FB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E784-055F-4E86-BB5B-B5C7051F24A1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C13A-1A17-4B9C-AA4C-F4D933C5F002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948A-720C-40FD-87CB-9BC2D7EF3E84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E98D-EE22-4F6A-80FE-E92FE020D8A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4FC-A1CE-430A-B234-85454B48F0BB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C1E-A921-4C7D-9430-B515A438C92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33000" y="8571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roposed Approach on HEVC Test Model Development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50880" y="3457440"/>
            <a:ext cx="32068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. Wan (Broadco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piwala  (FastVd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. Pandit (Harmon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. Yu (Huawe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. Chiu (Int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. Jeon (L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. Lei (Mediate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. Sekiguchi (Mitsubishi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9760" y="2653200"/>
            <a:ext cx="19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VTVC-B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98840" y="3459240"/>
            <a:ext cx="40770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. Panusopone, Ajay Luthra (Motoro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. Chono (N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Y. Shishikui (NH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gall (Shar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. Zhou (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. Chujoh (Toshib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. Suzuki(So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8FE4-FA43-4D35-85FE-0A1BDD6CAF7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5001BFF-F332-4F85-88D3-5DC363DFCE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To propose a procedure for accelerating the evaluation of TMuC tools and the HEVC test mode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“reference configuration” of the software at the Geneva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additional tools relative to the “reference configur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337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encoder description during future edi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460-6296-4B6C-A8FE-DEE652FDD4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D2BB9-A29D-40EC-B3F9-C7DB41EC9D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onent #1: TMuC Reference Configuration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5600" y="863280"/>
            <a:ext cx="85456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 “reference configuration” of the TMuC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“one tool for each, significant functional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by configuring the TMuC software available by the end of the Geneva meeting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gree to use August 7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tools in the reference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stability, package level / tool level vali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data made available by one month after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reference configuration” to evaluate other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included in “reference configuration” are docu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ies on author list will commit necessary resources to help define, validate, and create anchor data for the “reference configuration”, together with pro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21480" y="5691240"/>
            <a:ext cx="47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mple, and a written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999-274E-4F47-9B20-807238B69C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F7C18-3DEB-4A95-B4DD-12391FC532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nent #2: Test Model Procedure (1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77560" y="785880"/>
            <a:ext cx="865332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econd component of our proposal is the following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this meeting define a “reference configuration” of the TMuC software; define the common testing conditions and agree on valid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ls in the “reference configuration” are validated and anchor data made available within one month of Geneva meeting.  The validated software will serve as a common platform for core/tool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 all other tools compared to the “reference configura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2DF-0013-40AF-8767-32842D94FE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46B55-5E0B-40B9-8C30-0266E00535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nent #2: Test Model Procedure (2)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7560" y="785520"/>
            <a:ext cx="859788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econd component of our proposal is the following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future meetings, tools considered for inclusion in the “reference configuration” follow an evaluation process (note that initial tools in “reference configuration”  will follow the same evaluation proces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nents have the obligation to provide proof of intended benefit of propose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the metrics of coding efficiency gain, complexity reduction, throughput improvement, or improved visual qualit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 reports of tool by tool efficiency, complexity analysis and results on how the proposed tool interacts with other tools, as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26676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ss-checked by independent 3rd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040" y="5295960"/>
            <a:ext cx="89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ablish validation process, set up a plan for the TMuC tool evaluation (tool list, timeline,  cross-check method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DE1-0043-4902-8A7D-5AAC75E53B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312DD-9CE6-4851-8661-753758FB47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onent #3: Test Model Descrip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5600" y="1185840"/>
            <a:ext cx="85456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uC Edi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, the text of TMuC specifies the syntax, semantics and decoder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request the editing process put more focus on the encoder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motion estimation, mode decision, forward and backward quantization, transform, intra-prediction, intra-prediction and in-loop de-block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oncern: fair comparison of tools is difficult with different encoding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nderstand that this may be a separate document in addition to the current TMuC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2C2-495F-465F-A222-35078A73AD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C53E8-0651-444A-B012-FEF92AEE28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ommended TMuC reference configur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66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31920" y="762120"/>
          <a:ext cx="8493120" cy="5110200"/>
        </p:xfrm>
        <a:graphic>
          <a:graphicData uri="http://schemas.openxmlformats.org/drawingml/2006/table">
            <a:tbl>
              <a:tblPr/>
              <a:tblGrid>
                <a:gridCol w="1261800"/>
                <a:gridCol w="4757760"/>
                <a:gridCol w="2473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unction b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commended se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lock partitio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QT-based hierarchical CU/PU/TU structure, up to 64x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tra 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x4/8x8 AVC 9 modes intra pred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x16/32x32/64x64 Angular predi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D DCT transforms up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x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t clear how to turn on those tools in TMuC  Cfg file, not clear about how to turn off MD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ter 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4 pel MV with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T-based interpolation filter (DIF)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D DCT transforms up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2 x 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Quant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V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-blocking filt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ow complexity de-blocking (TENTM based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nnot select particular de-blocking filter mode in the TMuC Cfg fil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daptive loop 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F (Qualcomm based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Not clear what are the right settings in the TMuC Cfg file for this algorith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tropy c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IPE/V2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B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0" y="618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F07-E8F0-4094-886B-97AC3632C88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787F5-FA62-43EB-9F79-99A554FA31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198101</cp:lastModifiedBy>
  <dcterms:modified xsi:type="dcterms:W3CDTF">2010-07-26T09:37:36Z</dcterms:modified>
  <cp:revision>135</cp:revision>
  <dc:subject/>
  <dc:title>Presentation Title Here</dc:title>
</cp:coreProperties>
</file>