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BB81-9840-4479-B345-E53564FBB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0BC6-05D2-444F-B300-C1C98E3DE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1FEEC-8B5F-46DA-87DF-D3E721CC9F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520" y="391536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3541D-80CD-4044-BF8D-E94F5C7DD1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52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456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36984-8ECB-498D-A499-9A10F4A385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0360" y="14475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0560" y="14475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520" y="39153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0360" y="39153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0560" y="39153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71F0C-AD66-4CA5-82C6-F73B4FFFA6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52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43FBC-B755-472B-8F9B-BE3B8C7FA4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456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91536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520" y="391536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52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456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40360" y="14475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0560" y="14475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520" y="39153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40360" y="39153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0560" y="3915360"/>
            <a:ext cx="272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6FED2-70DB-4D0D-9050-25269EAA78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AF78E-F149-46D9-A938-20A7264BC3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B4CE7-6E51-48BF-8CCF-4C6A6E4E1C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BA217-4FD7-4156-A2D8-B4ED92882B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52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DEB96-4DDC-49F0-B3AC-BDD5ABC2CD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4560" y="39153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9B99F-6DE1-4178-B440-2024EDFD7B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4560" y="1447560"/>
            <a:ext cx="4127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915360"/>
            <a:ext cx="8458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16189-6E1E-4F9E-8E5C-B84BB2CD2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9292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56840" y="6400440"/>
            <a:ext cx="33526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dia.cs.tsinghua.edu.cn/~multi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F19B-5437-45F0-952B-F0A29C8B4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586267918094119999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505320" y="2438280"/>
            <a:ext cx="2536560" cy="256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3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63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782720" y="6049080"/>
            <a:ext cx="546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80"/>
                </a:solidFill>
                <a:latin typeface="BlairMdITC TT-Medium"/>
              </a:rPr>
              <a:t>Media Lab, Computer Science Department, Tsinghua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586267918094119999"/>
          <p:cNvPicPr/>
          <p:nvPr/>
        </p:nvPicPr>
        <p:blipFill>
          <a:blip r:embed="rId2"/>
          <a:stretch/>
        </p:blipFill>
        <p:spPr>
          <a:xfrm>
            <a:off x="7010280" y="76320"/>
            <a:ext cx="1330560" cy="1342800"/>
          </a:xfrm>
          <a:prstGeom prst="rect">
            <a:avLst/>
          </a:prstGeom>
          <a:ln w="0">
            <a:noFill/>
          </a:ln>
        </p:spPr>
      </p:pic>
      <p:sp>
        <p:nvSpPr>
          <p:cNvPr id="47" name="Line 6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63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9292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9292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9292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1828800"/>
            <a:ext cx="7772400" cy="246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92929"/>
                </a:solidFill>
                <a:latin typeface="Arial"/>
              </a:rPr>
              <a:t>JCTVC-B</a:t>
            </a:r>
            <a:r>
              <a:rPr b="1" lang="en-US" sz="4000" spc="-1" strike="noStrike" u="sng">
                <a:solidFill>
                  <a:srgbClr val="292929"/>
                </a:solidFill>
                <a:uFillTx/>
                <a:latin typeface="Arial"/>
              </a:rPr>
              <a:t>117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 : </a:t>
            </a:r>
            <a:r>
              <a:rPr b="1" lang="en-US" sz="4000" spc="-1" strike="noStrike">
                <a:solidFill>
                  <a:srgbClr val="292929"/>
                </a:solidFill>
                <a:latin typeface="Arial"/>
              </a:rPr>
              <a:t>Intra Prediction using Localized Horizontal Spatial Prediction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in Tao, Di Li, Wenting Wu, Jiangtao Wen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singhua Universit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resented by Siwei M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页脚占位符 3"/>
          <p:cNvSpPr/>
          <p:nvPr/>
        </p:nvSpPr>
        <p:spPr>
          <a:xfrm>
            <a:off x="457200" y="640080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dia.cs.tsinghua.edu.cn/~multi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灯片编号占位符 4"/>
          <p:cNvSpPr/>
          <p:nvPr/>
        </p:nvSpPr>
        <p:spPr>
          <a:xfrm>
            <a:off x="655308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C5CF-3E57-4A8A-B439-F1E8588F0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s proposal presents a localized horizontal spatial prediction in the intra block prediction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n average bit-rate reduction of about 2.91% for CAVLC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e proposed method is good for CAVLC which is easy to implement in the chip and easy to parallel on the multi-core platform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e proposed method is good for HD sequence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3"/>
          <p:cNvSpPr/>
          <p:nvPr/>
        </p:nvSpPr>
        <p:spPr>
          <a:xfrm>
            <a:off x="457200" y="640080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dia.cs.tsinghua.edu.cn/~multi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灯片编号占位符 4"/>
          <p:cNvSpPr/>
          <p:nvPr/>
        </p:nvSpPr>
        <p:spPr>
          <a:xfrm>
            <a:off x="655308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3FC1-E6C6-4640-A2B6-15076C278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ivide a 32x16 block into two 16x16 MBs, EMB &amp; OMB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ding EMB firstly and OMB is predicted by reconstructed EMB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Up to 6.76% and on average 2.91% bit-rate saving can be achieved for High Profile CAVLC(JM16.2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ore improvement in HD seqs than non-HD seq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3"/>
          <p:cNvSpPr/>
          <p:nvPr/>
        </p:nvSpPr>
        <p:spPr>
          <a:xfrm>
            <a:off x="457200" y="640080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dia.cs.tsinghua.edu.cn/~multi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4"/>
          <p:cNvSpPr/>
          <p:nvPr/>
        </p:nvSpPr>
        <p:spPr>
          <a:xfrm>
            <a:off x="655308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DA7A-D22D-467C-8D4A-D587FC8C2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 &amp; OM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3687840"/>
            <a:ext cx="8424720" cy="23335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ivide every 32x16 double MB pairs into two parts, the even-numbered columns (termed even MB or EMB) and the odd-numbered columns (termed odd MB or OMB)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3"/>
          <p:cNvSpPr/>
          <p:nvPr/>
        </p:nvSpPr>
        <p:spPr>
          <a:xfrm>
            <a:off x="457200" y="640080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dia.cs.tsinghua.edu.cn/~multi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4"/>
          <p:cNvSpPr/>
          <p:nvPr/>
        </p:nvSpPr>
        <p:spPr>
          <a:xfrm>
            <a:off x="655308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14A2-A008-44ED-9EF8-B9DF2B223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ed Coding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704000" cy="39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3"/>
          <p:cNvSpPr/>
          <p:nvPr/>
        </p:nvSpPr>
        <p:spPr>
          <a:xfrm>
            <a:off x="457200" y="640080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dia.cs.tsinghua.edu.cn/~multi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灯片编号占位符 4"/>
          <p:cNvSpPr/>
          <p:nvPr/>
        </p:nvSpPr>
        <p:spPr>
          <a:xfrm>
            <a:off x="655308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9914-AB58-47A9-A797-9F928768C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a Pred for EM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ere are still 4 prediction modes for intra 16x16 MB and 9 modes for intra 4x4 MB with the prediction method similar to the standard intra prediction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324000" y="3357720"/>
            <a:ext cx="8496000" cy="19508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689040" y="5510160"/>
            <a:ext cx="806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pixels is a part of EMB, the intra prediction method for 4x4 block in E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3"/>
          <p:cNvSpPr/>
          <p:nvPr/>
        </p:nvSpPr>
        <p:spPr>
          <a:xfrm>
            <a:off x="457200" y="640080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dia.cs.tsinghua.edu.cn/~multi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灯片编号占位符 4"/>
          <p:cNvSpPr/>
          <p:nvPr/>
        </p:nvSpPr>
        <p:spPr>
          <a:xfrm>
            <a:off x="655308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0A75-F6F1-4B54-B25C-A8D954EB5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-tap prediction for OM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o exploit the correlation between the EMB and the OMB, a horizontal six-tap filter is applied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e circle with ‘X’ denotes the current OMB pixel to be predicted, its 6 neighbor circles colored dark grey denote the pixels that have already been reconstructed and used as input of the 6-tap filter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863640" y="4551480"/>
            <a:ext cx="7740720" cy="533160"/>
            <a:chOff x="863640" y="4551480"/>
            <a:chExt cx="7740720" cy="533160"/>
          </a:xfrm>
        </p:grpSpPr>
        <p:sp>
          <p:nvSpPr>
            <p:cNvPr id="119" name="AutoShape 5"/>
            <p:cNvSpPr/>
            <p:nvPr/>
          </p:nvSpPr>
          <p:spPr>
            <a:xfrm>
              <a:off x="863640" y="4551480"/>
              <a:ext cx="77407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6"/>
            <p:cNvSpPr/>
            <p:nvPr/>
          </p:nvSpPr>
          <p:spPr>
            <a:xfrm>
              <a:off x="4435920" y="4551480"/>
              <a:ext cx="59580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7"/>
            <p:cNvSpPr/>
            <p:nvPr/>
          </p:nvSpPr>
          <p:spPr>
            <a:xfrm>
              <a:off x="3720240" y="4551480"/>
              <a:ext cx="596880" cy="533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8"/>
            <p:cNvSpPr/>
            <p:nvPr/>
          </p:nvSpPr>
          <p:spPr>
            <a:xfrm>
              <a:off x="3009240" y="4551480"/>
              <a:ext cx="59436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040" rIns="5004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9"/>
            <p:cNvSpPr/>
            <p:nvPr/>
          </p:nvSpPr>
          <p:spPr>
            <a:xfrm>
              <a:off x="5150520" y="4551480"/>
              <a:ext cx="596520" cy="533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0"/>
            <p:cNvSpPr/>
            <p:nvPr/>
          </p:nvSpPr>
          <p:spPr>
            <a:xfrm>
              <a:off x="6582960" y="4551480"/>
              <a:ext cx="594360" cy="533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1"/>
            <p:cNvSpPr/>
            <p:nvPr/>
          </p:nvSpPr>
          <p:spPr>
            <a:xfrm>
              <a:off x="5866200" y="4551480"/>
              <a:ext cx="59436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040" rIns="5004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"/>
            <p:cNvSpPr/>
            <p:nvPr/>
          </p:nvSpPr>
          <p:spPr>
            <a:xfrm>
              <a:off x="8009640" y="4551480"/>
              <a:ext cx="594360" cy="533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3"/>
            <p:cNvSpPr/>
            <p:nvPr/>
          </p:nvSpPr>
          <p:spPr>
            <a:xfrm>
              <a:off x="7293600" y="4551480"/>
              <a:ext cx="59724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040" rIns="5004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4"/>
            <p:cNvSpPr/>
            <p:nvPr/>
          </p:nvSpPr>
          <p:spPr>
            <a:xfrm>
              <a:off x="863640" y="4551480"/>
              <a:ext cx="594360" cy="533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5"/>
            <p:cNvSpPr/>
            <p:nvPr/>
          </p:nvSpPr>
          <p:spPr>
            <a:xfrm>
              <a:off x="2293920" y="4551480"/>
              <a:ext cx="596520" cy="533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6"/>
            <p:cNvSpPr/>
            <p:nvPr/>
          </p:nvSpPr>
          <p:spPr>
            <a:xfrm>
              <a:off x="1580400" y="4551480"/>
              <a:ext cx="59400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040" rIns="5004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 Box 17"/>
          <p:cNvSpPr/>
          <p:nvPr/>
        </p:nvSpPr>
        <p:spPr>
          <a:xfrm>
            <a:off x="2057400" y="5249880"/>
            <a:ext cx="50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round( (A – 5B + 20C + 20D – 5E + F) / 32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3"/>
          <p:cNvSpPr/>
          <p:nvPr/>
        </p:nvSpPr>
        <p:spPr>
          <a:xfrm>
            <a:off x="457200" y="640080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dia.cs.tsinghua.edu.cn/~multi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灯片编号占位符 4"/>
          <p:cNvSpPr/>
          <p:nvPr/>
        </p:nvSpPr>
        <p:spPr>
          <a:xfrm>
            <a:off x="655308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0E57-BF78-4095-B701-82C653C02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wo Intra Prediction mod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tandard Intra Prediction mod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roposal Intra Prediction mod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DO is used to determine which method will be used, and a bit for each 32x16 block will be used to indicate the decoder do the right thing for decoding the blocks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3"/>
          <p:cNvSpPr/>
          <p:nvPr/>
        </p:nvSpPr>
        <p:spPr>
          <a:xfrm>
            <a:off x="457200" y="640080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dia.cs.tsinghua.edu.cn/~multi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灯片编号占位符 4"/>
          <p:cNvSpPr/>
          <p:nvPr/>
        </p:nvSpPr>
        <p:spPr>
          <a:xfrm>
            <a:off x="655308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C903-AF52-40BA-9603-33CB899D5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 Results (CAVL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61800" y="2052720"/>
          <a:ext cx="8458200" cy="2743200"/>
        </p:xfrm>
        <a:graphic>
          <a:graphicData uri="http://schemas.openxmlformats.org/drawingml/2006/table">
            <a:tbl>
              <a:tblPr/>
              <a:tblGrid>
                <a:gridCol w="1557360"/>
                <a:gridCol w="2314800"/>
                <a:gridCol w="2314440"/>
                <a:gridCol w="22716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qu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 Bitrate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 PSNR(d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ve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4.4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.2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ve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3.2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.1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ve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2.2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.1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ve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1.7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.1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otal Ave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2.9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.1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3"/>
          <p:cNvSpPr/>
          <p:nvPr/>
        </p:nvSpPr>
        <p:spPr>
          <a:xfrm>
            <a:off x="457200" y="640080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dia.cs.tsinghua.edu.cn/~multi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灯片编号占位符 4"/>
          <p:cNvSpPr/>
          <p:nvPr/>
        </p:nvSpPr>
        <p:spPr>
          <a:xfrm>
            <a:off x="655308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F89F-0CF2-40AE-A95D-62E899E09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 Results (CABA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80880" y="2124000"/>
          <a:ext cx="8458200" cy="2743200"/>
        </p:xfrm>
        <a:graphic>
          <a:graphicData uri="http://schemas.openxmlformats.org/drawingml/2006/table">
            <a:tbl>
              <a:tblPr/>
              <a:tblGrid>
                <a:gridCol w="1557360"/>
                <a:gridCol w="2314800"/>
                <a:gridCol w="2314440"/>
                <a:gridCol w="22716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qu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 Bitrate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D PSNR(d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ve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1.6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.0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ve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1.2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.0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ve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0.3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ve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0.4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.0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otal Ave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0.9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.0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8:27:03Z</dcterms:created>
  <dc:creator>Ortiva Wireless</dc:creator>
  <dc:description/>
  <dc:language>en-US</dc:language>
  <cp:lastModifiedBy>swma</cp:lastModifiedBy>
  <dcterms:modified xsi:type="dcterms:W3CDTF">2010-07-23T13:13:25Z</dcterms:modified>
  <cp:revision>30</cp:revision>
  <dc:subject/>
  <dc:title>Network Oriented Multimedia Coding</dc:title>
</cp:coreProperties>
</file>