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7F5A-51AD-4EDB-AA03-82076AA0D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488A-4FB1-4693-87BF-1DD04B108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809D-1D2F-4EFC-B687-4495F631A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CDDA-D0D8-49F0-97B7-3B92F8FF4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64E5B-F91A-499E-B346-5E5D3F7A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E8E3-87BF-421C-BC37-CB5CAC37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F3164-CFCF-419F-A79C-1C0088E1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D9439-8079-4398-BC99-70B5E8BE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1CF31-E9B5-41D9-BD5D-AD8FC271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3CEBC-1CB3-42B2-922A-472515EF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1BD95-81FB-4B77-A09D-03E2B997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F75D-0A1A-4B4C-A2E6-E027145FF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63745-7D25-40CD-AB8A-EA52EE2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BAD9B-4DC5-4072-9D6C-16D2D6E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0092A-85FC-47B3-9592-B6FEBBD1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93315-8796-4B92-9D9C-6F8F86C8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A49E5-10A5-46BB-9F25-E898CCEF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4CA0-8EA5-4714-BE87-CA9D25A1A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1581-3506-428C-B33D-36BD6DB23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D14F-50E2-48A7-95B4-2C37DECDB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5368-E053-4933-A8B4-64B9447C8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2099-ED11-44C4-B86F-41AC16F95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2439-E63A-4ECD-8BF8-18186BBED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9671-041E-4540-8929-234582D43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94449B98-DB94-4E75-991E-B4C4C5126344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8856FC24-FE5B-4A0A-A5F2-E583E8C13AD2}" type="slidenum">
              <a:rPr b="0" lang="en-US" sz="20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731520" y="1925640"/>
            <a:ext cx="13167000" cy="47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652320" indent="0" algn="ctr">
              <a:spcBef>
                <a:spcPts val="726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306440" algn="ctr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3" marL="1959120" algn="ctr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4" marL="2612880" algn="ctr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5" marL="261288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6" marL="261288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deword Restriction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Improved Coding Efficiency</a:t>
            </a:r>
            <a:br>
              <a:rPr sz="4400"/>
            </a:br>
            <a:br>
              <a:rPr sz="44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Segall and Y. Su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JCTVC-B113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otivated need for codeword restrictions within TMuC Desig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daptivity in design increases dynamic range of outpu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r sequences with reduced dynamic range, this leads to reduced coding efficiency in specific situ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tuitive to restrict codeword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howed benefit of restricting codewords (1.8%-3.1%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commend using codeword restriction in future testing of TMu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deword Restr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deword Restric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knowledge of original data to constrain the output of adaptive loop fil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It’s more likely (compared to previous standards) to exceed the dynamic range of the original data due to the adapt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gnal maximum and minimum code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Repl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isting clipping operation with operation to clip to maximum and minimum code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266760" y="2836800"/>
            <a:ext cx="202932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-blo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326520" y="4146480"/>
            <a:ext cx="190980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op Fil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328320" y="5459400"/>
            <a:ext cx="190944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de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st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2"/>
            <a:endCxn id="101" idx="0"/>
          </p:cNvCxnSpPr>
          <p:nvPr/>
        </p:nvCxnSpPr>
        <p:spPr>
          <a:xfrm>
            <a:off x="10281960" y="3731760"/>
            <a:ext cx="1080" cy="41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1" idx="2"/>
            <a:endCxn id="102" idx="0"/>
          </p:cNvCxnSpPr>
          <p:nvPr/>
        </p:nvCxnSpPr>
        <p:spPr>
          <a:xfrm>
            <a:off x="10282320" y="5041800"/>
            <a:ext cx="2160" cy="41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8996400" y="6694560"/>
            <a:ext cx="255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ference Buffer/Dis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2" idx="2"/>
            <a:endCxn id="105" idx="0"/>
          </p:cNvCxnSpPr>
          <p:nvPr/>
        </p:nvCxnSpPr>
        <p:spPr>
          <a:xfrm flipH="1">
            <a:off x="10274040" y="6354720"/>
            <a:ext cx="10080" cy="34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8997840" y="1486080"/>
            <a:ext cx="255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ference Buffer/Dis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2"/>
            <a:endCxn id="100" idx="0"/>
          </p:cNvCxnSpPr>
          <p:nvPr/>
        </p:nvCxnSpPr>
        <p:spPr>
          <a:xfrm>
            <a:off x="10275840" y="2371680"/>
            <a:ext cx="7200" cy="4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1733120" y="1486080"/>
            <a:ext cx="25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it-str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9" idx="2"/>
            <a:endCxn id="100" idx="3"/>
          </p:cNvCxnSpPr>
          <p:nvPr/>
        </p:nvCxnSpPr>
        <p:spPr>
          <a:xfrm rot="5400000">
            <a:off x="11468160" y="1742400"/>
            <a:ext cx="1310400" cy="177552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1" name=""/>
          <p:cNvCxnSpPr>
            <a:stCxn id="109" idx="2"/>
            <a:endCxn id="101" idx="3"/>
          </p:cNvCxnSpPr>
          <p:nvPr/>
        </p:nvCxnSpPr>
        <p:spPr>
          <a:xfrm rot="5400000">
            <a:off x="10813320" y="2397240"/>
            <a:ext cx="2620080" cy="177552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2" name=""/>
          <p:cNvCxnSpPr>
            <a:stCxn id="109" idx="2"/>
            <a:endCxn id="102" idx="3"/>
          </p:cNvCxnSpPr>
          <p:nvPr/>
        </p:nvCxnSpPr>
        <p:spPr>
          <a:xfrm rot="5400000">
            <a:off x="10157760" y="3054240"/>
            <a:ext cx="3933000" cy="177408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9326520" y="4146480"/>
            <a:ext cx="190980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op Fil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28320" y="5459400"/>
            <a:ext cx="190944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de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st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66760" y="2836800"/>
            <a:ext cx="202932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-blo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326520" y="4146480"/>
            <a:ext cx="190980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op Fil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328320" y="5459400"/>
            <a:ext cx="190944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de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st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36808" b="43404"/>
          <a:stretch/>
        </p:blipFill>
        <p:spPr>
          <a:xfrm>
            <a:off x="6564240" y="2043000"/>
            <a:ext cx="604836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0" r="35891" b="42985"/>
          <a:stretch/>
        </p:blipFill>
        <p:spPr>
          <a:xfrm>
            <a:off x="1187280" y="2038320"/>
            <a:ext cx="6135840" cy="4092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0" t="0" r="36808" b="43404"/>
          <a:stretch/>
        </p:blipFill>
        <p:spPr>
          <a:xfrm>
            <a:off x="6564240" y="2043000"/>
            <a:ext cx="6048360" cy="4064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rcRect l="0" t="0" r="35891" b="42985"/>
          <a:stretch/>
        </p:blipFill>
        <p:spPr>
          <a:xfrm>
            <a:off x="1187280" y="2038320"/>
            <a:ext cx="6135840" cy="4092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261440" y="5883120"/>
            <a:ext cx="2032560" cy="58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P = 25.1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oftware AhG 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37543" b="35718"/>
          <a:stretch/>
        </p:blipFill>
        <p:spPr>
          <a:xfrm>
            <a:off x="7269120" y="2062080"/>
            <a:ext cx="6067440" cy="468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36965" b="34529"/>
          <a:stretch/>
        </p:blipFill>
        <p:spPr>
          <a:xfrm>
            <a:off x="1284120" y="2082960"/>
            <a:ext cx="60357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37543" b="35718"/>
          <a:stretch/>
        </p:blipFill>
        <p:spPr>
          <a:xfrm>
            <a:off x="7269120" y="2062080"/>
            <a:ext cx="6067440" cy="4684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0" t="0" r="36965" b="34529"/>
          <a:stretch/>
        </p:blipFill>
        <p:spPr>
          <a:xfrm>
            <a:off x="1284120" y="2082960"/>
            <a:ext cx="6035760" cy="4703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315120" y="5776920"/>
            <a:ext cx="709560" cy="7095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52400" y="5821200"/>
            <a:ext cx="709560" cy="709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36783" b="37359"/>
          <a:stretch/>
        </p:blipFill>
        <p:spPr>
          <a:xfrm>
            <a:off x="1390680" y="2050920"/>
            <a:ext cx="6151680" cy="4573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0" r="35891" b="34914"/>
          <a:stretch/>
        </p:blipFill>
        <p:spPr>
          <a:xfrm>
            <a:off x="7068960" y="2066760"/>
            <a:ext cx="623124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11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4000"/>
          </a:bodyPr>
          <a:p>
            <a:pPr marL="461160" indent="-46116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act on perform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998280" indent="-384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pends on statistics of the input da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35400" indent="-3074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example, sequences need a reduced dynamic range (‘broadcast legal’ value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98280" indent="-384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35400" indent="-3074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QSquare (HierB): 3.1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35400" indent="-3074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QSquare (IPPP): 2.7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35400" indent="-3074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QTerrace (HierB): 1.8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35400" indent="-3074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QTerrace (IPPP): 3.0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22160" y="2230560"/>
          <a:ext cx="5650200" cy="390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2230560"/>
                    <a:ext cx="5650200" cy="39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193560" y="7481880"/>
            <a:ext cx="2270160" cy="337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QTerrace: 200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Andrew Segall</cp:lastModifiedBy>
  <dcterms:modified xsi:type="dcterms:W3CDTF">2010-07-22T13:59:59Z</dcterms:modified>
  <cp:revision>536</cp:revision>
  <dc:subject/>
  <dc:title>PowerPoint Presentation</dc:title>
</cp:coreProperties>
</file>