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DA50-48FB-44E6-BF9F-EBB783BC4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DCEB-6F65-490B-A8D6-CE210C0F6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7F32-2464-49F8-9781-8ACB9A6DB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D779-5968-457E-A18A-946A35F63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E86A-3476-4F49-8E8F-4E9B7E4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13B09-52BC-4AA1-8323-2DF7AA3F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5550-B037-46FA-ACA1-59C1421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49BCE-3189-473C-89AD-3ABB9D4C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B448E-48D3-4270-85FB-18FCE707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0AE0E-CFFA-4202-B742-0388A8F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E4BF8-5147-4095-A4BB-046D71B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DB79-3377-48B5-84C0-F1F613AAF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FEB1F-F333-4C21-AC7A-08794F4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130B5-B4BD-4700-B4E4-6219CE9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A35A-0E13-4D5F-95D7-466A39C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3AC8-5501-47B8-8FC2-FFFD3C7B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5534B-9672-4359-B8A0-CDEF4B19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8103-EB68-47EE-898E-8D96C2E38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DC4C-1A83-4927-9200-7B8FE4A1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6DDA-5C1B-4E73-A8A7-B4C71C07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5202-3A86-40B6-B01C-08B6CC2AB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3010-7C70-4412-80D9-48A4A58A9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31B2-84BA-4C90-9623-E8484FB49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469-7396-4303-AED3-2856A5456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3F41D7DB-48CE-4DE5-85DD-2FC4CF43809A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07154D6E-DB99-4846-99D8-45952C31F16F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731520" y="1925640"/>
            <a:ext cx="13167000" cy="47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652320" indent="0" algn="ctr">
              <a:spcBef>
                <a:spcPts val="72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30644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959120" algn="ctr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261288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llel Prediction Uni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Parallel Intra Cod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B11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ie Zhao and Andrew Segal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35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ompared our technology with the current, serial approach for intra-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MuC 0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 as provided by Software Ah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U of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Impa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Hier-B): 0.48% / -0.01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IPPP): 0.25% / -0.006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391520" y="2154240"/>
          <a:ext cx="6141960" cy="42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154240"/>
                    <a:ext cx="614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35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ompared our technology with the current, serial approach for intra-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MuC 0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 as provided by Software Ah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U of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Impa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Hier-B): 0.48% / -0.01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IPPP): 0.25% / -0.006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Intra): 0.50% / -0.02d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06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7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imited number of frames (16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391520" y="2489040"/>
          <a:ext cx="6141960" cy="36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489040"/>
                    <a:ext cx="614196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96560" y="1251000"/>
            <a:ext cx="130129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presented the concept of a parallel prediction uni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PPU allows extension of our previously presented parallel intra-prediction to the TMuC desig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allelism is achieved by dividing PPU into two se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rst set predicted from boundaries of PPU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set predicted from reconstructed first se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set uses additional prediction direc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D (Hier-B): 0.48% / -0.01dB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D (IPPP): 0.25% / -0.006dB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pose further study of proposed techniqu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Prediction Uni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intra-prediction (review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Prediction Uni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oal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duce the amount of serial dependencies in the intra-predictio proces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roach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pecify a unit/region in the reconstructed frame where intra-coded prediction units will be decoded in parall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315360" y="2700360"/>
            <a:ext cx="3799080" cy="379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99960" y="2700360"/>
            <a:ext cx="0" cy="380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40920" y="4595760"/>
            <a:ext cx="380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0" y="553068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141360" y="457488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961640" y="4378320"/>
            <a:ext cx="245268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98800" y="2136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C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360" y="611820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89600" y="273672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383040" y="601488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46680" y="412920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72960" y="521964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074760" y="522144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09680" y="615636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13560" y="6811920"/>
            <a:ext cx="91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PPU we then do the foll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prediction units into two part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 first partition from pixels in reconstructed and neighboring P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 second partition fro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454120" indent="-4950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xels in first part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454120" indent="-4950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xels in neighboring PP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482040" y="2197080"/>
            <a:ext cx="3440160" cy="312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"/>
          <p:cNvSpPr/>
          <p:nvPr/>
        </p:nvSpPr>
        <p:spPr>
          <a:xfrm>
            <a:off x="9084240" y="61196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18160" y="66960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0144080" y="5003640"/>
            <a:ext cx="5526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2474360" y="4245120"/>
            <a:ext cx="44748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73680" y="1596960"/>
            <a:ext cx="91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4000"/>
          </a:bodyPr>
          <a:p>
            <a:pPr marL="519120" indent="-519120"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diction of First Pass Blo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 only reconstructed pixels from neighboring PP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uses existing intra-prediction techniques.  Boundary pixels are extrapolated by prediction direc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DC prediction, we compute the DC as a weighted function of the distance between the block and the horizontal and left PPU boundari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de is predicted from first block above and to the left of current block that is either in neighboring PPU or current parti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9315360" y="2700360"/>
            <a:ext cx="3799080" cy="379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99960" y="2700360"/>
            <a:ext cx="0" cy="380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40920" y="4595760"/>
            <a:ext cx="380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0" y="553068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41360" y="457488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961640" y="4378320"/>
            <a:ext cx="245268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98800" y="2136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C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360" y="611820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89600" y="273672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383040" y="601488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346680" y="4129200"/>
            <a:ext cx="56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72960" y="521964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74760" y="522144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09680" y="615636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13560" y="6811920"/>
            <a:ext cx="91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95120" y="4390920"/>
            <a:ext cx="2098440" cy="193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0034640" y="5328720"/>
            <a:ext cx="2098440" cy="193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92040" y="4597560"/>
            <a:ext cx="1927080" cy="1874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920080" y="4554360"/>
            <a:ext cx="5478480" cy="319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3000"/>
          </a:bodyPr>
          <a:p>
            <a:pPr marL="456120" indent="-456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diction of Second Pass Blo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9874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s pixels in neighboring PPUs AND pixel in first pass block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874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e the bottom and right boundaries may be avail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-304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e introduce prediction from the bottom/right neighbor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2125800" indent="-303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ceptually we rotate the current block and boundary, perform the prediction and rotate the result bac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-304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dditionally, we enable a weighted prediction of two directions that are out of phas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2125800" indent="-303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example, mode 1 and mode 1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2125800" indent="-303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s are weighted based on distance from bounda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064360" y="1828800"/>
            <a:ext cx="2432160" cy="220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4788000" y="2824200"/>
            <a:ext cx="30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80360" y="4898880"/>
            <a:ext cx="2700360" cy="2594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85520" y="2824200"/>
            <a:ext cx="2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969640" y="4929120"/>
          <a:ext cx="2006640" cy="2581200"/>
        </p:xfrm>
        <a:graphic>
          <a:graphicData uri="http://schemas.openxmlformats.org/drawingml/2006/table">
            <a:tbl>
              <a:tblPr/>
              <a:tblGrid>
                <a:gridCol w="439920"/>
                <a:gridCol w="1566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me of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C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agonal Down Lef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agonal Down Righ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Righ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Down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Lef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U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9315360" y="3449520"/>
            <a:ext cx="1754280" cy="2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298080" y="1685520"/>
            <a:ext cx="1765080" cy="127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1063160" y="1630440"/>
            <a:ext cx="3367080" cy="209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gnaling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signal the PPU size in the sequence hea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signal the weighting flag in the prediction unit synta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412040" y="1832040"/>
          <a:ext cx="6099120" cy="49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1832040"/>
                    <a:ext cx="6099120" cy="4930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gnaling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signal the PPU size in the sequence hea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signal the weighting flag in the prediction unit synta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943760" y="1208160"/>
          <a:ext cx="45007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3760" y="1208160"/>
                    <a:ext cx="4500720" cy="652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35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ompared our technology with the current, serial approach for intra-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MuC 0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 as provided by Software Ah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U of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Impa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D (Hier-B): 0.48% / -0.01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391520" y="2571840"/>
          <a:ext cx="6141960" cy="345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571840"/>
                    <a:ext cx="6141960" cy="34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 Segall</cp:lastModifiedBy>
  <dcterms:modified xsi:type="dcterms:W3CDTF">2010-07-22T10:41:46Z</dcterms:modified>
  <cp:revision>531</cp:revision>
  <dc:subject/>
  <dc:title>PowerPoint Presentation</dc:title>
</cp:coreProperties>
</file>