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4630400" cy="82296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FA4A-8081-46C3-B913-33F2F5258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016A-5872-4EEF-9DE1-8AC9FAD62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E5963-AAE8-4B7F-A79A-9D51BBA80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79EA1-3498-495E-BE72-573DA0EEB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6589B-D0AE-440D-8731-07AD99EC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C97CF-AEB7-4B88-B9DB-98FFFB90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854EC-F004-422E-BF14-8B73BB42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00788-815C-41FB-9759-2B475BBA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EF0F0-794A-4EEF-961A-9E490C1D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F4ACD-CE7A-452D-94DD-134F91DE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4058E-6793-4492-A983-C516D32C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D674E-CD97-424F-99DF-25AE9928E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7DDA7-BEAA-42C1-80E3-FAE84C8D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69143-90BB-4E12-8692-8BE7EDEF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D4C57-6483-4F4A-82C6-8B2F33F8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296B8-4825-432E-8506-2BBD7C83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C9DF2-97FD-41F5-A3BB-2E6FE73C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2FDA-894C-47FA-B046-008C984D2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F1A8-F5B3-48AF-89E3-12B3E6075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FFD33-26E1-40D4-BB73-8BDF87CEF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BFCE-ACAB-4C2D-B84E-758410CCD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91C7F-8CF4-4F1C-A5B4-852E87DED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67616-D58E-46B2-AD1E-E2CEE8F94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3683F-E7BE-4CA0-8BD1-9CCEBA826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5364000" y="7864560"/>
            <a:ext cx="46339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1011888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FF9FB521-DF0C-426B-81D9-5DB6AB02E267}" type="slidenum">
              <a:rPr b="0" lang="en-US" sz="2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2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24408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5486400" y="7864560"/>
            <a:ext cx="463248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1036332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527A9B71-E378-450B-816D-943B139E6D21}" type="slidenum">
              <a:rPr b="0" lang="en-US" sz="20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731520" y="1925640"/>
            <a:ext cx="13167000" cy="477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652320" indent="0" algn="ctr">
              <a:spcBef>
                <a:spcPts val="726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306440" algn="ctr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3" marL="1959120" algn="ctr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4" marL="2612880" algn="ctr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5" marL="261288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6" marL="261288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3174840"/>
            <a:ext cx="13279320" cy="3291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tropy Slices for Parallel Entropy Coding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K. Misra, J. Zhao and A. Segall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CT-VC B111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7000"/>
          </a:bodyPr>
          <a:p>
            <a:pPr marL="628200" indent="-62820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e have presented the concept of an “entropy slice” for the HEVC syste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28200" indent="-62820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dvantages include: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535680">
              <a:spcBef>
                <a:spcPts val="524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arallel entropy decoding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both context adaptation and/or bin coding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535680">
              <a:spcBef>
                <a:spcPts val="624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Generalization to any entropy coding system under stud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535680">
              <a:spcBef>
                <a:spcPts val="624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o impact on single core/thread application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535680">
              <a:spcBef>
                <a:spcPts val="624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Easy adaptation to different parallelization factors at the decod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535680">
              <a:spcBef>
                <a:spcPts val="624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egligible impact on coding efficiency (&lt;0.01dB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535680">
              <a:spcBef>
                <a:spcPts val="624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irect path for specifying parallelization at the profile/level stag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628200" indent="-62820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e propose study of the entropy slice concept in the HEVC system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0">
              <a:spcBef>
                <a:spcPts val="7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ntropy Slice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troduction: Entropy Slic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roduce partitioning of slices into smaller “entropy” sl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tropy sli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et context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trict definition for neighborh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identical to current slice by entropy deco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y difference: reconstruction uses information from neighboring entropy sl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488440" y="1257480"/>
            <a:ext cx="4707000" cy="61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482040" y="6240600"/>
            <a:ext cx="3313080" cy="850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ntropy Slice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58332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e now cite </a:t>
            </a:r>
            <a:r>
              <a:rPr b="0" i="1" lang="en-GB" sz="21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major advantages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for the entropy slice concep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vantage #1 - </a:t>
            </a:r>
            <a:r>
              <a:rPr b="1" i="1" lang="en-GB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rallelizatio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tropy slices do not depend on information outside of the entropy slice and can be decoded independentl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ows for parallelization of entire entropy decoding loop – including context adaptation and bin coding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vantage #2 - </a:t>
            </a:r>
            <a:r>
              <a:rPr b="1" i="1" lang="en-GB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neraliza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tropy slices can be used for all entropy coding engines currently under study in the TMuC and TMuC softwar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oreover, we have software available for PIPE and CABAC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648640" y="1968480"/>
            <a:ext cx="4842000" cy="3107880"/>
            <a:chOff x="8648640" y="1968480"/>
            <a:chExt cx="4842000" cy="3107880"/>
          </a:xfrm>
        </p:grpSpPr>
        <p:sp>
          <p:nvSpPr>
            <p:cNvPr id="105" name=""/>
            <p:cNvSpPr/>
            <p:nvPr/>
          </p:nvSpPr>
          <p:spPr>
            <a:xfrm>
              <a:off x="8648640" y="196848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132840" y="196848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48640" y="235692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2840" y="235692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617040" y="196848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101240" y="196848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617040" y="235692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101240" y="235692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48640" y="274536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132840" y="274536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48640" y="31338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132840" y="31338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617040" y="274536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101240" y="274536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617040" y="31338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101240" y="31338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585440" y="196848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069640" y="196848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585440" y="235692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069640" y="235692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53840" y="196848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038040" y="196848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553840" y="235692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038040" y="235692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585440" y="274536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069640" y="274536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585440" y="31338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069640" y="31338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553840" y="274536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038040" y="274536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553840" y="31338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038040" y="31338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48640" y="35226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132840" y="35226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48640" y="391104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132840" y="391104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617040" y="35226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101240" y="35226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617040" y="391104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101240" y="391104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48640" y="429948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32840" y="429948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48640" y="468792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132840" y="468792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617040" y="429948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101240" y="429948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617040" y="468792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101240" y="468792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585440" y="35226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069640" y="35226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585440" y="391104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069640" y="391104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553840" y="35226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038040" y="35226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553840" y="391104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038040" y="391104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585440" y="429948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069640" y="429948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585440" y="468792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069640" y="468792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553840" y="429948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038040" y="429948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553840" y="468792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038040" y="468792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22240" y="196848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006440" y="196848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522240" y="235692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006440" y="2356920"/>
              <a:ext cx="484200" cy="38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522240" y="274536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006440" y="274536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522240" y="31338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006440" y="31338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22240" y="35226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006440" y="3522600"/>
              <a:ext cx="484200" cy="388440"/>
            </a:xfrm>
            <a:prstGeom prst="rect">
              <a:avLst/>
            </a:prstGeom>
            <a:solidFill>
              <a:srgbClr val="939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522240" y="391104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006440" y="391104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522240" y="429948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006440" y="429948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522240" y="468792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006440" y="4687920"/>
              <a:ext cx="48420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1107800" y="6272280"/>
            <a:ext cx="137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2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BA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628200" y="6273720"/>
            <a:ext cx="117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V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ntropy Slice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58332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552600" indent="-552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vantages #3 – </a:t>
            </a:r>
            <a:r>
              <a:rPr b="1" i="1" lang="en-GB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o impact on single thread/core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147680" indent="-495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rallelization capability does not come at the expense of single thread/core applicatio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147680" indent="-495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 single thread/core process ma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801800" indent="-495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Tahoma"/>
              <a:buAutoNum type="arabicPeriod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code all entropy slices prior to reconstruc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801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801800" indent="-495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Tahoma"/>
              <a:buAutoNum type="arabicPeriod" startAt="2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code entropy slice and then reconstruct without neighbourhood rese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147680" indent="-495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is is friendly to any architectur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572680" y="1828800"/>
            <a:ext cx="377820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ntropy Slice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58332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vantage #4 –</a:t>
            </a:r>
            <a:r>
              <a:rPr b="1" i="1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asy Adaptation to Decoder Desig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it-stream can be partitioned into a large number of entropy slices with little overhea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example, we will show performance of 32 entropy slices for 1080p on next slide – this would translate to ~128 slices for 4k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coder can schedule N entropy decoders easily, where N is arbitrar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e example: for 32 slices, architecture with parallelization of 4 (N=4) would assign 8 slices per decoder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nother example: for 32 slices, architecture with N=8 would assign 4 slices per decod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ditionally, for large resolutions (4k,8k) possible to scale to 100s of decoders for GPU implementation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942320" y="2222640"/>
            <a:ext cx="504036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60480" y="4127400"/>
            <a:ext cx="11804760" cy="11541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ntropy Slice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vantage #5 –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ding Efficien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sertion of Entropy Slices results in negligible impact on coding efficiency.  For example, if configure the encoder for a parallelization factor of 32, we ge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830240" y="2770200"/>
            <a:ext cx="10839600" cy="1154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857240" y="4125960"/>
            <a:ext cx="10914120" cy="1154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1844640" y="5459400"/>
            <a:ext cx="10717200" cy="1154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2415680" y="7373880"/>
            <a:ext cx="2247120" cy="368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MuC 0.3 with P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ntropy Slice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vantage #5 –</a:t>
            </a:r>
            <a:r>
              <a:rPr b="1" i="1" lang="en-GB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ding Efficien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sertion of Entropy Slices results in negligible impact on coding efficiency.  For example, if configure the encoder for a parallelization factor of 32, we ge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12415680" y="7373880"/>
            <a:ext cx="2247120" cy="368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MuC 0.3 with P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55880" y="2870280"/>
            <a:ext cx="10717200" cy="1154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976400" y="4259160"/>
            <a:ext cx="9542520" cy="1154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998720" y="5681520"/>
            <a:ext cx="954252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ntropy Slice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vantage #6 –</a:t>
            </a:r>
            <a:r>
              <a:rPr b="1" i="1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ecificat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tropy slices allow simple and direct specification of parallelization at the Profile and Level stag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is is accomplished by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ecifying the maximum number of bins in an Entropy Slic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ecifying the maximum number of Entropy Slices per pictu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ows addition specification of PIPE/V2V configura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aximum number of bins per bin coder in an Entropy Slic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GB" sz="19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Additional advantage</a:t>
            </a: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: straightforward to determine conformance at encod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12415680" y="7373880"/>
            <a:ext cx="2247120" cy="368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MuC 0.3 with P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126280" y="1828800"/>
            <a:ext cx="467064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ntropy Slice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96920" y="1828440"/>
            <a:ext cx="12436560" cy="2392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lice head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dicate slice is “entropy slice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nd only information necessary for entropy decod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578400" y="4003560"/>
            <a:ext cx="726912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6:56:50Z</dcterms:created>
  <dc:creator>Jack Van Oosterhout</dc:creator>
  <dc:description/>
  <dc:language>en-US</dc:language>
  <cp:lastModifiedBy>Andrew Segall</cp:lastModifiedBy>
  <dcterms:modified xsi:type="dcterms:W3CDTF">2010-07-23T13:43:42Z</dcterms:modified>
  <cp:revision>536</cp:revision>
  <dc:subject/>
  <dc:title>PowerPoint Presentation</dc:title>
</cp:coreProperties>
</file>