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D9B4-F67F-4BA3-A41D-A4BACD19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8B4F-7EBD-49A9-93D6-EE10645B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6D917-E98E-4E2D-B91D-F34367B3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FD07A-E534-48F4-B7CA-D5F534D8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916B-96CF-4924-9FDD-D6AC8104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5F38-6BD4-4F44-A55B-06501A5B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BA2F-1B34-40BE-B80B-32A9B22B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4D7D-9BA8-473A-AD3C-5C21ED1C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B484-15FE-4673-AB9E-81F0009B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9968-77C2-45D4-B14D-507D9F8D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01FBE-FC23-44D4-AF20-1AF04300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5A73-ED22-41DC-988C-0383E720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図 8" descr="sony_w.png"/>
          <p:cNvPicPr/>
          <p:nvPr/>
        </p:nvPicPr>
        <p:blipFill>
          <a:blip r:embed="rId2"/>
          <a:stretch/>
        </p:blipFill>
        <p:spPr>
          <a:xfrm>
            <a:off x="158760" y="6637320"/>
            <a:ext cx="925560" cy="1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00800" y="6560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5A4D-8B6C-4065-A3A7-F568F5B4A2F2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736C-3144-47A4-9B27-69DB98F4A37F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45680" y="1585440"/>
            <a:ext cx="7604280" cy="16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ahoma"/>
              </a:rPr>
              <a:t>Separable Adaptive Loop Filter</a:t>
            </a:r>
            <a:endParaRPr b="0" lang="en-US" sz="44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971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heung Auyeung, Ali Tabatabali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on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0C0E-2043-40D1-A5FC-5B15DFD53086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539640" y="37620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VTVC-B1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r CS1 test conditions, applying non-separable loop filter for I pictures and separable loop filter for P and B pictures provided a reasonable trade-off of picture quality and computation. It resulted in 0.212% average BD-R increase when compared with non-separable only loop filter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r CS2, our implementation of the two combinations of separable loop filters resulted in 1.21% to 1.42% average BD-R increase relative to non-separable only filter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is contrib propose tool experiments to identify what combination of non-separable and separable loop filters should be used with HEVC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1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FC6A-3C1B-4C92-AAAF-5DF76E0A0705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15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Separable Adaptive Loop Filter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8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43C4-D898-4B61-8ED3-C486A70A90E6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649680" y="1355760"/>
            <a:ext cx="914400" cy="4572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ansfor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858000" y="1355760"/>
            <a:ext cx="914400" cy="4572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tropy Codin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184800" y="2046240"/>
            <a:ext cx="914400" cy="4572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vers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ransfor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6172200" y="3657600"/>
            <a:ext cx="914400" cy="4572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eblocking Fil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5032440" y="3660840"/>
            <a:ext cx="914400" cy="45720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daptive Loop Fil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1806480" y="3259080"/>
            <a:ext cx="914400" cy="4572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tra Frame Predic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806480" y="4062240"/>
            <a:ext cx="914400" cy="4572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otion Compensated Prediction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3649680" y="4062240"/>
            <a:ext cx="914400" cy="4572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rame Delay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806480" y="5103720"/>
            <a:ext cx="914400" cy="4572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Motion Estima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3016080" y="5103720"/>
            <a:ext cx="914400" cy="4572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(Adaptive) Interpolation Fil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6877080" y="4686480"/>
            <a:ext cx="914400" cy="4572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Entropy Codin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1173240" y="1413000"/>
            <a:ext cx="342720" cy="342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6415200" y="2738520"/>
            <a:ext cx="342720" cy="342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Σ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Straight Connector 20"/>
          <p:cNvSpPr/>
          <p:nvPr/>
        </p:nvSpPr>
        <p:spPr>
          <a:xfrm>
            <a:off x="1525680" y="1584360"/>
            <a:ext cx="2114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63" name="Straight Arrow Connector 22"/>
          <p:cNvCxnSpPr>
            <a:stCxn id="49" idx="3"/>
          </p:cNvCxnSpPr>
          <p:nvPr/>
        </p:nvCxnSpPr>
        <p:spPr>
          <a:xfrm>
            <a:off x="4573440" y="1584000"/>
            <a:ext cx="4471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Straight Arrow Connector 24"/>
          <p:cNvCxnSpPr>
            <a:endCxn id="50" idx="1"/>
          </p:cNvCxnSpPr>
          <p:nvPr/>
        </p:nvCxnSpPr>
        <p:spPr>
          <a:xfrm>
            <a:off x="5952960" y="1584000"/>
            <a:ext cx="8964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Straight Arrow Connector 26"/>
          <p:cNvCxnSpPr>
            <a:endCxn id="61" idx="0"/>
          </p:cNvCxnSpPr>
          <p:nvPr/>
        </p:nvCxnSpPr>
        <p:spPr>
          <a:xfrm flipH="1">
            <a:off x="6585840" y="2506320"/>
            <a:ext cx="3960" cy="222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Straight Arrow Connector 28"/>
          <p:cNvCxnSpPr>
            <a:stCxn id="61" idx="2"/>
          </p:cNvCxnSpPr>
          <p:nvPr/>
        </p:nvCxnSpPr>
        <p:spPr>
          <a:xfrm>
            <a:off x="6586560" y="3090960"/>
            <a:ext cx="2160" cy="565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Straight Arrow Connector 30"/>
          <p:cNvCxnSpPr>
            <a:stCxn id="52" idx="1"/>
            <a:endCxn id="53" idx="3"/>
          </p:cNvCxnSpPr>
          <p:nvPr/>
        </p:nvCxnSpPr>
        <p:spPr>
          <a:xfrm flipH="1">
            <a:off x="5955840" y="3885840"/>
            <a:ext cx="20736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Straight Arrow Connector 32"/>
          <p:cNvCxnSpPr>
            <a:stCxn id="56" idx="1"/>
            <a:endCxn id="55" idx="3"/>
          </p:cNvCxnSpPr>
          <p:nvPr/>
        </p:nvCxnSpPr>
        <p:spPr>
          <a:xfrm flipH="1">
            <a:off x="2730240" y="4290480"/>
            <a:ext cx="910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Straight Arrow Connector 34"/>
          <p:cNvCxnSpPr>
            <a:stCxn id="58" idx="1"/>
            <a:endCxn id="57" idx="3"/>
          </p:cNvCxnSpPr>
          <p:nvPr/>
        </p:nvCxnSpPr>
        <p:spPr>
          <a:xfrm flipH="1">
            <a:off x="2729880" y="5331960"/>
            <a:ext cx="276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Straight Arrow Connector 36"/>
          <p:cNvCxnSpPr/>
          <p:nvPr/>
        </p:nvCxnSpPr>
        <p:spPr>
          <a:xfrm>
            <a:off x="712800" y="1585440"/>
            <a:ext cx="480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Straight Connector 41"/>
          <p:cNvSpPr/>
          <p:nvPr/>
        </p:nvSpPr>
        <p:spPr>
          <a:xfrm>
            <a:off x="885960" y="1585800"/>
            <a:ext cx="0" cy="3745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72" name="Straight Arrow Connector 43"/>
          <p:cNvCxnSpPr>
            <a:endCxn id="57" idx="1"/>
          </p:cNvCxnSpPr>
          <p:nvPr/>
        </p:nvCxnSpPr>
        <p:spPr>
          <a:xfrm flipV="1">
            <a:off x="885600" y="5331600"/>
            <a:ext cx="91188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Straight Arrow Connector 45"/>
          <p:cNvCxnSpPr>
            <a:stCxn id="55" idx="2"/>
            <a:endCxn id="57" idx="0"/>
          </p:cNvCxnSpPr>
          <p:nvPr/>
        </p:nvCxnSpPr>
        <p:spPr>
          <a:xfrm>
            <a:off x="2263320" y="4529160"/>
            <a:ext cx="1080" cy="565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4" name="Straight Arrow Connector 47"/>
          <p:cNvCxnSpPr>
            <a:endCxn id="58" idx="0"/>
          </p:cNvCxnSpPr>
          <p:nvPr/>
        </p:nvCxnSpPr>
        <p:spPr>
          <a:xfrm flipH="1">
            <a:off x="3472920" y="4292280"/>
            <a:ext cx="5760" cy="802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Straight Arrow Connector 50"/>
          <p:cNvCxnSpPr>
            <a:endCxn id="54" idx="3"/>
          </p:cNvCxnSpPr>
          <p:nvPr/>
        </p:nvCxnSpPr>
        <p:spPr>
          <a:xfrm flipH="1" flipV="1">
            <a:off x="2730240" y="3486960"/>
            <a:ext cx="201528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Straight Connector 52"/>
          <p:cNvSpPr/>
          <p:nvPr/>
        </p:nvSpPr>
        <p:spPr>
          <a:xfrm>
            <a:off x="4745160" y="3486240"/>
            <a:ext cx="0" cy="80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77" name="Straight Arrow Connector 54"/>
          <p:cNvCxnSpPr>
            <a:endCxn id="56" idx="3"/>
          </p:cNvCxnSpPr>
          <p:nvPr/>
        </p:nvCxnSpPr>
        <p:spPr>
          <a:xfrm flipH="1" flipV="1">
            <a:off x="4572720" y="4290120"/>
            <a:ext cx="17244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Straight Arrow Connector 56"/>
          <p:cNvCxnSpPr>
            <a:stCxn id="53" idx="1"/>
          </p:cNvCxnSpPr>
          <p:nvPr/>
        </p:nvCxnSpPr>
        <p:spPr>
          <a:xfrm flipH="1">
            <a:off x="4744440" y="3889080"/>
            <a:ext cx="278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Straight Connector 58"/>
          <p:cNvSpPr/>
          <p:nvPr/>
        </p:nvSpPr>
        <p:spPr>
          <a:xfrm>
            <a:off x="885960" y="3083040"/>
            <a:ext cx="460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80" name="Straight Arrow Connector 60"/>
          <p:cNvCxnSpPr>
            <a:endCxn id="53" idx="0"/>
          </p:cNvCxnSpPr>
          <p:nvPr/>
        </p:nvCxnSpPr>
        <p:spPr>
          <a:xfrm flipH="1">
            <a:off x="5488920" y="3083040"/>
            <a:ext cx="5400" cy="56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Straight Arrow Connector 62"/>
          <p:cNvCxnSpPr/>
          <p:nvPr/>
        </p:nvCxnSpPr>
        <p:spPr>
          <a:xfrm flipV="1">
            <a:off x="2266560" y="4970160"/>
            <a:ext cx="46011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Straight Arrow Connector 64"/>
          <p:cNvCxnSpPr>
            <a:stCxn id="59" idx="3"/>
          </p:cNvCxnSpPr>
          <p:nvPr/>
        </p:nvCxnSpPr>
        <p:spPr>
          <a:xfrm flipV="1">
            <a:off x="7800480" y="4911120"/>
            <a:ext cx="22788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Straight Arrow Connector 66"/>
          <p:cNvCxnSpPr/>
          <p:nvPr/>
        </p:nvCxnSpPr>
        <p:spPr>
          <a:xfrm flipV="1">
            <a:off x="1345680" y="1758600"/>
            <a:ext cx="1080" cy="2131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Straight Arrow Connector 68"/>
          <p:cNvCxnSpPr>
            <a:stCxn id="54" idx="1"/>
          </p:cNvCxnSpPr>
          <p:nvPr/>
        </p:nvCxnSpPr>
        <p:spPr>
          <a:xfrm flipH="1" flipV="1">
            <a:off x="1633320" y="3485880"/>
            <a:ext cx="1641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Straight Arrow Connector 70"/>
          <p:cNvCxnSpPr/>
          <p:nvPr/>
        </p:nvCxnSpPr>
        <p:spPr>
          <a:xfrm flipH="1" flipV="1">
            <a:off x="1633320" y="4292280"/>
            <a:ext cx="1720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Straight Connector 72"/>
          <p:cNvSpPr/>
          <p:nvPr/>
        </p:nvSpPr>
        <p:spPr>
          <a:xfrm>
            <a:off x="1346040" y="3889440"/>
            <a:ext cx="114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87" name="Straight Arrow Connector 74"/>
          <p:cNvCxnSpPr/>
          <p:nvPr/>
        </p:nvCxnSpPr>
        <p:spPr>
          <a:xfrm flipH="1">
            <a:off x="6571440" y="1584360"/>
            <a:ext cx="39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Straight Arrow Connector 76"/>
          <p:cNvCxnSpPr>
            <a:stCxn id="50" idx="3"/>
          </p:cNvCxnSpPr>
          <p:nvPr/>
        </p:nvCxnSpPr>
        <p:spPr>
          <a:xfrm>
            <a:off x="7781760" y="1584360"/>
            <a:ext cx="2469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Straight Connector 78"/>
          <p:cNvSpPr/>
          <p:nvPr/>
        </p:nvSpPr>
        <p:spPr>
          <a:xfrm flipV="1">
            <a:off x="1460520" y="3544920"/>
            <a:ext cx="171360" cy="342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Straight Connector 80"/>
          <p:cNvSpPr/>
          <p:nvPr/>
        </p:nvSpPr>
        <p:spPr>
          <a:xfrm>
            <a:off x="1460520" y="3889440"/>
            <a:ext cx="171360" cy="3427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rc 84"/>
          <p:cNvSpPr/>
          <p:nvPr/>
        </p:nvSpPr>
        <p:spPr>
          <a:xfrm rot="2673000">
            <a:off x="1172880" y="3641400"/>
            <a:ext cx="493560" cy="493560"/>
          </a:xfrm>
          <a:custGeom>
            <a:avLst/>
            <a:gdLst>
              <a:gd name="textAreaLeft" fmla="*/ 246960 w 493560"/>
              <a:gd name="textAreaRight" fmla="*/ 493920 w 493560"/>
              <a:gd name="textAreaTop" fmla="*/ 0 h 493560"/>
              <a:gd name="textAreaBottom" fmla="*/ 246960 h 493560"/>
            </a:gdLst>
            <a:ahLst/>
            <a:rect l="textAreaLeft" t="textAreaTop" r="textAreaRight" b="textAreaBottom"/>
            <a:pathLst>
              <a:path stroke="0" w="493713" h="493713">
                <a:moveTo>
                  <a:pt x="246857" y="0"/>
                </a:moveTo>
                <a:lnTo>
                  <a:pt x="246856" y="0"/>
                </a:lnTo>
                <a:cubicBezTo>
                  <a:pt x="383192" y="0"/>
                  <a:pt x="493714" y="110521"/>
                  <a:pt x="493714" y="246857"/>
                </a:cubicBezTo>
                <a:cubicBezTo>
                  <a:pt x="493714" y="246857"/>
                  <a:pt x="493713" y="246857"/>
                  <a:pt x="493713" y="246857"/>
                </a:cubicBezTo>
                <a:lnTo>
                  <a:pt x="246857" y="246857"/>
                </a:lnTo>
                <a:lnTo>
                  <a:pt x="246857" y="0"/>
                </a:lnTo>
                <a:close/>
              </a:path>
              <a:path fill="none" w="493713" h="493713">
                <a:moveTo>
                  <a:pt x="246857" y="0"/>
                </a:moveTo>
                <a:lnTo>
                  <a:pt x="246856" y="0"/>
                </a:lnTo>
                <a:cubicBezTo>
                  <a:pt x="383192" y="0"/>
                  <a:pt x="493714" y="110521"/>
                  <a:pt x="493714" y="246857"/>
                </a:cubicBezTo>
                <a:cubicBezTo>
                  <a:pt x="493714" y="246857"/>
                  <a:pt x="493713" y="246857"/>
                  <a:pt x="493713" y="246857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Box 85"/>
          <p:cNvSpPr/>
          <p:nvPr/>
        </p:nvSpPr>
        <p:spPr>
          <a:xfrm>
            <a:off x="899640" y="1311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Box 86"/>
          <p:cNvSpPr/>
          <p:nvPr/>
        </p:nvSpPr>
        <p:spPr>
          <a:xfrm>
            <a:off x="1341720" y="1700280"/>
            <a:ext cx="2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Box 87"/>
          <p:cNvSpPr/>
          <p:nvPr/>
        </p:nvSpPr>
        <p:spPr>
          <a:xfrm>
            <a:off x="6602040" y="25066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5" name="Straight Arrow Connector 90"/>
          <p:cNvCxnSpPr>
            <a:endCxn id="61" idx="1"/>
          </p:cNvCxnSpPr>
          <p:nvPr/>
        </p:nvCxnSpPr>
        <p:spPr>
          <a:xfrm>
            <a:off x="1346040" y="2909520"/>
            <a:ext cx="5060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TextBox 87"/>
          <p:cNvSpPr/>
          <p:nvPr/>
        </p:nvSpPr>
        <p:spPr>
          <a:xfrm>
            <a:off x="6133680" y="26798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5032440" y="1355760"/>
            <a:ext cx="914400" cy="4572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Quantizat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53"/>
          <p:cNvSpPr/>
          <p:nvPr/>
        </p:nvSpPr>
        <p:spPr>
          <a:xfrm>
            <a:off x="1806480" y="1297080"/>
            <a:ext cx="155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ediction Residua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54"/>
          <p:cNvSpPr/>
          <p:nvPr/>
        </p:nvSpPr>
        <p:spPr>
          <a:xfrm>
            <a:off x="1347840" y="2232000"/>
            <a:ext cx="9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edi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55"/>
          <p:cNvSpPr/>
          <p:nvPr/>
        </p:nvSpPr>
        <p:spPr>
          <a:xfrm>
            <a:off x="136440" y="1355760"/>
            <a:ext cx="63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put Fra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56"/>
          <p:cNvSpPr/>
          <p:nvPr/>
        </p:nvSpPr>
        <p:spPr>
          <a:xfrm>
            <a:off x="4073400" y="4686480"/>
            <a:ext cx="126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tion Vect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57"/>
          <p:cNvSpPr/>
          <p:nvPr/>
        </p:nvSpPr>
        <p:spPr>
          <a:xfrm>
            <a:off x="7971120" y="142560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tstrea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58"/>
          <p:cNvSpPr/>
          <p:nvPr/>
        </p:nvSpPr>
        <p:spPr>
          <a:xfrm>
            <a:off x="7940880" y="4753080"/>
            <a:ext cx="95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tstrea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AutoShape 59"/>
          <p:cNvSpPr/>
          <p:nvPr/>
        </p:nvSpPr>
        <p:spPr>
          <a:xfrm rot="4804200">
            <a:off x="4629960" y="2967480"/>
            <a:ext cx="922320" cy="346320"/>
          </a:xfrm>
          <a:prstGeom prst="rightArrow">
            <a:avLst>
              <a:gd name="adj1" fmla="val 50000"/>
              <a:gd name="adj2" fmla="val 66580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60"/>
          <p:cNvSpPr/>
          <p:nvPr/>
        </p:nvSpPr>
        <p:spPr>
          <a:xfrm>
            <a:off x="2228760" y="1873080"/>
            <a:ext cx="3975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ff5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Tahoma"/>
              </a:rPr>
              <a:t>Separable Adaptive Loop Filters for P/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68120" indent="-168120">
              <a:buClr>
                <a:srgbClr val="ff5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Tahoma"/>
              </a:rPr>
              <a:t>Non-Separable Filters for I Pictures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68120" indent="-168120">
              <a:buClr>
                <a:srgbClr val="ff5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Tahoma"/>
              </a:rPr>
              <a:t>Use Quadtree to signal filter on/of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Straight Connector 61"/>
          <p:cNvSpPr/>
          <p:nvPr/>
        </p:nvSpPr>
        <p:spPr>
          <a:xfrm flipH="1">
            <a:off x="5486040" y="4118040"/>
            <a:ext cx="3240" cy="68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7" name="Straight Arrow Connector 64"/>
          <p:cNvCxnSpPr/>
          <p:nvPr/>
        </p:nvCxnSpPr>
        <p:spPr>
          <a:xfrm>
            <a:off x="5486400" y="4800600"/>
            <a:ext cx="137232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Text Box 60"/>
          <p:cNvSpPr/>
          <p:nvPr/>
        </p:nvSpPr>
        <p:spPr>
          <a:xfrm>
            <a:off x="5429160" y="411480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ff5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Tahoma"/>
              </a:rPr>
              <a:t>Filter coeffici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68120" indent="-168120">
              <a:buClr>
                <a:srgbClr val="ff5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Tahoma"/>
              </a:rPr>
              <a:t>Quadtree structu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AEBF-5866-473C-9760-FFDDA618A2CE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12840"/>
            <a:ext cx="77724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Quadtree Partition and Signaling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grpSp>
        <p:nvGrpSpPr>
          <p:cNvPr id="111" name="Group 95"/>
          <p:cNvGrpSpPr/>
          <p:nvPr/>
        </p:nvGrpSpPr>
        <p:grpSpPr>
          <a:xfrm>
            <a:off x="399960" y="1243080"/>
            <a:ext cx="3672000" cy="3686040"/>
            <a:chOff x="399960" y="1243080"/>
            <a:chExt cx="3672000" cy="3686040"/>
          </a:xfrm>
        </p:grpSpPr>
        <p:sp>
          <p:nvSpPr>
            <p:cNvPr id="112" name="Rectangle 14"/>
            <p:cNvSpPr/>
            <p:nvPr/>
          </p:nvSpPr>
          <p:spPr>
            <a:xfrm>
              <a:off x="2228760" y="1243080"/>
              <a:ext cx="1843200" cy="184284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15"/>
            <p:cNvSpPr/>
            <p:nvPr/>
          </p:nvSpPr>
          <p:spPr>
            <a:xfrm>
              <a:off x="399960" y="3085920"/>
              <a:ext cx="1843200" cy="184320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Rectangle 16"/>
            <p:cNvSpPr/>
            <p:nvPr/>
          </p:nvSpPr>
          <p:spPr>
            <a:xfrm>
              <a:off x="399960" y="1251000"/>
              <a:ext cx="922320" cy="9205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>
              <a:off x="399960" y="2165400"/>
              <a:ext cx="922320" cy="9205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Rectangle 18"/>
            <p:cNvSpPr/>
            <p:nvPr/>
          </p:nvSpPr>
          <p:spPr>
            <a:xfrm>
              <a:off x="3149640" y="4008600"/>
              <a:ext cx="922320" cy="9205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Rectangle 19"/>
            <p:cNvSpPr/>
            <p:nvPr/>
          </p:nvSpPr>
          <p:spPr>
            <a:xfrm>
              <a:off x="1306440" y="2165400"/>
              <a:ext cx="922320" cy="9205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3149640" y="3085920"/>
              <a:ext cx="922320" cy="9205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Rectangle 21"/>
            <p:cNvSpPr/>
            <p:nvPr/>
          </p:nvSpPr>
          <p:spPr>
            <a:xfrm>
              <a:off x="2228760" y="4008600"/>
              <a:ext cx="922320" cy="9205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Rectangle 22"/>
            <p:cNvSpPr/>
            <p:nvPr/>
          </p:nvSpPr>
          <p:spPr>
            <a:xfrm>
              <a:off x="1314360" y="1253880"/>
              <a:ext cx="460080" cy="46008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Rectangle 23"/>
            <p:cNvSpPr/>
            <p:nvPr/>
          </p:nvSpPr>
          <p:spPr>
            <a:xfrm>
              <a:off x="2689200" y="3546360"/>
              <a:ext cx="460080" cy="46008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24"/>
            <p:cNvSpPr/>
            <p:nvPr/>
          </p:nvSpPr>
          <p:spPr>
            <a:xfrm>
              <a:off x="1774800" y="1253880"/>
              <a:ext cx="460080" cy="46008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Rectangle 25"/>
            <p:cNvSpPr/>
            <p:nvPr/>
          </p:nvSpPr>
          <p:spPr>
            <a:xfrm>
              <a:off x="1314360" y="1714320"/>
              <a:ext cx="460080" cy="46008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Rectangle 26"/>
            <p:cNvSpPr/>
            <p:nvPr/>
          </p:nvSpPr>
          <p:spPr>
            <a:xfrm>
              <a:off x="1774800" y="1714320"/>
              <a:ext cx="460080" cy="46008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27"/>
            <p:cNvSpPr/>
            <p:nvPr/>
          </p:nvSpPr>
          <p:spPr>
            <a:xfrm>
              <a:off x="2689200" y="3085920"/>
              <a:ext cx="460080" cy="46008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28"/>
            <p:cNvSpPr/>
            <p:nvPr/>
          </p:nvSpPr>
          <p:spPr>
            <a:xfrm>
              <a:off x="2228760" y="3546360"/>
              <a:ext cx="460080" cy="46008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29"/>
            <p:cNvSpPr/>
            <p:nvPr/>
          </p:nvSpPr>
          <p:spPr>
            <a:xfrm>
              <a:off x="2228760" y="3085920"/>
              <a:ext cx="230040" cy="2300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2459160" y="3316320"/>
              <a:ext cx="230040" cy="2300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Rectangle 31"/>
            <p:cNvSpPr/>
            <p:nvPr/>
          </p:nvSpPr>
          <p:spPr>
            <a:xfrm>
              <a:off x="2459160" y="3085920"/>
              <a:ext cx="230040" cy="23004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Rectangle 32"/>
            <p:cNvSpPr/>
            <p:nvPr/>
          </p:nvSpPr>
          <p:spPr>
            <a:xfrm>
              <a:off x="2228760" y="3316320"/>
              <a:ext cx="230040" cy="23004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1" name="Octagon 21"/>
          <p:cNvSpPr/>
          <p:nvPr/>
        </p:nvSpPr>
        <p:spPr>
          <a:xfrm>
            <a:off x="6686640" y="114300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Octagon 22"/>
          <p:cNvSpPr/>
          <p:nvPr/>
        </p:nvSpPr>
        <p:spPr>
          <a:xfrm>
            <a:off x="6229440" y="251460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ctagon 23"/>
          <p:cNvSpPr/>
          <p:nvPr/>
        </p:nvSpPr>
        <p:spPr>
          <a:xfrm>
            <a:off x="5772240" y="251460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ctagon 24"/>
          <p:cNvSpPr/>
          <p:nvPr/>
        </p:nvSpPr>
        <p:spPr>
          <a:xfrm>
            <a:off x="5315040" y="251460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Octagon 25"/>
          <p:cNvSpPr/>
          <p:nvPr/>
        </p:nvSpPr>
        <p:spPr>
          <a:xfrm>
            <a:off x="4861080" y="251460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ctagon 26"/>
          <p:cNvSpPr/>
          <p:nvPr/>
        </p:nvSpPr>
        <p:spPr>
          <a:xfrm>
            <a:off x="8553600" y="251460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Octagon 27"/>
          <p:cNvSpPr/>
          <p:nvPr/>
        </p:nvSpPr>
        <p:spPr>
          <a:xfrm>
            <a:off x="8134200" y="251460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Octagon 28"/>
          <p:cNvSpPr/>
          <p:nvPr/>
        </p:nvSpPr>
        <p:spPr>
          <a:xfrm>
            <a:off x="7715160" y="255276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ctagon 29"/>
          <p:cNvSpPr/>
          <p:nvPr/>
        </p:nvSpPr>
        <p:spPr>
          <a:xfrm>
            <a:off x="7257960" y="255276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Octagon 30"/>
          <p:cNvSpPr/>
          <p:nvPr/>
        </p:nvSpPr>
        <p:spPr>
          <a:xfrm>
            <a:off x="5884920" y="331488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Octagon 31"/>
          <p:cNvSpPr/>
          <p:nvPr/>
        </p:nvSpPr>
        <p:spPr>
          <a:xfrm>
            <a:off x="5504040" y="331488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Octagon 32"/>
          <p:cNvSpPr/>
          <p:nvPr/>
        </p:nvSpPr>
        <p:spPr>
          <a:xfrm>
            <a:off x="5122800" y="331488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Octagon 33"/>
          <p:cNvSpPr/>
          <p:nvPr/>
        </p:nvSpPr>
        <p:spPr>
          <a:xfrm>
            <a:off x="4741920" y="331488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Octagon 34"/>
          <p:cNvSpPr/>
          <p:nvPr/>
        </p:nvSpPr>
        <p:spPr>
          <a:xfrm>
            <a:off x="7791480" y="335268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Octagon 35"/>
          <p:cNvSpPr/>
          <p:nvPr/>
        </p:nvSpPr>
        <p:spPr>
          <a:xfrm>
            <a:off x="7410600" y="335268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Octagon 36"/>
          <p:cNvSpPr/>
          <p:nvPr/>
        </p:nvSpPr>
        <p:spPr>
          <a:xfrm>
            <a:off x="7105680" y="335268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Octagon 37"/>
          <p:cNvSpPr/>
          <p:nvPr/>
        </p:nvSpPr>
        <p:spPr>
          <a:xfrm>
            <a:off x="6686640" y="335268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Octagon 38"/>
          <p:cNvSpPr/>
          <p:nvPr/>
        </p:nvSpPr>
        <p:spPr>
          <a:xfrm>
            <a:off x="6991200" y="400068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Octagon 39"/>
          <p:cNvSpPr/>
          <p:nvPr/>
        </p:nvSpPr>
        <p:spPr>
          <a:xfrm>
            <a:off x="6648480" y="400068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Octagon 40"/>
          <p:cNvSpPr/>
          <p:nvPr/>
        </p:nvSpPr>
        <p:spPr>
          <a:xfrm>
            <a:off x="6267600" y="400068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Octagon 41"/>
          <p:cNvSpPr/>
          <p:nvPr/>
        </p:nvSpPr>
        <p:spPr>
          <a:xfrm>
            <a:off x="5924520" y="400068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Octagon 42"/>
          <p:cNvSpPr/>
          <p:nvPr/>
        </p:nvSpPr>
        <p:spPr>
          <a:xfrm>
            <a:off x="7067520" y="179064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Octagon 43"/>
          <p:cNvSpPr/>
          <p:nvPr/>
        </p:nvSpPr>
        <p:spPr>
          <a:xfrm>
            <a:off x="7829640" y="179064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Octagon 44"/>
          <p:cNvSpPr/>
          <p:nvPr/>
        </p:nvSpPr>
        <p:spPr>
          <a:xfrm>
            <a:off x="5543640" y="179064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Octagon 45"/>
          <p:cNvSpPr/>
          <p:nvPr/>
        </p:nvSpPr>
        <p:spPr>
          <a:xfrm>
            <a:off x="6343560" y="179064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Diamond 46"/>
          <p:cNvSpPr/>
          <p:nvPr/>
        </p:nvSpPr>
        <p:spPr>
          <a:xfrm>
            <a:off x="6305400" y="2019240"/>
            <a:ext cx="304920" cy="304920"/>
          </a:xfrm>
          <a:prstGeom prst="diamond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Diamond 47"/>
          <p:cNvSpPr/>
          <p:nvPr/>
        </p:nvSpPr>
        <p:spPr>
          <a:xfrm>
            <a:off x="7029360" y="2019240"/>
            <a:ext cx="304920" cy="304920"/>
          </a:xfrm>
          <a:prstGeom prst="diamond">
            <a:avLst/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Diamond 48"/>
          <p:cNvSpPr/>
          <p:nvPr/>
        </p:nvSpPr>
        <p:spPr>
          <a:xfrm>
            <a:off x="4819680" y="2743200"/>
            <a:ext cx="304920" cy="304920"/>
          </a:xfrm>
          <a:prstGeom prst="diamond">
            <a:avLst/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Diamond 49"/>
          <p:cNvSpPr/>
          <p:nvPr/>
        </p:nvSpPr>
        <p:spPr>
          <a:xfrm>
            <a:off x="5084640" y="3543480"/>
            <a:ext cx="304920" cy="304560"/>
          </a:xfrm>
          <a:prstGeom prst="diamond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Diamond 50"/>
          <p:cNvSpPr/>
          <p:nvPr/>
        </p:nvSpPr>
        <p:spPr>
          <a:xfrm>
            <a:off x="6191280" y="2743200"/>
            <a:ext cx="304920" cy="304920"/>
          </a:xfrm>
          <a:prstGeom prst="diamond">
            <a:avLst/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Diamond 51"/>
          <p:cNvSpPr/>
          <p:nvPr/>
        </p:nvSpPr>
        <p:spPr>
          <a:xfrm>
            <a:off x="5734080" y="2760840"/>
            <a:ext cx="304920" cy="304560"/>
          </a:xfrm>
          <a:prstGeom prst="diamond">
            <a:avLst/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Diamond 52"/>
          <p:cNvSpPr/>
          <p:nvPr/>
        </p:nvSpPr>
        <p:spPr>
          <a:xfrm>
            <a:off x="7699320" y="2781360"/>
            <a:ext cx="304920" cy="304920"/>
          </a:xfrm>
          <a:prstGeom prst="diamond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Diamond 53"/>
          <p:cNvSpPr/>
          <p:nvPr/>
        </p:nvSpPr>
        <p:spPr>
          <a:xfrm>
            <a:off x="8096400" y="2743200"/>
            <a:ext cx="304560" cy="304920"/>
          </a:xfrm>
          <a:prstGeom prst="diamond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Diamond 54"/>
          <p:cNvSpPr/>
          <p:nvPr/>
        </p:nvSpPr>
        <p:spPr>
          <a:xfrm>
            <a:off x="8515440" y="2743200"/>
            <a:ext cx="304560" cy="304920"/>
          </a:xfrm>
          <a:prstGeom prst="diamond">
            <a:avLst/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Diamond 55"/>
          <p:cNvSpPr/>
          <p:nvPr/>
        </p:nvSpPr>
        <p:spPr>
          <a:xfrm>
            <a:off x="4705200" y="3543480"/>
            <a:ext cx="304920" cy="304560"/>
          </a:xfrm>
          <a:prstGeom prst="diamond">
            <a:avLst/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Diamond 56"/>
          <p:cNvSpPr/>
          <p:nvPr/>
        </p:nvSpPr>
        <p:spPr>
          <a:xfrm>
            <a:off x="5465880" y="3543480"/>
            <a:ext cx="304560" cy="304560"/>
          </a:xfrm>
          <a:prstGeom prst="diamond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Diamond 57"/>
          <p:cNvSpPr/>
          <p:nvPr/>
        </p:nvSpPr>
        <p:spPr>
          <a:xfrm>
            <a:off x="5846760" y="3543480"/>
            <a:ext cx="304920" cy="304560"/>
          </a:xfrm>
          <a:prstGeom prst="diamond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Diamond 58"/>
          <p:cNvSpPr/>
          <p:nvPr/>
        </p:nvSpPr>
        <p:spPr>
          <a:xfrm>
            <a:off x="7067520" y="3581280"/>
            <a:ext cx="304920" cy="304920"/>
          </a:xfrm>
          <a:prstGeom prst="diamond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Diamond 59"/>
          <p:cNvSpPr/>
          <p:nvPr/>
        </p:nvSpPr>
        <p:spPr>
          <a:xfrm>
            <a:off x="7372440" y="3581280"/>
            <a:ext cx="304560" cy="304920"/>
          </a:xfrm>
          <a:prstGeom prst="diamond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Diamond 60"/>
          <p:cNvSpPr/>
          <p:nvPr/>
        </p:nvSpPr>
        <p:spPr>
          <a:xfrm>
            <a:off x="7753320" y="3581280"/>
            <a:ext cx="304920" cy="304920"/>
          </a:xfrm>
          <a:prstGeom prst="diamond">
            <a:avLst/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Diamond 61"/>
          <p:cNvSpPr/>
          <p:nvPr/>
        </p:nvSpPr>
        <p:spPr>
          <a:xfrm>
            <a:off x="6229440" y="4229280"/>
            <a:ext cx="304560" cy="304560"/>
          </a:xfrm>
          <a:prstGeom prst="diamond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Diamond 62"/>
          <p:cNvSpPr/>
          <p:nvPr/>
        </p:nvSpPr>
        <p:spPr>
          <a:xfrm>
            <a:off x="6610320" y="4229280"/>
            <a:ext cx="304920" cy="304560"/>
          </a:xfrm>
          <a:prstGeom prst="diamond">
            <a:avLst/>
          </a:prstGeom>
          <a:solidFill>
            <a:srgbClr val="ffc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Diamond 63"/>
          <p:cNvSpPr/>
          <p:nvPr/>
        </p:nvSpPr>
        <p:spPr>
          <a:xfrm>
            <a:off x="6953400" y="4229280"/>
            <a:ext cx="304560" cy="304560"/>
          </a:xfrm>
          <a:prstGeom prst="diamond">
            <a:avLst/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Diamond 64"/>
          <p:cNvSpPr/>
          <p:nvPr/>
        </p:nvSpPr>
        <p:spPr>
          <a:xfrm>
            <a:off x="5886360" y="4229280"/>
            <a:ext cx="304920" cy="304560"/>
          </a:xfrm>
          <a:prstGeom prst="diamond">
            <a:avLst/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Straight Connector 65"/>
          <p:cNvSpPr/>
          <p:nvPr/>
        </p:nvSpPr>
        <p:spPr>
          <a:xfrm flipH="1">
            <a:off x="5705280" y="1304280"/>
            <a:ext cx="981000" cy="4856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traight Connector 66"/>
          <p:cNvSpPr/>
          <p:nvPr/>
        </p:nvSpPr>
        <p:spPr>
          <a:xfrm>
            <a:off x="6915240" y="1305000"/>
            <a:ext cx="981000" cy="4856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traight Connector 67"/>
          <p:cNvSpPr/>
          <p:nvPr/>
        </p:nvSpPr>
        <p:spPr>
          <a:xfrm flipH="1">
            <a:off x="6505560" y="1371600"/>
            <a:ext cx="247680" cy="4190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traight Connector 68"/>
          <p:cNvSpPr/>
          <p:nvPr/>
        </p:nvSpPr>
        <p:spPr>
          <a:xfrm>
            <a:off x="6847920" y="1371600"/>
            <a:ext cx="285480" cy="41904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Straight Connector 69"/>
          <p:cNvSpPr/>
          <p:nvPr/>
        </p:nvSpPr>
        <p:spPr>
          <a:xfrm flipH="1">
            <a:off x="5022360" y="1951920"/>
            <a:ext cx="520920" cy="56196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Straight Connector 70"/>
          <p:cNvSpPr/>
          <p:nvPr/>
        </p:nvSpPr>
        <p:spPr>
          <a:xfrm flipH="1">
            <a:off x="5477040" y="2019240"/>
            <a:ext cx="133200" cy="49536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Straight Connector 71"/>
          <p:cNvSpPr/>
          <p:nvPr/>
        </p:nvSpPr>
        <p:spPr>
          <a:xfrm>
            <a:off x="5705640" y="2019240"/>
            <a:ext cx="133200" cy="49536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Straight Connector 72"/>
          <p:cNvSpPr/>
          <p:nvPr/>
        </p:nvSpPr>
        <p:spPr>
          <a:xfrm>
            <a:off x="5772240" y="1952640"/>
            <a:ext cx="523800" cy="56196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Straight Connector 73"/>
          <p:cNvSpPr/>
          <p:nvPr/>
        </p:nvSpPr>
        <p:spPr>
          <a:xfrm flipH="1">
            <a:off x="7876800" y="2019240"/>
            <a:ext cx="19080" cy="53352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Straight Connector 74"/>
          <p:cNvSpPr/>
          <p:nvPr/>
        </p:nvSpPr>
        <p:spPr>
          <a:xfrm flipH="1">
            <a:off x="7419960" y="1951920"/>
            <a:ext cx="409680" cy="60012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Straight Connector 75"/>
          <p:cNvSpPr/>
          <p:nvPr/>
        </p:nvSpPr>
        <p:spPr>
          <a:xfrm>
            <a:off x="7991640" y="2019240"/>
            <a:ext cx="209520" cy="49536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Straight Connector 76"/>
          <p:cNvSpPr/>
          <p:nvPr/>
        </p:nvSpPr>
        <p:spPr>
          <a:xfrm>
            <a:off x="8058240" y="1952640"/>
            <a:ext cx="561960" cy="56196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>
            <a:off x="4903920" y="2675880"/>
            <a:ext cx="411120" cy="6382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>
            <a:off x="5284440" y="2743200"/>
            <a:ext cx="96840" cy="5716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traight Connector 79"/>
          <p:cNvSpPr/>
          <p:nvPr/>
        </p:nvSpPr>
        <p:spPr>
          <a:xfrm>
            <a:off x="5477040" y="2743200"/>
            <a:ext cx="93600" cy="5716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Straight Connector 80"/>
          <p:cNvSpPr/>
          <p:nvPr/>
        </p:nvSpPr>
        <p:spPr>
          <a:xfrm>
            <a:off x="5543640" y="2676600"/>
            <a:ext cx="407880" cy="6382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Straight Connector 81"/>
          <p:cNvSpPr/>
          <p:nvPr/>
        </p:nvSpPr>
        <p:spPr>
          <a:xfrm flipH="1">
            <a:off x="7267680" y="2781360"/>
            <a:ext cx="56880" cy="57132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6848280" y="2714760"/>
            <a:ext cx="409320" cy="63792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Straight Connector 83"/>
          <p:cNvSpPr/>
          <p:nvPr/>
        </p:nvSpPr>
        <p:spPr>
          <a:xfrm>
            <a:off x="7419240" y="2781360"/>
            <a:ext cx="57240" cy="57132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Straight Connector 84"/>
          <p:cNvSpPr/>
          <p:nvPr/>
        </p:nvSpPr>
        <p:spPr>
          <a:xfrm>
            <a:off x="7486560" y="2619360"/>
            <a:ext cx="371520" cy="73332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Straight Connector 85"/>
          <p:cNvSpPr/>
          <p:nvPr/>
        </p:nvSpPr>
        <p:spPr>
          <a:xfrm flipH="1">
            <a:off x="6086160" y="3514680"/>
            <a:ext cx="600120" cy="48600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Straight Connector 86"/>
          <p:cNvSpPr/>
          <p:nvPr/>
        </p:nvSpPr>
        <p:spPr>
          <a:xfrm flipH="1">
            <a:off x="6429240" y="3581280"/>
            <a:ext cx="324000" cy="41940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Straight Connector 87"/>
          <p:cNvSpPr/>
          <p:nvPr/>
        </p:nvSpPr>
        <p:spPr>
          <a:xfrm flipH="1">
            <a:off x="6714720" y="3581280"/>
            <a:ext cx="133560" cy="41940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Straight Connector 88"/>
          <p:cNvSpPr/>
          <p:nvPr/>
        </p:nvSpPr>
        <p:spPr>
          <a:xfrm>
            <a:off x="6915240" y="3514680"/>
            <a:ext cx="142920" cy="48600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Octagon 89"/>
          <p:cNvSpPr/>
          <p:nvPr/>
        </p:nvSpPr>
        <p:spPr>
          <a:xfrm>
            <a:off x="4441680" y="1230480"/>
            <a:ext cx="228600" cy="22860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Diamond 90"/>
          <p:cNvSpPr/>
          <p:nvPr/>
        </p:nvSpPr>
        <p:spPr>
          <a:xfrm>
            <a:off x="4400640" y="860400"/>
            <a:ext cx="304560" cy="304920"/>
          </a:xfrm>
          <a:prstGeom prst="diamond">
            <a:avLst/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Box 91"/>
          <p:cNvSpPr/>
          <p:nvPr/>
        </p:nvSpPr>
        <p:spPr>
          <a:xfrm>
            <a:off x="4670280" y="1165320"/>
            <a:ext cx="184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ock partition fla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Box 92"/>
          <p:cNvSpPr/>
          <p:nvPr/>
        </p:nvSpPr>
        <p:spPr>
          <a:xfrm>
            <a:off x="4670280" y="857160"/>
            <a:ext cx="184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on/off fla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TextBox 93"/>
          <p:cNvSpPr/>
          <p:nvPr/>
        </p:nvSpPr>
        <p:spPr>
          <a:xfrm>
            <a:off x="399960" y="50864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 quadtree part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Box 94"/>
          <p:cNvSpPr/>
          <p:nvPr/>
        </p:nvSpPr>
        <p:spPr>
          <a:xfrm>
            <a:off x="4971960" y="508644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 quadtree data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Box 96"/>
          <p:cNvSpPr/>
          <p:nvPr/>
        </p:nvSpPr>
        <p:spPr>
          <a:xfrm>
            <a:off x="457200" y="577224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quadtree partition is determined by multi-passes rate-distortion optim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DA36-5B38-43F5-A052-37C921E425F6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Non-Separable Filter for I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5966-8488-4EC3-AE06-733CBA295D98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" name="Group 96"/>
          <p:cNvGrpSpPr/>
          <p:nvPr/>
        </p:nvGrpSpPr>
        <p:grpSpPr>
          <a:xfrm>
            <a:off x="628560" y="1114560"/>
            <a:ext cx="3672000" cy="3686040"/>
            <a:chOff x="628560" y="1114560"/>
            <a:chExt cx="3672000" cy="3686040"/>
          </a:xfrm>
        </p:grpSpPr>
        <p:sp>
          <p:nvSpPr>
            <p:cNvPr id="210" name="Rectangle 14"/>
            <p:cNvSpPr/>
            <p:nvPr/>
          </p:nvSpPr>
          <p:spPr>
            <a:xfrm>
              <a:off x="2457360" y="1114560"/>
              <a:ext cx="1843200" cy="184284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Rectangle 15"/>
            <p:cNvSpPr/>
            <p:nvPr/>
          </p:nvSpPr>
          <p:spPr>
            <a:xfrm>
              <a:off x="628560" y="2957400"/>
              <a:ext cx="1843200" cy="184320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Rectangle 16"/>
            <p:cNvSpPr/>
            <p:nvPr/>
          </p:nvSpPr>
          <p:spPr>
            <a:xfrm>
              <a:off x="628560" y="1122480"/>
              <a:ext cx="922320" cy="9205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Rectangle 17"/>
            <p:cNvSpPr/>
            <p:nvPr/>
          </p:nvSpPr>
          <p:spPr>
            <a:xfrm>
              <a:off x="628560" y="2036880"/>
              <a:ext cx="922320" cy="9205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Rectangle 18"/>
            <p:cNvSpPr/>
            <p:nvPr/>
          </p:nvSpPr>
          <p:spPr>
            <a:xfrm>
              <a:off x="3378240" y="3880080"/>
              <a:ext cx="922320" cy="9205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Rectangle 19"/>
            <p:cNvSpPr/>
            <p:nvPr/>
          </p:nvSpPr>
          <p:spPr>
            <a:xfrm>
              <a:off x="1535040" y="2036880"/>
              <a:ext cx="922320" cy="9205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Rectangle 20"/>
            <p:cNvSpPr/>
            <p:nvPr/>
          </p:nvSpPr>
          <p:spPr>
            <a:xfrm>
              <a:off x="3378240" y="2957400"/>
              <a:ext cx="922320" cy="9205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21"/>
            <p:cNvSpPr/>
            <p:nvPr/>
          </p:nvSpPr>
          <p:spPr>
            <a:xfrm>
              <a:off x="2457360" y="3880080"/>
              <a:ext cx="922320" cy="9205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Rectangle 22"/>
            <p:cNvSpPr/>
            <p:nvPr/>
          </p:nvSpPr>
          <p:spPr>
            <a:xfrm>
              <a:off x="1542960" y="1125360"/>
              <a:ext cx="460080" cy="46008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23"/>
            <p:cNvSpPr/>
            <p:nvPr/>
          </p:nvSpPr>
          <p:spPr>
            <a:xfrm>
              <a:off x="2917800" y="3417840"/>
              <a:ext cx="460080" cy="46008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Rectangle 24"/>
            <p:cNvSpPr/>
            <p:nvPr/>
          </p:nvSpPr>
          <p:spPr>
            <a:xfrm>
              <a:off x="2003400" y="1125360"/>
              <a:ext cx="460080" cy="46008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25"/>
            <p:cNvSpPr/>
            <p:nvPr/>
          </p:nvSpPr>
          <p:spPr>
            <a:xfrm>
              <a:off x="1542960" y="1585800"/>
              <a:ext cx="460080" cy="46008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Rectangle 26"/>
            <p:cNvSpPr/>
            <p:nvPr/>
          </p:nvSpPr>
          <p:spPr>
            <a:xfrm>
              <a:off x="2003400" y="1585800"/>
              <a:ext cx="460080" cy="46008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27"/>
            <p:cNvSpPr/>
            <p:nvPr/>
          </p:nvSpPr>
          <p:spPr>
            <a:xfrm>
              <a:off x="2917800" y="2957400"/>
              <a:ext cx="460080" cy="46008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28"/>
            <p:cNvSpPr/>
            <p:nvPr/>
          </p:nvSpPr>
          <p:spPr>
            <a:xfrm>
              <a:off x="2457360" y="3417840"/>
              <a:ext cx="460080" cy="46008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29"/>
            <p:cNvSpPr/>
            <p:nvPr/>
          </p:nvSpPr>
          <p:spPr>
            <a:xfrm>
              <a:off x="2457360" y="2957400"/>
              <a:ext cx="230040" cy="2300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30"/>
            <p:cNvSpPr/>
            <p:nvPr/>
          </p:nvSpPr>
          <p:spPr>
            <a:xfrm>
              <a:off x="2687760" y="3187800"/>
              <a:ext cx="230040" cy="2300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Rectangle 31"/>
            <p:cNvSpPr/>
            <p:nvPr/>
          </p:nvSpPr>
          <p:spPr>
            <a:xfrm>
              <a:off x="2687760" y="2957400"/>
              <a:ext cx="230040" cy="23004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Rectangle 32"/>
            <p:cNvSpPr/>
            <p:nvPr/>
          </p:nvSpPr>
          <p:spPr>
            <a:xfrm>
              <a:off x="2457360" y="3187800"/>
              <a:ext cx="230040" cy="23004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9" name="TextBox 116"/>
          <p:cNvSpPr/>
          <p:nvPr/>
        </p:nvSpPr>
        <p:spPr>
          <a:xfrm>
            <a:off x="1333440" y="800280"/>
            <a:ext cx="20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cture X after Deblock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117"/>
          <p:cNvSpPr/>
          <p:nvPr/>
        </p:nvSpPr>
        <p:spPr>
          <a:xfrm>
            <a:off x="4743360" y="1143000"/>
            <a:ext cx="3657600" cy="3657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Box 118"/>
          <p:cNvSpPr/>
          <p:nvPr/>
        </p:nvSpPr>
        <p:spPr>
          <a:xfrm>
            <a:off x="5735520" y="80028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iginal Picture 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TextBox 119"/>
          <p:cNvSpPr/>
          <p:nvPr/>
        </p:nvSpPr>
        <p:spPr>
          <a:xfrm>
            <a:off x="571680" y="4915080"/>
            <a:ext cx="8286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maximize spatial quality, find zero-phase non-separable filter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DC bias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d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ich minimiz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3" name="Object 2"/>
          <p:cNvGraphicFramePr/>
          <p:nvPr/>
        </p:nvGraphicFramePr>
        <p:xfrm>
          <a:off x="2459160" y="5486400"/>
          <a:ext cx="4097160" cy="11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9160" y="5486400"/>
                    <a:ext cx="409716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Separable Filter for P and B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36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0F3A-3A91-48B3-B511-C5329750B8B3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7" name="Group 96"/>
          <p:cNvGrpSpPr/>
          <p:nvPr/>
        </p:nvGrpSpPr>
        <p:grpSpPr>
          <a:xfrm>
            <a:off x="628560" y="1114560"/>
            <a:ext cx="3672000" cy="3686040"/>
            <a:chOff x="628560" y="1114560"/>
            <a:chExt cx="3672000" cy="3686040"/>
          </a:xfrm>
        </p:grpSpPr>
        <p:sp>
          <p:nvSpPr>
            <p:cNvPr id="238" name="Rectangle 14"/>
            <p:cNvSpPr/>
            <p:nvPr/>
          </p:nvSpPr>
          <p:spPr>
            <a:xfrm>
              <a:off x="2457360" y="1114560"/>
              <a:ext cx="1843200" cy="184284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Rectangle 15"/>
            <p:cNvSpPr/>
            <p:nvPr/>
          </p:nvSpPr>
          <p:spPr>
            <a:xfrm>
              <a:off x="628560" y="2957400"/>
              <a:ext cx="1843200" cy="184320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Rectangle 16"/>
            <p:cNvSpPr/>
            <p:nvPr/>
          </p:nvSpPr>
          <p:spPr>
            <a:xfrm>
              <a:off x="628560" y="1122480"/>
              <a:ext cx="922320" cy="9205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17"/>
            <p:cNvSpPr/>
            <p:nvPr/>
          </p:nvSpPr>
          <p:spPr>
            <a:xfrm>
              <a:off x="628560" y="2036880"/>
              <a:ext cx="922320" cy="9205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18"/>
            <p:cNvSpPr/>
            <p:nvPr/>
          </p:nvSpPr>
          <p:spPr>
            <a:xfrm>
              <a:off x="3378240" y="3880080"/>
              <a:ext cx="922320" cy="9205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Rectangle 19"/>
            <p:cNvSpPr/>
            <p:nvPr/>
          </p:nvSpPr>
          <p:spPr>
            <a:xfrm>
              <a:off x="1535040" y="2036880"/>
              <a:ext cx="922320" cy="92052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20"/>
            <p:cNvSpPr/>
            <p:nvPr/>
          </p:nvSpPr>
          <p:spPr>
            <a:xfrm>
              <a:off x="3378240" y="2957400"/>
              <a:ext cx="922320" cy="9205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Rectangle 21"/>
            <p:cNvSpPr/>
            <p:nvPr/>
          </p:nvSpPr>
          <p:spPr>
            <a:xfrm>
              <a:off x="2457360" y="3880080"/>
              <a:ext cx="922320" cy="9205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Rectangle 22"/>
            <p:cNvSpPr/>
            <p:nvPr/>
          </p:nvSpPr>
          <p:spPr>
            <a:xfrm>
              <a:off x="1542960" y="1125360"/>
              <a:ext cx="460080" cy="46008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23"/>
            <p:cNvSpPr/>
            <p:nvPr/>
          </p:nvSpPr>
          <p:spPr>
            <a:xfrm>
              <a:off x="2917800" y="3417840"/>
              <a:ext cx="460080" cy="46008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24"/>
            <p:cNvSpPr/>
            <p:nvPr/>
          </p:nvSpPr>
          <p:spPr>
            <a:xfrm>
              <a:off x="2003400" y="1125360"/>
              <a:ext cx="460080" cy="46008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25"/>
            <p:cNvSpPr/>
            <p:nvPr/>
          </p:nvSpPr>
          <p:spPr>
            <a:xfrm>
              <a:off x="1542960" y="1585800"/>
              <a:ext cx="460080" cy="46008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Rectangle 26"/>
            <p:cNvSpPr/>
            <p:nvPr/>
          </p:nvSpPr>
          <p:spPr>
            <a:xfrm>
              <a:off x="2003400" y="1585800"/>
              <a:ext cx="460080" cy="46008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2917800" y="2957400"/>
              <a:ext cx="460080" cy="46008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457360" y="3417840"/>
              <a:ext cx="460080" cy="46008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2457360" y="2957400"/>
              <a:ext cx="230040" cy="2300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2687760" y="3187800"/>
              <a:ext cx="230040" cy="230040"/>
            </a:xfrm>
            <a:prstGeom prst="rect">
              <a:avLst/>
            </a:prstGeom>
            <a:solidFill>
              <a:srgbClr val="92d05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2687760" y="2957400"/>
              <a:ext cx="230040" cy="23004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2457360" y="3187800"/>
              <a:ext cx="230040" cy="23004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22360"/>
                  <a:tab algn="l" pos="1044720"/>
                  <a:tab algn="l" pos="1566720"/>
                  <a:tab algn="l" pos="2089080"/>
                  <a:tab algn="l" pos="2611440"/>
                  <a:tab algn="l" pos="3133800"/>
                  <a:tab algn="l" pos="3656160"/>
                  <a:tab algn="l" pos="4178160"/>
                  <a:tab algn="l" pos="4700520"/>
                  <a:tab algn="l" pos="5222880"/>
                  <a:tab algn="l" pos="5745240"/>
                  <a:tab algn="l" pos="6267600"/>
                  <a:tab algn="l" pos="6789600"/>
                  <a:tab algn="l" pos="7311960"/>
                  <a:tab algn="l" pos="7834320"/>
                  <a:tab algn="l" pos="8356680"/>
                  <a:tab algn="l" pos="8879040"/>
                  <a:tab algn="l" pos="9401040"/>
                  <a:tab algn="l" pos="9923400"/>
                  <a:tab algn="l" pos="1044576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FF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7" name="TextBox 116"/>
          <p:cNvSpPr/>
          <p:nvPr/>
        </p:nvSpPr>
        <p:spPr>
          <a:xfrm>
            <a:off x="1333440" y="800280"/>
            <a:ext cx="20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cture X after Deblock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117"/>
          <p:cNvSpPr/>
          <p:nvPr/>
        </p:nvSpPr>
        <p:spPr>
          <a:xfrm>
            <a:off x="4743360" y="1143000"/>
            <a:ext cx="3657600" cy="3657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Box 118"/>
          <p:cNvSpPr/>
          <p:nvPr/>
        </p:nvSpPr>
        <p:spPr>
          <a:xfrm>
            <a:off x="5735520" y="80028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iginal Picture 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Box 119"/>
          <p:cNvSpPr/>
          <p:nvPr/>
        </p:nvSpPr>
        <p:spPr>
          <a:xfrm>
            <a:off x="571680" y="4800600"/>
            <a:ext cx="82864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better temporal stability, find separable filter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DC bias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d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ich minimiz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1" name="Object 2"/>
          <p:cNvGraphicFramePr/>
          <p:nvPr/>
        </p:nvGraphicFramePr>
        <p:xfrm>
          <a:off x="1373040" y="5392800"/>
          <a:ext cx="662148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5392800"/>
                    <a:ext cx="662148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Experiment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mpare the BD performance and visual quality of using three combinations of separable and non-separable adaptive loop filters: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5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0DED-AB45-47B7-9B36-8C5B316F521A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942840" y="3486240"/>
          <a:ext cx="7431120" cy="2592360"/>
        </p:xfrm>
        <a:graphic>
          <a:graphicData uri="http://schemas.openxmlformats.org/drawingml/2006/table">
            <a:tbl>
              <a:tblPr/>
              <a:tblGrid>
                <a:gridCol w="2476800"/>
                <a:gridCol w="2198520"/>
                <a:gridCol w="2755800"/>
              </a:tblGrid>
              <a:tr h="790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 Case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ter Type for 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ter Type for P 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S -- 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-Separ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-Separ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S --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-Separ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ar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 --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ar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par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Testing Condition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llow the In-LoopFilter AhG recommendations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VCompetition           = 1  # Competition for motion vector predic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eIntraMDDT            = 1  # Use Mode Dependent Directional Transfor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eHPFilter             = 4  # Use High Precision filt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eAdaptiveLoopFilter   = 1  # Quadtree-based adaptive loop filter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eExtMB                = 2  # Use extended block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BitDepth           = 8  # InputBitDepth for IBD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itDepthLuma            = 12 # Bit Depth for Lumin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itDepthChroma          = 12 # Bit Depth for Chromina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aptiveRounding        = 0  # Disabled Adaptive Round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encoded QP values are QPI=26, 30, 34, 38; QPP=QPI+1; and QPB=QPI+3 with the following setting for B slice: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399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ierarchyLevelQPEnable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=  1  # Adjust QP based on Pyramid Level (in increments of 1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7619-D587-4BCB-97F1-2E25DE93D331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-25560"/>
            <a:ext cx="7772400" cy="13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Test Sequences and Coding Frame Number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71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86A9-779B-47FE-ACED-BDD79BAFC830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000080" y="1528920"/>
          <a:ext cx="7257960" cy="4889520"/>
        </p:xfrm>
        <a:graphic>
          <a:graphicData uri="http://schemas.openxmlformats.org/drawingml/2006/table">
            <a:tbl>
              <a:tblPr/>
              <a:tblGrid>
                <a:gridCol w="1541520"/>
                <a:gridCol w="1541520"/>
                <a:gridCol w="1000080"/>
                <a:gridCol w="1000080"/>
                <a:gridCol w="1087560"/>
                <a:gridCol w="1087200"/>
              </a:tblGrid>
              <a:tr h="23976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qu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Fr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mesToBeEnco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raPeriod for CS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 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ff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ople on Stre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o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kSce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row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ketballDr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QTerr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120"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ketballDri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QM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ySce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eHor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row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ketballP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QSqua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lowingBub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ceHors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row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yo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yo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yo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-R and BD-PSNR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8BE1-5079-4078-B1D4-8780B5243A68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5" name="Picture 4" descr="G:\2010.07 Sony submission\loopFilter\salf0_cs2_bdr.png"/>
          <p:cNvPicPr/>
          <p:nvPr/>
        </p:nvPicPr>
        <p:blipFill>
          <a:blip r:embed="rId1"/>
          <a:stretch/>
        </p:blipFill>
        <p:spPr>
          <a:xfrm>
            <a:off x="380880" y="3948120"/>
            <a:ext cx="4191120" cy="2628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G:\2010.07 Sony submission\loopFilter\salf0_cs2_bdpsnr.png"/>
          <p:cNvPicPr/>
          <p:nvPr/>
        </p:nvPicPr>
        <p:blipFill>
          <a:blip r:embed="rId2"/>
          <a:stretch/>
        </p:blipFill>
        <p:spPr>
          <a:xfrm>
            <a:off x="4572000" y="3948120"/>
            <a:ext cx="4191120" cy="2628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C:\Documents and Settings\auyeung\My Documents\sony\std meetings\JCTVC\2010.07 Sony submission\loopFilter\salf0_cs1_bdpsnr.png"/>
          <p:cNvPicPr/>
          <p:nvPr/>
        </p:nvPicPr>
        <p:blipFill>
          <a:blip r:embed="rId3"/>
          <a:stretch/>
        </p:blipFill>
        <p:spPr>
          <a:xfrm>
            <a:off x="4572000" y="1066680"/>
            <a:ext cx="4191120" cy="2629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C:\Documents and Settings\auyeung\My Documents\sony\std meetings\JCTVC\2010.07 Sony submission\loopFilter\salf0_cs1_bdr.png"/>
          <p:cNvPicPr/>
          <p:nvPr/>
        </p:nvPicPr>
        <p:blipFill>
          <a:blip r:embed="rId4"/>
          <a:stretch/>
        </p:blipFill>
        <p:spPr>
          <a:xfrm>
            <a:off x="380880" y="1066680"/>
            <a:ext cx="41911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Cheung Auyeung</cp:lastModifiedBy>
  <dcterms:modified xsi:type="dcterms:W3CDTF">2010-07-18T05:29:03Z</dcterms:modified>
  <cp:revision>4965</cp:revision>
  <dc:subject/>
  <dc:title>PowerPoint Presentation</dc:title>
</cp:coreProperties>
</file>