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853E-BBA2-4F6C-9BE6-2921077BDC1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16DA-85CE-4F32-8A3F-14D9E3351DB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B8DF-5F56-4B6F-9F78-4E3BF5DF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2B7D-6B4E-4B79-A9FF-423C6606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620E-2F8B-4EF1-8B1E-A0958BDC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09B3-E98C-4D07-BA61-D6DD1F95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CFFC8-F7C8-4DF1-B46F-E63AE5DC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4508-F321-40D9-88B0-5B6F1E10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8550-2457-4D95-8C24-3DAA4E8D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C35A-C186-4680-B40F-58C21816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53A8-27AC-484A-86A1-A27B5448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D8E3-0943-4CB9-8AB8-19201141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0FF2-948F-416B-A0FB-59D0C012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9798-064D-494E-B812-18095AC7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15B7-0F4C-4754-8AEE-9CDD7AA57E3B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3FAA-3323-4B0B-8221-5E925D798935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" y="1447920"/>
            <a:ext cx="87631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andara"/>
                <a:ea typeface="宋体"/>
              </a:rPr>
              <a:t>Differential Coding of Intra Modes (DCIM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andara"/>
                <a:ea typeface="宋体"/>
              </a:rPr>
              <a:t>JCTVC-B109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Candara"/>
                <a:ea typeface="宋体"/>
              </a:rPr>
              <a:t>E. Maani, W. Liu, A. Tabatabai, M. Gharav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andara"/>
              </a:rPr>
              <a:t>Overview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8377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720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ndara"/>
              </a:rPr>
              <a:t>Motivation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6613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Current AVC intra prediction has a coarsely quantized prediction directions (i.e., 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13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More precision in the prediction direction results in better prediction aka TMuC 0.0 (i.e., 3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13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With inefficient signaling adding more prediction directions will NOT produce compression gain especially in small block sizes (4x4 and 8x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5440" indent="-27684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Candara"/>
              </a:rPr>
              <a:t>Small block size prediction constitute a large percentage of the blocks in intra prediction of complex images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C496-274E-4EAB-A88B-59AC31C9BD24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85800" y="41148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ndara"/>
              </a:rPr>
              <a:t>Propos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6280" indent="-28908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Based on neighbors’ suggested direction (NSD), we propose  an efficient signaling of intra prediction direction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6280" indent="-289080">
              <a:lnSpc>
                <a:spcPct val="9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JCTVC-A0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99520"/>
            <a:ext cx="84582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andara"/>
              </a:rPr>
              <a:t>Neighbors’ Suggested Direct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894F-193D-4D7F-B2A3-BF9F0CF971CD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57400" y="3610080"/>
            <a:ext cx="14479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Current Bloc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057400" y="2390760"/>
            <a:ext cx="14479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3505320" y="2390760"/>
            <a:ext cx="144756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09480" y="2390760"/>
            <a:ext cx="14479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609480" y="3610080"/>
            <a:ext cx="144792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3" name="Straight Arrow Connector 17"/>
          <p:cNvCxnSpPr/>
          <p:nvPr/>
        </p:nvCxnSpPr>
        <p:spPr>
          <a:xfrm>
            <a:off x="609120" y="2314080"/>
            <a:ext cx="4420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" name="Straight Arrow Connector 19"/>
          <p:cNvCxnSpPr/>
          <p:nvPr/>
        </p:nvCxnSpPr>
        <p:spPr>
          <a:xfrm flipH="1">
            <a:off x="456840" y="2390400"/>
            <a:ext cx="216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5" name="TextBox 20"/>
          <p:cNvSpPr/>
          <p:nvPr/>
        </p:nvSpPr>
        <p:spPr>
          <a:xfrm>
            <a:off x="2372040" y="208584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W+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163800" y="33051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+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" name="Group 47"/>
          <p:cNvGrpSpPr/>
          <p:nvPr/>
        </p:nvGrpSpPr>
        <p:grpSpPr>
          <a:xfrm>
            <a:off x="2665800" y="2437920"/>
            <a:ext cx="991800" cy="914760"/>
            <a:chOff x="2665800" y="2437920"/>
            <a:chExt cx="991800" cy="914760"/>
          </a:xfrm>
        </p:grpSpPr>
        <p:cxnSp>
          <p:nvCxnSpPr>
            <p:cNvPr id="68" name="Straight Arrow Connector 23"/>
            <p:cNvCxnSpPr/>
            <p:nvPr/>
          </p:nvCxnSpPr>
          <p:spPr>
            <a:xfrm>
              <a:off x="3428640" y="3047400"/>
              <a:ext cx="22932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Straight Arrow Connector 26"/>
            <p:cNvCxnSpPr/>
            <p:nvPr/>
          </p:nvCxnSpPr>
          <p:spPr>
            <a:xfrm>
              <a:off x="3276360" y="3276360"/>
              <a:ext cx="229320" cy="7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" name="Straight Arrow Connector 29"/>
            <p:cNvCxnSpPr/>
            <p:nvPr/>
          </p:nvCxnSpPr>
          <p:spPr>
            <a:xfrm>
              <a:off x="2895120" y="2437920"/>
              <a:ext cx="3056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" name="Straight Arrow Connector 30"/>
            <p:cNvCxnSpPr/>
            <p:nvPr/>
          </p:nvCxnSpPr>
          <p:spPr>
            <a:xfrm>
              <a:off x="2665800" y="2514240"/>
              <a:ext cx="15300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2" name="Group 48"/>
          <p:cNvGrpSpPr/>
          <p:nvPr/>
        </p:nvGrpSpPr>
        <p:grpSpPr>
          <a:xfrm>
            <a:off x="420480" y="3612960"/>
            <a:ext cx="1664640" cy="581760"/>
            <a:chOff x="420480" y="3612960"/>
            <a:chExt cx="1664640" cy="581760"/>
          </a:xfrm>
        </p:grpSpPr>
        <p:cxnSp>
          <p:nvCxnSpPr>
            <p:cNvPr id="73" name="Straight Arrow Connector 49"/>
            <p:cNvCxnSpPr/>
            <p:nvPr/>
          </p:nvCxnSpPr>
          <p:spPr>
            <a:xfrm>
              <a:off x="1349640" y="3846960"/>
              <a:ext cx="315720" cy="73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4" name="Straight Arrow Connector 50"/>
            <p:cNvCxnSpPr/>
            <p:nvPr/>
          </p:nvCxnSpPr>
          <p:spPr>
            <a:xfrm>
              <a:off x="1341720" y="4122000"/>
              <a:ext cx="316080" cy="73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5" name="Straight Arrow Connector 51"/>
            <p:cNvCxnSpPr/>
            <p:nvPr/>
          </p:nvCxnSpPr>
          <p:spPr>
            <a:xfrm>
              <a:off x="993960" y="3709440"/>
              <a:ext cx="3160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6" name="Straight Arrow Connector 52"/>
            <p:cNvCxnSpPr/>
            <p:nvPr/>
          </p:nvCxnSpPr>
          <p:spPr>
            <a:xfrm>
              <a:off x="881280" y="3960360"/>
              <a:ext cx="315720" cy="73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7" name="Straight Arrow Connector 53"/>
            <p:cNvCxnSpPr/>
            <p:nvPr/>
          </p:nvCxnSpPr>
          <p:spPr>
            <a:xfrm>
              <a:off x="574200" y="3612960"/>
              <a:ext cx="315720" cy="73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" name="Straight Arrow Connector 54"/>
            <p:cNvCxnSpPr/>
            <p:nvPr/>
          </p:nvCxnSpPr>
          <p:spPr>
            <a:xfrm>
              <a:off x="420480" y="3798720"/>
              <a:ext cx="316080" cy="73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9" name="Straight Arrow Connector 58"/>
            <p:cNvCxnSpPr/>
            <p:nvPr/>
          </p:nvCxnSpPr>
          <p:spPr>
            <a:xfrm>
              <a:off x="1769760" y="3943800"/>
              <a:ext cx="315720" cy="73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80" name="Straight Arrow Connector 61"/>
          <p:cNvCxnSpPr/>
          <p:nvPr/>
        </p:nvCxnSpPr>
        <p:spPr>
          <a:xfrm>
            <a:off x="1523520" y="3997440"/>
            <a:ext cx="2515320" cy="9086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81" name="TextBox 64"/>
          <p:cNvSpPr/>
          <p:nvPr/>
        </p:nvSpPr>
        <p:spPr>
          <a:xfrm rot="1111200">
            <a:off x="1563120" y="4656240"/>
            <a:ext cx="3308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eighbors’ suggested direction (high precision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Box 66"/>
          <p:cNvSpPr/>
          <p:nvPr/>
        </p:nvSpPr>
        <p:spPr>
          <a:xfrm>
            <a:off x="338040" y="1447920"/>
            <a:ext cx="44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In a neighborhood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perform edge detection using for example Sobel operat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914400" y="3809880"/>
                <a:ext cx="165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84" name="Straight Arrow Connector 75"/>
          <p:cNvCxnSpPr/>
          <p:nvPr/>
        </p:nvCxnSpPr>
        <p:spPr>
          <a:xfrm flipV="1">
            <a:off x="6179760" y="2696760"/>
            <a:ext cx="76284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Straight Arrow Connector 76"/>
          <p:cNvCxnSpPr/>
          <p:nvPr/>
        </p:nvCxnSpPr>
        <p:spPr>
          <a:xfrm>
            <a:off x="6171840" y="2819520"/>
            <a:ext cx="30564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79"/>
          <p:cNvCxnSpPr/>
          <p:nvPr/>
        </p:nvCxnSpPr>
        <p:spPr>
          <a:xfrm>
            <a:off x="6172200" y="2819520"/>
            <a:ext cx="1296000" cy="38160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6089760" y="289548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6461280" y="2560680"/>
                <a:ext cx="177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9" name="Object 5"/>
          <p:cNvGraphicFramePr/>
          <p:nvPr/>
        </p:nvGraphicFramePr>
        <p:xfrm>
          <a:off x="7454880" y="3035160"/>
          <a:ext cx="152280" cy="2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4880" y="3035160"/>
                    <a:ext cx="15228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Arc 86"/>
          <p:cNvSpPr/>
          <p:nvPr/>
        </p:nvSpPr>
        <p:spPr>
          <a:xfrm rot="1014600">
            <a:off x="5814720" y="2410920"/>
            <a:ext cx="990360" cy="838440"/>
          </a:xfrm>
          <a:custGeom>
            <a:avLst/>
            <a:gdLst>
              <a:gd name="textAreaLeft" fmla="*/ 919080 w 990360"/>
              <a:gd name="textAreaRight" fmla="*/ 990720 w 990360"/>
              <a:gd name="textAreaTop" fmla="*/ 202320 h 838440"/>
              <a:gd name="textAreaBottom" fmla="*/ 419400 h 838440"/>
            </a:gdLst>
            <a:ahLst/>
            <a:rect l="textAreaLeft" t="textAreaTop" r="textAreaRight" b="textAreaBottom"/>
            <a:pathLst>
              <a:path stroke="0" w="990600" h="838200">
                <a:moveTo>
                  <a:pt x="919247" y="202393"/>
                </a:moveTo>
                <a:lnTo>
                  <a:pt x="919247" y="202393"/>
                </a:lnTo>
                <a:arcTo wR="495300" hR="419100" stAng="-1624473" swAng="1624479"/>
                <a:lnTo>
                  <a:pt x="495300" y="419100"/>
                </a:lnTo>
                <a:close/>
              </a:path>
              <a:path fill="none" w="990600" h="838200">
                <a:moveTo>
                  <a:pt x="919247" y="202393"/>
                </a:moveTo>
                <a:lnTo>
                  <a:pt x="919247" y="202393"/>
                </a:lnTo>
                <a:arcTo wR="495300" hR="419100" stAng="-1624473" swAng="1624479"/>
              </a:path>
            </a:pathLst>
          </a:cu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2" name="Object 6"/>
          <p:cNvGraphicFramePr/>
          <p:nvPr/>
        </p:nvGraphicFramePr>
        <p:xfrm>
          <a:off x="7461360" y="2743200"/>
          <a:ext cx="40644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1360" y="2743200"/>
                    <a:ext cx="4064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7"/>
          <p:cNvGraphicFramePr/>
          <p:nvPr/>
        </p:nvGraphicFramePr>
        <p:xfrm>
          <a:off x="6927840" y="3276720"/>
          <a:ext cx="41904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27840" y="3276720"/>
                    <a:ext cx="4190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Arc 87"/>
          <p:cNvSpPr/>
          <p:nvPr/>
        </p:nvSpPr>
        <p:spPr>
          <a:xfrm rot="2800200">
            <a:off x="5973480" y="2634840"/>
            <a:ext cx="533520" cy="457200"/>
          </a:xfrm>
          <a:custGeom>
            <a:avLst/>
            <a:gdLst>
              <a:gd name="textAreaLeft" fmla="*/ 493200 w 533520"/>
              <a:gd name="textAreaRight" fmla="*/ 532080 w 533520"/>
              <a:gd name="textAreaTop" fmla="*/ 107640 h 457200"/>
              <a:gd name="textAreaBottom" fmla="*/ 203760 h 457200"/>
            </a:gdLst>
            <a:ahLst/>
            <a:rect l="textAreaLeft" t="textAreaTop" r="textAreaRight" b="textAreaBottom"/>
            <a:pathLst>
              <a:path stroke="0" w="533400" h="457200">
                <a:moveTo>
                  <a:pt x="493039" y="107687"/>
                </a:moveTo>
                <a:lnTo>
                  <a:pt x="493039" y="107687"/>
                </a:lnTo>
                <a:arcTo wR="266700" hR="228600" stAng="-1686700" swAng="1364165"/>
                <a:lnTo>
                  <a:pt x="266700" y="228600"/>
                </a:lnTo>
                <a:close/>
              </a:path>
              <a:path fill="none" w="533400" h="457200">
                <a:moveTo>
                  <a:pt x="493039" y="107687"/>
                </a:moveTo>
                <a:lnTo>
                  <a:pt x="493039" y="107687"/>
                </a:lnTo>
                <a:arcTo wR="266700" hR="228600" stAng="-1686700" swAng="1364165"/>
              </a:path>
            </a:pathLst>
          </a:custGeom>
          <a:solidFill>
            <a:srgbClr val="606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7" name="Curved Connector 89"/>
          <p:cNvCxnSpPr/>
          <p:nvPr/>
        </p:nvCxnSpPr>
        <p:spPr>
          <a:xfrm rot="10800000">
            <a:off x="6552360" y="2818800"/>
            <a:ext cx="915120" cy="2160"/>
          </a:xfrm>
          <a:prstGeom prst="curvedConnector5">
            <a:avLst>
              <a:gd name="adj1" fmla="val 49980"/>
              <a:gd name="adj2" fmla="val 40000"/>
              <a:gd name="adj3" fmla="val 49980"/>
            </a:avLst>
          </a:prstGeom>
          <a:ln w="9360">
            <a:solidFill>
              <a:srgbClr val="000000"/>
            </a:solidFill>
            <a:prstDash val="dash"/>
            <a:miter/>
            <a:tailEnd len="lg" type="stealth" w="sm"/>
          </a:ln>
        </p:spPr>
      </p:cxnSp>
      <p:cxnSp>
        <p:nvCxnSpPr>
          <p:cNvPr id="98" name="Curved Connector 94"/>
          <p:cNvCxnSpPr/>
          <p:nvPr/>
        </p:nvCxnSpPr>
        <p:spPr>
          <a:xfrm rot="10800000">
            <a:off x="6346080" y="2940840"/>
            <a:ext cx="534240" cy="457920"/>
          </a:xfrm>
          <a:prstGeom prst="curvedConnector5">
            <a:avLst>
              <a:gd name="adj1" fmla="val 49966"/>
              <a:gd name="adj2" fmla="val 49960"/>
              <a:gd name="adj3" fmla="val 49966"/>
            </a:avLst>
          </a:prstGeom>
          <a:ln w="9360">
            <a:solidFill>
              <a:srgbClr val="000000"/>
            </a:solidFill>
            <a:prstDash val="dash"/>
            <a:miter/>
            <a:tailEnd len="lg" type="stealth" w="sm"/>
          </a:ln>
        </p:spPr>
      </p:cxnSp>
      <p:sp>
        <p:nvSpPr>
          <p:cNvPr id="99" name="TextBox 101"/>
          <p:cNvSpPr/>
          <p:nvPr/>
        </p:nvSpPr>
        <p:spPr>
          <a:xfrm>
            <a:off x="7222320" y="3276720"/>
            <a:ext cx="167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ighbors’ suggested direction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5181480" y="3954600"/>
          <a:ext cx="3878280" cy="706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3954600"/>
                    <a:ext cx="38782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Object 9"/>
          <p:cNvGraphicFramePr/>
          <p:nvPr/>
        </p:nvGraphicFramePr>
        <p:xfrm>
          <a:off x="5638680" y="4800600"/>
          <a:ext cx="189072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38680" y="4800600"/>
                    <a:ext cx="1890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Object 10"/>
          <p:cNvGraphicFramePr/>
          <p:nvPr/>
        </p:nvGraphicFramePr>
        <p:xfrm>
          <a:off x="5943600" y="5486400"/>
          <a:ext cx="1679400" cy="657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3600" y="5486400"/>
                    <a:ext cx="16794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Box 56"/>
          <p:cNvSpPr/>
          <p:nvPr/>
        </p:nvSpPr>
        <p:spPr>
          <a:xfrm>
            <a:off x="7514280" y="4892760"/>
            <a:ext cx="167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Neighbors’ suggested direction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Box 57"/>
          <p:cNvSpPr/>
          <p:nvPr/>
        </p:nvSpPr>
        <p:spPr>
          <a:xfrm>
            <a:off x="7555680" y="5715000"/>
            <a:ext cx="150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fidence measure     (0,1]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Object 11"/>
          <p:cNvGraphicFramePr/>
          <p:nvPr/>
        </p:nvGraphicFramePr>
        <p:xfrm>
          <a:off x="8556480" y="5745240"/>
          <a:ext cx="122400" cy="120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556480" y="5745240"/>
                    <a:ext cx="122400" cy="1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Box 72"/>
          <p:cNvSpPr/>
          <p:nvPr/>
        </p:nvSpPr>
        <p:spPr>
          <a:xfrm>
            <a:off x="3350160" y="411480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x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andara"/>
              </a:rPr>
              <a:t>Proposed Solut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CCED-FFCC-4EB2-B2B7-0CE9C9231830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ndara"/>
              </a:rPr>
              <a:t>Compute </a:t>
            </a:r>
            <a:r>
              <a:rPr b="0" lang="en-US" sz="2400" spc="-1" strike="noStrike">
                <a:solidFill>
                  <a:srgbClr val="a6a6a6"/>
                </a:solidFill>
                <a:latin typeface="Candara"/>
              </a:rPr>
              <a:t>neighbors’ suggested directio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ndara"/>
              </a:rPr>
              <a:t>Compute </a:t>
            </a:r>
            <a:r>
              <a:rPr b="0" lang="en-US" sz="2400" spc="-1" strike="noStrike">
                <a:solidFill>
                  <a:srgbClr val="a6a6a6"/>
                </a:solidFill>
                <a:latin typeface="Candara"/>
              </a:rPr>
              <a:t>confidence measure</a:t>
            </a:r>
            <a:r>
              <a:rPr b="0" lang="en-US" sz="2400" spc="-1" strike="noStrike">
                <a:solidFill>
                  <a:srgbClr val="3333cc"/>
                </a:solidFill>
                <a:latin typeface="Candar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Candara"/>
              </a:rPr>
              <a:t> of direc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ndara"/>
              </a:rPr>
              <a:t>Based on the </a:t>
            </a:r>
            <a:r>
              <a:rPr b="0" lang="en-US" sz="2400" spc="-1" strike="noStrike">
                <a:solidFill>
                  <a:srgbClr val="a6a6a6"/>
                </a:solidFill>
                <a:latin typeface="Candara"/>
              </a:rPr>
              <a:t>confidence measure</a:t>
            </a:r>
            <a:r>
              <a:rPr b="0" lang="en-US" sz="2400" spc="-1" strike="noStrike">
                <a:solidFill>
                  <a:srgbClr val="3333cc"/>
                </a:solidFill>
                <a:latin typeface="Candar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Candara"/>
              </a:rPr>
              <a:t> we introduce </a:t>
            </a: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2m+1 </a:t>
            </a:r>
            <a:r>
              <a:rPr b="0" lang="en-US" sz="2400" spc="-1" strike="noStrike">
                <a:solidFill>
                  <a:srgbClr val="3333cc"/>
                </a:solidFill>
                <a:latin typeface="Candara"/>
              </a:rPr>
              <a:t>new modes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ndara"/>
              </a:rPr>
              <a:t>The following signaling is used for the </a:t>
            </a: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2m+10</a:t>
            </a:r>
            <a:r>
              <a:rPr b="0" lang="en-US" sz="2400" spc="-1" strike="noStrike">
                <a:solidFill>
                  <a:srgbClr val="3333cc"/>
                </a:solidFill>
                <a:latin typeface="Candara"/>
              </a:rPr>
              <a:t> mod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cxnSp>
        <p:nvCxnSpPr>
          <p:cNvPr id="117" name="Straight Arrow Connector 50"/>
          <p:cNvCxnSpPr/>
          <p:nvPr/>
        </p:nvCxnSpPr>
        <p:spPr>
          <a:xfrm>
            <a:off x="4091400" y="4441680"/>
            <a:ext cx="124200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Straight Arrow Connector 52"/>
          <p:cNvCxnSpPr/>
          <p:nvPr/>
        </p:nvCxnSpPr>
        <p:spPr>
          <a:xfrm flipH="1">
            <a:off x="2971080" y="4441680"/>
            <a:ext cx="1121400" cy="58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9" name="TextBox 54"/>
          <p:cNvSpPr/>
          <p:nvPr/>
        </p:nvSpPr>
        <p:spPr>
          <a:xfrm>
            <a:off x="3506040" y="472428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0--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Box 55"/>
          <p:cNvSpPr/>
          <p:nvPr/>
        </p:nvSpPr>
        <p:spPr>
          <a:xfrm>
            <a:off x="3859200" y="419112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Box 56"/>
          <p:cNvSpPr/>
          <p:nvPr/>
        </p:nvSpPr>
        <p:spPr>
          <a:xfrm>
            <a:off x="4250160" y="4724280"/>
            <a:ext cx="76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9--2m+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Oval 59"/>
          <p:cNvSpPr/>
          <p:nvPr/>
        </p:nvSpPr>
        <p:spPr>
          <a:xfrm>
            <a:off x="3992400" y="44118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3" name="Straight Arrow Connector 60"/>
          <p:cNvCxnSpPr/>
          <p:nvPr/>
        </p:nvCxnSpPr>
        <p:spPr>
          <a:xfrm>
            <a:off x="2971800" y="5067000"/>
            <a:ext cx="4579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Straight Arrow Connector 61"/>
          <p:cNvCxnSpPr/>
          <p:nvPr/>
        </p:nvCxnSpPr>
        <p:spPr>
          <a:xfrm flipH="1">
            <a:off x="2361600" y="5067000"/>
            <a:ext cx="6102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5" name="Oval 62"/>
          <p:cNvSpPr/>
          <p:nvPr/>
        </p:nvSpPr>
        <p:spPr>
          <a:xfrm>
            <a:off x="2871720" y="50371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Box 71"/>
          <p:cNvSpPr/>
          <p:nvPr/>
        </p:nvSpPr>
        <p:spPr>
          <a:xfrm rot="18852600">
            <a:off x="2007000" y="517464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lfaen"/>
              </a:rPr>
              <a:t>Most probabl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Box 74"/>
          <p:cNvSpPr/>
          <p:nvPr/>
        </p:nvSpPr>
        <p:spPr>
          <a:xfrm rot="3052800">
            <a:off x="3143520" y="5287680"/>
            <a:ext cx="41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lfaen"/>
              </a:rPr>
              <a:t>res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Box 75"/>
          <p:cNvSpPr/>
          <p:nvPr/>
        </p:nvSpPr>
        <p:spPr>
          <a:xfrm>
            <a:off x="2210040" y="5791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Box 76"/>
          <p:cNvSpPr/>
          <p:nvPr/>
        </p:nvSpPr>
        <p:spPr>
          <a:xfrm>
            <a:off x="3200040" y="57913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XX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Box 84"/>
          <p:cNvSpPr/>
          <p:nvPr/>
        </p:nvSpPr>
        <p:spPr>
          <a:xfrm>
            <a:off x="3353040" y="441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Box 86"/>
          <p:cNvSpPr/>
          <p:nvPr/>
        </p:nvSpPr>
        <p:spPr>
          <a:xfrm>
            <a:off x="4648680" y="4419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Oval 87"/>
          <p:cNvSpPr/>
          <p:nvPr/>
        </p:nvSpPr>
        <p:spPr>
          <a:xfrm>
            <a:off x="3200400" y="5769000"/>
            <a:ext cx="53352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89"/>
          <p:cNvSpPr/>
          <p:nvPr/>
        </p:nvSpPr>
        <p:spPr>
          <a:xfrm>
            <a:off x="2133720" y="5783400"/>
            <a:ext cx="3808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90"/>
          <p:cNvSpPr/>
          <p:nvPr/>
        </p:nvSpPr>
        <p:spPr>
          <a:xfrm>
            <a:off x="4610160" y="4411800"/>
            <a:ext cx="3808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Oval 91"/>
          <p:cNvSpPr/>
          <p:nvPr/>
        </p:nvSpPr>
        <p:spPr>
          <a:xfrm>
            <a:off x="3276720" y="4403880"/>
            <a:ext cx="3808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Object 2"/>
          <p:cNvGraphicFramePr/>
          <p:nvPr/>
        </p:nvGraphicFramePr>
        <p:xfrm>
          <a:off x="3767040" y="3073320"/>
          <a:ext cx="11541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7040" y="3073320"/>
                    <a:ext cx="11541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3"/>
          <p:cNvGraphicFramePr/>
          <p:nvPr/>
        </p:nvGraphicFramePr>
        <p:xfrm>
          <a:off x="5867280" y="3048120"/>
          <a:ext cx="139068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048120"/>
                    <a:ext cx="13906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70"/>
          <p:cNvSpPr/>
          <p:nvPr/>
        </p:nvSpPr>
        <p:spPr>
          <a:xfrm>
            <a:off x="2057400" y="4343400"/>
            <a:ext cx="1828800" cy="1828800"/>
          </a:xfrm>
          <a:prstGeom prst="rect">
            <a:avLst/>
          </a:prstGeom>
          <a:noFill/>
          <a:ln w="93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Box 72"/>
          <p:cNvSpPr/>
          <p:nvPr/>
        </p:nvSpPr>
        <p:spPr>
          <a:xfrm>
            <a:off x="2738880" y="6134040"/>
            <a:ext cx="46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Tahoma"/>
              </a:rPr>
              <a:t>AV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73"/>
          <p:cNvSpPr/>
          <p:nvPr/>
        </p:nvSpPr>
        <p:spPr>
          <a:xfrm>
            <a:off x="4572000" y="4952880"/>
            <a:ext cx="1730520" cy="246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posed DCI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6539040" y="736560"/>
          <a:ext cx="304560" cy="34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39040" y="736560"/>
                    <a:ext cx="30456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andara"/>
              </a:rPr>
              <a:t>Proposed Syntax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andara"/>
              </a:rPr>
              <a:t>Let </a:t>
            </a:r>
            <a:r>
              <a:rPr b="0" i="1" lang="en-US" sz="1800" spc="-1" strike="noStrike">
                <a:solidFill>
                  <a:srgbClr val="3333cc"/>
                </a:solidFill>
                <a:latin typeface="Candara"/>
              </a:rPr>
              <a:t>k=0, </a:t>
            </a:r>
            <a:r>
              <a:rPr b="0" lang="en-US" sz="1800" spc="-1" strike="noStrike">
                <a:solidFill>
                  <a:srgbClr val="3333cc"/>
                </a:solidFill>
                <a:latin typeface="Candara"/>
              </a:rPr>
              <a:t>denote the neighbors suggested direction (NSD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74304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If neighbor’s suggested direction is useful, send a 1 first indicating that to the decoder</a:t>
            </a:r>
            <a:endParaRPr b="0" lang="en-US" sz="14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andara"/>
              </a:rPr>
              <a:t>The actual direction is differentially coded with respect to neighbors’ suggested direction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Then send a unary code to for the signaling of 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andara"/>
              </a:rPr>
              <a:t>For other directions not using neighbor’s suggested direction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ndara"/>
              </a:rPr>
              <a:t>Use conventional methods such as the fixed length codes AV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D2E9-921D-4C71-8E41-9EC5A882DFB3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7010280" y="3200400"/>
            <a:ext cx="1847880" cy="142884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34"/>
          <p:cNvGrpSpPr/>
          <p:nvPr/>
        </p:nvGrpSpPr>
        <p:grpSpPr>
          <a:xfrm>
            <a:off x="744120" y="3200400"/>
            <a:ext cx="5733000" cy="3611160"/>
            <a:chOff x="744120" y="3200400"/>
            <a:chExt cx="5733000" cy="3611160"/>
          </a:xfrm>
        </p:grpSpPr>
        <p:sp>
          <p:nvSpPr>
            <p:cNvPr id="150" name="Straight Connector 6"/>
            <p:cNvSpPr/>
            <p:nvPr/>
          </p:nvSpPr>
          <p:spPr>
            <a:xfrm flipH="1">
              <a:off x="2016000" y="3265920"/>
              <a:ext cx="1440" cy="260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Straight Connector 8"/>
            <p:cNvSpPr/>
            <p:nvPr/>
          </p:nvSpPr>
          <p:spPr>
            <a:xfrm flipH="1">
              <a:off x="4385880" y="3265920"/>
              <a:ext cx="1440" cy="260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TextBox 11"/>
            <p:cNvSpPr/>
            <p:nvPr/>
          </p:nvSpPr>
          <p:spPr>
            <a:xfrm>
              <a:off x="1456920" y="3791520"/>
              <a:ext cx="3574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TextBox 12"/>
            <p:cNvSpPr/>
            <p:nvPr/>
          </p:nvSpPr>
          <p:spPr>
            <a:xfrm>
              <a:off x="4455720" y="3726360"/>
              <a:ext cx="3546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extBox 13"/>
            <p:cNvSpPr/>
            <p:nvPr/>
          </p:nvSpPr>
          <p:spPr>
            <a:xfrm>
              <a:off x="2144520" y="3791520"/>
              <a:ext cx="1637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1111…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1     1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Rounded Rectangle 15"/>
            <p:cNvSpPr/>
            <p:nvPr/>
          </p:nvSpPr>
          <p:spPr>
            <a:xfrm>
              <a:off x="2201760" y="3732120"/>
              <a:ext cx="209520" cy="2822400"/>
            </a:xfrm>
            <a:custGeom>
              <a:avLst/>
              <a:gdLst>
                <a:gd name="textAreaLeft" fmla="*/ 10080 w 209520"/>
                <a:gd name="textAreaRight" fmla="*/ 199440 w 209520"/>
                <a:gd name="textAreaTop" fmla="*/ 10080 h 2822400"/>
                <a:gd name="textAreaBottom" fmla="*/ 2812320 h 2822400"/>
              </a:gdLst>
              <a:ahLst/>
              <a:rect l="textAreaLeft" t="textAreaTop" r="textAreaRight" b="textAreaBottom"/>
              <a:pathLst>
                <a:path w="21600" h="290507">
                  <a:moveTo>
                    <a:pt x="3600" y="0"/>
                  </a:moveTo>
                  <a:arcTo wR="3600" hR="3600" stAng="16200000" swAng="-5400000"/>
                  <a:lnTo>
                    <a:pt x="0" y="286907"/>
                  </a:lnTo>
                  <a:arcTo wR="3600" hR="3600" stAng="10800000" swAng="-5400000"/>
                  <a:lnTo>
                    <a:pt x="18000" y="2905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04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Rounded Rectangle 18"/>
            <p:cNvSpPr/>
            <p:nvPr/>
          </p:nvSpPr>
          <p:spPr>
            <a:xfrm>
              <a:off x="2400480" y="4186080"/>
              <a:ext cx="190440" cy="2367000"/>
            </a:xfrm>
            <a:custGeom>
              <a:avLst/>
              <a:gdLst>
                <a:gd name="textAreaLeft" fmla="*/ 9000 w 190440"/>
                <a:gd name="textAreaRight" fmla="*/ 181440 w 190440"/>
                <a:gd name="textAreaTop" fmla="*/ 9000 h 2367000"/>
                <a:gd name="textAreaBottom" fmla="*/ 2358000 h 2367000"/>
              </a:gdLst>
              <a:ahLst/>
              <a:rect l="textAreaLeft" t="textAreaTop" r="textAreaRight" b="textAreaBottom"/>
              <a:pathLst>
                <a:path w="21600" h="268003">
                  <a:moveTo>
                    <a:pt x="3600" y="0"/>
                  </a:moveTo>
                  <a:arcTo wR="3600" hR="3600" stAng="16200000" swAng="-5400000"/>
                  <a:lnTo>
                    <a:pt x="0" y="264403"/>
                  </a:lnTo>
                  <a:arcTo wR="3600" hR="3600" stAng="10800000" swAng="-5400000"/>
                  <a:lnTo>
                    <a:pt x="18000" y="2680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0606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Rounded Rectangle 19"/>
            <p:cNvSpPr/>
            <p:nvPr/>
          </p:nvSpPr>
          <p:spPr>
            <a:xfrm>
              <a:off x="2597040" y="4500360"/>
              <a:ext cx="145800" cy="2052720"/>
            </a:xfrm>
            <a:custGeom>
              <a:avLst/>
              <a:gdLst>
                <a:gd name="textAreaLeft" fmla="*/ 6840 w 145800"/>
                <a:gd name="textAreaRight" fmla="*/ 138960 w 145800"/>
                <a:gd name="textAreaTop" fmla="*/ 6840 h 2052720"/>
                <a:gd name="textAreaBottom" fmla="*/ 2045880 h 2052720"/>
              </a:gdLst>
              <a:ahLst/>
              <a:rect l="textAreaLeft" t="textAreaTop" r="textAreaRight" b="textAreaBottom"/>
              <a:pathLst>
                <a:path w="21600" h="303411">
                  <a:moveTo>
                    <a:pt x="3600" y="0"/>
                  </a:moveTo>
                  <a:arcTo wR="3600" hR="3600" stAng="16200000" swAng="-5400000"/>
                  <a:lnTo>
                    <a:pt x="0" y="299811"/>
                  </a:lnTo>
                  <a:arcTo wR="3600" hR="3600" stAng="10800000" swAng="-5400000"/>
                  <a:lnTo>
                    <a:pt x="18000" y="3034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b3b3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Rounded Rectangle 20"/>
            <p:cNvSpPr/>
            <p:nvPr/>
          </p:nvSpPr>
          <p:spPr>
            <a:xfrm>
              <a:off x="1540440" y="3733560"/>
              <a:ext cx="208800" cy="2822760"/>
            </a:xfrm>
            <a:custGeom>
              <a:avLst/>
              <a:gdLst>
                <a:gd name="textAreaLeft" fmla="*/ 10080 w 208800"/>
                <a:gd name="textAreaRight" fmla="*/ 198720 w 208800"/>
                <a:gd name="textAreaTop" fmla="*/ 10080 h 2822760"/>
                <a:gd name="textAreaBottom" fmla="*/ 2812680 h 2822760"/>
              </a:gdLst>
              <a:ahLst/>
              <a:rect l="textAreaLeft" t="textAreaTop" r="textAreaRight" b="textAreaBottom"/>
              <a:pathLst>
                <a:path w="21600" h="291544">
                  <a:moveTo>
                    <a:pt x="3600" y="0"/>
                  </a:moveTo>
                  <a:arcTo wR="3600" hR="3600" stAng="16200000" swAng="-5400000"/>
                  <a:lnTo>
                    <a:pt x="0" y="287944"/>
                  </a:lnTo>
                  <a:arcTo wR="3600" hR="3600" stAng="10800000" swAng="-5400000"/>
                  <a:lnTo>
                    <a:pt x="18000" y="291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Rounded Rectangle 21"/>
            <p:cNvSpPr/>
            <p:nvPr/>
          </p:nvSpPr>
          <p:spPr>
            <a:xfrm>
              <a:off x="4524480" y="3655800"/>
              <a:ext cx="198360" cy="2897280"/>
            </a:xfrm>
            <a:custGeom>
              <a:avLst/>
              <a:gdLst>
                <a:gd name="textAreaLeft" fmla="*/ 9360 w 198360"/>
                <a:gd name="textAreaRight" fmla="*/ 189000 w 198360"/>
                <a:gd name="textAreaTop" fmla="*/ 9360 h 2897280"/>
                <a:gd name="textAreaBottom" fmla="*/ 2887920 h 2897280"/>
              </a:gdLst>
              <a:ahLst/>
              <a:rect l="textAreaLeft" t="textAreaTop" r="textAreaRight" b="textAreaBottom"/>
              <a:pathLst>
                <a:path w="21600" h="314961">
                  <a:moveTo>
                    <a:pt x="3600" y="0"/>
                  </a:moveTo>
                  <a:arcTo wR="3600" hR="3600" stAng="16200000" swAng="-5400000"/>
                  <a:lnTo>
                    <a:pt x="0" y="311361"/>
                  </a:lnTo>
                  <a:arcTo wR="3600" hR="3600" stAng="10800000" swAng="-5400000"/>
                  <a:lnTo>
                    <a:pt x="18000" y="3149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878de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Right Triangle 23"/>
            <p:cNvSpPr/>
            <p:nvPr/>
          </p:nvSpPr>
          <p:spPr>
            <a:xfrm>
              <a:off x="2752920" y="4495680"/>
              <a:ext cx="1900080" cy="2057400"/>
            </a:xfrm>
            <a:prstGeom prst="rtTriangle">
              <a:avLst/>
            </a:prstGeom>
            <a:solidFill>
              <a:srgbClr val="cccccc">
                <a:alpha val="4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Straight Connector 26"/>
            <p:cNvSpPr/>
            <p:nvPr/>
          </p:nvSpPr>
          <p:spPr>
            <a:xfrm>
              <a:off x="762120" y="3655440"/>
              <a:ext cx="5715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62" name="Object 2"/>
            <p:cNvGraphicFramePr/>
            <p:nvPr/>
          </p:nvGraphicFramePr>
          <p:xfrm>
            <a:off x="2853360" y="3243600"/>
            <a:ext cx="548640" cy="455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3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53360" y="3243600"/>
                      <a:ext cx="548640" cy="45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Object 3"/>
            <p:cNvGraphicFramePr/>
            <p:nvPr/>
          </p:nvGraphicFramePr>
          <p:xfrm>
            <a:off x="4502880" y="3200400"/>
            <a:ext cx="1067400" cy="455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5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02880" y="3200400"/>
                      <a:ext cx="1067400" cy="45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TextBox 32"/>
            <p:cNvSpPr/>
            <p:nvPr/>
          </p:nvSpPr>
          <p:spPr>
            <a:xfrm>
              <a:off x="744120" y="3352680"/>
              <a:ext cx="1038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Use NSD flag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7" name="Straight Connector 35"/>
          <p:cNvSpPr/>
          <p:nvPr/>
        </p:nvSpPr>
        <p:spPr>
          <a:xfrm>
            <a:off x="457200" y="5791320"/>
            <a:ext cx="5715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Box 40"/>
          <p:cNvSpPr/>
          <p:nvPr/>
        </p:nvSpPr>
        <p:spPr>
          <a:xfrm>
            <a:off x="111960" y="6172200"/>
            <a:ext cx="1430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umber of context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val 41"/>
          <p:cNvSpPr/>
          <p:nvPr/>
        </p:nvSpPr>
        <p:spPr>
          <a:xfrm>
            <a:off x="6324480" y="5181480"/>
            <a:ext cx="2590920" cy="990720"/>
          </a:xfrm>
          <a:prstGeom prst="ellipse">
            <a:avLst/>
          </a:prstGeom>
          <a:solidFill>
            <a:srgbClr val="00b0f5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Based on a</a:t>
            </a:r>
            <a:r>
              <a:rPr b="0" i="1" lang="en-US" sz="1200" spc="-1" strike="noStrike">
                <a:solidFill>
                  <a:srgbClr val="000000"/>
                </a:solidFill>
                <a:latin typeface="Candara"/>
              </a:rPr>
              <a:t> confidence measure</a:t>
            </a: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  define </a:t>
            </a:r>
            <a:r>
              <a:rPr b="0" i="1" lang="en-US" sz="12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  different contex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0" name="Curved Connector 43"/>
          <p:cNvCxnSpPr>
            <a:stCxn id="169" idx="4"/>
            <a:endCxn id="158" idx="2"/>
          </p:cNvCxnSpPr>
          <p:nvPr/>
        </p:nvCxnSpPr>
        <p:spPr>
          <a:xfrm rot="5400000">
            <a:off x="4439520" y="3376080"/>
            <a:ext cx="384840" cy="5976360"/>
          </a:xfrm>
          <a:prstGeom prst="curvedConnector5">
            <a:avLst>
              <a:gd name="adj1" fmla="val 159456"/>
              <a:gd name="adj2" fmla="val 50000"/>
              <a:gd name="adj3" fmla="val 159456"/>
            </a:avLst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</p:cxnSp>
      <p:sp>
        <p:nvSpPr>
          <p:cNvPr id="171" name="TextBox 44"/>
          <p:cNvSpPr/>
          <p:nvPr/>
        </p:nvSpPr>
        <p:spPr>
          <a:xfrm>
            <a:off x="258840" y="4419720"/>
            <a:ext cx="1052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ndara"/>
              </a:rPr>
              <a:t>Actual bit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ndara"/>
              </a:rPr>
              <a:t>in bit stream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7932600" y="3836880"/>
          <a:ext cx="177840" cy="203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32600" y="3836880"/>
                    <a:ext cx="17784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andara"/>
              </a:rPr>
              <a:t>Experimental Resul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ndara"/>
              </a:rPr>
              <a:t>Experimental set-up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roposed algorithm implemented in KTA 2.6r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Maximum deviation from NSD is 4  (         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4x4, 8x8, and 16x16 blocks use the proposed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All sequences are INTRA coded with QPs (26, 30, 34, 3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2 Seconds of video is considered as suggested by In-Loop Ah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DCT transform is u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Common conditions recommendation 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VCEG-AJ10r1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is follow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Bit rate savings due to the proposed method is repo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2975-8C47-483C-AF45-6B5159C0479A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5334120" y="1938240"/>
          <a:ext cx="669960" cy="3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938240"/>
                    <a:ext cx="66996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24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andara"/>
              </a:rPr>
              <a:t>BD-Rate Resul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DD7E-AAC7-42AE-8A1F-CFA7223A5812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Chart 4" descr=""/>
          <p:cNvPicPr/>
          <p:nvPr/>
        </p:nvPicPr>
        <p:blipFill>
          <a:blip r:embed="rId1"/>
          <a:stretch/>
        </p:blipFill>
        <p:spPr>
          <a:xfrm>
            <a:off x="0" y="0"/>
            <a:ext cx="879624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andara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14B2-5101-4C02-A9CF-0E434AF47D85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Content Placeholder 2"/>
          <p:cNvSpPr/>
          <p:nvPr/>
        </p:nvSpPr>
        <p:spPr>
          <a:xfrm>
            <a:off x="914400" y="1066680"/>
            <a:ext cx="6248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ndara"/>
              </a:rPr>
              <a:t>Key Feat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cc66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andara"/>
                <a:ea typeface="Times New Roman"/>
              </a:rPr>
              <a:t>Provides flexibility in finding the more appropriate prediction dir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cc66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andara"/>
                <a:ea typeface="Times New Roman"/>
              </a:rPr>
              <a:t>A superset to fixed directional mod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andara"/>
                <a:ea typeface="Times New Roman"/>
              </a:rPr>
              <a:t>can be mapped into current fixed directional mod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cc66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andara"/>
                <a:ea typeface="Times New Roman"/>
              </a:rPr>
              <a:t>A novel way for differential signaling  of  direction to cover smaller block size i.e., 4x4 &amp; 8x8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cc66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andara"/>
                <a:ea typeface="Times New Roman"/>
              </a:rPr>
              <a:t>Introduction of confidence parameter and its usage in defining the NSD context and </a:t>
            </a:r>
            <a:r>
              <a:rPr b="0" lang="el-GR" sz="1800" spc="-1" strike="noStrike">
                <a:solidFill>
                  <a:srgbClr val="cc6600"/>
                </a:solidFill>
                <a:latin typeface="Candara"/>
                <a:ea typeface="Times New Roman"/>
              </a:rPr>
              <a:t>δθ</a:t>
            </a:r>
            <a:r>
              <a:rPr b="0" lang="en-US" sz="1800" spc="-1" strike="noStrike">
                <a:solidFill>
                  <a:srgbClr val="cc6600"/>
                </a:solidFill>
                <a:latin typeface="Candar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cc66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Content Placeholder 2"/>
          <p:cNvSpPr/>
          <p:nvPr/>
        </p:nvSpPr>
        <p:spPr>
          <a:xfrm>
            <a:off x="838080" y="4191120"/>
            <a:ext cx="67057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ndara"/>
              </a:rPr>
              <a:t>Propos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cc66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andara"/>
                <a:ea typeface="Times New Roman"/>
              </a:rPr>
              <a:t>TE  for intra prediction tools performance comparisons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cc66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andara"/>
                <a:ea typeface="Times New Roman"/>
              </a:rPr>
              <a:t>Interaction with Trans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cc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24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andara"/>
              </a:rPr>
              <a:t>BD-R Comparis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40080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12A5-A14A-48D8-9BF1-76F12A3FCF20}" type="slidenum">
              <a:rPr b="0" lang="zh-CN" sz="14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4" descr="C:\Users\auyeung\Sony\2010.07 Sony submission v02\transform\dct_cs3_bdr.png"/>
          <p:cNvPicPr/>
          <p:nvPr/>
        </p:nvPicPr>
        <p:blipFill>
          <a:blip r:embed="rId1"/>
          <a:stretch/>
        </p:blipFill>
        <p:spPr>
          <a:xfrm>
            <a:off x="533520" y="990720"/>
            <a:ext cx="82296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ajt</cp:lastModifiedBy>
  <dcterms:modified xsi:type="dcterms:W3CDTF">2010-07-22T13:56:05Z</dcterms:modified>
  <cp:revision>5814</cp:revision>
  <dc:subject/>
  <dc:title>PowerPoint Presentation</dc:title>
</cp:coreProperties>
</file>