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614-0BB7-4E2E-8B84-07C1C5E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52B-6C3F-4D38-98CA-56DE3B20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D11-297B-44F8-8C19-45CCF268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4DC-F677-4546-AB14-EA414A10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6F5-7AEA-47DD-835C-849D0137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1D7-C28F-4733-B093-137A177C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13B-FB00-4D6A-8762-7DF8F323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8EE-AD0D-4BB0-8780-14AE945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E7A-89FF-4805-8E3E-788A38A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12B-7B73-4A4E-B15F-1BCC44F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AE0-4492-4386-A9E6-FBF66AB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E83-AF76-4875-B07F-0EA9F21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F1E6-E925-4803-B45C-6F35670A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CTVC-B093</a:t>
            </a:r>
            <a:r>
              <a:rPr b="0" lang="en-SG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angular intra pred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nk Bossen</a:t>
            </a:r>
            <a:r>
              <a:rPr b="0" lang="en-S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K Tan &amp; Junya Takiue</a:t>
            </a:r>
            <a:r>
              <a:rPr b="0" lang="en-S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097-7262-4DED-9796-C17EB28D74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MuC software, revision 21, the following intra prediction methods have been integr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: Arbitrary Directional 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: Angular Prediction for 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: Combined Intra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I: Planar Prediction for I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performance of the ADI and the ANG methods that are very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ification of the angular prediction method was also implemented and t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Prediction works better than the default and ADI only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Angular 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s per sample test and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oss in performance compared to Angular Predi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xperiments intra prediction should be set to use angular prediction for all block sizes, including the simplification thereof described in this propos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B2D-6287-484B-AE06-9B60C516B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angular intra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ar prediction uses references from the top and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reference and a side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angle value is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sample test is necessary to see which reference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ide reference is used a division is needed to calculate the displa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ediction process when the angle value is negativ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array is extended by projecting samples from the side array onto it according to the prediction dir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ion entails copying a subset of the samples in the side array into the main arr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extended main array is used for the prediction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ng the per sampl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vision is avoided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393-5764-422C-B9AE-BE32E9C2F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angular intra predi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585080" y="3751560"/>
            <a:ext cx="410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216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844640"/>
            <a:ext cx="410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1844640"/>
            <a:ext cx="2376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40000" y="1988640"/>
            <a:ext cx="1295280" cy="2664360"/>
            <a:chOff x="2340000" y="1988640"/>
            <a:chExt cx="1295280" cy="2664360"/>
          </a:xfrm>
        </p:grpSpPr>
        <p:sp>
          <p:nvSpPr>
            <p:cNvPr id="54" name=""/>
            <p:cNvSpPr/>
            <p:nvPr/>
          </p:nvSpPr>
          <p:spPr>
            <a:xfrm flipH="1" flipV="1">
              <a:off x="3276720" y="1988640"/>
              <a:ext cx="3585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059280" y="1988640"/>
              <a:ext cx="5760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2340000" y="1989000"/>
              <a:ext cx="1295280" cy="26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80000" y="2133720"/>
            <a:ext cx="19443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5600" y="5157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9600" y="4365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643280" y="1989000"/>
            <a:ext cx="936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EE4-3021-41E9-AFCE-4C0D804BC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 and co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, C, D and E sequences we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rames in the sequences (10 seconds each) were coded in INTRA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 values of 22, 27, 32 and 37 we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variations of the codec were t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se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lock sizes use Arbitrary Directional Intra Prediction (A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lock sizes use Angular Prediction (A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lock sizes use Simplified Angular Prediction (S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table shows the intra prediction methods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4581360"/>
          <a:ext cx="8424720" cy="2120760"/>
        </p:xfrm>
        <a:graphic>
          <a:graphicData uri="http://schemas.openxmlformats.org/drawingml/2006/table">
            <a:tbl>
              <a:tblPr/>
              <a:tblGrid>
                <a:gridCol w="1106280"/>
                <a:gridCol w="2495880"/>
                <a:gridCol w="1581120"/>
                <a:gridCol w="1600200"/>
                <a:gridCol w="547560"/>
                <a:gridCol w="547560"/>
                <a:gridCol w="54612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ting in typedef.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defa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Gothic"/>
                        </a:rPr>
                        <a:t>#define</a:t>
                      </a:r>
                      <a:r>
                        <a:rPr b="0" lang="en-S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 ANG_INTRA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(except 8x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(only 8x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A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Gothic"/>
                        </a:rPr>
                        <a:t>#define</a:t>
                      </a:r>
                      <a:r>
                        <a:rPr b="0" lang="en-S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 ANG_INTRA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Gothic"/>
                        </a:rPr>
                        <a:t>#define</a:t>
                      </a:r>
                      <a:r>
                        <a:rPr b="0" lang="en-S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 ANG_INTRA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S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MS Gothic"/>
                        </a:rPr>
                        <a:t>#define</a:t>
                      </a:r>
                      <a:r>
                        <a:rPr b="0" lang="en-S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 ANG_INTRA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(Simplifi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C19-3365-4114-89AC-8B4BD37BF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I prediction performs worse than the default reference by about 1.3% in BD-rate, with a maximum loss of more than 4% for the BasketballDrill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 prediction performs better than the default reference by about 0.6% in BD-rate, with a maximum gain of 3% for the BasketballDrill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P shows a performance that is almost identical to the ANG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487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DF-ABCC-4CAE-9338-070D74742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omparison with results from JCTVC-B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632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D17-5F34-4078-B5C1-889D33BD3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0:04:42Z</dcterms:created>
  <dc:creator>tktan</dc:creator>
  <dc:description/>
  <dc:language>en-US</dc:language>
  <cp:lastModifiedBy>tktan</cp:lastModifiedBy>
  <dcterms:modified xsi:type="dcterms:W3CDTF">2010-07-22T14:46:18Z</dcterms:modified>
  <cp:revision>9</cp:revision>
  <dc:subject/>
  <dc:title>Slide 1</dc:title>
</cp:coreProperties>
</file>