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24AB-0E2F-4294-AAB7-385EF5883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1B80-7FD0-432E-B696-CBB62741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E88F-CA27-4132-9680-87E4A6D6C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08F4-17C1-430A-B10D-CD8D8DC41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D215-5641-4DA1-A14B-D804AF2BB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6027-B229-457C-B703-9377DC1D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59E8-3947-4F05-A363-AA736BA2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00EC-6085-4EA2-8858-A02ED012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4B4A-3C47-4493-9F70-2068E14D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BB65-7FB1-4B94-AEB8-DF9B6923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45EB-C94F-45AD-A8C8-2B48D3BE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45A8-76C9-48D9-B474-634F505F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A1FF-46FE-4618-BD49-E98C7850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906E-F12C-4AFB-B1BD-A9986E32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D403-7F39-4919-8CBF-982B749E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B68A-B70A-47F5-BE2A-21C6EE9BF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932A-8E27-470E-A7C4-38E4EA9A3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74537-DE1E-41AE-A0CC-FE26D9CD3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B00C7-3EE7-492F-8B4A-6729B0D8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0A197-38FB-4227-B9F2-6807400E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33DD8-4F38-48C5-B7C6-3D35803B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CB941-BBD3-40BF-98F5-507DBE4D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5485-E691-479B-84E1-98B98C9E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7EA9A-89CC-4926-B8E7-A31E6854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0CAF4-E899-440F-A247-283E3F28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4E1C4-7461-4DEF-928B-D98564BC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86B25-F36D-4D15-9EA2-563E5139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0AE9B-D58A-4195-BB6B-7D91997A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3218D-B3D8-43AB-9341-C1B711D60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47E91-D396-4DBF-9AD5-3247ADED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B1EA0-94DC-49A0-97A9-924C842D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53B97-09C0-4922-9B07-5A892C68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83658-F26A-40C6-859F-49011C13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0675-EA9A-4E36-B066-86A079E7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9243D-FFA9-4762-B264-93F59520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D78C3-06F9-4215-91AE-9802F4BB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00D6E-C074-495F-8B6D-ED3C0E89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4AAA1-04CF-4F73-81DD-8749B01C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73B42-B8FF-40AA-BD3D-B0A6420D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5831A-9BF1-40B7-AE0E-851E4AC0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E2644-1755-4326-94DC-0C3F06B0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90F96-9250-4F50-92C7-E244DA601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E88B9-9D15-43DF-841A-4931A2676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CE466-166F-4D03-8DB0-0ECA99A8D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8FDC-86C2-42D9-B96B-EF97E72F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67D19-28CA-4BBB-97B2-807CD213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E9161-4927-4295-A7B7-AAF217F5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A3AC4-2DDA-4429-ACB5-1662A377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318B4-0CFA-4386-997A-32C5D99D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D8A93-0998-4CEE-A32B-E363D0CA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F0E40-F6FB-4CC7-A994-398ECCDC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536A1-27CA-4C8C-BB1F-B11D246A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FF2B5-D569-4C81-B345-B2CE2158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A511E-CAB1-490D-B337-27471C49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05860-C0A6-4921-AC29-F60B3B281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5175-2108-4B20-9BF5-0E93883E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C7E0C-8139-43E1-8AD7-9F13F245F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41D8-8E9B-4302-9E26-F4C25477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543B-5265-4867-BD50-E8A1888D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58D9-5177-4B81-961F-97777708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14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14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72800">
              <a:spcBef>
                <a:spcPts val="1463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72800">
              <a:spcBef>
                <a:spcPts val="1463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72800">
              <a:spcBef>
                <a:spcPts val="1463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5680" y="60782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B731-6524-4355-AC5D-5E244FF63D76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85800" y="6078240"/>
            <a:ext cx="415260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1640" y="60782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720D-DAC2-4EB8-A1E0-673A23A1BC44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55680" y="60386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66BF-F969-4242-80C2-394BF9423238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475000" y="6038640"/>
            <a:ext cx="41637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01E2-A26B-404F-90F2-A3EF985B1927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spcBef>
                <a:spcPts val="26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968400" algn="ctr">
              <a:spcBef>
                <a:spcPts val="88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1616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161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161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355680" y="60386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959E-778D-4619-8324-E90E1E57DF1E}" type="datetime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468520" y="6038640"/>
            <a:ext cx="415944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5A9B-37A8-4DD6-B113-7EBF8AE77A10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55680" y="60386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FF14-A7DC-4F2F-89C7-1D39F791E0EB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485800" y="6039000"/>
            <a:ext cx="4152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072A-7CD2-4E60-B278-26D9630F42AD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55680" y="60386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3897-D514-4F20-B5B4-2296EC21EED6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486160" y="6039000"/>
            <a:ext cx="416376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B214-EF15-4C46-A1D0-B7A737739AAD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emircin@ti.com" TargetMode="External"/><Relationship Id="rId2" Type="http://schemas.openxmlformats.org/officeDocument/2006/relationships/hyperlink" Target="mailto:madhukar@ti.com" TargetMode="External"/><Relationship Id="rId3" Type="http://schemas.openxmlformats.org/officeDocument/2006/relationships/hyperlink" Target="mailto:zhou@ti.com" TargetMode="External"/><Relationship Id="rId4" Type="http://schemas.openxmlformats.org/officeDocument/2006/relationships/hyperlink" Target="mailto:salih@ti.com" TargetMode="External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33000" y="85716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E2: Compressed Reference Frame Buffers (CRFB) 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33000" y="3659040"/>
            <a:ext cx="84582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ehmet Umut Demircin (</a:t>
            </a: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demircin@ti.com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exas Instruments Inc., US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Madhukar Budagavi (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madhukar@ti.com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600"/>
            </a:b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Texas Instruments Inc., US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nhua Zhou (</a:t>
            </a: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zhou@ti.com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exas Instruments Inc., US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alih Dikbas (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salih@ti.com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exas Instruments Inc., US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000" y="313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51320" y="2423880"/>
            <a:ext cx="582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oint Collaborative Team on Video Coding (JCT-V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ITU-T SG16 WP3 and ISO/IEC JTC1/SC29/WG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nd Meeting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va, 21-28 July 20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8A95-4332-4C16-B6D0-EB573FB557C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96A6C95-80A3-41F6-8C7F-75740264F2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ressed Reference Frame Buffer (CRFB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uce the ME/MC memory access 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otal system memory bandwidth limited because of cost and pow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mory accesses are power hung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imited memory bandwidth impacts video quality because of constraints on amount of data that can be loaded for 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ference pictures use 12 bits/pixel if Internal Bit-Depth Increase (IBDI) tool is turned 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sign 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uaranteed compression ratio to enable random access to memory blo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BDI-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2 bit/pixel to 8 bit/pixel compression ratio for 8x8 b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BDI-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8 bit/pixel to 4 bit/pixel compression ratio for rows of 64x64 MB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mplemented in the core video coding loop to avoid drift error caused by lossy compress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 compression and decompression algorithm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only be enabled for high-resolution sequences. (e.g. larger than 720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CCF8-4956-434A-94D6-4518D93ECF4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4AC2E2-95B7-4385-B00B-85D6720CE9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316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FB in Encoder Block Diagram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09440" y="1274760"/>
            <a:ext cx="8906040" cy="4567320"/>
            <a:chOff x="109440" y="1274760"/>
            <a:chExt cx="8906040" cy="4567320"/>
          </a:xfrm>
        </p:grpSpPr>
        <p:sp>
          <p:nvSpPr>
            <p:cNvPr id="225" name=""/>
            <p:cNvSpPr/>
            <p:nvPr/>
          </p:nvSpPr>
          <p:spPr>
            <a:xfrm>
              <a:off x="109440" y="1274760"/>
              <a:ext cx="8858520" cy="35672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3727440" y="2905200"/>
              <a:ext cx="568440" cy="569880"/>
              <a:chOff x="3727440" y="2905200"/>
              <a:chExt cx="568440" cy="569880"/>
            </a:xfrm>
          </p:grpSpPr>
          <p:sp>
            <p:nvSpPr>
              <p:cNvPr id="227" name=""/>
              <p:cNvSpPr/>
              <p:nvPr/>
            </p:nvSpPr>
            <p:spPr>
              <a:xfrm>
                <a:off x="3733920" y="2913120"/>
                <a:ext cx="555480" cy="555480"/>
              </a:xfrm>
              <a:prstGeom prst="ellips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943440" y="2905200"/>
                <a:ext cx="85680" cy="21960"/>
              </a:xfrm>
              <a:custGeom>
                <a:avLst/>
                <a:gdLst/>
                <a:ahLst/>
                <a:rect l="l" t="t" r="r" b="b"/>
                <a:pathLst>
                  <a:path w="54" h="14">
                    <a:moveTo>
                      <a:pt x="43" y="10"/>
                    </a:moveTo>
                    <a:lnTo>
                      <a:pt x="54" y="10"/>
                    </a:lnTo>
                    <a:lnTo>
                      <a:pt x="54" y="0"/>
                    </a:lnTo>
                    <a:lnTo>
                      <a:pt x="43" y="0"/>
                    </a:lnTo>
                    <a:lnTo>
                      <a:pt x="25" y="1"/>
                    </a:lnTo>
                    <a:lnTo>
                      <a:pt x="8" y="4"/>
                    </a:lnTo>
                    <a:lnTo>
                      <a:pt x="0" y="5"/>
                    </a:lnTo>
                    <a:lnTo>
                      <a:pt x="3" y="14"/>
                    </a:lnTo>
                    <a:lnTo>
                      <a:pt x="8" y="14"/>
                    </a:lnTo>
                    <a:lnTo>
                      <a:pt x="25" y="11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838680" y="2928960"/>
                <a:ext cx="63360" cy="47520"/>
              </a:xfrm>
              <a:custGeom>
                <a:avLst/>
                <a:gdLst/>
                <a:ahLst/>
                <a:rect l="l" t="t" r="r" b="b"/>
                <a:pathLst>
                  <a:path w="40" h="30">
                    <a:moveTo>
                      <a:pt x="40" y="9"/>
                    </a:moveTo>
                    <a:lnTo>
                      <a:pt x="36" y="0"/>
                    </a:lnTo>
                    <a:lnTo>
                      <a:pt x="21" y="7"/>
                    </a:lnTo>
                    <a:lnTo>
                      <a:pt x="7" y="16"/>
                    </a:lnTo>
                    <a:lnTo>
                      <a:pt x="0" y="22"/>
                    </a:lnTo>
                    <a:lnTo>
                      <a:pt x="5" y="30"/>
                    </a:lnTo>
                    <a:lnTo>
                      <a:pt x="14" y="23"/>
                    </a:lnTo>
                    <a:lnTo>
                      <a:pt x="29" y="14"/>
                    </a:lnTo>
                    <a:lnTo>
                      <a:pt x="4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762360" y="2997000"/>
                <a:ext cx="49320" cy="63720"/>
              </a:xfrm>
              <a:custGeom>
                <a:avLst/>
                <a:gdLst/>
                <a:ahLst/>
                <a:rect l="l" t="t" r="r" b="b"/>
                <a:pathLst>
                  <a:path w="31" h="40">
                    <a:moveTo>
                      <a:pt x="31" y="6"/>
                    </a:moveTo>
                    <a:lnTo>
                      <a:pt x="24" y="0"/>
                    </a:lnTo>
                    <a:lnTo>
                      <a:pt x="18" y="6"/>
                    </a:lnTo>
                    <a:lnTo>
                      <a:pt x="8" y="19"/>
                    </a:lnTo>
                    <a:lnTo>
                      <a:pt x="0" y="35"/>
                    </a:lnTo>
                    <a:lnTo>
                      <a:pt x="8" y="40"/>
                    </a:lnTo>
                    <a:lnTo>
                      <a:pt x="16" y="27"/>
                    </a:lnTo>
                    <a:lnTo>
                      <a:pt x="26" y="14"/>
                    </a:lnTo>
                    <a:lnTo>
                      <a:pt x="3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727440" y="3097080"/>
                <a:ext cx="30240" cy="68400"/>
              </a:xfrm>
              <a:custGeom>
                <a:avLst/>
                <a:gdLst/>
                <a:ahLst/>
                <a:rect l="l" t="t" r="r" b="b"/>
                <a:pathLst>
                  <a:path w="19" h="43">
                    <a:moveTo>
                      <a:pt x="19" y="4"/>
                    </a:moveTo>
                    <a:lnTo>
                      <a:pt x="10" y="0"/>
                    </a:lnTo>
                    <a:lnTo>
                      <a:pt x="7" y="7"/>
                    </a:lnTo>
                    <a:lnTo>
                      <a:pt x="3" y="23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11" y="43"/>
                    </a:lnTo>
                    <a:lnTo>
                      <a:pt x="11" y="40"/>
                    </a:lnTo>
                    <a:lnTo>
                      <a:pt x="13" y="23"/>
                    </a:lnTo>
                    <a:lnTo>
                      <a:pt x="17" y="7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727440" y="3214440"/>
                <a:ext cx="30240" cy="66960"/>
              </a:xfrm>
              <a:custGeom>
                <a:avLst/>
                <a:gdLst/>
                <a:ahLst/>
                <a:rect l="l" t="t" r="r" b="b"/>
                <a:pathLst>
                  <a:path w="19" h="42">
                    <a:moveTo>
                      <a:pt x="11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19"/>
                    </a:lnTo>
                    <a:lnTo>
                      <a:pt x="7" y="36"/>
                    </a:lnTo>
                    <a:lnTo>
                      <a:pt x="10" y="42"/>
                    </a:lnTo>
                    <a:lnTo>
                      <a:pt x="19" y="38"/>
                    </a:lnTo>
                    <a:lnTo>
                      <a:pt x="17" y="36"/>
                    </a:lnTo>
                    <a:lnTo>
                      <a:pt x="13" y="19"/>
                    </a:lnTo>
                    <a:lnTo>
                      <a:pt x="11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760920" y="3319200"/>
                <a:ext cx="50760" cy="60480"/>
              </a:xfrm>
              <a:custGeom>
                <a:avLst/>
                <a:gdLst/>
                <a:ahLst/>
                <a:rect l="l" t="t" r="r" b="b"/>
                <a:pathLst>
                  <a:path w="32" h="38">
                    <a:moveTo>
                      <a:pt x="8" y="0"/>
                    </a:moveTo>
                    <a:lnTo>
                      <a:pt x="0" y="5"/>
                    </a:lnTo>
                    <a:lnTo>
                      <a:pt x="9" y="20"/>
                    </a:lnTo>
                    <a:lnTo>
                      <a:pt x="19" y="33"/>
                    </a:lnTo>
                    <a:lnTo>
                      <a:pt x="25" y="38"/>
                    </a:lnTo>
                    <a:lnTo>
                      <a:pt x="32" y="32"/>
                    </a:lnTo>
                    <a:lnTo>
                      <a:pt x="27" y="25"/>
                    </a:lnTo>
                    <a:lnTo>
                      <a:pt x="17" y="13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837240" y="3403440"/>
                <a:ext cx="64800" cy="4608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6" y="0"/>
                    </a:moveTo>
                    <a:lnTo>
                      <a:pt x="0" y="7"/>
                    </a:lnTo>
                    <a:lnTo>
                      <a:pt x="8" y="14"/>
                    </a:lnTo>
                    <a:lnTo>
                      <a:pt x="22" y="23"/>
                    </a:lnTo>
                    <a:lnTo>
                      <a:pt x="37" y="29"/>
                    </a:lnTo>
                    <a:lnTo>
                      <a:pt x="41" y="20"/>
                    </a:lnTo>
                    <a:lnTo>
                      <a:pt x="30" y="15"/>
                    </a:lnTo>
                    <a:lnTo>
                      <a:pt x="15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943440" y="3452760"/>
                <a:ext cx="68400" cy="2232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3" y="0"/>
                    </a:moveTo>
                    <a:lnTo>
                      <a:pt x="0" y="9"/>
                    </a:lnTo>
                    <a:lnTo>
                      <a:pt x="8" y="10"/>
                    </a:lnTo>
                    <a:lnTo>
                      <a:pt x="25" y="12"/>
                    </a:lnTo>
                    <a:lnTo>
                      <a:pt x="43" y="14"/>
                    </a:lnTo>
                    <a:lnTo>
                      <a:pt x="43" y="3"/>
                    </a:lnTo>
                    <a:lnTo>
                      <a:pt x="25" y="2"/>
                    </a:lnTo>
                    <a:lnTo>
                      <a:pt x="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057920" y="3435120"/>
                <a:ext cx="68040" cy="34920"/>
              </a:xfrm>
              <a:custGeom>
                <a:avLst/>
                <a:gdLst/>
                <a:ahLst/>
                <a:rect l="l" t="t" r="r" b="b"/>
                <a:pathLst>
                  <a:path w="43" h="22">
                    <a:moveTo>
                      <a:pt x="0" y="12"/>
                    </a:moveTo>
                    <a:lnTo>
                      <a:pt x="2" y="22"/>
                    </a:lnTo>
                    <a:lnTo>
                      <a:pt x="6" y="21"/>
                    </a:lnTo>
                    <a:lnTo>
                      <a:pt x="22" y="17"/>
                    </a:lnTo>
                    <a:lnTo>
                      <a:pt x="39" y="11"/>
                    </a:lnTo>
                    <a:lnTo>
                      <a:pt x="43" y="9"/>
                    </a:lnTo>
                    <a:lnTo>
                      <a:pt x="43" y="9"/>
                    </a:lnTo>
                    <a:lnTo>
                      <a:pt x="39" y="0"/>
                    </a:lnTo>
                    <a:lnTo>
                      <a:pt x="35" y="1"/>
                    </a:lnTo>
                    <a:lnTo>
                      <a:pt x="39" y="5"/>
                    </a:lnTo>
                    <a:lnTo>
                      <a:pt x="39" y="0"/>
                    </a:lnTo>
                    <a:lnTo>
                      <a:pt x="22" y="7"/>
                    </a:lnTo>
                    <a:lnTo>
                      <a:pt x="6" y="11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160880" y="3371760"/>
                <a:ext cx="58680" cy="54000"/>
              </a:xfrm>
              <a:custGeom>
                <a:avLst/>
                <a:gdLst/>
                <a:ahLst/>
                <a:rect l="l" t="t" r="r" b="b"/>
                <a:pathLst>
                  <a:path w="37" h="34">
                    <a:moveTo>
                      <a:pt x="0" y="26"/>
                    </a:moveTo>
                    <a:lnTo>
                      <a:pt x="5" y="34"/>
                    </a:lnTo>
                    <a:lnTo>
                      <a:pt x="8" y="34"/>
                    </a:lnTo>
                    <a:lnTo>
                      <a:pt x="21" y="23"/>
                    </a:lnTo>
                    <a:lnTo>
                      <a:pt x="33" y="13"/>
                    </a:lnTo>
                    <a:lnTo>
                      <a:pt x="37" y="7"/>
                    </a:lnTo>
                    <a:lnTo>
                      <a:pt x="30" y="0"/>
                    </a:lnTo>
                    <a:lnTo>
                      <a:pt x="26" y="5"/>
                    </a:lnTo>
                    <a:lnTo>
                      <a:pt x="13" y="1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238640" y="3274920"/>
                <a:ext cx="41400" cy="68400"/>
              </a:xfrm>
              <a:custGeom>
                <a:avLst/>
                <a:gdLst/>
                <a:ahLst/>
                <a:rect l="l" t="t" r="r" b="b"/>
                <a:pathLst>
                  <a:path w="26" h="43">
                    <a:moveTo>
                      <a:pt x="0" y="38"/>
                    </a:moveTo>
                    <a:lnTo>
                      <a:pt x="8" y="43"/>
                    </a:lnTo>
                    <a:lnTo>
                      <a:pt x="14" y="34"/>
                    </a:lnTo>
                    <a:lnTo>
                      <a:pt x="21" y="19"/>
                    </a:lnTo>
                    <a:lnTo>
                      <a:pt x="22" y="15"/>
                    </a:lnTo>
                    <a:lnTo>
                      <a:pt x="26" y="4"/>
                    </a:lnTo>
                    <a:lnTo>
                      <a:pt x="17" y="0"/>
                    </a:lnTo>
                    <a:lnTo>
                      <a:pt x="12" y="15"/>
                    </a:lnTo>
                    <a:lnTo>
                      <a:pt x="17" y="15"/>
                    </a:lnTo>
                    <a:lnTo>
                      <a:pt x="13" y="11"/>
                    </a:lnTo>
                    <a:lnTo>
                      <a:pt x="6" y="26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275360" y="3166920"/>
                <a:ext cx="20520" cy="65160"/>
              </a:xfrm>
              <a:custGeom>
                <a:avLst/>
                <a:gdLst/>
                <a:ahLst/>
                <a:rect l="l" t="t" r="r" b="b"/>
                <a:pathLst>
                  <a:path w="13" h="41">
                    <a:moveTo>
                      <a:pt x="0" y="40"/>
                    </a:moveTo>
                    <a:lnTo>
                      <a:pt x="11" y="41"/>
                    </a:lnTo>
                    <a:lnTo>
                      <a:pt x="12" y="32"/>
                    </a:lnTo>
                    <a:lnTo>
                      <a:pt x="13" y="14"/>
                    </a:lnTo>
                    <a:lnTo>
                      <a:pt x="12" y="0"/>
                    </a:lnTo>
                    <a:lnTo>
                      <a:pt x="2" y="0"/>
                    </a:lnTo>
                    <a:lnTo>
                      <a:pt x="3" y="14"/>
                    </a:lnTo>
                    <a:lnTo>
                      <a:pt x="2" y="32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248360" y="3049560"/>
                <a:ext cx="38160" cy="69840"/>
              </a:xfrm>
              <a:custGeom>
                <a:avLst/>
                <a:gdLst/>
                <a:ahLst/>
                <a:rect l="l" t="t" r="r" b="b"/>
                <a:pathLst>
                  <a:path w="24" h="44">
                    <a:moveTo>
                      <a:pt x="15" y="44"/>
                    </a:moveTo>
                    <a:lnTo>
                      <a:pt x="24" y="42"/>
                    </a:lnTo>
                    <a:lnTo>
                      <a:pt x="22" y="37"/>
                    </a:lnTo>
                    <a:lnTo>
                      <a:pt x="16" y="20"/>
                    </a:lnTo>
                    <a:lnTo>
                      <a:pt x="15" y="16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7" y="24"/>
                    </a:lnTo>
                    <a:lnTo>
                      <a:pt x="11" y="20"/>
                    </a:lnTo>
                    <a:lnTo>
                      <a:pt x="6" y="20"/>
                    </a:lnTo>
                    <a:lnTo>
                      <a:pt x="12" y="37"/>
                    </a:lnTo>
                    <a:lnTo>
                      <a:pt x="1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175280" y="2963880"/>
                <a:ext cx="57240" cy="56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28" y="36"/>
                    </a:moveTo>
                    <a:lnTo>
                      <a:pt x="36" y="30"/>
                    </a:lnTo>
                    <a:lnTo>
                      <a:pt x="35" y="27"/>
                    </a:lnTo>
                    <a:lnTo>
                      <a:pt x="24" y="14"/>
                    </a:lnTo>
                    <a:lnTo>
                      <a:pt x="12" y="4"/>
                    </a:lnTo>
                    <a:lnTo>
                      <a:pt x="6" y="0"/>
                    </a:lnTo>
                    <a:lnTo>
                      <a:pt x="0" y="8"/>
                    </a:lnTo>
                    <a:lnTo>
                      <a:pt x="4" y="12"/>
                    </a:lnTo>
                    <a:lnTo>
                      <a:pt x="17" y="22"/>
                    </a:lnTo>
                    <a:lnTo>
                      <a:pt x="27" y="35"/>
                    </a:lnTo>
                    <a:lnTo>
                      <a:pt x="28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075200" y="2914560"/>
                <a:ext cx="66600" cy="36360"/>
              </a:xfrm>
              <a:custGeom>
                <a:avLst/>
                <a:gdLst/>
                <a:ahLst/>
                <a:rect l="l" t="t" r="r" b="b"/>
                <a:pathLst>
                  <a:path w="42" h="23">
                    <a:moveTo>
                      <a:pt x="38" y="23"/>
                    </a:moveTo>
                    <a:lnTo>
                      <a:pt x="42" y="14"/>
                    </a:lnTo>
                    <a:lnTo>
                      <a:pt x="32" y="9"/>
                    </a:lnTo>
                    <a:lnTo>
                      <a:pt x="28" y="8"/>
                    </a:lnTo>
                    <a:lnTo>
                      <a:pt x="11" y="2"/>
                    </a:lnTo>
                    <a:lnTo>
                      <a:pt x="2" y="0"/>
                    </a:lnTo>
                    <a:lnTo>
                      <a:pt x="0" y="9"/>
                    </a:lnTo>
                    <a:lnTo>
                      <a:pt x="11" y="12"/>
                    </a:lnTo>
                    <a:lnTo>
                      <a:pt x="28" y="18"/>
                    </a:lnTo>
                    <a:lnTo>
                      <a:pt x="28" y="13"/>
                    </a:lnTo>
                    <a:lnTo>
                      <a:pt x="24" y="17"/>
                    </a:lnTo>
                    <a:lnTo>
                      <a:pt x="38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3322800" y="1514520"/>
              <a:ext cx="566640" cy="569880"/>
              <a:chOff x="3322800" y="1514520"/>
              <a:chExt cx="566640" cy="569880"/>
            </a:xfrm>
          </p:grpSpPr>
          <p:sp>
            <p:nvSpPr>
              <p:cNvPr id="244" name=""/>
              <p:cNvSpPr/>
              <p:nvPr/>
            </p:nvSpPr>
            <p:spPr>
              <a:xfrm>
                <a:off x="3329280" y="1522440"/>
                <a:ext cx="555480" cy="555480"/>
              </a:xfrm>
              <a:prstGeom prst="ellips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537000" y="1514520"/>
                <a:ext cx="84240" cy="21960"/>
              </a:xfrm>
              <a:custGeom>
                <a:avLst/>
                <a:gdLst/>
                <a:ahLst/>
                <a:rect l="l" t="t" r="r" b="b"/>
                <a:pathLst>
                  <a:path w="53" h="14">
                    <a:moveTo>
                      <a:pt x="43" y="11"/>
                    </a:moveTo>
                    <a:lnTo>
                      <a:pt x="53" y="11"/>
                    </a:lnTo>
                    <a:lnTo>
                      <a:pt x="53" y="0"/>
                    </a:lnTo>
                    <a:lnTo>
                      <a:pt x="43" y="0"/>
                    </a:lnTo>
                    <a:lnTo>
                      <a:pt x="25" y="2"/>
                    </a:lnTo>
                    <a:lnTo>
                      <a:pt x="8" y="4"/>
                    </a:lnTo>
                    <a:lnTo>
                      <a:pt x="0" y="5"/>
                    </a:lnTo>
                    <a:lnTo>
                      <a:pt x="3" y="14"/>
                    </a:lnTo>
                    <a:lnTo>
                      <a:pt x="8" y="14"/>
                    </a:lnTo>
                    <a:lnTo>
                      <a:pt x="25" y="12"/>
                    </a:lnTo>
                    <a:lnTo>
                      <a:pt x="4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434040" y="1539720"/>
                <a:ext cx="63360" cy="46080"/>
              </a:xfrm>
              <a:custGeom>
                <a:avLst/>
                <a:gdLst/>
                <a:ahLst/>
                <a:rect l="l" t="t" r="r" b="b"/>
                <a:pathLst>
                  <a:path w="40" h="29">
                    <a:moveTo>
                      <a:pt x="40" y="9"/>
                    </a:moveTo>
                    <a:lnTo>
                      <a:pt x="36" y="0"/>
                    </a:lnTo>
                    <a:lnTo>
                      <a:pt x="21" y="6"/>
                    </a:lnTo>
                    <a:lnTo>
                      <a:pt x="7" y="15"/>
                    </a:lnTo>
                    <a:lnTo>
                      <a:pt x="0" y="22"/>
                    </a:lnTo>
                    <a:lnTo>
                      <a:pt x="6" y="29"/>
                    </a:lnTo>
                    <a:lnTo>
                      <a:pt x="15" y="23"/>
                    </a:lnTo>
                    <a:lnTo>
                      <a:pt x="29" y="14"/>
                    </a:lnTo>
                    <a:lnTo>
                      <a:pt x="4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357720" y="1609560"/>
                <a:ext cx="50760" cy="60480"/>
              </a:xfrm>
              <a:custGeom>
                <a:avLst/>
                <a:gdLst/>
                <a:ahLst/>
                <a:rect l="l" t="t" r="r" b="b"/>
                <a:pathLst>
                  <a:path w="32" h="38">
                    <a:moveTo>
                      <a:pt x="32" y="6"/>
                    </a:moveTo>
                    <a:lnTo>
                      <a:pt x="24" y="0"/>
                    </a:lnTo>
                    <a:lnTo>
                      <a:pt x="18" y="5"/>
                    </a:lnTo>
                    <a:lnTo>
                      <a:pt x="7" y="19"/>
                    </a:lnTo>
                    <a:lnTo>
                      <a:pt x="0" y="33"/>
                    </a:lnTo>
                    <a:lnTo>
                      <a:pt x="7" y="38"/>
                    </a:lnTo>
                    <a:lnTo>
                      <a:pt x="15" y="27"/>
                    </a:lnTo>
                    <a:lnTo>
                      <a:pt x="26" y="13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322800" y="1709640"/>
                <a:ext cx="28440" cy="65160"/>
              </a:xfrm>
              <a:custGeom>
                <a:avLst/>
                <a:gdLst/>
                <a:ahLst/>
                <a:rect l="l" t="t" r="r" b="b"/>
                <a:pathLst>
                  <a:path w="18" h="41">
                    <a:moveTo>
                      <a:pt x="18" y="4"/>
                    </a:moveTo>
                    <a:lnTo>
                      <a:pt x="9" y="0"/>
                    </a:lnTo>
                    <a:lnTo>
                      <a:pt x="6" y="5"/>
                    </a:lnTo>
                    <a:lnTo>
                      <a:pt x="2" y="22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10" y="41"/>
                    </a:lnTo>
                    <a:lnTo>
                      <a:pt x="10" y="39"/>
                    </a:lnTo>
                    <a:lnTo>
                      <a:pt x="13" y="22"/>
                    </a:lnTo>
                    <a:lnTo>
                      <a:pt x="17" y="5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322800" y="1823760"/>
                <a:ext cx="28440" cy="68400"/>
              </a:xfrm>
              <a:custGeom>
                <a:avLst/>
                <a:gdLst/>
                <a:ahLst/>
                <a:rect l="l" t="t" r="r" b="b"/>
                <a:pathLst>
                  <a:path w="18" h="43">
                    <a:moveTo>
                      <a:pt x="1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20"/>
                    </a:lnTo>
                    <a:lnTo>
                      <a:pt x="6" y="36"/>
                    </a:lnTo>
                    <a:lnTo>
                      <a:pt x="9" y="43"/>
                    </a:lnTo>
                    <a:lnTo>
                      <a:pt x="18" y="39"/>
                    </a:lnTo>
                    <a:lnTo>
                      <a:pt x="17" y="36"/>
                    </a:lnTo>
                    <a:lnTo>
                      <a:pt x="13" y="20"/>
                    </a:lnTo>
                    <a:lnTo>
                      <a:pt x="10" y="3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357720" y="1928880"/>
                <a:ext cx="50760" cy="63360"/>
              </a:xfrm>
              <a:custGeom>
                <a:avLst/>
                <a:gdLst/>
                <a:ahLst/>
                <a:rect l="l" t="t" r="r" b="b"/>
                <a:pathLst>
                  <a:path w="32" h="40">
                    <a:moveTo>
                      <a:pt x="7" y="0"/>
                    </a:moveTo>
                    <a:lnTo>
                      <a:pt x="0" y="5"/>
                    </a:lnTo>
                    <a:lnTo>
                      <a:pt x="7" y="21"/>
                    </a:lnTo>
                    <a:lnTo>
                      <a:pt x="18" y="34"/>
                    </a:lnTo>
                    <a:lnTo>
                      <a:pt x="24" y="40"/>
                    </a:lnTo>
                    <a:lnTo>
                      <a:pt x="32" y="34"/>
                    </a:lnTo>
                    <a:lnTo>
                      <a:pt x="26" y="26"/>
                    </a:lnTo>
                    <a:lnTo>
                      <a:pt x="15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434040" y="2012760"/>
                <a:ext cx="63360" cy="47880"/>
              </a:xfrm>
              <a:custGeom>
                <a:avLst/>
                <a:gdLst/>
                <a:ahLst/>
                <a:rect l="l" t="t" r="r" b="b"/>
                <a:pathLst>
                  <a:path w="40" h="30">
                    <a:moveTo>
                      <a:pt x="6" y="0"/>
                    </a:moveTo>
                    <a:lnTo>
                      <a:pt x="0" y="8"/>
                    </a:lnTo>
                    <a:lnTo>
                      <a:pt x="7" y="14"/>
                    </a:lnTo>
                    <a:lnTo>
                      <a:pt x="21" y="23"/>
                    </a:lnTo>
                    <a:lnTo>
                      <a:pt x="36" y="30"/>
                    </a:lnTo>
                    <a:lnTo>
                      <a:pt x="40" y="21"/>
                    </a:lnTo>
                    <a:lnTo>
                      <a:pt x="29" y="16"/>
                    </a:lnTo>
                    <a:lnTo>
                      <a:pt x="15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540240" y="2062080"/>
                <a:ext cx="65160" cy="2232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2" y="0"/>
                    </a:moveTo>
                    <a:lnTo>
                      <a:pt x="0" y="9"/>
                    </a:lnTo>
                    <a:lnTo>
                      <a:pt x="6" y="10"/>
                    </a:lnTo>
                    <a:lnTo>
                      <a:pt x="23" y="13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23" y="3"/>
                    </a:lnTo>
                    <a:lnTo>
                      <a:pt x="6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654720" y="2046240"/>
                <a:ext cx="64800" cy="34920"/>
              </a:xfrm>
              <a:custGeom>
                <a:avLst/>
                <a:gdLst/>
                <a:ahLst/>
                <a:rect l="l" t="t" r="r" b="b"/>
                <a:pathLst>
                  <a:path w="41" h="22">
                    <a:moveTo>
                      <a:pt x="0" y="11"/>
                    </a:moveTo>
                    <a:lnTo>
                      <a:pt x="1" y="22"/>
                    </a:lnTo>
                    <a:lnTo>
                      <a:pt x="4" y="20"/>
                    </a:lnTo>
                    <a:lnTo>
                      <a:pt x="21" y="16"/>
                    </a:lnTo>
                    <a:lnTo>
                      <a:pt x="37" y="10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37" y="0"/>
                    </a:lnTo>
                    <a:lnTo>
                      <a:pt x="34" y="1"/>
                    </a:lnTo>
                    <a:lnTo>
                      <a:pt x="37" y="5"/>
                    </a:lnTo>
                    <a:lnTo>
                      <a:pt x="37" y="0"/>
                    </a:lnTo>
                    <a:lnTo>
                      <a:pt x="21" y="6"/>
                    </a:lnTo>
                    <a:lnTo>
                      <a:pt x="4" y="1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757680" y="1982520"/>
                <a:ext cx="58680" cy="52560"/>
              </a:xfrm>
              <a:custGeom>
                <a:avLst/>
                <a:gdLst/>
                <a:ahLst/>
                <a:rect l="l" t="t" r="r" b="b"/>
                <a:pathLst>
                  <a:path w="37" h="33">
                    <a:moveTo>
                      <a:pt x="0" y="26"/>
                    </a:moveTo>
                    <a:lnTo>
                      <a:pt x="5" y="33"/>
                    </a:lnTo>
                    <a:lnTo>
                      <a:pt x="19" y="23"/>
                    </a:lnTo>
                    <a:lnTo>
                      <a:pt x="32" y="13"/>
                    </a:lnTo>
                    <a:lnTo>
                      <a:pt x="37" y="6"/>
                    </a:lnTo>
                    <a:lnTo>
                      <a:pt x="29" y="0"/>
                    </a:lnTo>
                    <a:lnTo>
                      <a:pt x="24" y="5"/>
                    </a:lnTo>
                    <a:lnTo>
                      <a:pt x="11" y="1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832200" y="1885680"/>
                <a:ext cx="41400" cy="65160"/>
              </a:xfrm>
              <a:custGeom>
                <a:avLst/>
                <a:gdLst/>
                <a:ahLst/>
                <a:rect l="l" t="t" r="r" b="b"/>
                <a:pathLst>
                  <a:path w="26" h="41">
                    <a:moveTo>
                      <a:pt x="0" y="36"/>
                    </a:moveTo>
                    <a:lnTo>
                      <a:pt x="8" y="41"/>
                    </a:lnTo>
                    <a:lnTo>
                      <a:pt x="15" y="34"/>
                    </a:lnTo>
                    <a:lnTo>
                      <a:pt x="21" y="18"/>
                    </a:lnTo>
                    <a:lnTo>
                      <a:pt x="22" y="14"/>
                    </a:lnTo>
                    <a:lnTo>
                      <a:pt x="26" y="4"/>
                    </a:lnTo>
                    <a:lnTo>
                      <a:pt x="17" y="0"/>
                    </a:lnTo>
                    <a:lnTo>
                      <a:pt x="12" y="14"/>
                    </a:lnTo>
                    <a:lnTo>
                      <a:pt x="17" y="14"/>
                    </a:lnTo>
                    <a:lnTo>
                      <a:pt x="13" y="10"/>
                    </a:lnTo>
                    <a:lnTo>
                      <a:pt x="7" y="2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870360" y="1774800"/>
                <a:ext cx="19080" cy="66600"/>
              </a:xfrm>
              <a:custGeom>
                <a:avLst/>
                <a:gdLst/>
                <a:ahLst/>
                <a:rect l="l" t="t" r="r" b="b"/>
                <a:pathLst>
                  <a:path w="12" h="42">
                    <a:moveTo>
                      <a:pt x="0" y="40"/>
                    </a:moveTo>
                    <a:lnTo>
                      <a:pt x="10" y="42"/>
                    </a:lnTo>
                    <a:lnTo>
                      <a:pt x="11" y="34"/>
                    </a:lnTo>
                    <a:lnTo>
                      <a:pt x="12" y="16"/>
                    </a:lnTo>
                    <a:lnTo>
                      <a:pt x="11" y="0"/>
                    </a:lnTo>
                    <a:lnTo>
                      <a:pt x="1" y="0"/>
                    </a:lnTo>
                    <a:lnTo>
                      <a:pt x="2" y="16"/>
                    </a:lnTo>
                    <a:lnTo>
                      <a:pt x="1" y="34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840120" y="1662120"/>
                <a:ext cx="39960" cy="66600"/>
              </a:xfrm>
              <a:custGeom>
                <a:avLst/>
                <a:gdLst/>
                <a:ahLst/>
                <a:rect l="l" t="t" r="r" b="b"/>
                <a:pathLst>
                  <a:path w="25" h="42">
                    <a:moveTo>
                      <a:pt x="16" y="42"/>
                    </a:moveTo>
                    <a:lnTo>
                      <a:pt x="25" y="39"/>
                    </a:lnTo>
                    <a:lnTo>
                      <a:pt x="24" y="35"/>
                    </a:lnTo>
                    <a:lnTo>
                      <a:pt x="17" y="20"/>
                    </a:lnTo>
                    <a:lnTo>
                      <a:pt x="16" y="16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8" y="23"/>
                    </a:lnTo>
                    <a:lnTo>
                      <a:pt x="12" y="20"/>
                    </a:lnTo>
                    <a:lnTo>
                      <a:pt x="7" y="20"/>
                    </a:lnTo>
                    <a:lnTo>
                      <a:pt x="13" y="35"/>
                    </a:lnTo>
                    <a:lnTo>
                      <a:pt x="1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767400" y="1574640"/>
                <a:ext cx="58680" cy="55800"/>
              </a:xfrm>
              <a:custGeom>
                <a:avLst/>
                <a:gdLst/>
                <a:ahLst/>
                <a:rect l="l" t="t" r="r" b="b"/>
                <a:pathLst>
                  <a:path w="37" h="35">
                    <a:moveTo>
                      <a:pt x="30" y="35"/>
                    </a:moveTo>
                    <a:lnTo>
                      <a:pt x="37" y="28"/>
                    </a:lnTo>
                    <a:lnTo>
                      <a:pt x="36" y="27"/>
                    </a:lnTo>
                    <a:lnTo>
                      <a:pt x="26" y="15"/>
                    </a:lnTo>
                    <a:lnTo>
                      <a:pt x="13" y="4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5" y="11"/>
                    </a:lnTo>
                    <a:lnTo>
                      <a:pt x="18" y="23"/>
                    </a:lnTo>
                    <a:lnTo>
                      <a:pt x="28" y="35"/>
                    </a:lnTo>
                    <a:lnTo>
                      <a:pt x="3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668760" y="1522440"/>
                <a:ext cx="65160" cy="3780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37" y="24"/>
                    </a:moveTo>
                    <a:lnTo>
                      <a:pt x="41" y="15"/>
                    </a:lnTo>
                    <a:lnTo>
                      <a:pt x="32" y="11"/>
                    </a:lnTo>
                    <a:lnTo>
                      <a:pt x="28" y="9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0" y="9"/>
                    </a:lnTo>
                    <a:lnTo>
                      <a:pt x="12" y="13"/>
                    </a:lnTo>
                    <a:lnTo>
                      <a:pt x="28" y="20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3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2927520" y="3336840"/>
              <a:ext cx="144360" cy="491760"/>
              <a:chOff x="2927520" y="3336840"/>
              <a:chExt cx="144360" cy="491760"/>
            </a:xfrm>
          </p:grpSpPr>
          <p:sp>
            <p:nvSpPr>
              <p:cNvPr id="261" name=""/>
              <p:cNvSpPr/>
              <p:nvPr/>
            </p:nvSpPr>
            <p:spPr>
              <a:xfrm flipH="1" flipV="1">
                <a:off x="2998440" y="3417120"/>
                <a:ext cx="3240" cy="411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927520" y="3336840"/>
                <a:ext cx="144360" cy="83160"/>
              </a:xfrm>
              <a:custGeom>
                <a:avLst/>
                <a:gdLst/>
                <a:ahLst/>
                <a:rect l="l" t="t" r="r" b="b"/>
                <a:pathLst>
                  <a:path w="91" h="91">
                    <a:moveTo>
                      <a:pt x="91" y="89"/>
                    </a:moveTo>
                    <a:lnTo>
                      <a:pt x="43" y="0"/>
                    </a:lnTo>
                    <a:lnTo>
                      <a:pt x="0" y="91"/>
                    </a:lnTo>
                    <a:lnTo>
                      <a:pt x="91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1766880" y="3021120"/>
              <a:ext cx="738360" cy="145800"/>
              <a:chOff x="1766880" y="3021120"/>
              <a:chExt cx="738360" cy="145800"/>
            </a:xfrm>
          </p:grpSpPr>
          <p:sp>
            <p:nvSpPr>
              <p:cNvPr id="264" name=""/>
              <p:cNvSpPr/>
              <p:nvPr/>
            </p:nvSpPr>
            <p:spPr>
              <a:xfrm>
                <a:off x="1766880" y="3090600"/>
                <a:ext cx="5986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360880" y="3021120"/>
                <a:ext cx="144360" cy="145800"/>
              </a:xfrm>
              <a:custGeom>
                <a:avLst/>
                <a:gdLst/>
                <a:ahLst/>
                <a:rect l="l" t="t" r="r" b="b"/>
                <a:pathLst>
                  <a:path w="91" h="92">
                    <a:moveTo>
                      <a:pt x="0" y="92"/>
                    </a:moveTo>
                    <a:lnTo>
                      <a:pt x="91" y="46"/>
                    </a:lnTo>
                    <a:lnTo>
                      <a:pt x="0" y="0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782640" y="2847960"/>
              <a:ext cx="985680" cy="49356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2640" y="2908440"/>
              <a:ext cx="98568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068840" y="2928960"/>
              <a:ext cx="421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o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950040" y="308772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stim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827360" y="2631960"/>
              <a:ext cx="4950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65880" y="2652840"/>
              <a:ext cx="421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o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885680" y="280980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vect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2951280" y="2168280"/>
              <a:ext cx="91800" cy="679320"/>
              <a:chOff x="2951280" y="2168280"/>
              <a:chExt cx="91800" cy="679320"/>
            </a:xfrm>
          </p:grpSpPr>
          <p:sp>
            <p:nvSpPr>
              <p:cNvPr id="274" name=""/>
              <p:cNvSpPr/>
              <p:nvPr/>
            </p:nvSpPr>
            <p:spPr>
              <a:xfrm flipH="1" flipV="1">
                <a:off x="2994840" y="2168280"/>
                <a:ext cx="6120" cy="679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951280" y="2168640"/>
                <a:ext cx="9180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58" y="58"/>
                    </a:moveTo>
                    <a:lnTo>
                      <a:pt x="28" y="0"/>
                    </a:lnTo>
                    <a:lnTo>
                      <a:pt x="0" y="58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2811600" y="1801800"/>
              <a:ext cx="371160" cy="371520"/>
            </a:xfrm>
            <a:prstGeom prst="ellipse">
              <a:avLst/>
            </a:prstGeom>
            <a:solidFill>
              <a:srgbClr val="99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935440" y="1969920"/>
              <a:ext cx="12204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74760" y="1616040"/>
              <a:ext cx="22194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84560" y="1996920"/>
              <a:ext cx="2998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94160" y="1585800"/>
              <a:ext cx="63360" cy="6372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94160" y="1965240"/>
              <a:ext cx="63360" cy="6372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733920" y="1806480"/>
              <a:ext cx="2775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3549600" y="1800000"/>
              <a:ext cx="169920" cy="169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05240" y="2847960"/>
              <a:ext cx="985680" cy="49356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05240" y="2908440"/>
              <a:ext cx="98568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89640" y="2928960"/>
              <a:ext cx="421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o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553840" y="3087720"/>
              <a:ext cx="90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mpens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654120" y="1919160"/>
              <a:ext cx="2147760" cy="144360"/>
              <a:chOff x="654120" y="1919160"/>
              <a:chExt cx="2147760" cy="144360"/>
            </a:xfrm>
          </p:grpSpPr>
          <p:sp>
            <p:nvSpPr>
              <p:cNvPr id="289" name=""/>
              <p:cNvSpPr/>
              <p:nvPr/>
            </p:nvSpPr>
            <p:spPr>
              <a:xfrm flipV="1">
                <a:off x="654120" y="1990800"/>
                <a:ext cx="20592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710080" y="1919160"/>
                <a:ext cx="91800" cy="144360"/>
              </a:xfrm>
              <a:custGeom>
                <a:avLst/>
                <a:gdLst/>
                <a:ahLst/>
                <a:rect l="l" t="t" r="r" b="b"/>
                <a:pathLst>
                  <a:path w="58" h="91">
                    <a:moveTo>
                      <a:pt x="0" y="91"/>
                    </a:moveTo>
                    <a:lnTo>
                      <a:pt x="58" y="45"/>
                    </a:lnTo>
                    <a:lnTo>
                      <a:pt x="0" y="0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1200240" y="1616040"/>
              <a:ext cx="145800" cy="1231920"/>
              <a:chOff x="1200240" y="1616040"/>
              <a:chExt cx="145800" cy="1231920"/>
            </a:xfrm>
          </p:grpSpPr>
          <p:sp>
            <p:nvSpPr>
              <p:cNvPr id="292" name=""/>
              <p:cNvSpPr/>
              <p:nvPr/>
            </p:nvSpPr>
            <p:spPr>
              <a:xfrm>
                <a:off x="1274400" y="1616040"/>
                <a:ext cx="1440" cy="1092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200240" y="2703240"/>
                <a:ext cx="145800" cy="144720"/>
              </a:xfrm>
              <a:custGeom>
                <a:avLst/>
                <a:gdLst/>
                <a:ahLst/>
                <a:rect l="l" t="t" r="r" b="b"/>
                <a:pathLst>
                  <a:path w="92" h="91">
                    <a:moveTo>
                      <a:pt x="0" y="0"/>
                    </a:moveTo>
                    <a:lnTo>
                      <a:pt x="47" y="91"/>
                    </a:lnTo>
                    <a:lnTo>
                      <a:pt x="9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2133720" y="4203720"/>
              <a:ext cx="985680" cy="49356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195640" y="4265640"/>
              <a:ext cx="861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93840" y="4294080"/>
              <a:ext cx="9241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fere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rame buffer(s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506920" y="1560600"/>
              <a:ext cx="986040" cy="49536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06920" y="1652760"/>
              <a:ext cx="98604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612040" y="1673280"/>
              <a:ext cx="786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Quantiz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165800" y="2278080"/>
              <a:ext cx="986040" cy="49536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165800" y="2370240"/>
              <a:ext cx="98604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28080" y="2390760"/>
              <a:ext cx="878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VLC encod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267080" y="1560600"/>
              <a:ext cx="986040" cy="49536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67080" y="1697040"/>
              <a:ext cx="98604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18800" y="1717560"/>
              <a:ext cx="28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5251320" y="1736640"/>
              <a:ext cx="245880" cy="144360"/>
              <a:chOff x="5251320" y="1736640"/>
              <a:chExt cx="245880" cy="144360"/>
            </a:xfrm>
          </p:grpSpPr>
          <p:sp>
            <p:nvSpPr>
              <p:cNvPr id="307" name=""/>
              <p:cNvSpPr/>
              <p:nvPr/>
            </p:nvSpPr>
            <p:spPr>
              <a:xfrm>
                <a:off x="5251320" y="1806480"/>
                <a:ext cx="1062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351400" y="1736640"/>
                <a:ext cx="145800" cy="144360"/>
              </a:xfrm>
              <a:custGeom>
                <a:avLst/>
                <a:gdLst/>
                <a:ahLst/>
                <a:rect l="l" t="t" r="r" b="b"/>
                <a:pathLst>
                  <a:path w="92" h="91">
                    <a:moveTo>
                      <a:pt x="0" y="91"/>
                    </a:moveTo>
                    <a:lnTo>
                      <a:pt x="92" y="48"/>
                    </a:lnTo>
                    <a:lnTo>
                      <a:pt x="3" y="0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6842160" y="2281320"/>
              <a:ext cx="315360" cy="145800"/>
              <a:chOff x="6842160" y="2281320"/>
              <a:chExt cx="315360" cy="145800"/>
            </a:xfrm>
          </p:grpSpPr>
          <p:sp>
            <p:nvSpPr>
              <p:cNvPr id="310" name=""/>
              <p:cNvSpPr/>
              <p:nvPr/>
            </p:nvSpPr>
            <p:spPr>
              <a:xfrm>
                <a:off x="6842160" y="2352600"/>
                <a:ext cx="176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013160" y="2281320"/>
                <a:ext cx="144360" cy="145800"/>
              </a:xfrm>
              <a:custGeom>
                <a:avLst/>
                <a:gdLst/>
                <a:ahLst/>
                <a:rect l="l" t="t" r="r" b="b"/>
                <a:pathLst>
                  <a:path w="91" h="92">
                    <a:moveTo>
                      <a:pt x="0" y="92"/>
                    </a:moveTo>
                    <a:lnTo>
                      <a:pt x="91" y="45"/>
                    </a:lnTo>
                    <a:lnTo>
                      <a:pt x="0" y="0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4021200" y="1733400"/>
              <a:ext cx="245520" cy="146160"/>
              <a:chOff x="4021200" y="1733400"/>
              <a:chExt cx="245520" cy="146160"/>
            </a:xfrm>
          </p:grpSpPr>
          <p:sp>
            <p:nvSpPr>
              <p:cNvPr id="313" name=""/>
              <p:cNvSpPr/>
              <p:nvPr/>
            </p:nvSpPr>
            <p:spPr>
              <a:xfrm>
                <a:off x="4021200" y="1806480"/>
                <a:ext cx="1062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124160" y="1733400"/>
                <a:ext cx="142560" cy="146160"/>
              </a:xfrm>
              <a:custGeom>
                <a:avLst/>
                <a:gdLst/>
                <a:ahLst/>
                <a:rect l="l" t="t" r="r" b="b"/>
                <a:pathLst>
                  <a:path w="90" h="92">
                    <a:moveTo>
                      <a:pt x="0" y="92"/>
                    </a:moveTo>
                    <a:lnTo>
                      <a:pt x="90" y="46"/>
                    </a:lnTo>
                    <a:lnTo>
                      <a:pt x="0" y="0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5702400" y="4224240"/>
              <a:ext cx="985680" cy="49716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702400" y="4280040"/>
              <a:ext cx="98568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967360" y="430056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nvers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07520" y="4459320"/>
              <a:ext cx="786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Quantiz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78400" y="4221000"/>
              <a:ext cx="985680" cy="49392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478400" y="4357800"/>
              <a:ext cx="98568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09960" y="4378320"/>
              <a:ext cx="326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D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5460840" y="4390920"/>
              <a:ext cx="233280" cy="146160"/>
              <a:chOff x="5460840" y="4390920"/>
              <a:chExt cx="233280" cy="146160"/>
            </a:xfrm>
          </p:grpSpPr>
          <p:sp>
            <p:nvSpPr>
              <p:cNvPr id="323" name=""/>
              <p:cNvSpPr/>
              <p:nvPr/>
            </p:nvSpPr>
            <p:spPr>
              <a:xfrm>
                <a:off x="5598720" y="4464000"/>
                <a:ext cx="9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60840" y="4390920"/>
                <a:ext cx="142920" cy="146160"/>
              </a:xfrm>
              <a:custGeom>
                <a:avLst/>
                <a:gdLst/>
                <a:ahLst/>
                <a:rect l="l" t="t" r="r" b="b"/>
                <a:pathLst>
                  <a:path w="90" h="92">
                    <a:moveTo>
                      <a:pt x="90" y="0"/>
                    </a:moveTo>
                    <a:lnTo>
                      <a:pt x="0" y="46"/>
                    </a:lnTo>
                    <a:lnTo>
                      <a:pt x="90" y="92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4199040" y="4392720"/>
              <a:ext cx="279360" cy="145800"/>
              <a:chOff x="4199040" y="4392720"/>
              <a:chExt cx="279360" cy="145800"/>
            </a:xfrm>
          </p:grpSpPr>
          <p:sp>
            <p:nvSpPr>
              <p:cNvPr id="326" name=""/>
              <p:cNvSpPr/>
              <p:nvPr/>
            </p:nvSpPr>
            <p:spPr>
              <a:xfrm>
                <a:off x="4338720" y="4467240"/>
                <a:ext cx="1396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199040" y="4392720"/>
                <a:ext cx="146160" cy="145800"/>
              </a:xfrm>
              <a:custGeom>
                <a:avLst/>
                <a:gdLst/>
                <a:ahLst/>
                <a:rect l="l" t="t" r="r" b="b"/>
                <a:pathLst>
                  <a:path w="92" h="92">
                    <a:moveTo>
                      <a:pt x="92" y="0"/>
                    </a:moveTo>
                    <a:lnTo>
                      <a:pt x="0" y="45"/>
                    </a:lnTo>
                    <a:lnTo>
                      <a:pt x="90" y="9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3832200" y="4281480"/>
              <a:ext cx="371520" cy="371520"/>
            </a:xfrm>
            <a:prstGeom prst="ellipse">
              <a:avLst/>
            </a:prstGeom>
            <a:solidFill>
              <a:srgbClr val="99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54600" y="4449600"/>
              <a:ext cx="12384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998880" y="4405320"/>
              <a:ext cx="36720" cy="122400"/>
            </a:xfrm>
            <a:custGeom>
              <a:avLst/>
              <a:gdLst/>
              <a:ahLst/>
              <a:rect l="l" t="t" r="r" b="b"/>
              <a:pathLst>
                <a:path w="23" h="77">
                  <a:moveTo>
                    <a:pt x="22" y="0"/>
                  </a:moveTo>
                  <a:lnTo>
                    <a:pt x="0" y="0"/>
                  </a:lnTo>
                  <a:lnTo>
                    <a:pt x="1" y="77"/>
                  </a:lnTo>
                  <a:lnTo>
                    <a:pt x="23" y="7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005360" y="3316320"/>
              <a:ext cx="1440" cy="317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225680" y="3090960"/>
              <a:ext cx="24588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487320" y="3090960"/>
              <a:ext cx="298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165560" y="3076560"/>
              <a:ext cx="63720" cy="6336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86120" y="3076560"/>
              <a:ext cx="63720" cy="6336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840120" y="3132000"/>
              <a:ext cx="171360" cy="169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3930480" y="3603240"/>
              <a:ext cx="146160" cy="678240"/>
              <a:chOff x="3930480" y="3603240"/>
              <a:chExt cx="146160" cy="678240"/>
            </a:xfrm>
          </p:grpSpPr>
          <p:sp>
            <p:nvSpPr>
              <p:cNvPr id="338" name=""/>
              <p:cNvSpPr/>
              <p:nvPr/>
            </p:nvSpPr>
            <p:spPr>
              <a:xfrm flipV="1">
                <a:off x="4005000" y="3603240"/>
                <a:ext cx="1440" cy="539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930480" y="4138560"/>
                <a:ext cx="146160" cy="142920"/>
              </a:xfrm>
              <a:custGeom>
                <a:avLst/>
                <a:gdLst/>
                <a:ahLst/>
                <a:rect l="l" t="t" r="r" b="b"/>
                <a:pathLst>
                  <a:path w="92" h="90">
                    <a:moveTo>
                      <a:pt x="0" y="0"/>
                    </a:moveTo>
                    <a:lnTo>
                      <a:pt x="47" y="90"/>
                    </a:lnTo>
                    <a:lnTo>
                      <a:pt x="9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3549600" y="2076480"/>
              <a:ext cx="717120" cy="296640"/>
              <a:chOff x="3549600" y="2076480"/>
              <a:chExt cx="717120" cy="296640"/>
            </a:xfrm>
          </p:grpSpPr>
          <p:sp>
            <p:nvSpPr>
              <p:cNvPr id="341" name=""/>
              <p:cNvSpPr/>
              <p:nvPr/>
            </p:nvSpPr>
            <p:spPr>
              <a:xfrm>
                <a:off x="4201920" y="2357280"/>
                <a:ext cx="6480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086000" y="2357280"/>
                <a:ext cx="6624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971520" y="2357280"/>
                <a:ext cx="6480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857400" y="2357280"/>
                <a:ext cx="6480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742920" y="2357280"/>
                <a:ext cx="6480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627360" y="2357280"/>
                <a:ext cx="6624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612960" y="2257200"/>
                <a:ext cx="15480" cy="65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49600" y="2076480"/>
                <a:ext cx="145800" cy="142920"/>
              </a:xfrm>
              <a:custGeom>
                <a:avLst/>
                <a:gdLst/>
                <a:ahLst/>
                <a:rect l="l" t="t" r="r" b="b"/>
                <a:pathLst>
                  <a:path w="92" h="90">
                    <a:moveTo>
                      <a:pt x="92" y="90"/>
                    </a:moveTo>
                    <a:lnTo>
                      <a:pt x="45" y="0"/>
                    </a:lnTo>
                    <a:lnTo>
                      <a:pt x="0" y="90"/>
                    </a:lnTo>
                    <a:lnTo>
                      <a:pt x="92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3927600" y="2641680"/>
              <a:ext cx="318960" cy="271440"/>
              <a:chOff x="3927600" y="2641680"/>
              <a:chExt cx="318960" cy="271440"/>
            </a:xfrm>
          </p:grpSpPr>
          <p:sp>
            <p:nvSpPr>
              <p:cNvPr id="350" name=""/>
              <p:cNvSpPr/>
              <p:nvPr/>
            </p:nvSpPr>
            <p:spPr>
              <a:xfrm>
                <a:off x="4181760" y="2641680"/>
                <a:ext cx="6480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067280" y="2641680"/>
                <a:ext cx="6516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992760" y="2641680"/>
                <a:ext cx="25200" cy="58680"/>
              </a:xfrm>
              <a:custGeom>
                <a:avLst/>
                <a:gdLst/>
                <a:ahLst/>
                <a:rect l="l" t="t" r="r" b="b"/>
                <a:pathLst>
                  <a:path w="16" h="37">
                    <a:moveTo>
                      <a:pt x="16" y="11"/>
                    </a:moveTo>
                    <a:lnTo>
                      <a:pt x="1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37"/>
                    </a:lnTo>
                    <a:lnTo>
                      <a:pt x="10" y="37"/>
                    </a:lnTo>
                    <a:lnTo>
                      <a:pt x="10" y="6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5" y="6"/>
                    </a:lnTo>
                    <a:lnTo>
                      <a:pt x="5" y="11"/>
                    </a:lnTo>
                    <a:lnTo>
                      <a:pt x="1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992760" y="2749320"/>
                <a:ext cx="15840" cy="24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927600" y="2770200"/>
                <a:ext cx="144360" cy="142920"/>
              </a:xfrm>
              <a:custGeom>
                <a:avLst/>
                <a:gdLst/>
                <a:ahLst/>
                <a:rect l="l" t="t" r="r" b="b"/>
                <a:pathLst>
                  <a:path w="91" h="90">
                    <a:moveTo>
                      <a:pt x="0" y="0"/>
                    </a:moveTo>
                    <a:lnTo>
                      <a:pt x="46" y="90"/>
                    </a:lnTo>
                    <a:lnTo>
                      <a:pt x="9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8305920" y="2349360"/>
              <a:ext cx="554040" cy="358920"/>
              <a:chOff x="8305920" y="2349360"/>
              <a:chExt cx="554040" cy="358920"/>
            </a:xfrm>
          </p:grpSpPr>
          <p:sp>
            <p:nvSpPr>
              <p:cNvPr id="356" name=""/>
              <p:cNvSpPr/>
              <p:nvPr/>
            </p:nvSpPr>
            <p:spPr>
              <a:xfrm>
                <a:off x="8305920" y="2476440"/>
                <a:ext cx="200160" cy="10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8501040" y="2349360"/>
                <a:ext cx="358920" cy="358920"/>
              </a:xfrm>
              <a:custGeom>
                <a:avLst/>
                <a:gdLst/>
                <a:ahLst/>
                <a:rect l="l" t="t" r="r" b="b"/>
                <a:pathLst>
                  <a:path w="226" h="226">
                    <a:moveTo>
                      <a:pt x="0" y="226"/>
                    </a:moveTo>
                    <a:lnTo>
                      <a:pt x="226" y="113"/>
                    </a:lnTo>
                    <a:lnTo>
                      <a:pt x="2" y="0"/>
                    </a:lnTo>
                    <a:lnTo>
                      <a:pt x="0" y="2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5240160" y="2435400"/>
              <a:ext cx="1904760" cy="145800"/>
              <a:chOff x="5240160" y="2435400"/>
              <a:chExt cx="1904760" cy="145800"/>
            </a:xfrm>
          </p:grpSpPr>
          <p:sp>
            <p:nvSpPr>
              <p:cNvPr id="359" name=""/>
              <p:cNvSpPr/>
              <p:nvPr/>
            </p:nvSpPr>
            <p:spPr>
              <a:xfrm>
                <a:off x="5240160" y="2489040"/>
                <a:ext cx="6660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356080" y="2489040"/>
                <a:ext cx="65160" cy="17280"/>
              </a:xfrm>
              <a:custGeom>
                <a:avLst/>
                <a:gdLst/>
                <a:ahLst/>
                <a:rect l="l" t="t" r="r" b="b"/>
                <a:pathLst>
                  <a:path w="41" h="11">
                    <a:moveTo>
                      <a:pt x="0" y="0"/>
                    </a:moveTo>
                    <a:lnTo>
                      <a:pt x="0" y="10"/>
                    </a:lnTo>
                    <a:lnTo>
                      <a:pt x="41" y="11"/>
                    </a:lnTo>
                    <a:lnTo>
                      <a:pt x="4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470200" y="2490840"/>
                <a:ext cx="6516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584680" y="2490840"/>
                <a:ext cx="6660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700600" y="2490840"/>
                <a:ext cx="6480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814720" y="2492280"/>
                <a:ext cx="65160" cy="1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929200" y="2492280"/>
                <a:ext cx="66600" cy="1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045120" y="2492280"/>
                <a:ext cx="64800" cy="1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159240" y="2493720"/>
                <a:ext cx="6516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273720" y="2493720"/>
                <a:ext cx="6660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389280" y="2493720"/>
                <a:ext cx="6516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503760" y="2496960"/>
                <a:ext cx="6516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617880" y="2496960"/>
                <a:ext cx="6516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732360" y="2496960"/>
                <a:ext cx="6660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848280" y="2498760"/>
                <a:ext cx="6516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962400" y="2498760"/>
                <a:ext cx="428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002360" y="2435400"/>
                <a:ext cx="142560" cy="145800"/>
              </a:xfrm>
              <a:custGeom>
                <a:avLst/>
                <a:gdLst/>
                <a:ahLst/>
                <a:rect l="l" t="t" r="r" b="b"/>
                <a:pathLst>
                  <a:path w="90" h="92">
                    <a:moveTo>
                      <a:pt x="0" y="92"/>
                    </a:moveTo>
                    <a:lnTo>
                      <a:pt x="90" y="45"/>
                    </a:lnTo>
                    <a:lnTo>
                      <a:pt x="0" y="0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2082960" y="2598840"/>
              <a:ext cx="5056200" cy="1067760"/>
              <a:chOff x="2082960" y="2598840"/>
              <a:chExt cx="5056200" cy="1067760"/>
            </a:xfrm>
          </p:grpSpPr>
          <p:sp>
            <p:nvSpPr>
              <p:cNvPr id="377" name=""/>
              <p:cNvSpPr/>
              <p:nvPr/>
            </p:nvSpPr>
            <p:spPr>
              <a:xfrm>
                <a:off x="2082960" y="2671560"/>
                <a:ext cx="4916520" cy="995040"/>
              </a:xfrm>
              <a:custGeom>
                <a:avLst/>
                <a:gdLst/>
                <a:ahLst/>
                <a:rect l="l" t="t" r="r" b="b"/>
                <a:pathLst>
                  <a:path w="3097" h="627">
                    <a:moveTo>
                      <a:pt x="0" y="262"/>
                    </a:moveTo>
                    <a:lnTo>
                      <a:pt x="0" y="627"/>
                    </a:lnTo>
                    <a:lnTo>
                      <a:pt x="2874" y="627"/>
                    </a:lnTo>
                    <a:lnTo>
                      <a:pt x="2874" y="0"/>
                    </a:lnTo>
                    <a:lnTo>
                      <a:pt x="3097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996240" y="2598840"/>
                <a:ext cx="142920" cy="145800"/>
              </a:xfrm>
              <a:custGeom>
                <a:avLst/>
                <a:gdLst/>
                <a:ahLst/>
                <a:rect l="l" t="t" r="r" b="b"/>
                <a:pathLst>
                  <a:path w="90" h="92">
                    <a:moveTo>
                      <a:pt x="0" y="92"/>
                    </a:moveTo>
                    <a:lnTo>
                      <a:pt x="90" y="46"/>
                    </a:lnTo>
                    <a:lnTo>
                      <a:pt x="0" y="0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2063880" y="3056040"/>
              <a:ext cx="63360" cy="745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34240" y="2303640"/>
              <a:ext cx="65160" cy="745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239840" y="1949400"/>
              <a:ext cx="63360" cy="745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4840" y="1698480"/>
              <a:ext cx="76032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73040" y="1701720"/>
              <a:ext cx="686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nput vide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018640" y="2786040"/>
              <a:ext cx="99684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123400" y="2787480"/>
              <a:ext cx="79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mpresse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119080" y="2946240"/>
              <a:ext cx="803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video strea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45080" y="2139840"/>
              <a:ext cx="882360" cy="1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744000" y="214488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od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543560" y="2970360"/>
              <a:ext cx="176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543200" y="2975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4248000" y="2238480"/>
              <a:ext cx="1001520" cy="507600"/>
              <a:chOff x="4248000" y="2238480"/>
              <a:chExt cx="1001520" cy="507600"/>
            </a:xfrm>
          </p:grpSpPr>
          <p:sp>
            <p:nvSpPr>
              <p:cNvPr id="392" name=""/>
              <p:cNvSpPr/>
              <p:nvPr/>
            </p:nvSpPr>
            <p:spPr>
              <a:xfrm>
                <a:off x="4257360" y="2246040"/>
                <a:ext cx="982800" cy="49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248000" y="2246040"/>
                <a:ext cx="17280" cy="66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248000" y="2361960"/>
                <a:ext cx="17280" cy="64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248000" y="2476440"/>
                <a:ext cx="17280" cy="64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248000" y="2590560"/>
                <a:ext cx="17280" cy="66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248000" y="2706480"/>
                <a:ext cx="41040" cy="3960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11" y="0"/>
                    </a:moveTo>
                    <a:lnTo>
                      <a:pt x="0" y="0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6" y="25"/>
                    </a:lnTo>
                    <a:lnTo>
                      <a:pt x="26" y="25"/>
                    </a:lnTo>
                    <a:lnTo>
                      <a:pt x="26" y="15"/>
                    </a:lnTo>
                    <a:lnTo>
                      <a:pt x="6" y="15"/>
                    </a:lnTo>
                    <a:lnTo>
                      <a:pt x="6" y="20"/>
                    </a:lnTo>
                    <a:lnTo>
                      <a:pt x="11" y="2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338360" y="2730240"/>
                <a:ext cx="6660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454280" y="2730240"/>
                <a:ext cx="6516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568760" y="2730240"/>
                <a:ext cx="6480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682880" y="2730240"/>
                <a:ext cx="6660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798800" y="2730240"/>
                <a:ext cx="6516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912920" y="2730240"/>
                <a:ext cx="6516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027400" y="2730240"/>
                <a:ext cx="6516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141520" y="2730240"/>
                <a:ext cx="6696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232240" y="2657520"/>
                <a:ext cx="17280" cy="64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232240" y="2541600"/>
                <a:ext cx="17280" cy="6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232240" y="2427120"/>
                <a:ext cx="17280" cy="64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232240" y="2313000"/>
                <a:ext cx="17280" cy="64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190840" y="2238480"/>
                <a:ext cx="58680" cy="25200"/>
              </a:xfrm>
              <a:custGeom>
                <a:avLst/>
                <a:gdLst/>
                <a:ahLst/>
                <a:rect l="l" t="t" r="r" b="b"/>
                <a:pathLst>
                  <a:path w="37" h="16">
                    <a:moveTo>
                      <a:pt x="26" y="16"/>
                    </a:moveTo>
                    <a:lnTo>
                      <a:pt x="37" y="16"/>
                    </a:lnTo>
                    <a:lnTo>
                      <a:pt x="37" y="5"/>
                    </a:lnTo>
                    <a:lnTo>
                      <a:pt x="37" y="0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31" y="10"/>
                    </a:lnTo>
                    <a:lnTo>
                      <a:pt x="31" y="5"/>
                    </a:lnTo>
                    <a:lnTo>
                      <a:pt x="26" y="5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076720" y="2238480"/>
                <a:ext cx="6480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962240" y="2238480"/>
                <a:ext cx="6516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846320" y="2238480"/>
                <a:ext cx="6660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732200" y="2238480"/>
                <a:ext cx="6660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617720" y="2238480"/>
                <a:ext cx="6516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503600" y="2238480"/>
                <a:ext cx="6516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387680" y="2238480"/>
                <a:ext cx="6660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273200" y="2238480"/>
                <a:ext cx="6516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4406760" y="2324160"/>
              <a:ext cx="68904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28800" y="2327400"/>
              <a:ext cx="45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403520" y="2484360"/>
              <a:ext cx="698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Inter/Intra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6491160" y="1795320"/>
              <a:ext cx="371520" cy="2743200"/>
              <a:chOff x="6491160" y="1795320"/>
              <a:chExt cx="371520" cy="2743200"/>
            </a:xfrm>
          </p:grpSpPr>
          <p:sp>
            <p:nvSpPr>
              <p:cNvPr id="423" name=""/>
              <p:cNvSpPr/>
              <p:nvPr/>
            </p:nvSpPr>
            <p:spPr>
              <a:xfrm>
                <a:off x="6491160" y="1795320"/>
                <a:ext cx="371520" cy="2671920"/>
              </a:xfrm>
              <a:custGeom>
                <a:avLst/>
                <a:gdLst/>
                <a:ahLst/>
                <a:rect l="l" t="t" r="r" b="b"/>
                <a:pathLst>
                  <a:path w="234" h="1683">
                    <a:moveTo>
                      <a:pt x="0" y="0"/>
                    </a:moveTo>
                    <a:lnTo>
                      <a:pt x="234" y="0"/>
                    </a:lnTo>
                    <a:lnTo>
                      <a:pt x="234" y="1683"/>
                    </a:lnTo>
                    <a:lnTo>
                      <a:pt x="216" y="168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694200" y="4392360"/>
                <a:ext cx="142920" cy="146160"/>
              </a:xfrm>
              <a:custGeom>
                <a:avLst/>
                <a:gdLst/>
                <a:ahLst/>
                <a:rect l="l" t="t" r="r" b="b"/>
                <a:pathLst>
                  <a:path w="90" h="92">
                    <a:moveTo>
                      <a:pt x="90" y="0"/>
                    </a:moveTo>
                    <a:lnTo>
                      <a:pt x="0" y="47"/>
                    </a:lnTo>
                    <a:lnTo>
                      <a:pt x="90" y="92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1449360" y="2454120"/>
              <a:ext cx="2808360" cy="144360"/>
              <a:chOff x="1449360" y="2454120"/>
              <a:chExt cx="2808360" cy="144360"/>
            </a:xfrm>
          </p:grpSpPr>
          <p:sp>
            <p:nvSpPr>
              <p:cNvPr id="426" name=""/>
              <p:cNvSpPr/>
              <p:nvPr/>
            </p:nvSpPr>
            <p:spPr>
              <a:xfrm>
                <a:off x="1449360" y="2509560"/>
                <a:ext cx="65160" cy="16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563840" y="2509560"/>
                <a:ext cx="65160" cy="16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677960" y="2509560"/>
                <a:ext cx="66960" cy="16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793880" y="2511360"/>
                <a:ext cx="6516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908360" y="2511360"/>
                <a:ext cx="6516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022480" y="2511360"/>
                <a:ext cx="6516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136960" y="2511360"/>
                <a:ext cx="6660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252880" y="2511360"/>
                <a:ext cx="6516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367000" y="2511360"/>
                <a:ext cx="6516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481480" y="2512800"/>
                <a:ext cx="6660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597400" y="2512800"/>
                <a:ext cx="6480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711520" y="2512800"/>
                <a:ext cx="6516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826000" y="2512800"/>
                <a:ext cx="6660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941920" y="2512800"/>
                <a:ext cx="6480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056040" y="2512800"/>
                <a:ext cx="65160" cy="1908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0" y="0"/>
                    </a:moveTo>
                    <a:lnTo>
                      <a:pt x="0" y="10"/>
                    </a:lnTo>
                    <a:lnTo>
                      <a:pt x="41" y="12"/>
                    </a:lnTo>
                    <a:lnTo>
                      <a:pt x="4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170520" y="2514600"/>
                <a:ext cx="6660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286080" y="2514600"/>
                <a:ext cx="6516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400560" y="2514600"/>
                <a:ext cx="6516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14680" y="2514600"/>
                <a:ext cx="6516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629160" y="2514600"/>
                <a:ext cx="6660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745080" y="2514600"/>
                <a:ext cx="65160" cy="1908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0" y="0"/>
                    </a:moveTo>
                    <a:lnTo>
                      <a:pt x="0" y="11"/>
                    </a:lnTo>
                    <a:lnTo>
                      <a:pt x="41" y="12"/>
                    </a:lnTo>
                    <a:lnTo>
                      <a:pt x="4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859200" y="2517840"/>
                <a:ext cx="6516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973680" y="2517840"/>
                <a:ext cx="6660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089600" y="2517840"/>
                <a:ext cx="2844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113360" y="2454120"/>
                <a:ext cx="144360" cy="144360"/>
              </a:xfrm>
              <a:custGeom>
                <a:avLst/>
                <a:gdLst/>
                <a:ahLst/>
                <a:rect l="l" t="t" r="r" b="b"/>
                <a:pathLst>
                  <a:path w="91" h="91">
                    <a:moveTo>
                      <a:pt x="0" y="91"/>
                    </a:moveTo>
                    <a:lnTo>
                      <a:pt x="91" y="45"/>
                    </a:lnTo>
                    <a:lnTo>
                      <a:pt x="0" y="0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1434960" y="2517840"/>
              <a:ext cx="17280" cy="295200"/>
              <a:chOff x="1434960" y="2517840"/>
              <a:chExt cx="17280" cy="295200"/>
            </a:xfrm>
          </p:grpSpPr>
          <p:sp>
            <p:nvSpPr>
              <p:cNvPr id="452" name=""/>
              <p:cNvSpPr/>
              <p:nvPr/>
            </p:nvSpPr>
            <p:spPr>
              <a:xfrm>
                <a:off x="1434960" y="2517840"/>
                <a:ext cx="15840" cy="64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434960" y="2631960"/>
                <a:ext cx="17280" cy="65160"/>
              </a:xfrm>
              <a:custGeom>
                <a:avLst/>
                <a:gdLst/>
                <a:ahLst/>
                <a:rect l="l" t="t" r="r" b="b"/>
                <a:pathLst>
                  <a:path w="11" h="41">
                    <a:moveTo>
                      <a:pt x="10" y="0"/>
                    </a:moveTo>
                    <a:lnTo>
                      <a:pt x="0" y="0"/>
                    </a:lnTo>
                    <a:lnTo>
                      <a:pt x="1" y="41"/>
                    </a:lnTo>
                    <a:lnTo>
                      <a:pt x="11" y="4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436400" y="2746440"/>
                <a:ext cx="15840" cy="66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3352680" y="4203720"/>
              <a:ext cx="228600" cy="493560"/>
              <a:chOff x="3352680" y="4203720"/>
              <a:chExt cx="228600" cy="493560"/>
            </a:xfrm>
          </p:grpSpPr>
          <p:sp>
            <p:nvSpPr>
              <p:cNvPr id="456" name=""/>
              <p:cNvSpPr/>
              <p:nvPr/>
            </p:nvSpPr>
            <p:spPr>
              <a:xfrm>
                <a:off x="3352680" y="4203720"/>
                <a:ext cx="228600" cy="493560"/>
              </a:xfrm>
              <a:prstGeom prst="rect">
                <a:avLst/>
              </a:prstGeom>
              <a:solidFill>
                <a:srgbClr val="cc99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414600" y="4265640"/>
                <a:ext cx="16668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429000" y="43560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 flipH="1">
              <a:off x="3580920" y="445788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3098520" y="445788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1638360" y="4214880"/>
              <a:ext cx="279360" cy="493560"/>
              <a:chOff x="1638360" y="4214880"/>
              <a:chExt cx="279360" cy="493560"/>
            </a:xfrm>
          </p:grpSpPr>
          <p:sp>
            <p:nvSpPr>
              <p:cNvPr id="462" name=""/>
              <p:cNvSpPr/>
              <p:nvPr/>
            </p:nvSpPr>
            <p:spPr>
              <a:xfrm>
                <a:off x="1638360" y="4214880"/>
                <a:ext cx="279360" cy="493560"/>
              </a:xfrm>
              <a:prstGeom prst="rect">
                <a:avLst/>
              </a:prstGeom>
              <a:solidFill>
                <a:srgbClr val="cc99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688040" y="4365360"/>
                <a:ext cx="201960" cy="16776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U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464" name=""/>
            <p:cNvCxnSpPr>
              <a:stCxn id="462" idx="1"/>
              <a:endCxn id="266" idx="2"/>
            </p:cNvCxnSpPr>
            <p:nvPr/>
          </p:nvCxnSpPr>
          <p:spPr>
            <a:xfrm rot="10800000">
              <a:off x="1275480" y="3349080"/>
              <a:ext cx="354960" cy="111312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465" name=""/>
            <p:cNvSpPr/>
            <p:nvPr/>
          </p:nvSpPr>
          <p:spPr>
            <a:xfrm flipH="1">
              <a:off x="1899720" y="445608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6" name=""/>
            <p:cNvGrpSpPr/>
            <p:nvPr/>
          </p:nvGrpSpPr>
          <p:grpSpPr>
            <a:xfrm>
              <a:off x="2741760" y="3736800"/>
              <a:ext cx="498240" cy="247680"/>
              <a:chOff x="2741760" y="3736800"/>
              <a:chExt cx="498240" cy="247680"/>
            </a:xfrm>
          </p:grpSpPr>
          <p:sp>
            <p:nvSpPr>
              <p:cNvPr id="467" name=""/>
              <p:cNvSpPr/>
              <p:nvPr/>
            </p:nvSpPr>
            <p:spPr>
              <a:xfrm>
                <a:off x="2741760" y="3736800"/>
                <a:ext cx="498240" cy="247680"/>
              </a:xfrm>
              <a:prstGeom prst="rect">
                <a:avLst/>
              </a:prstGeom>
              <a:solidFill>
                <a:srgbClr val="cc99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895840" y="3784320"/>
                <a:ext cx="2019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U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"/>
            <p:cNvSpPr/>
            <p:nvPr/>
          </p:nvSpPr>
          <p:spPr>
            <a:xfrm flipV="1">
              <a:off x="3009960" y="396216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1406520" y="5000760"/>
              <a:ext cx="445320" cy="431280"/>
              <a:chOff x="1406520" y="5000760"/>
              <a:chExt cx="445320" cy="431280"/>
            </a:xfrm>
          </p:grpSpPr>
          <p:sp>
            <p:nvSpPr>
              <p:cNvPr id="471" name=""/>
              <p:cNvSpPr/>
              <p:nvPr/>
            </p:nvSpPr>
            <p:spPr>
              <a:xfrm>
                <a:off x="1406520" y="5000760"/>
                <a:ext cx="420840" cy="364680"/>
              </a:xfrm>
              <a:prstGeom prst="rect">
                <a:avLst/>
              </a:prstGeom>
              <a:solidFill>
                <a:srgbClr val="cc99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527120" y="5062320"/>
                <a:ext cx="32472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555200" y="5114880"/>
                <a:ext cx="197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1395360" y="5410080"/>
              <a:ext cx="431640" cy="432000"/>
              <a:chOff x="1395360" y="5410080"/>
              <a:chExt cx="431640" cy="432000"/>
            </a:xfrm>
          </p:grpSpPr>
          <p:sp>
            <p:nvSpPr>
              <p:cNvPr id="475" name=""/>
              <p:cNvSpPr/>
              <p:nvPr/>
            </p:nvSpPr>
            <p:spPr>
              <a:xfrm>
                <a:off x="1395360" y="5410080"/>
                <a:ext cx="431640" cy="365040"/>
              </a:xfrm>
              <a:prstGeom prst="rect">
                <a:avLst/>
              </a:prstGeom>
              <a:solidFill>
                <a:srgbClr val="cc99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486440" y="5472000"/>
                <a:ext cx="24516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507680" y="5524560"/>
                <a:ext cx="2019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U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"/>
            <p:cNvSpPr/>
            <p:nvPr/>
          </p:nvSpPr>
          <p:spPr>
            <a:xfrm>
              <a:off x="1371600" y="5003640"/>
              <a:ext cx="42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→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ress reference frame buff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819440" y="5416560"/>
              <a:ext cx="40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→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compress reference frame buff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038A-7372-4903-B6CF-3756ECC35814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9142F7-370D-42B0-A680-840E52DD93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RFB Algorithm - I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4640" indent="-22464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ed on simple transform, quantization, DC prediction and entropy co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ansfor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2307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D integer seperable S-transform on 8x8 luma (3 lifting steps) and 4x4 chroma blocks (2 lifting step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4640"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antiz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2307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tread quantizer operates on non-DC transform coeffici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2307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ization step sizes are powers of 2. (12 quantization indi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2307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e quantization matrix for finer quantization of low frequency coefficient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2897280" y="2546280"/>
                <a:ext cx="2371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ward: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[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]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t xml:space="preserve">[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]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[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]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2949480" y="3451320"/>
                <a:ext cx="22957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verse: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[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]</m:t>
                            </m:r>
                            <m:r>
                              <m:t xml:space="preserve">=</m:t>
                            </m:r>
                            <m:r>
                              <m:t xml:space="preserve">y</m:t>
                            </m:r>
                            <m:r>
                              <m:t xml:space="preserve">[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]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⌊"/>
                                <m:endChr m:val="⌋"/>
                              </m:dPr>
                              <m:e>
                                <m:f>
                                  <m:num>
                                    <m:r>
                                      <m:t xml:space="preserve">y</m:t>
                                    </m:r>
                                    <m:r>
                                      <m:t xml:space="preserve">[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]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6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BD23-E998-4DFB-A3FF-514BD44517E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D44775-9400-4F6A-B31E-38E2B91743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FB Algorithm - II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C predi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 coefficients are predicted using left, top, and top-left neighbor block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ilar to MPEG-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d for IBDI-on mo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ropy cod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G0 and EG3 codes used to encode quantized transform coefficients and DC prediction residu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ntization index is unary cod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 Access Unit (MAU) and Rate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BDI-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x8 Y, 4x4 U and 4x4 V pix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um QP satisfying the compression ratio is se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BDI-OFF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 lines of Y, 32 lines of U and 32 lines of V pix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r memory access unit is selected to enable DC prediction and better statistical averag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ky-bucket like simple rate control: unused bits are added to subsequent 8x8 block bit-budg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6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030D-6504-4040-9CC6-20375D279D2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7D3705-418C-4515-A941-9988AD61A88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RFB Encoder Block Diagram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982800" y="990720"/>
            <a:ext cx="7646760" cy="5281560"/>
            <a:chOff x="982800" y="990720"/>
            <a:chExt cx="7646760" cy="5281560"/>
          </a:xfrm>
        </p:grpSpPr>
        <p:sp>
          <p:nvSpPr>
            <p:cNvPr id="492" name=""/>
            <p:cNvSpPr/>
            <p:nvPr/>
          </p:nvSpPr>
          <p:spPr>
            <a:xfrm>
              <a:off x="4338000" y="4351680"/>
              <a:ext cx="3525480" cy="1920600"/>
            </a:xfrm>
            <a:prstGeom prst="rect">
              <a:avLst/>
            </a:prstGeom>
            <a:solidFill>
              <a:srgbClr val="aaa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343760" y="990720"/>
              <a:ext cx="3525120" cy="1920600"/>
            </a:xfrm>
            <a:prstGeom prst="rect">
              <a:avLst/>
            </a:prstGeom>
            <a:solidFill>
              <a:srgbClr val="aaa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629080" y="1539360"/>
              <a:ext cx="754200" cy="617040"/>
            </a:xfrm>
            <a:prstGeom prst="rect">
              <a:avLst/>
            </a:prstGeom>
            <a:solidFill>
              <a:srgbClr val="aaa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21640" y="1941120"/>
              <a:ext cx="617040" cy="411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pp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476600" y="1870920"/>
              <a:ext cx="685440" cy="54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 and 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372640" y="1941120"/>
              <a:ext cx="342720" cy="411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813360" y="1941120"/>
              <a:ext cx="960120" cy="411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p-Golom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(k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9" name=""/>
            <p:cNvCxnSpPr>
              <a:stCxn id="497" idx="3"/>
              <a:endCxn id="495" idx="1"/>
            </p:cNvCxnSpPr>
            <p:nvPr/>
          </p:nvCxnSpPr>
          <p:spPr>
            <a:xfrm>
              <a:off x="5715360" y="2146320"/>
              <a:ext cx="206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0" name=""/>
            <p:cNvCxnSpPr>
              <a:stCxn id="495" idx="3"/>
              <a:endCxn id="498" idx="1"/>
            </p:cNvCxnSpPr>
            <p:nvPr/>
          </p:nvCxnSpPr>
          <p:spPr>
            <a:xfrm>
              <a:off x="6538680" y="2146320"/>
              <a:ext cx="275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1" name=""/>
            <p:cNvCxnSpPr>
              <a:stCxn id="498" idx="3"/>
              <a:endCxn id="498" idx="3"/>
            </p:cNvCxnSpPr>
            <p:nvPr/>
          </p:nvCxnSpPr>
          <p:spPr>
            <a:xfrm>
              <a:off x="7773120" y="21463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2" name=""/>
            <p:cNvCxnSpPr>
              <a:stCxn id="498" idx="3"/>
              <a:endCxn id="498" idx="3"/>
            </p:cNvCxnSpPr>
            <p:nvPr/>
          </p:nvCxnSpPr>
          <p:spPr>
            <a:xfrm>
              <a:off x="7773120" y="21463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2629080" y="5050080"/>
              <a:ext cx="754200" cy="617040"/>
            </a:xfrm>
            <a:prstGeom prst="rect">
              <a:avLst/>
            </a:prstGeom>
            <a:solidFill>
              <a:srgbClr val="aaa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4" name=""/>
            <p:cNvCxnSpPr>
              <a:endCxn id="503" idx="1"/>
            </p:cNvCxnSpPr>
            <p:nvPr/>
          </p:nvCxnSpPr>
          <p:spPr>
            <a:xfrm>
              <a:off x="2354400" y="5358600"/>
              <a:ext cx="275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4439520" y="3326760"/>
              <a:ext cx="754200" cy="617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at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6" name=""/>
            <p:cNvCxnSpPr>
              <a:stCxn id="498" idx="3"/>
            </p:cNvCxnSpPr>
            <p:nvPr/>
          </p:nvCxnSpPr>
          <p:spPr>
            <a:xfrm>
              <a:off x="7773480" y="2146680"/>
              <a:ext cx="34344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7" name=""/>
            <p:cNvCxnSpPr>
              <a:stCxn id="505" idx="0"/>
              <a:endCxn id="496" idx="2"/>
            </p:cNvCxnSpPr>
            <p:nvPr/>
          </p:nvCxnSpPr>
          <p:spPr>
            <a:xfrm flipH="1" flipV="1" rot="5400000">
              <a:off x="4364280" y="2871360"/>
              <a:ext cx="907920" cy="3600"/>
            </a:xfrm>
            <a:prstGeom prst="bentConnector3">
              <a:avLst>
                <a:gd name="adj1" fmla="val 49900"/>
              </a:avLst>
            </a:prstGeom>
            <a:ln w="936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08" name=""/>
            <p:cNvCxnSpPr>
              <a:stCxn id="505" idx="2"/>
              <a:endCxn id="509" idx="0"/>
            </p:cNvCxnSpPr>
            <p:nvPr/>
          </p:nvCxnSpPr>
          <p:spPr>
            <a:xfrm rot="5400000">
              <a:off x="4371120" y="4386240"/>
              <a:ext cx="888120" cy="3600"/>
            </a:xfrm>
            <a:prstGeom prst="bentConnector3">
              <a:avLst>
                <a:gd name="adj1" fmla="val 49918"/>
              </a:avLst>
            </a:prstGeom>
            <a:ln w="936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</p:cxnSp>
        <p:pic>
          <p:nvPicPr>
            <p:cNvPr id="510" name="" descr=""/>
            <p:cNvPicPr/>
            <p:nvPr/>
          </p:nvPicPr>
          <p:blipFill>
            <a:blip r:embed="rId1"/>
            <a:stretch/>
          </p:blipFill>
          <p:spPr>
            <a:xfrm>
              <a:off x="3949560" y="2174040"/>
              <a:ext cx="304200" cy="29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" descr=""/>
            <p:cNvPicPr/>
            <p:nvPr/>
          </p:nvPicPr>
          <p:blipFill>
            <a:blip r:embed="rId2"/>
            <a:stretch/>
          </p:blipFill>
          <p:spPr>
            <a:xfrm>
              <a:off x="3949560" y="1341000"/>
              <a:ext cx="256680" cy="29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" descr=""/>
            <p:cNvPicPr/>
            <p:nvPr/>
          </p:nvPicPr>
          <p:blipFill>
            <a:blip r:embed="rId3"/>
            <a:stretch/>
          </p:blipFill>
          <p:spPr>
            <a:xfrm>
              <a:off x="3953880" y="5611680"/>
              <a:ext cx="292680" cy="29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" descr=""/>
            <p:cNvPicPr/>
            <p:nvPr/>
          </p:nvPicPr>
          <p:blipFill>
            <a:blip r:embed="rId4"/>
            <a:stretch/>
          </p:blipFill>
          <p:spPr>
            <a:xfrm>
              <a:off x="3949560" y="4770360"/>
              <a:ext cx="339840" cy="2926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514" name=""/>
            <p:cNvCxnSpPr>
              <a:stCxn id="496" idx="3"/>
              <a:endCxn id="497" idx="1"/>
            </p:cNvCxnSpPr>
            <p:nvPr/>
          </p:nvCxnSpPr>
          <p:spPr>
            <a:xfrm>
              <a:off x="5162400" y="2145240"/>
              <a:ext cx="2109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1325520" y="4570200"/>
              <a:ext cx="102960" cy="1026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428480" y="4570200"/>
              <a:ext cx="102600" cy="1026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325520" y="4672800"/>
              <a:ext cx="102960" cy="10296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428480" y="4672800"/>
              <a:ext cx="102600" cy="10296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9" name=""/>
            <p:cNvCxnSpPr/>
            <p:nvPr/>
          </p:nvCxnSpPr>
          <p:spPr>
            <a:xfrm>
              <a:off x="2354400" y="1882080"/>
              <a:ext cx="275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20" name=""/>
            <p:cNvSpPr/>
            <p:nvPr/>
          </p:nvSpPr>
          <p:spPr>
            <a:xfrm>
              <a:off x="1112040" y="2385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314360" y="50043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319040" y="58291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3" name=""/>
            <p:cNvCxnSpPr>
              <a:endCxn id="524" idx="0"/>
            </p:cNvCxnSpPr>
            <p:nvPr/>
          </p:nvCxnSpPr>
          <p:spPr>
            <a:xfrm rot="5400000">
              <a:off x="1997640" y="1524960"/>
              <a:ext cx="439200" cy="1800"/>
            </a:xfrm>
            <a:prstGeom prst="bentConnector3">
              <a:avLst>
                <a:gd name="adj1" fmla="val 4979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24" name=""/>
            <p:cNvSpPr/>
            <p:nvPr/>
          </p:nvSpPr>
          <p:spPr>
            <a:xfrm>
              <a:off x="2080080" y="1745280"/>
              <a:ext cx="273960" cy="273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181960" y="150624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936080" y="101484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7" name=""/>
            <p:cNvCxnSpPr/>
            <p:nvPr/>
          </p:nvCxnSpPr>
          <p:spPr>
            <a:xfrm>
              <a:off x="1805760" y="1882080"/>
              <a:ext cx="275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8" name=""/>
            <p:cNvCxnSpPr>
              <a:endCxn id="529" idx="0"/>
            </p:cNvCxnSpPr>
            <p:nvPr/>
          </p:nvCxnSpPr>
          <p:spPr>
            <a:xfrm rot="5400000">
              <a:off x="1986480" y="5001840"/>
              <a:ext cx="439200" cy="1800"/>
            </a:xfrm>
            <a:prstGeom prst="bentConnector3">
              <a:avLst>
                <a:gd name="adj1" fmla="val 4979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29" name=""/>
            <p:cNvSpPr/>
            <p:nvPr/>
          </p:nvSpPr>
          <p:spPr>
            <a:xfrm>
              <a:off x="2068560" y="5221800"/>
              <a:ext cx="274320" cy="273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170440" y="498312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925280" y="449136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2" name=""/>
            <p:cNvCxnSpPr/>
            <p:nvPr/>
          </p:nvCxnSpPr>
          <p:spPr>
            <a:xfrm>
              <a:off x="1793880" y="5358600"/>
              <a:ext cx="274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33" name=""/>
            <p:cNvSpPr/>
            <p:nvPr/>
          </p:nvSpPr>
          <p:spPr>
            <a:xfrm>
              <a:off x="6315840" y="3484080"/>
              <a:ext cx="1440360" cy="307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nary Co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835600" y="3364200"/>
              <a:ext cx="416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Id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80920" y="1059120"/>
              <a:ext cx="754200" cy="5482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edi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509800" y="1622160"/>
              <a:ext cx="122760" cy="123120"/>
            </a:xfrm>
            <a:prstGeom prst="flowChartOr">
              <a:avLst/>
            </a:prstGeom>
            <a:solidFill>
              <a:srgbClr val="aaa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7" name=""/>
            <p:cNvCxnSpPr>
              <a:stCxn id="535" idx="3"/>
              <a:endCxn id="536" idx="0"/>
            </p:cNvCxnSpPr>
            <p:nvPr/>
          </p:nvCxnSpPr>
          <p:spPr>
            <a:xfrm>
              <a:off x="5235120" y="1333440"/>
              <a:ext cx="336600" cy="289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38" name=""/>
            <p:cNvSpPr/>
            <p:nvPr/>
          </p:nvSpPr>
          <p:spPr>
            <a:xfrm>
              <a:off x="5448240" y="14252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9" name=""/>
            <p:cNvCxnSpPr>
              <a:stCxn id="536" idx="6"/>
              <a:endCxn id="495" idx="1"/>
            </p:cNvCxnSpPr>
            <p:nvPr/>
          </p:nvCxnSpPr>
          <p:spPr>
            <a:xfrm>
              <a:off x="5632560" y="1683720"/>
              <a:ext cx="289440" cy="463680"/>
            </a:xfrm>
            <a:prstGeom prst="bentConnector3">
              <a:avLst>
                <a:gd name="adj1" fmla="val 4993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540" name=""/>
                <p:cNvSpPr txBox="1"/>
                <p:nvPr/>
              </p:nvSpPr>
              <p:spPr>
                <a:xfrm>
                  <a:off x="5670000" y="1466640"/>
                  <a:ext cx="963000" cy="27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idual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i</m:t>
                          </m:r>
                        </m:sup>
                      </m:sSub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541" name=""/>
            <p:cNvCxnSpPr>
              <a:stCxn id="494" idx="3"/>
              <a:endCxn id="536" idx="2"/>
            </p:cNvCxnSpPr>
            <p:nvPr/>
          </p:nvCxnSpPr>
          <p:spPr>
            <a:xfrm flipV="1">
              <a:off x="3382920" y="1683720"/>
              <a:ext cx="2126880" cy="164520"/>
            </a:xfrm>
            <a:prstGeom prst="bentConnector3">
              <a:avLst>
                <a:gd name="adj1" fmla="val 255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2" name=""/>
            <p:cNvCxnSpPr>
              <a:stCxn id="494" idx="3"/>
              <a:endCxn id="496" idx="1"/>
            </p:cNvCxnSpPr>
            <p:nvPr/>
          </p:nvCxnSpPr>
          <p:spPr>
            <a:xfrm>
              <a:off x="3382920" y="1847520"/>
              <a:ext cx="1094040" cy="297720"/>
            </a:xfrm>
            <a:prstGeom prst="bentConnector3">
              <a:avLst>
                <a:gd name="adj1" fmla="val 4993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3" name=""/>
            <p:cNvSpPr/>
            <p:nvPr/>
          </p:nvSpPr>
          <p:spPr>
            <a:xfrm>
              <a:off x="6127200" y="2499480"/>
              <a:ext cx="1646280" cy="307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xed-Length Co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4" name=""/>
            <p:cNvCxnSpPr>
              <a:stCxn id="496" idx="3"/>
              <a:endCxn id="543" idx="1"/>
            </p:cNvCxnSpPr>
            <p:nvPr/>
          </p:nvCxnSpPr>
          <p:spPr>
            <a:xfrm>
              <a:off x="5162040" y="2144880"/>
              <a:ext cx="965160" cy="509400"/>
            </a:xfrm>
            <a:prstGeom prst="bentConnector3">
              <a:avLst>
                <a:gd name="adj1" fmla="val 843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5" name=""/>
            <p:cNvSpPr/>
            <p:nvPr/>
          </p:nvSpPr>
          <p:spPr>
            <a:xfrm>
              <a:off x="5755320" y="2404080"/>
              <a:ext cx="374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Id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6" name=""/>
            <p:cNvCxnSpPr/>
            <p:nvPr/>
          </p:nvCxnSpPr>
          <p:spPr>
            <a:xfrm>
              <a:off x="7773480" y="2636640"/>
              <a:ext cx="34344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7" name=""/>
            <p:cNvCxnSpPr>
              <a:stCxn id="505" idx="3"/>
              <a:endCxn id="533" idx="1"/>
            </p:cNvCxnSpPr>
            <p:nvPr/>
          </p:nvCxnSpPr>
          <p:spPr>
            <a:xfrm>
              <a:off x="5194080" y="3635640"/>
              <a:ext cx="1122480" cy="3600"/>
            </a:xfrm>
            <a:prstGeom prst="bentConnector3">
              <a:avLst>
                <a:gd name="adj1" fmla="val 4991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8" name=""/>
            <p:cNvCxnSpPr/>
            <p:nvPr/>
          </p:nvCxnSpPr>
          <p:spPr>
            <a:xfrm>
              <a:off x="7766280" y="3638160"/>
              <a:ext cx="343440" cy="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9" name=""/>
            <p:cNvSpPr/>
            <p:nvPr/>
          </p:nvSpPr>
          <p:spPr>
            <a:xfrm>
              <a:off x="5915520" y="4901760"/>
              <a:ext cx="617040" cy="411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pp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470840" y="4831920"/>
              <a:ext cx="685800" cy="54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 and 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366880" y="4901760"/>
              <a:ext cx="342720" cy="411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807600" y="4901760"/>
              <a:ext cx="960120" cy="411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p-Golom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(k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2" name=""/>
            <p:cNvCxnSpPr>
              <a:stCxn id="550" idx="3"/>
              <a:endCxn id="549" idx="1"/>
            </p:cNvCxnSpPr>
            <p:nvPr/>
          </p:nvCxnSpPr>
          <p:spPr>
            <a:xfrm>
              <a:off x="5709600" y="5107320"/>
              <a:ext cx="206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3" name=""/>
            <p:cNvCxnSpPr>
              <a:stCxn id="549" idx="3"/>
              <a:endCxn id="551" idx="1"/>
            </p:cNvCxnSpPr>
            <p:nvPr/>
          </p:nvCxnSpPr>
          <p:spPr>
            <a:xfrm>
              <a:off x="6532920" y="5107320"/>
              <a:ext cx="275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4" name=""/>
            <p:cNvCxnSpPr>
              <a:stCxn id="551" idx="3"/>
              <a:endCxn id="551" idx="3"/>
            </p:cNvCxnSpPr>
            <p:nvPr/>
          </p:nvCxnSpPr>
          <p:spPr>
            <a:xfrm>
              <a:off x="7767360" y="51073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5" name=""/>
            <p:cNvCxnSpPr>
              <a:stCxn id="551" idx="3"/>
              <a:endCxn id="551" idx="3"/>
            </p:cNvCxnSpPr>
            <p:nvPr/>
          </p:nvCxnSpPr>
          <p:spPr>
            <a:xfrm>
              <a:off x="7767360" y="51073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6" name=""/>
            <p:cNvCxnSpPr>
              <a:stCxn id="551" idx="3"/>
            </p:cNvCxnSpPr>
            <p:nvPr/>
          </p:nvCxnSpPr>
          <p:spPr>
            <a:xfrm>
              <a:off x="7767360" y="5107680"/>
              <a:ext cx="34380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7" name=""/>
            <p:cNvCxnSpPr>
              <a:stCxn id="509" idx="3"/>
              <a:endCxn id="550" idx="1"/>
            </p:cNvCxnSpPr>
            <p:nvPr/>
          </p:nvCxnSpPr>
          <p:spPr>
            <a:xfrm>
              <a:off x="5156640" y="5105880"/>
              <a:ext cx="2106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8" name=""/>
            <p:cNvSpPr/>
            <p:nvPr/>
          </p:nvSpPr>
          <p:spPr>
            <a:xfrm>
              <a:off x="4502520" y="5664960"/>
              <a:ext cx="754200" cy="5482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edi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504040" y="5513400"/>
              <a:ext cx="123120" cy="122760"/>
            </a:xfrm>
            <a:prstGeom prst="flowChartOr">
              <a:avLst/>
            </a:prstGeom>
            <a:solidFill>
              <a:srgbClr val="aaa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435640" y="55904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1" name=""/>
            <p:cNvCxnSpPr>
              <a:stCxn id="559" idx="6"/>
              <a:endCxn id="549" idx="1"/>
            </p:cNvCxnSpPr>
            <p:nvPr/>
          </p:nvCxnSpPr>
          <p:spPr>
            <a:xfrm flipV="1">
              <a:off x="5626800" y="5106960"/>
              <a:ext cx="289080" cy="467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562" name=""/>
                <p:cNvSpPr txBox="1"/>
                <p:nvPr/>
              </p:nvSpPr>
              <p:spPr>
                <a:xfrm>
                  <a:off x="5654160" y="5503320"/>
                  <a:ext cx="993240" cy="27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idual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i</m:t>
                          </m:r>
                        </m:sup>
                      </m:sSub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3" name=""/>
            <p:cNvSpPr/>
            <p:nvPr/>
          </p:nvSpPr>
          <p:spPr>
            <a:xfrm>
              <a:off x="6127200" y="4470120"/>
              <a:ext cx="1639080" cy="307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xed-Length Co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4" name=""/>
            <p:cNvCxnSpPr>
              <a:stCxn id="509" idx="3"/>
              <a:endCxn id="563" idx="1"/>
            </p:cNvCxnSpPr>
            <p:nvPr/>
          </p:nvCxnSpPr>
          <p:spPr>
            <a:xfrm flipV="1">
              <a:off x="5156640" y="4623480"/>
              <a:ext cx="970920" cy="482040"/>
            </a:xfrm>
            <a:prstGeom prst="bentConnector3">
              <a:avLst>
                <a:gd name="adj1" fmla="val 853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65" name=""/>
            <p:cNvSpPr/>
            <p:nvPr/>
          </p:nvSpPr>
          <p:spPr>
            <a:xfrm>
              <a:off x="5726880" y="4372920"/>
              <a:ext cx="374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Id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6" name=""/>
            <p:cNvCxnSpPr/>
            <p:nvPr/>
          </p:nvCxnSpPr>
          <p:spPr>
            <a:xfrm>
              <a:off x="7773480" y="4625640"/>
              <a:ext cx="343440" cy="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7" name=""/>
            <p:cNvCxnSpPr>
              <a:stCxn id="503" idx="3"/>
              <a:endCxn id="559" idx="2"/>
            </p:cNvCxnSpPr>
            <p:nvPr/>
          </p:nvCxnSpPr>
          <p:spPr>
            <a:xfrm>
              <a:off x="3383280" y="5358600"/>
              <a:ext cx="2121120" cy="216360"/>
            </a:xfrm>
            <a:prstGeom prst="bentConnector3">
              <a:avLst>
                <a:gd name="adj1" fmla="val 2707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8" name=""/>
            <p:cNvCxnSpPr>
              <a:stCxn id="558" idx="3"/>
              <a:endCxn id="559" idx="4"/>
            </p:cNvCxnSpPr>
            <p:nvPr/>
          </p:nvCxnSpPr>
          <p:spPr>
            <a:xfrm flipV="1">
              <a:off x="5256360" y="5635800"/>
              <a:ext cx="309240" cy="303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9" name=""/>
            <p:cNvCxnSpPr>
              <a:stCxn id="503" idx="3"/>
              <a:endCxn id="509" idx="1"/>
            </p:cNvCxnSpPr>
            <p:nvPr/>
          </p:nvCxnSpPr>
          <p:spPr>
            <a:xfrm flipV="1">
              <a:off x="3382920" y="5105520"/>
              <a:ext cx="1088280" cy="253440"/>
            </a:xfrm>
            <a:prstGeom prst="bentConnector3">
              <a:avLst>
                <a:gd name="adj1" fmla="val 5281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70" name=""/>
            <p:cNvSpPr/>
            <p:nvPr/>
          </p:nvSpPr>
          <p:spPr>
            <a:xfrm rot="16200000">
              <a:off x="7552800" y="3475080"/>
              <a:ext cx="181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pressed D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1" name=""/>
            <p:cNvCxnSpPr>
              <a:stCxn id="536" idx="6"/>
              <a:endCxn id="496" idx="0"/>
            </p:cNvCxnSpPr>
            <p:nvPr/>
          </p:nvCxnSpPr>
          <p:spPr>
            <a:xfrm flipH="1">
              <a:off x="4819320" y="1683720"/>
              <a:ext cx="813600" cy="187920"/>
            </a:xfrm>
            <a:prstGeom prst="bentConnector4">
              <a:avLst>
                <a:gd name="adj1" fmla="val -17751"/>
                <a:gd name="adj2" fmla="val 5566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2" name=""/>
            <p:cNvCxnSpPr>
              <a:stCxn id="559" idx="6"/>
              <a:endCxn id="509" idx="2"/>
            </p:cNvCxnSpPr>
            <p:nvPr/>
          </p:nvCxnSpPr>
          <p:spPr>
            <a:xfrm flipH="1" flipV="1">
              <a:off x="4813200" y="5379840"/>
              <a:ext cx="813960" cy="195120"/>
            </a:xfrm>
            <a:prstGeom prst="bentConnector4">
              <a:avLst>
                <a:gd name="adj1" fmla="val -18097"/>
                <a:gd name="adj2" fmla="val 5804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73" name=""/>
            <p:cNvGrpSpPr/>
            <p:nvPr/>
          </p:nvGrpSpPr>
          <p:grpSpPr>
            <a:xfrm>
              <a:off x="982800" y="1470600"/>
              <a:ext cx="822600" cy="822600"/>
              <a:chOff x="982800" y="1470600"/>
              <a:chExt cx="822600" cy="822600"/>
            </a:xfrm>
          </p:grpSpPr>
          <p:grpSp>
            <p:nvGrpSpPr>
              <p:cNvPr id="574" name=""/>
              <p:cNvGrpSpPr/>
              <p:nvPr/>
            </p:nvGrpSpPr>
            <p:grpSpPr>
              <a:xfrm>
                <a:off x="982800" y="1470600"/>
                <a:ext cx="411120" cy="411120"/>
                <a:chOff x="982800" y="1470600"/>
                <a:chExt cx="411120" cy="41112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982800" y="147060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1085400" y="147060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1188360" y="147060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1291320" y="147060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982800" y="157320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1085400" y="157320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1188360" y="157320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1291320" y="157320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982800" y="167616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1085400" y="167616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1188360" y="167616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1291320" y="167616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982800" y="177912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1085400" y="177912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1188360" y="177912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1291320" y="177912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1" name=""/>
              <p:cNvGrpSpPr/>
              <p:nvPr/>
            </p:nvGrpSpPr>
            <p:grpSpPr>
              <a:xfrm>
                <a:off x="1394280" y="1470600"/>
                <a:ext cx="411120" cy="411120"/>
                <a:chOff x="1394280" y="1470600"/>
                <a:chExt cx="411120" cy="41112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1394280" y="147060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1496880" y="147060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1599840" y="147060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1702800" y="147060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1394280" y="157320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1496880" y="157320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1599840" y="157320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1702800" y="157320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1394280" y="167616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1496880" y="167616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1599840" y="167616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1702800" y="167616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1394280" y="177912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496880" y="177912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1599840" y="177912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1702800" y="177912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982800" y="1882080"/>
                <a:ext cx="411120" cy="411120"/>
                <a:chOff x="982800" y="1882080"/>
                <a:chExt cx="411120" cy="41112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982800" y="188208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1085400" y="188208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188360" y="188208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1291320" y="188208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982800" y="198468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1085400" y="198468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1188360" y="198468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1291320" y="198468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982800" y="208764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1085400" y="208764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1188360" y="208764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291320" y="208764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982800" y="219060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1085400" y="219060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1188360" y="219060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1291320" y="219060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5" name=""/>
              <p:cNvGrpSpPr/>
              <p:nvPr/>
            </p:nvGrpSpPr>
            <p:grpSpPr>
              <a:xfrm>
                <a:off x="1394280" y="1882080"/>
                <a:ext cx="411120" cy="411120"/>
                <a:chOff x="1394280" y="1882080"/>
                <a:chExt cx="411120" cy="41112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1394280" y="188208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1496880" y="188208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1599840" y="188208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1702800" y="188208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394280" y="198468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1496880" y="198468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1599840" y="198468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1702800" y="198468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1394280" y="208764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1496880" y="208764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1599840" y="208764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702800" y="208764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1394280" y="219060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1496880" y="219060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1599840" y="219060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1702800" y="2190600"/>
                  <a:ext cx="102600" cy="10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2" name=""/>
            <p:cNvSpPr/>
            <p:nvPr/>
          </p:nvSpPr>
          <p:spPr>
            <a:xfrm>
              <a:off x="1531440" y="4571640"/>
              <a:ext cx="102960" cy="10296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634400" y="4571640"/>
              <a:ext cx="102600" cy="10296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531440" y="4674600"/>
              <a:ext cx="102960" cy="1026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634400" y="4674600"/>
              <a:ext cx="102600" cy="1026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325520" y="4763160"/>
              <a:ext cx="102960" cy="10296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428480" y="4763160"/>
              <a:ext cx="102600" cy="10296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325520" y="4866120"/>
              <a:ext cx="102960" cy="1026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428480" y="4866120"/>
              <a:ext cx="102600" cy="1026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531440" y="4764240"/>
              <a:ext cx="102960" cy="10296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634400" y="4764240"/>
              <a:ext cx="102600" cy="10296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531440" y="4867560"/>
              <a:ext cx="102960" cy="1026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634400" y="4867560"/>
              <a:ext cx="102600" cy="1026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4" name=""/>
            <p:cNvGrpSpPr/>
            <p:nvPr/>
          </p:nvGrpSpPr>
          <p:grpSpPr>
            <a:xfrm>
              <a:off x="1325520" y="5393160"/>
              <a:ext cx="410760" cy="397800"/>
              <a:chOff x="1325520" y="5393160"/>
              <a:chExt cx="410760" cy="397800"/>
            </a:xfrm>
          </p:grpSpPr>
          <p:grpSp>
            <p:nvGrpSpPr>
              <p:cNvPr id="655" name=""/>
              <p:cNvGrpSpPr/>
              <p:nvPr/>
            </p:nvGrpSpPr>
            <p:grpSpPr>
              <a:xfrm>
                <a:off x="1325520" y="5393160"/>
                <a:ext cx="205200" cy="205200"/>
                <a:chOff x="1325520" y="5393160"/>
                <a:chExt cx="205200" cy="20520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1325520" y="5393160"/>
                  <a:ext cx="102600" cy="102600"/>
                </a:xfrm>
                <a:prstGeom prst="rect">
                  <a:avLst/>
                </a:prstGeom>
                <a:solidFill>
                  <a:srgbClr val="ff6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1428120" y="5393160"/>
                  <a:ext cx="102600" cy="102600"/>
                </a:xfrm>
                <a:prstGeom prst="rect">
                  <a:avLst/>
                </a:prstGeom>
                <a:solidFill>
                  <a:srgbClr val="ff6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1325520" y="5495760"/>
                  <a:ext cx="102600" cy="102600"/>
                </a:xfrm>
                <a:prstGeom prst="rect">
                  <a:avLst/>
                </a:prstGeom>
                <a:solidFill>
                  <a:srgbClr val="ff6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1428120" y="5495760"/>
                  <a:ext cx="102600" cy="102600"/>
                </a:xfrm>
                <a:prstGeom prst="rect">
                  <a:avLst/>
                </a:prstGeom>
                <a:solidFill>
                  <a:srgbClr val="ff6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1531080" y="5393160"/>
                <a:ext cx="205200" cy="205200"/>
                <a:chOff x="1531080" y="5393160"/>
                <a:chExt cx="205200" cy="20520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1531080" y="5393160"/>
                  <a:ext cx="102600" cy="102600"/>
                </a:xfrm>
                <a:prstGeom prst="rect">
                  <a:avLst/>
                </a:prstGeom>
                <a:solidFill>
                  <a:srgbClr val="ff6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1633680" y="5393160"/>
                  <a:ext cx="102600" cy="102600"/>
                </a:xfrm>
                <a:prstGeom prst="rect">
                  <a:avLst/>
                </a:prstGeom>
                <a:solidFill>
                  <a:srgbClr val="ff6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1531080" y="5495760"/>
                  <a:ext cx="102600" cy="102600"/>
                </a:xfrm>
                <a:prstGeom prst="rect">
                  <a:avLst/>
                </a:prstGeom>
                <a:solidFill>
                  <a:srgbClr val="ff6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1633680" y="5495760"/>
                  <a:ext cx="102600" cy="102600"/>
                </a:xfrm>
                <a:prstGeom prst="rect">
                  <a:avLst/>
                </a:prstGeom>
                <a:solidFill>
                  <a:srgbClr val="ff6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1325520" y="5585760"/>
                <a:ext cx="205200" cy="205200"/>
                <a:chOff x="1325520" y="5585760"/>
                <a:chExt cx="205200" cy="20520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1325520" y="5585760"/>
                  <a:ext cx="102600" cy="102600"/>
                </a:xfrm>
                <a:prstGeom prst="rect">
                  <a:avLst/>
                </a:prstGeom>
                <a:solidFill>
                  <a:srgbClr val="ff6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1428120" y="5585760"/>
                  <a:ext cx="102600" cy="102600"/>
                </a:xfrm>
                <a:prstGeom prst="rect">
                  <a:avLst/>
                </a:prstGeom>
                <a:solidFill>
                  <a:srgbClr val="ff6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325520" y="5688360"/>
                  <a:ext cx="102600" cy="102600"/>
                </a:xfrm>
                <a:prstGeom prst="rect">
                  <a:avLst/>
                </a:prstGeom>
                <a:solidFill>
                  <a:srgbClr val="ff6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1428120" y="5688360"/>
                  <a:ext cx="102600" cy="102600"/>
                </a:xfrm>
                <a:prstGeom prst="rect">
                  <a:avLst/>
                </a:prstGeom>
                <a:solidFill>
                  <a:srgbClr val="ff6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1531080" y="5585760"/>
                <a:ext cx="205200" cy="205200"/>
                <a:chOff x="1531080" y="5585760"/>
                <a:chExt cx="205200" cy="20520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1531080" y="5585760"/>
                  <a:ext cx="102600" cy="102600"/>
                </a:xfrm>
                <a:prstGeom prst="rect">
                  <a:avLst/>
                </a:prstGeom>
                <a:solidFill>
                  <a:srgbClr val="ff6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1633680" y="5585760"/>
                  <a:ext cx="102600" cy="102600"/>
                </a:xfrm>
                <a:prstGeom prst="rect">
                  <a:avLst/>
                </a:prstGeom>
                <a:solidFill>
                  <a:srgbClr val="ff6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1531080" y="5688360"/>
                  <a:ext cx="102600" cy="102600"/>
                </a:xfrm>
                <a:prstGeom prst="rect">
                  <a:avLst/>
                </a:prstGeom>
                <a:solidFill>
                  <a:srgbClr val="ff6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1633680" y="5688360"/>
                  <a:ext cx="102600" cy="102600"/>
                </a:xfrm>
                <a:prstGeom prst="rect">
                  <a:avLst/>
                </a:prstGeom>
                <a:solidFill>
                  <a:srgbClr val="ff6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B702-F699-490E-AEFB-301A98E01BC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F55C84-A7CE-4863-B7E7-049F29B521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D-Rate Results (w.r.t. KTA2.6r1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434320" y="133128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CS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1581120" y="1671480"/>
          <a:ext cx="2309760" cy="1498680"/>
        </p:xfrm>
        <a:graphic>
          <a:graphicData uri="http://schemas.openxmlformats.org/drawingml/2006/table">
            <a:tbl>
              <a:tblPr/>
              <a:tblGrid>
                <a:gridCol w="614520"/>
                <a:gridCol w="668160"/>
                <a:gridCol w="488880"/>
                <a:gridCol w="53820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-pt BD-R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A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78" name=""/>
          <p:cNvSpPr/>
          <p:nvPr/>
        </p:nvSpPr>
        <p:spPr>
          <a:xfrm>
            <a:off x="345960" y="835200"/>
            <a:ext cx="36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DI-ON (12 bit/pixel to 8 bit/pix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60440" y="3666960"/>
            <a:ext cx="36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DI-OFF (8 bit/pixel to 4 bit/pix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249160" y="135828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C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1" name=""/>
          <p:cNvGraphicFramePr/>
          <p:nvPr/>
        </p:nvGraphicFramePr>
        <p:xfrm>
          <a:off x="4414680" y="1674720"/>
          <a:ext cx="2291040" cy="1498680"/>
        </p:xfrm>
        <a:graphic>
          <a:graphicData uri="http://schemas.openxmlformats.org/drawingml/2006/table">
            <a:tbl>
              <a:tblPr/>
              <a:tblGrid>
                <a:gridCol w="587520"/>
                <a:gridCol w="744480"/>
                <a:gridCol w="474840"/>
                <a:gridCol w="48420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-pt BD-R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A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82" name=""/>
          <p:cNvSpPr/>
          <p:nvPr/>
        </p:nvSpPr>
        <p:spPr>
          <a:xfrm>
            <a:off x="2496240" y="402984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CS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1643040" y="4370400"/>
          <a:ext cx="2238480" cy="1498680"/>
        </p:xfrm>
        <a:graphic>
          <a:graphicData uri="http://schemas.openxmlformats.org/drawingml/2006/table">
            <a:tbl>
              <a:tblPr/>
              <a:tblGrid>
                <a:gridCol w="614520"/>
                <a:gridCol w="668160"/>
                <a:gridCol w="480960"/>
                <a:gridCol w="47484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-pt BD-R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A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84" name=""/>
          <p:cNvSpPr/>
          <p:nvPr/>
        </p:nvSpPr>
        <p:spPr>
          <a:xfrm>
            <a:off x="5311080" y="405684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C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5" name=""/>
          <p:cNvGraphicFramePr/>
          <p:nvPr/>
        </p:nvGraphicFramePr>
        <p:xfrm>
          <a:off x="4476600" y="4373640"/>
          <a:ext cx="2327400" cy="1498680"/>
        </p:xfrm>
        <a:graphic>
          <a:graphicData uri="http://schemas.openxmlformats.org/drawingml/2006/table">
            <a:tbl>
              <a:tblPr/>
              <a:tblGrid>
                <a:gridCol w="587520"/>
                <a:gridCol w="679320"/>
                <a:gridCol w="514440"/>
                <a:gridCol w="5461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-pt BD-R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A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26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B0A6-627F-4649-981D-84D112B9396D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6AB414-52A5-49F5-A952-814EBBFF6FE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BDI-OFF Mode Memory Access Patter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333360" y="1185840"/>
            <a:ext cx="846792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 is read/written in rows of MB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ips of reference frame blocks are cached in on-chip memory for 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pixels are read once instead of multiple times, hence the memory bandwidth is further reduc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advantages: larger on-chip memory, limited vertical search ran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120760" y="3863880"/>
            <a:ext cx="2129040" cy="1646280"/>
          </a:xfrm>
          <a:custGeom>
            <a:avLst/>
            <a:gdLst/>
            <a:ahLst/>
            <a:rect l="l" t="t" r="r" b="b"/>
            <a:pathLst>
              <a:path w="4456" h="3393">
                <a:moveTo>
                  <a:pt x="0" y="3393"/>
                </a:moveTo>
                <a:lnTo>
                  <a:pt x="4456" y="3393"/>
                </a:lnTo>
                <a:lnTo>
                  <a:pt x="4456" y="0"/>
                </a:lnTo>
                <a:lnTo>
                  <a:pt x="0" y="0"/>
                </a:lnTo>
                <a:lnTo>
                  <a:pt x="0" y="3393"/>
                </a:lnTo>
                <a:lnTo>
                  <a:pt x="0" y="3393"/>
                </a:lnTo>
                <a:close/>
              </a:path>
            </a:pathLst>
          </a:custGeom>
          <a:noFill/>
          <a:ln cap="rnd" w="38880">
            <a:solidFill>
              <a:srgbClr val="01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120760" y="4272120"/>
            <a:ext cx="2121120" cy="523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005440" y="3863880"/>
            <a:ext cx="2128680" cy="1646280"/>
          </a:xfrm>
          <a:custGeom>
            <a:avLst/>
            <a:gdLst/>
            <a:ahLst/>
            <a:rect l="l" t="t" r="r" b="b"/>
            <a:pathLst>
              <a:path w="4456" h="3393">
                <a:moveTo>
                  <a:pt x="0" y="3393"/>
                </a:moveTo>
                <a:lnTo>
                  <a:pt x="4456" y="3393"/>
                </a:lnTo>
                <a:lnTo>
                  <a:pt x="4456" y="0"/>
                </a:lnTo>
                <a:lnTo>
                  <a:pt x="0" y="0"/>
                </a:lnTo>
                <a:lnTo>
                  <a:pt x="0" y="3393"/>
                </a:lnTo>
                <a:lnTo>
                  <a:pt x="0" y="3393"/>
                </a:lnTo>
                <a:close/>
              </a:path>
            </a:pathLst>
          </a:custGeom>
          <a:noFill/>
          <a:ln cap="rnd" w="38880">
            <a:solidFill>
              <a:srgbClr val="01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597640" y="4491000"/>
            <a:ext cx="91800" cy="95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416320" y="3519360"/>
            <a:ext cx="1447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Reference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922400" y="4275000"/>
            <a:ext cx="115920" cy="549360"/>
          </a:xfrm>
          <a:custGeom>
            <a:avLst/>
            <a:gdLst>
              <a:gd name="textAreaLeft" fmla="*/ 74160 w 115920"/>
              <a:gd name="textAreaRight" fmla="*/ 116280 w 115920"/>
              <a:gd name="textAreaTop" fmla="*/ 14040 h 549360"/>
              <a:gd name="textAreaBottom" fmla="*/ 535320 h 549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rot="10800000">
            <a:off x="1568160" y="4100400"/>
            <a:ext cx="33156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Cached Block Stri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769000" y="4367160"/>
            <a:ext cx="782640" cy="33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Inter B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40000" y="4300560"/>
            <a:ext cx="1371600" cy="457200"/>
          </a:xfrm>
          <a:prstGeom prst="rect">
            <a:avLst/>
          </a:prstGeom>
          <a:noFill/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3330720" y="451944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2340000" y="421488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720880" y="3909960"/>
            <a:ext cx="10670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Search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397480" y="3519360"/>
            <a:ext cx="1447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Current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006880" y="4290840"/>
            <a:ext cx="2121120" cy="524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0F02-DCCE-40BB-9848-D76BDCD5BD3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85673C-B297-468E-8903-1431211379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20:51:45Z</dcterms:created>
  <dc:creator>Eric Wand</dc:creator>
  <dc:description/>
  <dc:language>en-US</dc:language>
  <cp:lastModifiedBy>a0271817</cp:lastModifiedBy>
  <dcterms:modified xsi:type="dcterms:W3CDTF">2010-07-19T16:07:15Z</dcterms:modified>
  <cp:revision>96</cp:revision>
  <dc:subject/>
  <dc:title>Presentation Title Here</dc:title>
</cp:coreProperties>
</file>