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A73-00AD-4AF8-9AF4-1A8E50FC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474-10DF-4D88-856F-DD8F7EA4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0B0-68F7-495E-B938-DDB28731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1B7-5FF9-4DA5-B097-D16F2A02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612-A98E-4F07-9C05-958CFD3E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EFBE-9CC5-48EF-AA27-123B8DCB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CA8E-6499-43D6-BB0E-9620EC9E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7768-4B26-46DE-8ACD-5C025EEC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F27D-5253-41C0-8B53-8890F54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EAA-6705-46AE-ACE8-292A7B3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F661-871C-4686-9F54-B2F4D0F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6D5-9CDB-4F89-836C-08472B76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BB8-AFA0-4978-833D-0F07BF36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06F-4F04-44DF-84CD-91498A0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EC54-E0A7-49D4-8091-945E98A1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55F2-2046-4ACA-AEF8-F1CD70EE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8C8C-855D-488C-A869-1D271E9D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BB5FC-4D3A-4113-83F9-30A2AC89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94D2-7613-4CF2-AF32-234ED9B0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75EF-2449-4450-9FB8-9C866643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119B-3D6A-499F-89DC-4FF0972A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7A19-769D-464B-99CF-0465F89D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778-137F-4ED9-94CF-1F9C58E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2672-D990-47F7-BD4A-26BA4D73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F79D-59E4-4649-B544-3109530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184D-87D6-4B3F-B29B-26A1987F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7504-A56C-4EBC-B11B-11AF224C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4B68-D8F0-4BB6-A1E8-0508C649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6DA3-6A81-42D9-A0CD-41A05781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D7C6-7E29-42A8-8BC3-E212B44F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A97E8-876F-46EF-9BCD-FDB811CF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CF71-8637-4F39-8598-DC5F3795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6735-32EA-4AA6-BBA2-051897E9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518-C3B8-4A3A-BCF1-F0A442D8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ADC6-0C95-4B12-B592-96AC299B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F498-0B70-4F41-A065-E6453446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5560-502D-445C-AFF1-F32940A5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E8DC0-617C-49E7-B88A-B241CEE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08BEA-F872-4067-86C3-1CC4AF5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DAA0-E4AA-4D52-8E3A-7238346C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8AC9-AF63-45A5-B6DC-8546EA3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047B-2D41-422D-8FF4-6C8868F7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3F51-D87C-4A59-A5F4-C70426E5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FC3C3-9EF8-48CA-B167-1EAE3FE6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E4D-EB85-4C4E-9B4A-59606DA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659E-6773-4FDA-8306-D91AE90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F3C7B-7604-487D-ADC2-63401D8F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40BF-AB31-480C-ABCC-064AF6F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0927-4530-4ED4-90DE-F25E5486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6E092-1E61-4BEC-AB53-EFC9836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B851-277E-4B5F-BBFD-7468048F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1DF9-BE63-4933-A2DE-8F0D7F9C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D265E-3073-488A-86C3-5015C30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4A20-E578-49D9-A187-B2753324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3C49-B715-4211-B1E2-508887DA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810-2A32-4FC0-9B4A-4080E08B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BE51-05BA-4715-8A10-457DE0C8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D1AD-966B-4355-A550-C2DE671A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B97F9-D0C7-4CEA-91AE-7AA7814E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9B84-AB55-40E5-ABF0-CFBD38DA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E504F-9189-494E-A945-817DD9A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54AF-D190-4EA9-A8BD-2E967487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A082D-60F5-4DF0-8110-C32DC2A7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C871-DC5B-4E63-A38B-D09393ED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21972-3E9C-4AC4-B104-C08503A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4E937-7A79-44D0-B661-C01546E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B16-3F69-44A9-BC9F-FEBA6B0C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33CA-C892-438B-8342-BE9A3938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4792F-6A61-44D7-A49D-C2CA248A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C287-8F49-45A5-8486-64AA0CBD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DD0-603D-4A76-BE01-69B6323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A07-920D-4CC3-A6FD-C89B3A3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9087-ACF1-4C13-A043-7AAD56F9D9B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1857-DD5A-4CBA-8ACD-824F8CB3867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任意多边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任意多边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DB62-64FA-426B-972E-FA49817B4030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JCTVC-B084, Microso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07A-AD04-494B-900D-4E85282BAC4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任意多边形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35A-51EE-4863-B9E4-9B6EF6CFC4E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JCTVC-B084, Microso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9211-C497-4C22-BFF7-D98512BC0FF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6027-5A46-4F9C-9068-40D511F89600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43C3-7C89-495B-A5E4-5E1344FC5A3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任意多边形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任意多边形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FF90-D2A3-4CA5-8913-56C375118893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BE11-A7CA-4BC7-A183-1047F752DC2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A2B5-9258-447E-A316-BB6E6431313F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9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FFDA-05BB-4F94-AA0B-7E9CB26BCB5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标题 1" descr=""/>
          <p:cNvPicPr/>
          <p:nvPr/>
        </p:nvPicPr>
        <p:blipFill>
          <a:blip r:embed="rId1"/>
          <a:stretch/>
        </p:blipFill>
        <p:spPr>
          <a:xfrm>
            <a:off x="426960" y="3200400"/>
            <a:ext cx="801540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78920" y="3611520"/>
            <a:ext cx="8278920" cy="12002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iling Lan, Jizheng Xu, Feng Wu and Gary Sulli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erimental resul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图表 1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erimental resul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图表 1" descr=""/>
          <p:cNvPicPr/>
          <p:nvPr/>
        </p:nvPicPr>
        <p:blipFill>
          <a:blip r:embed="rId1"/>
          <a:stretch/>
        </p:blipFill>
        <p:spPr>
          <a:xfrm>
            <a:off x="1044720" y="1484280"/>
            <a:ext cx="7199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Visual quality comparis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5" descr="Mix_A124"/>
          <p:cNvPicPr/>
          <p:nvPr/>
        </p:nvPicPr>
        <p:blipFill>
          <a:blip r:embed="rId1"/>
          <a:stretch/>
        </p:blipFill>
        <p:spPr>
          <a:xfrm>
            <a:off x="1692360" y="1817640"/>
            <a:ext cx="6045120" cy="5040360"/>
          </a:xfrm>
          <a:prstGeom prst="rect">
            <a:avLst/>
          </a:prstGeom>
          <a:ln w="0">
            <a:noFill/>
          </a:ln>
        </p:spPr>
      </p:pic>
      <p:sp>
        <p:nvSpPr>
          <p:cNvPr id="296" name="矩形 1"/>
          <p:cNvSpPr/>
          <p:nvPr/>
        </p:nvSpPr>
        <p:spPr>
          <a:xfrm>
            <a:off x="4264920" y="1341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1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2" descr="Mix_proposed"/>
          <p:cNvPicPr/>
          <p:nvPr/>
        </p:nvPicPr>
        <p:blipFill>
          <a:blip r:embed="rId1"/>
          <a:stretch/>
        </p:blipFill>
        <p:spPr>
          <a:xfrm>
            <a:off x="1763640" y="1819440"/>
            <a:ext cx="6037200" cy="5040000"/>
          </a:xfrm>
          <a:prstGeom prst="rect">
            <a:avLst/>
          </a:prstGeom>
          <a:ln w="0">
            <a:noFill/>
          </a:ln>
        </p:spPr>
      </p:pic>
      <p:sp>
        <p:nvSpPr>
          <p:cNvPr id="300" name="矩形 4"/>
          <p:cNvSpPr/>
          <p:nvPr/>
        </p:nvSpPr>
        <p:spPr>
          <a:xfrm>
            <a:off x="4066920" y="1341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Web_A124"/>
          <p:cNvPicPr/>
          <p:nvPr/>
        </p:nvPicPr>
        <p:blipFill>
          <a:blip r:embed="rId1"/>
          <a:stretch/>
        </p:blipFill>
        <p:spPr>
          <a:xfrm>
            <a:off x="1835280" y="1830240"/>
            <a:ext cx="6073560" cy="5038920"/>
          </a:xfrm>
          <a:prstGeom prst="rect">
            <a:avLst/>
          </a:prstGeom>
          <a:ln w="0">
            <a:noFill/>
          </a:ln>
        </p:spPr>
      </p:pic>
      <p:sp>
        <p:nvSpPr>
          <p:cNvPr id="304" name="矩形 5"/>
          <p:cNvSpPr/>
          <p:nvPr/>
        </p:nvSpPr>
        <p:spPr>
          <a:xfrm>
            <a:off x="4264920" y="1341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1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Web_proposed"/>
          <p:cNvPicPr/>
          <p:nvPr/>
        </p:nvPicPr>
        <p:blipFill>
          <a:blip r:embed="rId1"/>
          <a:stretch/>
        </p:blipFill>
        <p:spPr>
          <a:xfrm>
            <a:off x="1763640" y="1811160"/>
            <a:ext cx="6031080" cy="5040360"/>
          </a:xfrm>
          <a:prstGeom prst="rect">
            <a:avLst/>
          </a:prstGeom>
          <a:ln w="0">
            <a:noFill/>
          </a:ln>
        </p:spPr>
      </p:pic>
      <p:sp>
        <p:nvSpPr>
          <p:cNvPr id="308" name="矩形 5"/>
          <p:cNvSpPr/>
          <p:nvPr/>
        </p:nvSpPr>
        <p:spPr>
          <a:xfrm>
            <a:off x="4066920" y="1341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矩形 5"/>
          <p:cNvSpPr/>
          <p:nvPr/>
        </p:nvSpPr>
        <p:spPr>
          <a:xfrm>
            <a:off x="4264920" y="1341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1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3" descr="PP_A124"/>
          <p:cNvPicPr/>
          <p:nvPr/>
        </p:nvPicPr>
        <p:blipFill>
          <a:blip r:embed="rId1"/>
          <a:stretch/>
        </p:blipFill>
        <p:spPr>
          <a:xfrm>
            <a:off x="660240" y="1700280"/>
            <a:ext cx="7920360" cy="2097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PP_proposed"/>
          <p:cNvPicPr/>
          <p:nvPr/>
        </p:nvPicPr>
        <p:blipFill>
          <a:blip r:embed="rId2"/>
          <a:stretch/>
        </p:blipFill>
        <p:spPr>
          <a:xfrm>
            <a:off x="660240" y="4437000"/>
            <a:ext cx="7920360" cy="2095560"/>
          </a:xfrm>
          <a:prstGeom prst="rect">
            <a:avLst/>
          </a:prstGeom>
          <a:ln w="0">
            <a:noFill/>
          </a:ln>
        </p:spPr>
      </p:pic>
      <p:sp>
        <p:nvSpPr>
          <p:cNvPr id="314" name="矩形 8"/>
          <p:cNvSpPr/>
          <p:nvPr/>
        </p:nvSpPr>
        <p:spPr>
          <a:xfrm>
            <a:off x="3912120" y="4005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ummar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reen contents to expand the application scenar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fferent statistics lead to different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ple tools to improve the perform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creen cont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uter generated images/vide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erenc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 recor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reen content on HE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creen content propert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y different statistics form natural image/vide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 contrast, sharp and clear edges, almost no noi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eyes are sensitive to artifacts around sharp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ion is also not smoo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New tools to handle screen imag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ual scalar quantization (RSQ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rect quantization for residual sign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se colors and index map (MCI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ilar to VQ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sidual scalar quant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ize and code the residue direct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ill use the intra predi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xel-by-pixel reconstruction and pre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pass the trans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alar quantization with a dead-zone, similar to APEC in K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5724360" y="2060640"/>
            <a:ext cx="3124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Base colors and index map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ach block is represented by several (1-4) base colors and indexes for each pix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ply to the Y-component or the joint YUV/RGB compon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eriment sett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M14.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O to decide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SQ, BCIM for Y, BCIM for YU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esting imag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All_kinds"/>
          <p:cNvPicPr/>
          <p:nvPr/>
        </p:nvPicPr>
        <p:blipFill>
          <a:blip r:embed="rId1"/>
          <a:stretch/>
        </p:blipFill>
        <p:spPr>
          <a:xfrm>
            <a:off x="395280" y="2565360"/>
            <a:ext cx="2717640" cy="2154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Web_msn"/>
          <p:cNvPicPr/>
          <p:nvPr/>
        </p:nvPicPr>
        <p:blipFill>
          <a:blip r:embed="rId2"/>
          <a:stretch/>
        </p:blipFill>
        <p:spPr>
          <a:xfrm>
            <a:off x="3265560" y="2565360"/>
            <a:ext cx="2717640" cy="2156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owerPoint"/>
          <p:cNvPicPr/>
          <p:nvPr/>
        </p:nvPicPr>
        <p:blipFill>
          <a:blip r:embed="rId3"/>
          <a:stretch/>
        </p:blipFill>
        <p:spPr>
          <a:xfrm>
            <a:off x="6102360" y="2565360"/>
            <a:ext cx="2717640" cy="2156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1623600" y="52736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4175640" y="52736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7120080" y="5273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erimental resul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页脚占位符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JCTVC-B084, Microsof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图表 1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1992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4:51:09Z</dcterms:created>
  <dc:creator>Ji-Zheng Xu</dc:creator>
  <dc:description/>
  <dc:language>en-US</dc:language>
  <cp:lastModifiedBy>Ji-Zheng Xu</cp:lastModifiedBy>
  <dcterms:modified xsi:type="dcterms:W3CDTF">2010-07-25T13:22:02Z</dcterms:modified>
  <cp:revision>25</cp:revision>
  <dc:subject/>
  <dc:title>PowerPoint 演示文稿</dc:title>
</cp:coreProperties>
</file>