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EA77-8B63-4872-BAB2-6D207C43BF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9B87-DE68-454D-9E95-F872C8E916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ACE2-3353-4404-B779-4528E683CF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A46D-D44D-416E-8196-2AFC64037E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2E1F3-AD73-4BD0-84A0-A853C2C30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8F29A-1636-4B59-A157-E75E2D29E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5BF37-5D94-4456-9ACF-44801DF8A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F3487-61AB-4510-8CDA-8D3391506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7529-ADCC-4837-9B60-A8AF4541A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8F2E-D06B-4279-B205-78D7F8B4D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B362-9052-46B0-972E-4990D3A58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DA185-4706-411B-A1A4-9DE6E3768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D8557-47CF-4FF0-8FEF-21E5D43F8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3DD54-25B0-4ED6-8163-ED56084C8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C66A5-1778-458D-99B5-4D16A434A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1CAC-0F97-48BE-845F-CB2CB2DEA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CBF7-5B40-439E-9859-1397FB7315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B0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B0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9360" y="2421000"/>
            <a:ext cx="9153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-Loop Adaptive Resto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9600" y="393372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u-Wen Huang, Chih-Ming Fu, Ching-Yeh Chen, Chia-Yang Tsai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ngying Gao, Jicheng An, Kai Zhang, and Shawmin 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B0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3"/>
          <p:cNvSpPr/>
          <p:nvPr/>
        </p:nvSpPr>
        <p:spPr>
          <a:xfrm>
            <a:off x="5724360" y="5621400"/>
            <a:ext cx="31100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 in Gene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21-28 July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3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5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6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7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aptive Loop Filter (ALF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ner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as IMQALF in A109 (MediaT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r 2 filters per par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: 5x5, 7x7, 9x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tprint: ½-sym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fficients: newly derived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ransmitted, or time-delayed without any transmitted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0C5A-2B29-4D33-BCF7-7AF39985368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alized Band Offset (LBO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ly similar to Band Correction in A1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y pixels of one partition into multiple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an offset for each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2 kinds of band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flag per partition to indicate the selected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orm 16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n-uniform 12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milar to the idea of Histogram Equ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364E-0117-45DF-A2E1-55EFBB8125E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8"/>
          <p:cNvSpPr/>
          <p:nvPr/>
        </p:nvSpPr>
        <p:spPr>
          <a:xfrm>
            <a:off x="4140000" y="40528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9"/>
          <p:cNvSpPr/>
          <p:nvPr/>
        </p:nvSpPr>
        <p:spPr>
          <a:xfrm>
            <a:off x="8504280" y="41893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4365720" y="3857760"/>
            <a:ext cx="4429080" cy="2286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0"/>
          <p:cNvSpPr/>
          <p:nvPr/>
        </p:nvSpPr>
        <p:spPr>
          <a:xfrm>
            <a:off x="4122360" y="479412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1"/>
          <p:cNvSpPr/>
          <p:nvPr/>
        </p:nvSpPr>
        <p:spPr>
          <a:xfrm>
            <a:off x="8466120" y="4794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4348080" y="4599000"/>
            <a:ext cx="44290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alized Edge Offset (LEO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ly similar to Extreme Correction in A1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y pixels of one partition into multiple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an offset for each 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2 patterns for pixel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flag per partition to indicate the selected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agonal cross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E561-B3B4-4FB0-8EF6-EE6A8B0F063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838080" cy="752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4383000" y="4467240"/>
            <a:ext cx="8384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xel Classification in LE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y 0-5: offset 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y 6: no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ECB2-6911-4CA8-B0D1-B8C492D44E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285920" y="2247840"/>
            <a:ext cx="838080" cy="752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2468520" y="2247840"/>
            <a:ext cx="838080" cy="75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698400" y="3111480"/>
          <a:ext cx="7731360" cy="2967120"/>
        </p:xfrm>
        <a:graphic>
          <a:graphicData uri="http://schemas.openxmlformats.org/drawingml/2006/table">
            <a:tbl>
              <a:tblPr/>
              <a:tblGrid>
                <a:gridCol w="1373400"/>
                <a:gridCol w="4429080"/>
                <a:gridCol w="1928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&lt; 4 neighb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&lt; 3 neighbors &amp;&amp; C = 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eighb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&lt; 3 neighbors &amp;&amp; C &gt; 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eighb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&gt; 3 neighbors &amp;&amp; C &lt; 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eighb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&gt; 3 neighbors &amp;&amp; C = 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eighb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&gt; 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eighb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 of the ab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cture-based Adaptive Offset (PAO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d as “picture-based band offset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B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” followed by “picture-based edge offset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L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BO is partition-based, while PBO is picture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ly the uniform band classification used in P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O is partition-based, while PEO is picture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ly the cross pattern used in P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BED0-C671-448E-95B5-2AE7913ECFB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cture-based Adaptive Clipping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minimum and maximum of original pixels of the current picture to deco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clipping to ensure all pixels after restoration are in the range of [minimum, maximu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 is applied after IDF, QAR, PBO, and P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44F6-A460-48CD-912F-102858BEF7E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-Loop Filtering AHG Test Cond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27120" y="1123560"/>
            <a:ext cx="401616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pha condition (Hierarchical B) and Gamma condition (IP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 All-Intra condition is added by us to test I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ly I-pictures ar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2 seconds for each test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pass pictur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264 weighted prediction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DI on (4-bit incre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ing data when IBDI is disabled is also encour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BFC7-CE2F-46E0-A7BB-7D70CEEEF98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內容版面配置區 2"/>
          <p:cNvSpPr/>
          <p:nvPr/>
        </p:nvSpPr>
        <p:spPr>
          <a:xfrm>
            <a:off x="4802040" y="1123920"/>
            <a:ext cx="401652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ReferenceFrames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AdaptiveFilter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Competition 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IntraMDDT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seHPFilter = 4 (SI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seAdaptiveLoopFilter = 1 (QALF is enabled 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ExtMB = 2 (64x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DO_Q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NewOffset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D-Rates When IBDI Is 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13840" y="1123560"/>
            <a:ext cx="2643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2.71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D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on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-In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1.88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2.76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Q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on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3.34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3.61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DF and Q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on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3.76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DF, QAR, and PA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on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AO cannot further reduce bitrate for Gam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2786040" y="1298520"/>
            <a:ext cx="62546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D-Rates When IBDI Is Of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13840" y="1123560"/>
            <a:ext cx="2643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2.73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D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on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-In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1.88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2.75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Q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on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3.54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3.81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DF and Q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on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4.06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DF, QAR, and PA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on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AO cannot further reduce bitrate for Gam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2786040" y="1285920"/>
            <a:ext cx="62546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d run times when IBDI i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ALF enabled in the anchor defined by in-loop filtering A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922E-EA84-4C13-A1ED-C1F2150951C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571760" y="2819520"/>
            <a:ext cx="6000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on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EE9A-B9AC-4732-84C1-48DEDF0DEBF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Conditions with QALF Of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7120" y="1123560"/>
            <a:ext cx="401616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pha condition (Hierarchical B) and Gamma condition (IP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2 seconds for each test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pass pictur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264 weighted prediction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DI on (4-bit incre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ing data when IBDI is disabled is also encour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F7D8-20AD-4565-AE84-113A222FB90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內容版面配置區 2"/>
          <p:cNvSpPr/>
          <p:nvPr/>
        </p:nvSpPr>
        <p:spPr>
          <a:xfrm>
            <a:off x="4802040" y="1123920"/>
            <a:ext cx="401652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ReferenceFrames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AdaptiveFilter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Competition 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IntraMDDT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seHPFilter = 4 (SI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seAdaptiveLoopFilter = 0 (QALF is disabled 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ExtMB = 2 (64x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DO_Q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NewOffset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2080" y="384120"/>
            <a:ext cx="83120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D-Rates with QALF Off When IBDI Is 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26760" y="1123560"/>
            <a:ext cx="417492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F+QAR+PAO can achiev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.41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rate reduction for Al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F+QAR can achiev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.04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rate reduction for G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D395-05F8-452C-9441-EF8FF551364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5000760" y="1042920"/>
            <a:ext cx="39337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os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aptive Resto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chie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rate reduction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.76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pha cas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.61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gamma cases, respectivel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the in-loop filtering AHG test conditions where the QALF is enabled as anc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ing complexity increas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pha cas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4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gamma cases,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84FE-3546-41E2-A53E-1523587276E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5"/>
          <p:cNvSpPr/>
          <p:nvPr/>
        </p:nvSpPr>
        <p:spPr>
          <a:xfrm>
            <a:off x="3077640" y="328284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www.mediatek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aptive Resto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6760" y="1123560"/>
            <a:ext cx="83026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r block diagram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aptive Resto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extend the Deblocking Loop Filtering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aptive Rest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4F46-EF73-4589-8374-19114E6AB38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96920" y="1838160"/>
            <a:ext cx="87328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work of the Proposed 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7120" y="1123560"/>
            <a:ext cx="82310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deblocking filter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enhancement for intr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tree-based adaptive restoration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adaptation for Wiener filtering and adaptive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-based adaptive offset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-based band offset (PBO): similar to Band Correction in A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-based edge offset (PEO): similar to Extreme Correction in A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-based adaptive clipping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after IDF, QAR, PBO, and P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F29E-DCA9-471A-AF28-E41F07FF896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785960" y="3929040"/>
            <a:ext cx="1214280" cy="121464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571920" y="3929040"/>
            <a:ext cx="1214280" cy="121464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9"/>
          <p:cNvCxnSpPr>
            <a:endCxn id="124" idx="1"/>
          </p:cNvCxnSpPr>
          <p:nvPr/>
        </p:nvCxnSpPr>
        <p:spPr>
          <a:xfrm>
            <a:off x="1214280" y="4537080"/>
            <a:ext cx="5724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Straight Arrow Connector 11"/>
          <p:cNvCxnSpPr/>
          <p:nvPr/>
        </p:nvCxnSpPr>
        <p:spPr>
          <a:xfrm>
            <a:off x="3000240" y="4538160"/>
            <a:ext cx="5724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Straight Arrow Connector 12"/>
          <p:cNvCxnSpPr/>
          <p:nvPr/>
        </p:nvCxnSpPr>
        <p:spPr>
          <a:xfrm>
            <a:off x="4786200" y="4540320"/>
            <a:ext cx="5724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9" name="Rectangle 13"/>
          <p:cNvSpPr/>
          <p:nvPr/>
        </p:nvSpPr>
        <p:spPr>
          <a:xfrm>
            <a:off x="5357880" y="3929040"/>
            <a:ext cx="1214280" cy="121464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O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BO+PE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Straight Arrow Connector 14"/>
          <p:cNvCxnSpPr/>
          <p:nvPr/>
        </p:nvCxnSpPr>
        <p:spPr>
          <a:xfrm>
            <a:off x="6572160" y="4535640"/>
            <a:ext cx="5724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roved Deblocking Filter (IDF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H.264 deblocking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only for the boundary where at least one of the two sides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ra co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boundary 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BS=4 to avoid over-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thresholds and clipping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pply the filter more often but reduce the filter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 Dependent Deblocking Fil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D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intra prediction modes to apply directional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1EBC-F06D-4B7F-819B-D387B95E553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DDF – Case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wo blocks have the same intra prediction mode not parallel to the boundary, we propose to filter along the intra prediction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d arrows denote intra prediction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tted arrows denote proposed filter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ltering method keeps the same except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ing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6544-F813-4B5E-BCFD-DFA1DC162F2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3" descr=""/>
          <p:cNvPicPr/>
          <p:nvPr/>
        </p:nvPicPr>
        <p:blipFill>
          <a:blip r:embed="rId1"/>
          <a:stretch/>
        </p:blipFill>
        <p:spPr>
          <a:xfrm>
            <a:off x="7286760" y="3192480"/>
            <a:ext cx="1447560" cy="288612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4" descr=""/>
          <p:cNvPicPr/>
          <p:nvPr/>
        </p:nvPicPr>
        <p:blipFill>
          <a:blip r:embed="rId2"/>
          <a:stretch/>
        </p:blipFill>
        <p:spPr>
          <a:xfrm>
            <a:off x="3857760" y="3900600"/>
            <a:ext cx="28861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DDF – Case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wo blocks have different intra prediction modes, we propose to use horizontal or vertical filtering with weakened strength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1125"/>
              </a:spcBef>
              <a:buClr>
                <a:srgbClr val="ed6d00"/>
              </a:buClr>
              <a:buSzPct val="95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ken filter strength by reducing clipping parameter: C1 = C1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D96E-709F-4A56-932B-A4E587AE48C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6" descr=""/>
          <p:cNvPicPr/>
          <p:nvPr/>
        </p:nvPicPr>
        <p:blipFill>
          <a:blip r:embed="rId1"/>
          <a:stretch/>
        </p:blipFill>
        <p:spPr>
          <a:xfrm>
            <a:off x="2357280" y="3186000"/>
            <a:ext cx="1447920" cy="28861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5" descr=""/>
          <p:cNvPicPr/>
          <p:nvPr/>
        </p:nvPicPr>
        <p:blipFill>
          <a:blip r:embed="rId2"/>
          <a:stretch/>
        </p:blipFill>
        <p:spPr>
          <a:xfrm>
            <a:off x="4686480" y="3909960"/>
            <a:ext cx="28857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DDF – Case 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wo blocks have the same intra prediction mode parallel to the boundary, we propose to use horizontal or vertical filtering with even more weakened str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ken filter strength by C0 = 1 and C1 = C1 -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0E36-8DB7-4179-B56F-05DE26E7FA9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2357280" y="3186000"/>
            <a:ext cx="1467000" cy="28861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2" descr=""/>
          <p:cNvPicPr/>
          <p:nvPr/>
        </p:nvPicPr>
        <p:blipFill>
          <a:blip r:embed="rId2"/>
          <a:stretch/>
        </p:blipFill>
        <p:spPr>
          <a:xfrm>
            <a:off x="4730760" y="3900600"/>
            <a:ext cx="28861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384120"/>
            <a:ext cx="87152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dtree-based Adaptive Restora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QA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adaptation can provide coding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tree partitions to signal local 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ides Wiener filtering, adaptive band offset and adaptive edge offset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artition can select one of the following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zed band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zed edge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st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3314-E3E6-4D6A-8E9D-9369A007678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MTK</dc:creator>
  <dc:description>Confidential A</dc:description>
  <cp:keywords>Confidential A</cp:keywords>
  <dc:language>en-US</dc:language>
  <cp:lastModifiedBy>mtk01054</cp:lastModifiedBy>
  <dcterms:modified xsi:type="dcterms:W3CDTF">2010-07-24T07:44:00Z</dcterms:modified>
  <cp:revision>1199</cp:revision>
  <dc:subject/>
  <dc:title>Title: Arial Bold 32pt</dc:title>
</cp:coreProperties>
</file>