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E63-9381-4178-B974-E9379A436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623-84C1-4C53-9A01-3DC147BFBA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D2E5-A50C-4C51-BDCB-629E1DA3A9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046F-EDE2-413D-85F2-7B4082DD3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D37D-C385-4D02-8621-0D2FC2D15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AE0-F2DC-4C45-A634-A3F148B54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5CB-BBDF-4421-B30C-9153F82E9D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F72F-C06D-49D2-9A4A-93F68FA44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F44A-3D4A-4A67-8EF5-BDC5F62FF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C273-6787-46C7-91CC-29D6639E6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D2F2-EC9C-41A8-9688-A48463B89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E466-60A9-4342-BC3C-E045A97CC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554D-E0AC-43A7-8225-BD14B015C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42D6-3B42-4D64-8BA3-8667177ED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D27-735C-41BF-911F-9F7CFF2C0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D2FD-1D33-4025-80D4-7710B4867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C8AE-7132-4CF3-8FCB-7A2C5B42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BA7A-7C2F-4D38-B378-3924B725D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4E6A-59B2-4455-9571-1662B7184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7D7-C4DC-4327-9C98-5B82651503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360" y="242100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1: Decoder-Side Motion Vector Derivation with Switchable Template Ma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-Wen Huang, Ching-Yeh Chen, Chih-Wei Hsu, Jian-Liang L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-Pao Tsai, Jicheng An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B0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724360" y="5621400"/>
            <a:ext cx="3110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28 July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 Weighting for DMVD_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-level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ed in the 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higher weights for distortion values of boundar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hift operation instead of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bit left shift used in al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DA9-57DE-4980-978E-86D2334E99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059280" y="4573440"/>
            <a:ext cx="1152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908000" y="4573440"/>
            <a:ext cx="1151280" cy="115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908000" y="3429000"/>
            <a:ext cx="1151280" cy="115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059280" y="3429000"/>
            <a:ext cx="1152360" cy="115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2944800" y="4581360"/>
            <a:ext cx="114480" cy="115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944800" y="4465800"/>
            <a:ext cx="114480" cy="115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 rot="16200000">
            <a:off x="3577680" y="3947040"/>
            <a:ext cx="11556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3"/>
          <p:cNvCxnSpPr/>
          <p:nvPr/>
        </p:nvCxnSpPr>
        <p:spPr>
          <a:xfrm>
            <a:off x="4071960" y="454824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5" name="TextBox 14"/>
          <p:cNvSpPr/>
          <p:nvPr/>
        </p:nvSpPr>
        <p:spPr>
          <a:xfrm>
            <a:off x="4608360" y="4394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4605480" y="35733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boundary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19"/>
          <p:cNvCxnSpPr/>
          <p:nvPr/>
        </p:nvCxnSpPr>
        <p:spPr>
          <a:xfrm>
            <a:off x="4074840" y="3735360"/>
            <a:ext cx="533880" cy="2160"/>
          </a:xfrm>
          <a:prstGeom prst="straightConnector1">
            <a:avLst/>
          </a:prstGeom>
          <a:ln w="3816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hapes for DMVD_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-level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emplate shapes selected by a 2-bi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higher TM accuracy for objec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decoding complexity due to smaller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F0EB-E16D-4FD0-A8BF-AB39E8F209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49360" y="4336920"/>
            <a:ext cx="18320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2160" y="43369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9216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4936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351000" y="336240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-Shap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92160" y="47941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92160" y="52513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2160" y="57085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0098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4670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9242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4905360" y="4336920"/>
            <a:ext cx="18320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90536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"/>
          <p:cNvSpPr/>
          <p:nvPr/>
        </p:nvSpPr>
        <p:spPr>
          <a:xfrm>
            <a:off x="4905360" y="3362400"/>
            <a:ext cx="18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p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53658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58230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62802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975040" y="4336920"/>
            <a:ext cx="18320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2517840" y="43369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2970360" y="3362400"/>
            <a:ext cx="15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f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2517840" y="47941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517840" y="52513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17840" y="57085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7311960" y="4336920"/>
            <a:ext cx="18320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854760" y="43369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85476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31196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7113600" y="33624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n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854760" y="47941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/2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7772400" y="3879720"/>
            <a:ext cx="457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N/2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Algorithm for DMVD_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0560" y="1123560"/>
            <a:ext cx="67323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-hypo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ion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didates used in DMVD_DIRECT_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the bes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didates with the smallest disto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ortion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e stored candidates having distortions larger than a threshold (coded in PPS) by the best candidate having the smallest 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P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red candidates having the largest distortions with a 5-point cross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didate is refined, the ot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optimization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the distortion between the current template a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-hypo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enc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圓角矩形 3"/>
          <p:cNvSpPr/>
          <p:nvPr/>
        </p:nvSpPr>
        <p:spPr>
          <a:xfrm>
            <a:off x="6983280" y="1523880"/>
            <a:ext cx="19814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圓角矩形 4"/>
          <p:cNvSpPr/>
          <p:nvPr/>
        </p:nvSpPr>
        <p:spPr>
          <a:xfrm>
            <a:off x="6983280" y="3124080"/>
            <a:ext cx="19814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ortion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圓角矩形 5"/>
          <p:cNvSpPr/>
          <p:nvPr/>
        </p:nvSpPr>
        <p:spPr>
          <a:xfrm>
            <a:off x="6983280" y="4648320"/>
            <a:ext cx="19814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P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直線單箭頭接點 6"/>
          <p:cNvCxnSpPr>
            <a:stCxn id="314" idx="2"/>
            <a:endCxn id="315" idx="0"/>
          </p:cNvCxnSpPr>
          <p:nvPr/>
        </p:nvCxnSpPr>
        <p:spPr>
          <a:xfrm flipH="1">
            <a:off x="7972200" y="2516040"/>
            <a:ext cx="216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直線單箭頭接點 7"/>
          <p:cNvCxnSpPr>
            <a:stCxn id="315" idx="2"/>
            <a:endCxn id="316" idx="0"/>
          </p:cNvCxnSpPr>
          <p:nvPr/>
        </p:nvCxnSpPr>
        <p:spPr>
          <a:xfrm flipH="1">
            <a:off x="7972200" y="4116240"/>
            <a:ext cx="21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384120"/>
            <a:ext cx="88930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cellaneous Information about Our DMV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KTA2.6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 pix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n 3 levels of CUs =&gt; 16x16, 32x32, 64x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MVD CU, residues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ip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ending a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MVD CU,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 size is 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kipped, the PU size is equal to the C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ded, the PU size is equal to the transform unit (TU)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2C5-A3D9-4307-9576-0A7DA97E9D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4924440"/>
          <a:ext cx="8569080" cy="118908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MVD PU Siz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x16 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x32 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x64 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x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x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4, 8x8, 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4, 8x8, 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4, 8x8, 16x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324" name="直線單箭頭接點 7"/>
          <p:cNvCxnSpPr/>
          <p:nvPr/>
        </p:nvCxnSpPr>
        <p:spPr>
          <a:xfrm>
            <a:off x="2303280" y="5229000"/>
            <a:ext cx="216360" cy="14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1-DMVD Common Test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7120" y="1123560"/>
            <a:ext cx="4016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ha condition (Hierarchical B) and Gamma condition (IP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VD disabled as 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pass pictur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264 weighted prediction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DI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3EE-02B4-4EA1-8C38-18E21F4115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內容版面配置區 2"/>
          <p:cNvSpPr/>
          <p:nvPr/>
        </p:nvSpPr>
        <p:spPr>
          <a:xfrm>
            <a:off x="4802040" y="1123920"/>
            <a:ext cx="401652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ReferenceFrames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AdaptiveFilter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ompetition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IntraMDD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HPFilter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AdaptiveLoopFilter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ExtMB = 1 (32x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DO_Q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D-Rates under TE1-DMVD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27120" y="1123560"/>
            <a:ext cx="3224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lexity opera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3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6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rate reductions for Alpha and Gamma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ding efficiency opera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.2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.6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rate reductions for Alpha and Gamma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40BF-BA51-401A-AE32-F6AC9A85CC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995640" y="1042920"/>
            <a:ext cx="5085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run times under TE1-DMV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30% increase for the low complexity opera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93% increase for the high coding efficiency opera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n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mode decision can be developed to speed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E6D-DCDE-4347-9092-05FE68B4A9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487520" y="2060640"/>
            <a:ext cx="7477200" cy="1036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2"/>
          <a:stretch/>
        </p:blipFill>
        <p:spPr>
          <a:xfrm>
            <a:off x="1476360" y="4724280"/>
            <a:ext cx="74772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 complexity DMV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chieve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.5% bitrate redu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decoding complexity is increased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 coding efficiency DMV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chieve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5% bitrate redu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decoding complexity is increased by 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B98-258D-436A-BDD9-28697D68CB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3077640" y="32828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5D49-C499-4512-8F7F-625EE2361D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4BF-6334-4827-8F73-A2E8D24405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384120"/>
            <a:ext cx="8821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er-side Motion Vector Deriv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MV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TH Aache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EG-AG16, VCEG-AH15, JVT-AA039, JVT-AA040, VCEG-AJ18, JCTVC-A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matching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both encoding and decoding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need to send any motion information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cluding reference picture index or motion vector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hypothesis prediction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H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A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ultiple coding unit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multiple prediction unit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izes for each DMVD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B-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other proponents including Huawei, Intel, JVC, Leibniz Univ. Hannover, LGE, Peking Univ., Qualcom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New in the This Proposa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MVD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MVD_DI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M is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MVD_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M i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MVD CU, send a flag to select between DMVD_DIRECT and DMVD_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erat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417E-C502-4511-BF33-B429415EB4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3624120"/>
          <a:ext cx="8569080" cy="2468880"/>
        </p:xfrm>
        <a:graphic>
          <a:graphicData uri="http://schemas.openxmlformats.org/drawingml/2006/table">
            <a:tbl>
              <a:tblPr/>
              <a:tblGrid>
                <a:gridCol w="2447640"/>
                <a:gridCol w="2592360"/>
                <a:gridCol w="3529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Complexity Operating 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Coding Efficiency Operating 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MVD_DIRECT M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MVD_TM M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VD_DIRECT Mode vs DIRECT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P is used in DMVD_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odes in DMVD_DIRECT signaled by the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VD_DIRECT uses different predicted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U of DMVD_DIRECT has its own sets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/temporal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VD_DIRECT: switched at CU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: switched at slic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1D3-462B-4CDF-A875-29BAA4C2BC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VD_DIRECT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HP derived from MI of neighboring 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ets of spatial-temporal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a set index to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DMVD_DIRECT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patial direct mo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VD_DIRECT_S: spatial direc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VD_DIRECT_L: left direc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VD_DIRECT_U: upper direc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mporal direct mo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VD_DIRECT_T: temporal direc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odes can be switched on the CU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B8D-CE2D-4C63-82A7-3607F8FA56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VD_DIRECT_ST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011240" y="200484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1587600" y="200484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2163600" y="200484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2739960" y="200484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1011240" y="2581200"/>
            <a:ext cx="57636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1587600" y="2581200"/>
            <a:ext cx="57600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163600" y="2581200"/>
            <a:ext cx="576360" cy="57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2739960" y="2581200"/>
            <a:ext cx="5749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1011240" y="315612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1587600" y="3156120"/>
            <a:ext cx="57600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6"/>
          <p:cNvSpPr/>
          <p:nvPr/>
        </p:nvSpPr>
        <p:spPr>
          <a:xfrm>
            <a:off x="2163600" y="315612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7"/>
          <p:cNvSpPr/>
          <p:nvPr/>
        </p:nvSpPr>
        <p:spPr>
          <a:xfrm>
            <a:off x="2739960" y="3156120"/>
            <a:ext cx="57492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8"/>
          <p:cNvSpPr/>
          <p:nvPr/>
        </p:nvSpPr>
        <p:spPr>
          <a:xfrm>
            <a:off x="1011240" y="373212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9"/>
          <p:cNvSpPr/>
          <p:nvPr/>
        </p:nvSpPr>
        <p:spPr>
          <a:xfrm>
            <a:off x="1587600" y="373212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0"/>
          <p:cNvSpPr/>
          <p:nvPr/>
        </p:nvSpPr>
        <p:spPr>
          <a:xfrm>
            <a:off x="2163600" y="373212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1"/>
          <p:cNvSpPr/>
          <p:nvPr/>
        </p:nvSpPr>
        <p:spPr>
          <a:xfrm>
            <a:off x="2739960" y="373212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2"/>
          <p:cNvSpPr/>
          <p:nvPr/>
        </p:nvSpPr>
        <p:spPr>
          <a:xfrm>
            <a:off x="434880" y="2004840"/>
            <a:ext cx="57636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434880" y="2581200"/>
            <a:ext cx="576360" cy="57492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434880" y="3156120"/>
            <a:ext cx="576360" cy="576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1587600" y="1428840"/>
            <a:ext cx="576000" cy="576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2163600" y="1428840"/>
            <a:ext cx="576360" cy="57600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7"/>
          <p:cNvSpPr/>
          <p:nvPr/>
        </p:nvSpPr>
        <p:spPr>
          <a:xfrm>
            <a:off x="2739960" y="1428840"/>
            <a:ext cx="574920" cy="576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8"/>
          <p:cNvSpPr/>
          <p:nvPr/>
        </p:nvSpPr>
        <p:spPr>
          <a:xfrm>
            <a:off x="1011240" y="2004840"/>
            <a:ext cx="2303640" cy="2303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6626160" y="200484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0"/>
          <p:cNvSpPr/>
          <p:nvPr/>
        </p:nvSpPr>
        <p:spPr>
          <a:xfrm>
            <a:off x="7201080" y="200484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1"/>
          <p:cNvSpPr/>
          <p:nvPr/>
        </p:nvSpPr>
        <p:spPr>
          <a:xfrm>
            <a:off x="7777080" y="2004840"/>
            <a:ext cx="57636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2"/>
          <p:cNvSpPr/>
          <p:nvPr/>
        </p:nvSpPr>
        <p:spPr>
          <a:xfrm>
            <a:off x="8353440" y="200484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3"/>
          <p:cNvSpPr/>
          <p:nvPr/>
        </p:nvSpPr>
        <p:spPr>
          <a:xfrm>
            <a:off x="6626160" y="2581200"/>
            <a:ext cx="574920" cy="574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4"/>
          <p:cNvSpPr/>
          <p:nvPr/>
        </p:nvSpPr>
        <p:spPr>
          <a:xfrm>
            <a:off x="7201080" y="2581200"/>
            <a:ext cx="576000" cy="57492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5"/>
          <p:cNvSpPr/>
          <p:nvPr/>
        </p:nvSpPr>
        <p:spPr>
          <a:xfrm>
            <a:off x="7777080" y="2581200"/>
            <a:ext cx="576360" cy="57492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6"/>
          <p:cNvSpPr/>
          <p:nvPr/>
        </p:nvSpPr>
        <p:spPr>
          <a:xfrm>
            <a:off x="8353440" y="2581200"/>
            <a:ext cx="576360" cy="57492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7"/>
          <p:cNvSpPr/>
          <p:nvPr/>
        </p:nvSpPr>
        <p:spPr>
          <a:xfrm>
            <a:off x="6626160" y="3156120"/>
            <a:ext cx="57492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8"/>
          <p:cNvSpPr/>
          <p:nvPr/>
        </p:nvSpPr>
        <p:spPr>
          <a:xfrm>
            <a:off x="7201080" y="3156120"/>
            <a:ext cx="57600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9"/>
          <p:cNvSpPr/>
          <p:nvPr/>
        </p:nvSpPr>
        <p:spPr>
          <a:xfrm>
            <a:off x="7777080" y="3156120"/>
            <a:ext cx="576360" cy="576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0"/>
          <p:cNvSpPr/>
          <p:nvPr/>
        </p:nvSpPr>
        <p:spPr>
          <a:xfrm>
            <a:off x="8353440" y="315612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1"/>
          <p:cNvSpPr/>
          <p:nvPr/>
        </p:nvSpPr>
        <p:spPr>
          <a:xfrm>
            <a:off x="6626160" y="373212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2"/>
          <p:cNvSpPr/>
          <p:nvPr/>
        </p:nvSpPr>
        <p:spPr>
          <a:xfrm>
            <a:off x="7201080" y="373212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3"/>
          <p:cNvSpPr/>
          <p:nvPr/>
        </p:nvSpPr>
        <p:spPr>
          <a:xfrm>
            <a:off x="7777080" y="373212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4"/>
          <p:cNvSpPr/>
          <p:nvPr/>
        </p:nvSpPr>
        <p:spPr>
          <a:xfrm>
            <a:off x="8353440" y="373212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5"/>
          <p:cNvSpPr/>
          <p:nvPr/>
        </p:nvSpPr>
        <p:spPr>
          <a:xfrm>
            <a:off x="6626160" y="2004840"/>
            <a:ext cx="2303640" cy="230364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字方塊 46"/>
          <p:cNvSpPr/>
          <p:nvPr/>
        </p:nvSpPr>
        <p:spPr>
          <a:xfrm>
            <a:off x="1011240" y="3835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字方塊 47"/>
          <p:cNvSpPr/>
          <p:nvPr/>
        </p:nvSpPr>
        <p:spPr>
          <a:xfrm>
            <a:off x="6626160" y="38354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located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字方塊 48"/>
          <p:cNvSpPr/>
          <p:nvPr/>
        </p:nvSpPr>
        <p:spPr>
          <a:xfrm>
            <a:off x="0" y="1428840"/>
            <a:ext cx="18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a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字方塊 49"/>
          <p:cNvSpPr/>
          <p:nvPr/>
        </p:nvSpPr>
        <p:spPr>
          <a:xfrm>
            <a:off x="6626160" y="14288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mp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字方塊 82"/>
          <p:cNvSpPr/>
          <p:nvPr/>
        </p:nvSpPr>
        <p:spPr>
          <a:xfrm>
            <a:off x="1606680" y="305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288-B7C1-401A-A68A-2231531F70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62"/>
          <p:cNvSpPr/>
          <p:nvPr/>
        </p:nvSpPr>
        <p:spPr>
          <a:xfrm>
            <a:off x="71280" y="5083200"/>
            <a:ext cx="47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        +        +         +        )x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51"/>
          <p:cNvSpPr/>
          <p:nvPr/>
        </p:nvSpPr>
        <p:spPr>
          <a:xfrm>
            <a:off x="671400" y="44578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        +        )x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2"/>
          <p:cNvSpPr/>
          <p:nvPr/>
        </p:nvSpPr>
        <p:spPr>
          <a:xfrm>
            <a:off x="1143000" y="4375080"/>
            <a:ext cx="576360" cy="6033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2"/>
          <p:cNvSpPr/>
          <p:nvPr/>
        </p:nvSpPr>
        <p:spPr>
          <a:xfrm>
            <a:off x="2019240" y="4375080"/>
            <a:ext cx="576360" cy="6033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52"/>
          <p:cNvSpPr/>
          <p:nvPr/>
        </p:nvSpPr>
        <p:spPr>
          <a:xfrm>
            <a:off x="71280" y="4375080"/>
            <a:ext cx="576360" cy="6033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2"/>
          <p:cNvSpPr/>
          <p:nvPr/>
        </p:nvSpPr>
        <p:spPr>
          <a:xfrm>
            <a:off x="533520" y="5045040"/>
            <a:ext cx="57600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2"/>
          <p:cNvSpPr/>
          <p:nvPr/>
        </p:nvSpPr>
        <p:spPr>
          <a:xfrm>
            <a:off x="139068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2"/>
          <p:cNvSpPr/>
          <p:nvPr/>
        </p:nvSpPr>
        <p:spPr>
          <a:xfrm>
            <a:off x="231444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2"/>
          <p:cNvSpPr/>
          <p:nvPr/>
        </p:nvSpPr>
        <p:spPr>
          <a:xfrm>
            <a:off x="3171960" y="5045040"/>
            <a:ext cx="57600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字方塊 62"/>
          <p:cNvSpPr/>
          <p:nvPr/>
        </p:nvSpPr>
        <p:spPr>
          <a:xfrm>
            <a:off x="4714920" y="5083200"/>
            <a:ext cx="47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        +        +         +        )x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字方塊 51"/>
          <p:cNvSpPr/>
          <p:nvPr/>
        </p:nvSpPr>
        <p:spPr>
          <a:xfrm>
            <a:off x="5479920" y="44578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x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2"/>
          <p:cNvSpPr/>
          <p:nvPr/>
        </p:nvSpPr>
        <p:spPr>
          <a:xfrm>
            <a:off x="5951520" y="4375080"/>
            <a:ext cx="576360" cy="6033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2"/>
          <p:cNvSpPr/>
          <p:nvPr/>
        </p:nvSpPr>
        <p:spPr>
          <a:xfrm>
            <a:off x="4879800" y="4375080"/>
            <a:ext cx="576360" cy="6033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52"/>
          <p:cNvSpPr/>
          <p:nvPr/>
        </p:nvSpPr>
        <p:spPr>
          <a:xfrm>
            <a:off x="517680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2"/>
          <p:cNvSpPr/>
          <p:nvPr/>
        </p:nvSpPr>
        <p:spPr>
          <a:xfrm>
            <a:off x="603396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2"/>
          <p:cNvSpPr/>
          <p:nvPr/>
        </p:nvSpPr>
        <p:spPr>
          <a:xfrm>
            <a:off x="695808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2"/>
          <p:cNvSpPr/>
          <p:nvPr/>
        </p:nvSpPr>
        <p:spPr>
          <a:xfrm>
            <a:off x="7815240" y="504504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7"/>
          <p:cNvSpPr/>
          <p:nvPr/>
        </p:nvSpPr>
        <p:spPr>
          <a:xfrm>
            <a:off x="3564000" y="2013120"/>
            <a:ext cx="574560" cy="576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字方塊 82"/>
          <p:cNvSpPr/>
          <p:nvPr/>
        </p:nvSpPr>
        <p:spPr>
          <a:xfrm>
            <a:off x="3486240" y="21542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notes the prediction of current PU with MI of block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VD_DIRECT_LU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F73-A91E-45BE-8FAC-8CFEBF0705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1004760" y="207648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7"/>
          <p:cNvSpPr/>
          <p:nvPr/>
        </p:nvSpPr>
        <p:spPr>
          <a:xfrm>
            <a:off x="1581120" y="207648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"/>
          <p:cNvSpPr/>
          <p:nvPr/>
        </p:nvSpPr>
        <p:spPr>
          <a:xfrm>
            <a:off x="2157480" y="207648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2733840" y="2076480"/>
            <a:ext cx="5745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0"/>
          <p:cNvSpPr/>
          <p:nvPr/>
        </p:nvSpPr>
        <p:spPr>
          <a:xfrm>
            <a:off x="1004760" y="2652840"/>
            <a:ext cx="57636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1581120" y="2652840"/>
            <a:ext cx="57636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2157480" y="2652840"/>
            <a:ext cx="576360" cy="57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2733840" y="2652840"/>
            <a:ext cx="57456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1004760" y="322740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1581120" y="322740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2157480" y="322740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2733840" y="3227400"/>
            <a:ext cx="5745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1004760" y="380376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1581120" y="380376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0"/>
          <p:cNvSpPr/>
          <p:nvPr/>
        </p:nvSpPr>
        <p:spPr>
          <a:xfrm>
            <a:off x="2157480" y="380376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2733840" y="3803760"/>
            <a:ext cx="5745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2"/>
          <p:cNvSpPr/>
          <p:nvPr/>
        </p:nvSpPr>
        <p:spPr>
          <a:xfrm>
            <a:off x="428760" y="2076480"/>
            <a:ext cx="57600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3"/>
          <p:cNvSpPr/>
          <p:nvPr/>
        </p:nvSpPr>
        <p:spPr>
          <a:xfrm>
            <a:off x="428760" y="2652840"/>
            <a:ext cx="576000" cy="5745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4"/>
          <p:cNvSpPr/>
          <p:nvPr/>
        </p:nvSpPr>
        <p:spPr>
          <a:xfrm>
            <a:off x="428760" y="3227400"/>
            <a:ext cx="57600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5"/>
          <p:cNvSpPr/>
          <p:nvPr/>
        </p:nvSpPr>
        <p:spPr>
          <a:xfrm>
            <a:off x="7201080" y="1500120"/>
            <a:ext cx="57600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6"/>
          <p:cNvSpPr/>
          <p:nvPr/>
        </p:nvSpPr>
        <p:spPr>
          <a:xfrm>
            <a:off x="7777080" y="1500120"/>
            <a:ext cx="576360" cy="5763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7"/>
          <p:cNvSpPr/>
          <p:nvPr/>
        </p:nvSpPr>
        <p:spPr>
          <a:xfrm>
            <a:off x="8353440" y="1500120"/>
            <a:ext cx="576360" cy="576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8"/>
          <p:cNvSpPr/>
          <p:nvPr/>
        </p:nvSpPr>
        <p:spPr>
          <a:xfrm>
            <a:off x="1004760" y="2076480"/>
            <a:ext cx="2303640" cy="23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9"/>
          <p:cNvSpPr/>
          <p:nvPr/>
        </p:nvSpPr>
        <p:spPr>
          <a:xfrm>
            <a:off x="6626160" y="207648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0"/>
          <p:cNvSpPr/>
          <p:nvPr/>
        </p:nvSpPr>
        <p:spPr>
          <a:xfrm>
            <a:off x="7201080" y="207648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2"/>
          <p:cNvSpPr/>
          <p:nvPr/>
        </p:nvSpPr>
        <p:spPr>
          <a:xfrm>
            <a:off x="8353440" y="207648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3"/>
          <p:cNvSpPr/>
          <p:nvPr/>
        </p:nvSpPr>
        <p:spPr>
          <a:xfrm>
            <a:off x="6626160" y="2652840"/>
            <a:ext cx="57492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6626160" y="3227400"/>
            <a:ext cx="5749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8"/>
          <p:cNvSpPr/>
          <p:nvPr/>
        </p:nvSpPr>
        <p:spPr>
          <a:xfrm>
            <a:off x="7201080" y="3227400"/>
            <a:ext cx="57600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0"/>
          <p:cNvSpPr/>
          <p:nvPr/>
        </p:nvSpPr>
        <p:spPr>
          <a:xfrm>
            <a:off x="8353440" y="322740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1"/>
          <p:cNvSpPr/>
          <p:nvPr/>
        </p:nvSpPr>
        <p:spPr>
          <a:xfrm>
            <a:off x="6626160" y="3803760"/>
            <a:ext cx="57492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2"/>
          <p:cNvSpPr/>
          <p:nvPr/>
        </p:nvSpPr>
        <p:spPr>
          <a:xfrm>
            <a:off x="7201080" y="3803760"/>
            <a:ext cx="57600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3"/>
          <p:cNvSpPr/>
          <p:nvPr/>
        </p:nvSpPr>
        <p:spPr>
          <a:xfrm>
            <a:off x="7777080" y="380376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4"/>
          <p:cNvSpPr/>
          <p:nvPr/>
        </p:nvSpPr>
        <p:spPr>
          <a:xfrm>
            <a:off x="8353440" y="3803760"/>
            <a:ext cx="576360" cy="57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字方塊 48"/>
          <p:cNvSpPr/>
          <p:nvPr/>
        </p:nvSpPr>
        <p:spPr>
          <a:xfrm>
            <a:off x="1004760" y="1500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字方塊 49"/>
          <p:cNvSpPr/>
          <p:nvPr/>
        </p:nvSpPr>
        <p:spPr>
          <a:xfrm>
            <a:off x="5184720" y="15001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8"/>
          <p:cNvSpPr/>
          <p:nvPr/>
        </p:nvSpPr>
        <p:spPr>
          <a:xfrm>
            <a:off x="7777080" y="207648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9"/>
          <p:cNvSpPr/>
          <p:nvPr/>
        </p:nvSpPr>
        <p:spPr>
          <a:xfrm>
            <a:off x="7201080" y="2652840"/>
            <a:ext cx="57600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0"/>
          <p:cNvSpPr/>
          <p:nvPr/>
        </p:nvSpPr>
        <p:spPr>
          <a:xfrm>
            <a:off x="7777080" y="2652840"/>
            <a:ext cx="576360" cy="57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4"/>
          <p:cNvSpPr/>
          <p:nvPr/>
        </p:nvSpPr>
        <p:spPr>
          <a:xfrm>
            <a:off x="8353440" y="2652840"/>
            <a:ext cx="576360" cy="574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0"/>
          <p:cNvSpPr/>
          <p:nvPr/>
        </p:nvSpPr>
        <p:spPr>
          <a:xfrm>
            <a:off x="7777080" y="3227400"/>
            <a:ext cx="57636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5"/>
          <p:cNvSpPr/>
          <p:nvPr/>
        </p:nvSpPr>
        <p:spPr>
          <a:xfrm>
            <a:off x="6626160" y="2076480"/>
            <a:ext cx="2303640" cy="2303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字方塊 46"/>
          <p:cNvSpPr/>
          <p:nvPr/>
        </p:nvSpPr>
        <p:spPr>
          <a:xfrm>
            <a:off x="1004760" y="390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字方塊 47"/>
          <p:cNvSpPr/>
          <p:nvPr/>
        </p:nvSpPr>
        <p:spPr>
          <a:xfrm>
            <a:off x="6626160" y="390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字方塊 62"/>
          <p:cNvSpPr/>
          <p:nvPr/>
        </p:nvSpPr>
        <p:spPr>
          <a:xfrm>
            <a:off x="1577880" y="515448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        +        )x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字方塊 51"/>
          <p:cNvSpPr/>
          <p:nvPr/>
        </p:nvSpPr>
        <p:spPr>
          <a:xfrm>
            <a:off x="1606680" y="45291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x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2"/>
          <p:cNvSpPr/>
          <p:nvPr/>
        </p:nvSpPr>
        <p:spPr>
          <a:xfrm>
            <a:off x="2077920" y="4446720"/>
            <a:ext cx="576360" cy="60300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2"/>
          <p:cNvSpPr/>
          <p:nvPr/>
        </p:nvSpPr>
        <p:spPr>
          <a:xfrm>
            <a:off x="1006560" y="4446720"/>
            <a:ext cx="576000" cy="60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2"/>
          <p:cNvSpPr/>
          <p:nvPr/>
        </p:nvSpPr>
        <p:spPr>
          <a:xfrm>
            <a:off x="2077920" y="5116680"/>
            <a:ext cx="576360" cy="603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52"/>
          <p:cNvSpPr/>
          <p:nvPr/>
        </p:nvSpPr>
        <p:spPr>
          <a:xfrm>
            <a:off x="2935440" y="5116680"/>
            <a:ext cx="576000" cy="603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字方塊 62"/>
          <p:cNvSpPr/>
          <p:nvPr/>
        </p:nvSpPr>
        <p:spPr>
          <a:xfrm>
            <a:off x="6154560" y="514836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        +        )x1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字方塊 51"/>
          <p:cNvSpPr/>
          <p:nvPr/>
        </p:nvSpPr>
        <p:spPr>
          <a:xfrm>
            <a:off x="6183360" y="452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x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2"/>
          <p:cNvSpPr/>
          <p:nvPr/>
        </p:nvSpPr>
        <p:spPr>
          <a:xfrm>
            <a:off x="6654960" y="4440240"/>
            <a:ext cx="576000" cy="603360"/>
          </a:xfrm>
          <a:prstGeom prst="rect">
            <a:avLst/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2"/>
          <p:cNvSpPr/>
          <p:nvPr/>
        </p:nvSpPr>
        <p:spPr>
          <a:xfrm>
            <a:off x="5583240" y="4440240"/>
            <a:ext cx="576360" cy="6033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2"/>
          <p:cNvSpPr/>
          <p:nvPr/>
        </p:nvSpPr>
        <p:spPr>
          <a:xfrm>
            <a:off x="6654960" y="5110200"/>
            <a:ext cx="57600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2"/>
          <p:cNvSpPr/>
          <p:nvPr/>
        </p:nvSpPr>
        <p:spPr>
          <a:xfrm>
            <a:off x="7512120" y="5110200"/>
            <a:ext cx="576360" cy="60336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字方塊 82"/>
          <p:cNvSpPr/>
          <p:nvPr/>
        </p:nvSpPr>
        <p:spPr>
          <a:xfrm>
            <a:off x="1600200" y="312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080" y="384120"/>
            <a:ext cx="8521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VD_TM vs A112 (RWTH Aachen Univ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boundary weighting in DMVD_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emplate shape in DMVD_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earc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itial search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ortion check to remove outliers in MHP after initial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but joint refinement in DMVD_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3FD6-8267-4310-9C2B-647BBCF4C0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MTK</dc:creator>
  <dc:description>Confidential A</dc:description>
  <cp:keywords>Confidential A</cp:keywords>
  <dc:language>en-US</dc:language>
  <cp:lastModifiedBy>mtk01054</cp:lastModifiedBy>
  <dcterms:modified xsi:type="dcterms:W3CDTF">2010-07-22T06:55:39Z</dcterms:modified>
  <cp:revision>1114</cp:revision>
  <dc:subject/>
  <dc:title>Title: Arial Bold 32pt</dc:title>
</cp:coreProperties>
</file>