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1F54-362B-48BA-92A4-1F1AF497E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01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4000" y="3935880"/>
            <a:ext cx="8001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6913-03FD-48AB-BC43-1D787FCF0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000" y="393588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3680" y="393588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A846-7BDE-4A30-8773-D36FD3FA1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9400" y="134136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800" y="134136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4000" y="393588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9400" y="393588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4800" y="393588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24D9-F5E0-4E17-8854-6307DE497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5640" y="404280"/>
            <a:ext cx="76802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4000" y="393588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E949-58BD-40C8-B611-CE7AE68B3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3680" y="393588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4000" y="3935880"/>
            <a:ext cx="8001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01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4000" y="3935880"/>
            <a:ext cx="8001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4000" y="393588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3680" y="393588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9400" y="134136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134136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4000" y="393588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9400" y="393588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3935880"/>
            <a:ext cx="25761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D246-D1D9-4015-BDE6-95277BC03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75F0-452D-4830-A538-68E51BF38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BBA1-40B6-4196-97EC-2F3FEF64A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5640" y="404280"/>
            <a:ext cx="76802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1CC4-7DE9-481B-A694-31BC1F139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393588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9221-55C8-4456-9DA7-0257FC7FF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3680" y="393588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443A-FCA4-45C7-ACA0-1682E3A8A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3680" y="1341360"/>
            <a:ext cx="39042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000" y="3935880"/>
            <a:ext cx="8001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A7AB-17C5-48A9-887A-FC5EDAE30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5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00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8" descr=""/>
          <p:cNvPicPr/>
          <p:nvPr/>
        </p:nvPicPr>
        <p:blipFill>
          <a:blip r:embed="rId2"/>
          <a:stretch/>
        </p:blipFill>
        <p:spPr>
          <a:xfrm>
            <a:off x="0" y="0"/>
            <a:ext cx="611280" cy="3142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9"/>
          <p:cNvSpPr/>
          <p:nvPr/>
        </p:nvSpPr>
        <p:spPr>
          <a:xfrm>
            <a:off x="611280" y="44280"/>
            <a:ext cx="30956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Beijing University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Object 40"/>
          <p:cNvGraphicFramePr/>
          <p:nvPr/>
        </p:nvGraphicFramePr>
        <p:xfrm>
          <a:off x="0" y="333360"/>
          <a:ext cx="5867280" cy="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3360"/>
                    <a:ext cx="5867280" cy="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" name="Object 42"/>
          <p:cNvGraphicFramePr/>
          <p:nvPr/>
        </p:nvGraphicFramePr>
        <p:xfrm>
          <a:off x="6624720" y="0"/>
          <a:ext cx="251928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" name="Object 4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4720" y="0"/>
                    <a:ext cx="2519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9019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7ED9-BADB-462D-B117-934BBAFE0344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304920" y="1828800"/>
            <a:ext cx="8457840" cy="4572000"/>
            <a:chOff x="304920" y="1828800"/>
            <a:chExt cx="8457840" cy="4572000"/>
          </a:xfrm>
        </p:grpSpPr>
        <p:sp>
          <p:nvSpPr>
            <p:cNvPr id="47" name="Rectangle 10"/>
            <p:cNvSpPr/>
            <p:nvPr/>
          </p:nvSpPr>
          <p:spPr>
            <a:xfrm>
              <a:off x="8688240" y="1828800"/>
              <a:ext cx="74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8388720" y="2171520"/>
              <a:ext cx="74880" cy="422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8089200" y="2514600"/>
              <a:ext cx="74880" cy="388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7790040" y="2800080"/>
              <a:ext cx="74520" cy="360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7490520" y="3085920"/>
              <a:ext cx="74880" cy="331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7191000" y="3143160"/>
              <a:ext cx="74880" cy="3257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6891840" y="3257280"/>
              <a:ext cx="74520" cy="314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6592320" y="3543120"/>
              <a:ext cx="74880" cy="285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6292800" y="3771720"/>
              <a:ext cx="74880" cy="2629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993640" y="3943080"/>
              <a:ext cx="74520" cy="2457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5694120" y="4171680"/>
              <a:ext cx="74880" cy="22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5394600" y="4343400"/>
              <a:ext cx="74880" cy="2057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5095440" y="4514760"/>
              <a:ext cx="74520" cy="188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4795920" y="4686120"/>
              <a:ext cx="74880" cy="1714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4496400" y="4800240"/>
              <a:ext cx="7488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4197240" y="4914720"/>
              <a:ext cx="74520" cy="148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3897720" y="5029200"/>
              <a:ext cx="74880" cy="137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3598200" y="5143320"/>
              <a:ext cx="74880" cy="125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3299040" y="5257800"/>
              <a:ext cx="74520" cy="114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2999520" y="5314680"/>
              <a:ext cx="74880" cy="1085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0"/>
            <p:cNvSpPr/>
            <p:nvPr/>
          </p:nvSpPr>
          <p:spPr>
            <a:xfrm>
              <a:off x="2700000" y="5429160"/>
              <a:ext cx="74880" cy="9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1"/>
            <p:cNvSpPr/>
            <p:nvPr/>
          </p:nvSpPr>
          <p:spPr>
            <a:xfrm>
              <a:off x="2400840" y="5543280"/>
              <a:ext cx="74520" cy="857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2101320" y="5600520"/>
              <a:ext cx="74880" cy="799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3"/>
            <p:cNvSpPr/>
            <p:nvPr/>
          </p:nvSpPr>
          <p:spPr>
            <a:xfrm>
              <a:off x="1801800" y="5715000"/>
              <a:ext cx="7488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4"/>
            <p:cNvSpPr/>
            <p:nvPr/>
          </p:nvSpPr>
          <p:spPr>
            <a:xfrm>
              <a:off x="1502640" y="5715000"/>
              <a:ext cx="7452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5"/>
            <p:cNvSpPr/>
            <p:nvPr/>
          </p:nvSpPr>
          <p:spPr>
            <a:xfrm>
              <a:off x="1203120" y="5772240"/>
              <a:ext cx="74880" cy="62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"/>
            <p:cNvSpPr/>
            <p:nvPr/>
          </p:nvSpPr>
          <p:spPr>
            <a:xfrm flipH="1">
              <a:off x="903600" y="5829120"/>
              <a:ext cx="74880" cy="56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7"/>
            <p:cNvSpPr/>
            <p:nvPr/>
          </p:nvSpPr>
          <p:spPr>
            <a:xfrm flipH="1">
              <a:off x="603720" y="5886360"/>
              <a:ext cx="74520" cy="509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0099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8"/>
            <p:cNvSpPr/>
            <p:nvPr/>
          </p:nvSpPr>
          <p:spPr>
            <a:xfrm flipH="1">
              <a:off x="304920" y="5886360"/>
              <a:ext cx="74880" cy="509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39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00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611280" y="5137200"/>
            <a:ext cx="76960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1539720" y="5452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10-7-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0" descr=""/>
          <p:cNvPicPr/>
          <p:nvPr/>
        </p:nvPicPr>
        <p:blipFill>
          <a:blip r:embed="rId2"/>
          <a:stretch/>
        </p:blipFill>
        <p:spPr>
          <a:xfrm>
            <a:off x="0" y="0"/>
            <a:ext cx="611280" cy="314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1"/>
          <p:cNvSpPr/>
          <p:nvPr/>
        </p:nvSpPr>
        <p:spPr>
          <a:xfrm>
            <a:off x="539640" y="0"/>
            <a:ext cx="2895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Beijing University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52"/>
          <p:cNvGraphicFramePr/>
          <p:nvPr/>
        </p:nvGraphicFramePr>
        <p:xfrm>
          <a:off x="0" y="333360"/>
          <a:ext cx="5867280" cy="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3360"/>
                    <a:ext cx="5867280" cy="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3"/>
          <p:cNvGraphicFramePr/>
          <p:nvPr/>
        </p:nvGraphicFramePr>
        <p:xfrm>
          <a:off x="6624720" y="0"/>
          <a:ext cx="251928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4720" y="0"/>
                    <a:ext cx="2519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B07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Mode Dependent Directional Trans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Ding, Y. Shi and B. Y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jing Univ.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M11.0/KTA2.4, High Profile, I Frame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 = 22, 27,32,28,4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AC, RDO, MD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A, B, C, D and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 matrix for mode 0 and row matrix for mode 1 is not simpl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1F9F-6B63-4147-88F3-F254E399CBD5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F936-D648-4BEB-AE1B-3132F9A70E20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415800"/>
          <a:ext cx="7991280" cy="6181920"/>
        </p:xfrm>
        <a:graphic>
          <a:graphicData uri="http://schemas.openxmlformats.org/drawingml/2006/table">
            <a:tbl>
              <a:tblPr/>
              <a:tblGrid>
                <a:gridCol w="2103120"/>
                <a:gridCol w="2105280"/>
                <a:gridCol w="1890720"/>
                <a:gridCol w="1892160"/>
              </a:tblGrid>
              <a:tr h="325440"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equ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DRate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DPSNR(d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27240">
                <a:tc rowSpan="5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owingBub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2240"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26880">
                <a:tc rowSpan="5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y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1880"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1880">
                <a:tc rowSpan="4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2240"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6880">
                <a:tc rowSpan="6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Ter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c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imon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k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2240"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25440">
                <a:tc rowSpan="3"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opleO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af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2640" rIns="6264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Efficiency Compari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4A76-2446-411A-BC0F-B7C130A0D107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hart 1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2010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scheme approximate the MDDT  matrices using butterfl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scheme reduces the complexity without big coding efficien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2DFF-51A9-42F4-A007-58A899901FFE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63AD-3EE8-4738-AAFE-3B45B4C0E0CD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MDDT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EE6F-6E98-48A5-B2BE-754DC2D39B54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D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 Dependent Directional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transform matrices for 8x8 and 4x4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transform matrices for 16x16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gonal transform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ast transform algorithms without approx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6FF8-9615-411F-AF2C-5D41E630BEB8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DT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, V can be derived by approximating MDDT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is a reordering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CF86-00D2-45E7-B40E-1595796817E7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2340000" y="2133720"/>
                <a:ext cx="46180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DT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65BC-450D-436E-B1BF-461226B9CF7B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6"/>
          <p:cNvGraphicFramePr/>
          <p:nvPr/>
        </p:nvGraphicFramePr>
        <p:xfrm>
          <a:off x="1835280" y="2060640"/>
          <a:ext cx="54514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060640"/>
                    <a:ext cx="54514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ation of U, 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, V can be derived from      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CB44-F6A3-4F4B-A3FC-D5C80F3AC6C6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1258920" y="1989000"/>
                <a:ext cx="5535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508720" y="1484280"/>
                <a:ext cx="431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6659640" y="1484280"/>
                <a:ext cx="433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, V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, V can be factored into combining of plane ro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85B2-9FB2-404D-9C09-E39DE2EB3B7F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908000" y="2276640"/>
          <a:ext cx="3673800" cy="19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3673800" cy="19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, V by lifting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00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ane rotations can be implemented  using lifting st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4327-7E56-4A36-83E8-95EAEA2A73C8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5"/>
          <p:cNvGraphicFramePr/>
          <p:nvPr/>
        </p:nvGraphicFramePr>
        <p:xfrm>
          <a:off x="1739880" y="2879640"/>
          <a:ext cx="520848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2879640"/>
                    <a:ext cx="520848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8024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 Compari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73360"/>
          <a:ext cx="8280360" cy="3959280"/>
        </p:xfrm>
        <a:graphic>
          <a:graphicData uri="http://schemas.openxmlformats.org/drawingml/2006/table">
            <a:tbl>
              <a:tblPr/>
              <a:tblGrid>
                <a:gridCol w="1654200"/>
                <a:gridCol w="1657440"/>
                <a:gridCol w="1655640"/>
                <a:gridCol w="1657440"/>
                <a:gridCol w="1655640"/>
              </a:tblGrid>
              <a:tr h="7268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4x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8x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l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l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2510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DD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252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ST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sp>
        <p:nvSpPr>
          <p:cNvPr id="164" name="Slide Number Placeholder 3"/>
          <p:cNvSpPr/>
          <p:nvPr/>
        </p:nvSpPr>
        <p:spPr>
          <a:xfrm>
            <a:off x="69022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6B0-4E53-4625-B65E-942724F5298A}" type="slidenum"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4:33:12Z</dcterms:created>
  <dc:creator>xf</dc:creator>
  <dc:description/>
  <dc:language>en-US</dc:language>
  <cp:lastModifiedBy>wpding</cp:lastModifiedBy>
  <cp:lastPrinted>2001-12-06T03:03:50Z</cp:lastPrinted>
  <dcterms:modified xsi:type="dcterms:W3CDTF">2010-07-22T12:07:20Z</dcterms:modified>
  <cp:revision>1422</cp:revision>
  <dc:subject/>
  <dc:title>面向中国手语播报的 数据压缩与视频编码方法研究</dc:title>
</cp:coreProperties>
</file>