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1C8-D0AD-4DD2-93EF-9220148C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B7E-F116-42DC-A3B7-6E0DAAE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F2C-76D0-4888-AB06-8173102A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983-3F4C-4187-A1C6-A4745284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CC22-F98B-4BDA-AE67-60E6915F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5A67-5435-4780-A97A-37CF6966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23E6-4D2D-4920-9D4A-7F29C75A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31B7-A664-4ACC-B01C-5EBC039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A09-BF72-4471-9392-329ABDD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0D13-BE1A-466D-80AE-FF71857B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1808-1AF9-4F44-8061-E075017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28D-F93F-4718-AA1B-4CCB5AD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BA88-94D2-4A1D-85BA-963E7DD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5AC6-D39A-4433-AA1B-13DC370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E8B9-7B19-42C9-9F9E-881F2C5E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589C-9094-4521-A6AB-DD0B90B2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5B7-EDF2-4067-8DD2-8B0F1D4F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AFF7-0D27-4101-B478-77243381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48E0-E029-4253-A52C-36F5631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4170-E94A-4A7F-B085-2D99F1A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10D1-E192-4A1C-933C-D8FB77F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8092-7089-48CB-9E5D-79214B26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3B7-EBCA-4F49-ABF8-0220A35C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369C-FBF1-4084-9E8C-9B312DE4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A0E7-F9A0-4DEE-BB71-24C8D06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7E24-0486-4A02-9025-B58AD94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3ABB-FC8A-4E6F-A590-F3D750E9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6F60A-A09E-477C-8BE2-D07F694F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DD91-AE03-485B-AF50-810571E5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1B94-D550-478B-86A3-7AC5D5C7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5582-ECB6-4AB7-B996-734FCB62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7581-C81A-4A49-BF3D-56C6EEC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D90C-42FC-40FB-98D5-1296069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E3B-AC45-4C7C-BE99-F078F2B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971C2-39B4-4579-869B-E952A72C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29C6E-83EC-473E-9551-3469CAEC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1AF5-0554-466B-A06A-AF7006F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3838-2F76-4478-AE69-788FCC2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2934-5D1D-4FD2-8F46-45A3944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4417-7077-43AD-A1DA-91E1698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DD64-DDFE-463B-8C3C-286F6F15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6521-2C55-4829-8FB4-646DEB58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DEAF-786D-44C9-A76B-DC89CCF0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352D-3773-45D3-96C4-07E2C2FC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75E-5A82-4C3F-B989-5B037FA4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B43A-5CE7-4707-8CF7-F96047E6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25AC-3C15-429B-9B6D-17D52E46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F4D0F-A7C7-445B-9BA6-FD25EBD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91A6-7C39-4F29-AAFF-54D32B5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43E4-79EA-4DDA-BF62-0FA4DD8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48BF6-37A8-4B56-BA9C-2613A1A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2939-9B62-4AC6-B555-019E2110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C884-9DEB-40D7-B6EC-6702EFE7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D76B-B808-4AD5-BD57-43D25E8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27D3-A11F-4CC1-9080-0CEB7A9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676-9180-4049-85E1-81C6D21F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7638-C664-4219-831D-FB9108C8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878-33BA-42C7-A7B9-93E80C2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DA7-B892-4819-8F61-83AB21C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7CD-5E4E-4BE6-B72F-6F07BEB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364-41F7-4EFD-B206-44633F28DB7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9664-DF2E-4E81-B346-65932196773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7E6-8E60-4C26-BB26-F483D86AA42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A008-C15E-4DDA-9B9B-77646E42ED5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5AC-9B13-44CA-8C56-EE8B020A7AE4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194-B596-46FC-A5E3-8A80C445A047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043C-C21B-47BE-B8C8-04DB9854189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5243-0D47-4C41-8670-79EBFE641F5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E605-A075-40AD-A608-5E9A4631BDD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40A-6904-4AF2-B322-9C8BA012647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ou@ti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-picture based raster scanning coding order for HEVC UHD video coding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000" y="4344840"/>
            <a:ext cx="84582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nhua Zhou 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zhou@ti.co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33320" y="31230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VTVC-B0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D8E-23D8-4273-BFD7-5A36920E2C9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BD8E5AA-F0F7-4394-9F16-FDB27253FE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9121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1600" y="1185480"/>
            <a:ext cx="8509320" cy="70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VC will support UHD (8K x 4K or even higher) vide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size increase goes much faster than DDR bandwidth and on-chip memory size increase that can be af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constraints of memory bandwidth and on-chip mem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hallenges for achieving high quality for UHD video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option of improving video quality under the constrained memory bandwidth and on-chip memory siz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1A9-DF5B-4EA1-A18B-93CF66A415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ECF77-AD0E-427E-9D44-E35649658C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owing Windo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6520"/>
            <a:ext cx="213372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2576520"/>
            <a:ext cx="213372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50800" y="19810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3280" y="2043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90720" y="4952880"/>
                <a:ext cx="5943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mSiz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rY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picWid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90720" y="5424480"/>
            <a:ext cx="68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rY is vertical search range, N x N is MB size, picWidth is horizontal pictur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6080" y="2499480"/>
            <a:ext cx="5483880" cy="950760"/>
            <a:chOff x="766080" y="2499480"/>
            <a:chExt cx="5483880" cy="950760"/>
          </a:xfrm>
        </p:grpSpPr>
        <p:grpSp>
          <p:nvGrpSpPr>
            <p:cNvPr id="233" name=""/>
            <p:cNvGrpSpPr/>
            <p:nvPr/>
          </p:nvGrpSpPr>
          <p:grpSpPr>
            <a:xfrm>
              <a:off x="1380960" y="2576520"/>
              <a:ext cx="4869000" cy="712800"/>
              <a:chOff x="1380960" y="2576520"/>
              <a:chExt cx="4869000" cy="712800"/>
            </a:xfrm>
          </p:grpSpPr>
          <p:sp>
            <p:nvSpPr>
              <p:cNvPr id="234" name=""/>
              <p:cNvSpPr/>
              <p:nvPr/>
            </p:nvSpPr>
            <p:spPr>
              <a:xfrm>
                <a:off x="1380960" y="28141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80960" y="30517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80960" y="25765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3400" y="269496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2280" y="2814120"/>
                <a:ext cx="2137680" cy="2376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68680" y="281412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2211840" y="2814120"/>
                <a:ext cx="237492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152360" y="257652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6080" y="2499480"/>
              <a:ext cx="4546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*srY+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66080" y="2728080"/>
            <a:ext cx="5483880" cy="950760"/>
            <a:chOff x="766080" y="2728080"/>
            <a:chExt cx="5483880" cy="950760"/>
          </a:xfrm>
        </p:grpSpPr>
        <p:grpSp>
          <p:nvGrpSpPr>
            <p:cNvPr id="244" name=""/>
            <p:cNvGrpSpPr/>
            <p:nvPr/>
          </p:nvGrpSpPr>
          <p:grpSpPr>
            <a:xfrm>
              <a:off x="1380960" y="2805120"/>
              <a:ext cx="4869000" cy="712800"/>
              <a:chOff x="1380960" y="2805120"/>
              <a:chExt cx="4869000" cy="712800"/>
            </a:xfrm>
          </p:grpSpPr>
          <p:sp>
            <p:nvSpPr>
              <p:cNvPr id="245" name=""/>
              <p:cNvSpPr/>
              <p:nvPr/>
            </p:nvSpPr>
            <p:spPr>
              <a:xfrm>
                <a:off x="1380960" y="30427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80960" y="32803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80960" y="28051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93400" y="292356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12280" y="3042720"/>
                <a:ext cx="2137680" cy="2376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68680" y="304272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2211840" y="3042720"/>
                <a:ext cx="237492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152360" y="280512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6080" y="2728080"/>
              <a:ext cx="4546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*srY+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080" y="2956680"/>
            <a:ext cx="5483880" cy="950760"/>
            <a:chOff x="766080" y="2956680"/>
            <a:chExt cx="5483880" cy="950760"/>
          </a:xfrm>
        </p:grpSpPr>
        <p:grpSp>
          <p:nvGrpSpPr>
            <p:cNvPr id="255" name=""/>
            <p:cNvGrpSpPr/>
            <p:nvPr/>
          </p:nvGrpSpPr>
          <p:grpSpPr>
            <a:xfrm>
              <a:off x="1380960" y="3033720"/>
              <a:ext cx="4869000" cy="712800"/>
              <a:chOff x="1380960" y="3033720"/>
              <a:chExt cx="4869000" cy="712800"/>
            </a:xfrm>
          </p:grpSpPr>
          <p:sp>
            <p:nvSpPr>
              <p:cNvPr id="256" name=""/>
              <p:cNvSpPr/>
              <p:nvPr/>
            </p:nvSpPr>
            <p:spPr>
              <a:xfrm>
                <a:off x="1380960" y="32713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80960" y="35089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80960" y="3033720"/>
                <a:ext cx="2137680" cy="23760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3400" y="315216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12280" y="3271320"/>
                <a:ext cx="2137680" cy="23760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68680" y="3271320"/>
                <a:ext cx="234720" cy="238320"/>
              </a:xfrm>
              <a:prstGeom prst="rect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2211840" y="3271320"/>
                <a:ext cx="237492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152360" y="303372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6080" y="2956680"/>
              <a:ext cx="4546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*srY+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73560" y="888840"/>
            <a:ext cx="732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d memory bandwidth usage for ME &amp;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mited horizontal search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on-chip memory required for buffering search wind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3E3-2CFC-4037-B210-451CCD73C16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D3A97-8222-491F-AFAD-2F665B2D16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9121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b-picture raster scanning order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19320" y="1219320"/>
          <a:ext cx="617220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17220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CB8-E8C7-4A46-8F59-A63CFB4F969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10361-626C-4829-8A14-8A513A6A03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 size w/ sub-picture partition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76440" y="990720"/>
                <a:ext cx="7775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mSiz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rY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cWidth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srX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m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2743200"/>
          <a:ext cx="8381880" cy="3203640"/>
        </p:xfrm>
        <a:graphic>
          <a:graphicData uri="http://schemas.openxmlformats.org/drawingml/2006/table">
            <a:tbl>
              <a:tblPr/>
              <a:tblGrid>
                <a:gridCol w="981000"/>
                <a:gridCol w="981000"/>
                <a:gridCol w="981360"/>
                <a:gridCol w="981360"/>
                <a:gridCol w="1058040"/>
                <a:gridCol w="1059480"/>
                <a:gridCol w="1169280"/>
                <a:gridCol w="117036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ic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mSize (by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-chip memory size reduction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mory bandwidth increas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423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59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6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71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27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20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4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3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7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0" y="50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85800" y="1752480"/>
                <a:ext cx="5638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mBandWidthIncrea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sr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icWidth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8B4-9297-4FA5-9859-317D38FC852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C29D6-83BD-4FFC-9A77-67FEDBEBAF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9121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acteristics of sub-picture coding order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1600" y="1185480"/>
            <a:ext cx="8509320" cy="70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more generic coding order, and can be signaled in SPS or 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ictures can belong to a same slice (different from F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p to users for seeking balance between horizontal and vertical search range for given on-chip memory bud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pictures shall be aligned on LCU boundary and evenly divided along the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ight not be suited for ultra low–delay video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loss expected (to be tes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0DC-B9B3-4140-B4D5-79F238FAB1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C10F7-2F41-4786-8BF9-FADB3DDAF3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198101</cp:lastModifiedBy>
  <dcterms:modified xsi:type="dcterms:W3CDTF">2010-07-24T14:28:09Z</dcterms:modified>
  <cp:revision>140</cp:revision>
  <dc:subject/>
  <dc:title>Presentation Title Here</dc:title>
</cp:coreProperties>
</file>