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724-E777-49C6-A0C5-9CFC4919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A9F-82D2-4D95-8C01-5262A741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D8B-C732-48D9-98AA-00BF0E5A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E00-E712-4011-84CF-CC6F9BB5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B8DD-E77E-4BFB-9316-3DE31687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CFB9-D2CA-456D-A5A8-83D6E37F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CF4C-D1ED-41C8-95B9-7E499640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F1E1-C025-4DF7-A256-516CDF00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1CC-6C6A-4120-BEB6-5EC69F66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F379-F5B2-49F3-B6F8-CDAA60EA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3B0A-05F8-4C3F-BDEE-692421E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20D-6DB9-45E2-BAF2-5630E1BA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BEEB-B313-43FC-9556-16B32D1F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1AB0-1AA7-4404-B33F-4B8218A2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0960-FF34-4DDD-9FF2-90375F92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C501-D403-43B2-A16D-0F7305C0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FD77-9BE5-4A5C-9B3F-37C87347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CD8D3-38BB-43A0-B837-7991C182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2839-49D2-4820-BAD0-953588A6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A635-75F3-4B62-A5FF-6B0EE5E5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8660-2B47-4D1C-B63D-86D0BE78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14E53-289A-456A-AA17-C0DEC23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AE8-CAA0-48D3-A14B-9F5561D5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9601-71F8-4D51-B8C4-AF7119D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FFFC-3704-4D70-8956-EDD464D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F6D47-4951-4DD0-AE6E-E2F33C43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873A-91CF-4AFF-8E09-709A5773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AFF3-5711-441A-918B-D4F75EBF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32ED-3654-4C6F-AF85-6CE3939B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2F41-E994-412D-8939-478074BC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49F6-7BDB-4F7F-B974-BC7A0269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BA58-69D4-4A2A-BB42-3B9E9142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4F51-3A7E-4CED-9310-8E6BF193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924-87B6-4427-8AAC-A41CFC2E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8778-3291-4F60-8199-E599636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3E926-E1EF-44C9-A4D3-8B9CABF9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0B9C2-67A6-42B6-B552-DDDC98D7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6A686-1256-4701-894D-0AEF27E1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3AA5-F5F2-45F3-B79D-4ADD5B43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09C4-197C-4F3A-8025-81A3A234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24C9-6325-4114-9E0A-F9640805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B0A3-7CC3-4049-8575-0B240FDA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FE82-8D11-453D-94EA-12B2A930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53810-5642-428E-B084-AEDC3BE0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24C-068D-440A-BEDD-76ECCBE1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3C4B-52E5-43C7-9A26-605681A6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44E6-9D02-4E0B-8CA5-BDFC9526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A651-107B-44CA-8858-22B8B8C3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5643E-7E0E-4890-8954-E2A8315B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BD55-D273-40C7-BD2B-AA29AF3A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65BDB-9A4C-4C16-A150-5224D29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20878-A448-4E3A-9821-CBBCB105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1FC82-8767-470E-B397-02875120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8AF6-804F-4294-AD56-90F6FF66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3DF0D-8EDF-4176-A8AC-AB4857E4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194-A0C8-4A46-9F24-B201384B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A5B0-70E4-480B-98B6-DCBAC4E2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65E-9BAB-4C89-A7B0-B857CC6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656-958A-4999-B3CD-05B9830E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3D8-7EB3-4479-955E-333C6F3B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5680" y="60782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3277-1C3E-4D81-BED7-CBE2F7D411DC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CA9F-9A14-4137-954E-42312B6B73B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202E-6AA4-46A2-824B-DC56CC0B4DBE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B4EC-F9FC-4BD7-BCA2-8A92430F4CA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8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C79B-5DD4-4FC5-801C-C51F7A33DFE2}" type="datetime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468520" y="6038640"/>
            <a:ext cx="4159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F6B6-AE62-4459-AF21-B41217CEA841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D935-25D2-40B0-B62D-C491E15A04A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485800" y="6039000"/>
            <a:ext cx="4152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A60-210F-47FA-B358-D2329334455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FFF1-860C-431E-B026-34D0279F137D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486160" y="6039000"/>
            <a:ext cx="416376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89B9-36EB-4348-9C42-135183F9DAB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ou@ti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3000" y="8571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posed low complexity video encoder settings for HEVC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33000" y="3659040"/>
            <a:ext cx="84582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nhua Zhou (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zhou@ti.com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as Instruments Inc., U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69760" y="265320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VTVC-B0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04C8-0ADA-4C69-9216-C7F79E5C22A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9C74C7-B753-4A8C-8FCC-D1A07EB773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1840" y="142920"/>
            <a:ext cx="89121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w-Complexity Video Applic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5680" y="1185840"/>
            <a:ext cx="844560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 phones, camcorders, video surveillance and video conferencing applications have evolved into another major video market in recent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codecs serving this market sector are highly cost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ding efficiency at low encoder complexity is a key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A68-CE5C-47B9-A42F-D951286350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67B78-1793-4CA0-8C24-8CDEB3A2E3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ssons Learned from Past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5680" y="840960"/>
            <a:ext cx="8445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tools behave differently at high- and low encoder environments, gains observed in the high complexity modes often do not apply in the low-complexity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e code cannot be used for driving chip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options/modes oftentimes do not help improve video quality in low encoder complexity environments, but increase chip desig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stic” quality enhancement tools with no or little need of mode decision are preferred (e.g. CABAC, de-blocking fil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quality could be better if low-complexity encoder requirements can be considered during the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o market can be shortened if test data for low-complexity mode is readily available in the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ABF-F18E-4B04-903F-BCEA97C180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D1408-8A80-467F-9510-B0E40BA76F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1840" y="142920"/>
            <a:ext cx="871704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llenges and Opportuniti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36160" y="1185480"/>
            <a:ext cx="856476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s from “deterministic” tools such as entropy coding, in-loop de-blocking filter have been exhaust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quality gain heavily rely on more advanced design in inter-prediction, intra-prediction, adaptive block size transfor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test advanced tools (modes) in both high-complexity and low-complexity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coding efficiency gain over MPEG4 AVC/H.264 for a wide range of video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59F-6B1E-4770-9DF3-1C57E4CDDD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AA885-3781-4C1E-80B8-1BCA022695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142920"/>
            <a:ext cx="871704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sign Consider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014120"/>
            <a:ext cx="8564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memory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arch ranges, LCU sizes, transform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band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Number of reference frames, search range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Transform size in intra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r process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Motion estimation, intra prediction estimation, mod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CB3-4F84-4799-BFD0-8BC167AA45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1B65D-B334-4FDC-B0C9-9093035ABE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posed low-complexity encoder settings (1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55680" y="863640"/>
          <a:ext cx="8467560" cy="5424480"/>
        </p:xfrm>
        <a:graphic>
          <a:graphicData uri="http://schemas.openxmlformats.org/drawingml/2006/table">
            <a:tbl>
              <a:tblPr/>
              <a:tblGrid>
                <a:gridCol w="2334960"/>
                <a:gridCol w="1764000"/>
                <a:gridCol w="436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ame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ximum CU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 x 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is will effectively increase the on-chip memory requirement by 8x compared to the current MPEG4 AVC/H.264 design, a very challenging go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inimum PU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 x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ector block size less than 8x8 is hard to support on the encoder 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ansform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x8, 16x16, 32x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x4 and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level 4x4 DC transform may have throughput issues at UHD due to dependency in intra prediction; 64x64 transform is too expens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ansforms for intr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ansforms proposed for intra blocks need to be unified into a simpler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tion vector precis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¼ 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-complexity 1/8 pel vectors could be supported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arch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e search range is limited by on-chip memory size and available memory bandwid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lice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, P, B, HierP, Hie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reference frames for 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 the DPB buffer there can be more than 2 reference frames, but for coding the current P frame the encoder choose up to 2 reference fra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reference frames fo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 in each di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 the DPB buffer there can be multiple reference  frames, but for coding the current B frame the encoder choose the best reference frame in each di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ference picture re-order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113-1A22-4814-BAAD-7670208D69E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46040-D9C3-4981-A916-2555CFD27C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posed low-complexity encoder settings (2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33360" y="841320"/>
          <a:ext cx="8467920" cy="5243400"/>
        </p:xfrm>
        <a:graphic>
          <a:graphicData uri="http://schemas.openxmlformats.org/drawingml/2006/table">
            <a:tbl>
              <a:tblPr/>
              <a:tblGrid>
                <a:gridCol w="2243160"/>
                <a:gridCol w="1716120"/>
                <a:gridCol w="450864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amet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etting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mar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DelayMo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 and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low-delay and high-delay modes shall be supporte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ighted predi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BD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n 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bits increase, deterministic increase in complexity and coding efficiency; needs to determine value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based on complexity and coding efficiency trade-offs; memory bandwidth reduction needs to be considere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polation Filt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B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mall number of filter tap is preferred for saving memory bandwidth; needs to consider filter settings when IBDI is 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tropy co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BA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t can be replaced by v2v if the final design of v2v can provide intended throughput improve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blocking filt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f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mory bandwidth concer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DOQ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f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lexity is too high for low-complexity encoder desig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n, fast mo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implified cost metrics instead of brute force R + λ*D. Currently this feature is not addressed in the reference software [2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 partitioning for PUs and TU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st mo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ly this feature is not addressed in the reference software [2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5E6-4B46-4CAE-879D-E0F74CA84A5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91362-10E5-4426-93DB-C2D97AF127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>Eric Wand</dc:creator>
  <dc:description/>
  <dc:language>en-US</dc:language>
  <cp:lastModifiedBy>a0198101</cp:lastModifiedBy>
  <dcterms:modified xsi:type="dcterms:W3CDTF">2010-07-24T15:30:02Z</dcterms:modified>
  <cp:revision>132</cp:revision>
  <dc:subject/>
  <dc:title>Presentation Title Here</dc:title>
</cp:coreProperties>
</file>