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328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992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328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992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4680" y="-360"/>
            <a:ext cx="86184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328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992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9700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328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992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74680" y="-360"/>
            <a:ext cx="86184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415880" y="6588000"/>
            <a:ext cx="706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高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独立成分分析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TT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C:\Users\Aki\Desktop\Futter.jpg"/>
          <p:cNvPicPr/>
          <p:nvPr/>
        </p:nvPicPr>
        <p:blipFill>
          <a:blip r:embed="rId2"/>
          <a:stretch/>
        </p:blipFill>
        <p:spPr>
          <a:xfrm>
            <a:off x="1440" y="6416640"/>
            <a:ext cx="9144000" cy="4492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1060560" y="6578640"/>
            <a:ext cx="751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CTVC-B051                  Region-based adaptive interpolation filter                  S. Matsuo et 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C:\Users\Aki\Desktop\Back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nttlogo-ntt"/>
          <p:cNvPicPr/>
          <p:nvPr/>
        </p:nvPicPr>
        <p:blipFill>
          <a:blip r:embed="rId4"/>
          <a:stretch/>
        </p:blipFill>
        <p:spPr>
          <a:xfrm>
            <a:off x="349200" y="6550200"/>
            <a:ext cx="663480" cy="25848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5"/>
          <p:cNvSpPr/>
          <p:nvPr/>
        </p:nvSpPr>
        <p:spPr>
          <a:xfrm>
            <a:off x="8388360" y="6581880"/>
            <a:ext cx="774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D281-BEA0-4B5C-B918-4DD5A58DCF0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C:\Users\Aki\Desktop\Mark.wmf"/>
          <p:cNvPicPr/>
          <p:nvPr/>
        </p:nvPicPr>
        <p:blipFill>
          <a:blip r:embed="rId5"/>
          <a:stretch/>
        </p:blipFill>
        <p:spPr>
          <a:xfrm>
            <a:off x="0" y="6513480"/>
            <a:ext cx="331920" cy="3445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b61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114ff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b61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nttlogo-ntt"/>
          <p:cNvPicPr/>
          <p:nvPr/>
        </p:nvPicPr>
        <p:blipFill>
          <a:blip r:embed="rId3"/>
          <a:stretch/>
        </p:blipFill>
        <p:spPr>
          <a:xfrm>
            <a:off x="6759720" y="6146640"/>
            <a:ext cx="1555560" cy="60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ki\Desktop\Mark.wmf"/>
          <p:cNvPicPr/>
          <p:nvPr/>
        </p:nvPicPr>
        <p:blipFill>
          <a:blip r:embed="rId4"/>
          <a:stretch/>
        </p:blipFill>
        <p:spPr>
          <a:xfrm>
            <a:off x="8389800" y="6075360"/>
            <a:ext cx="754200" cy="782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b61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114ff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b61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6920" y="1571400"/>
            <a:ext cx="8705880" cy="256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Region-based adaptive interpolation filter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70000" y="1571760"/>
            <a:ext cx="87058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1bfc"/>
                </a:solidFill>
                <a:latin typeface="Garamond"/>
                <a:ea typeface="ＭＳ Ｐゴシック"/>
              </a:rPr>
              <a:t>Region-based adaptive interpolation fil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04520" y="4194000"/>
            <a:ext cx="8007480" cy="18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hei Matsuo, Yukihiro Bando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shi Takamura and Jozawa Hiroh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T Cyber Space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T Corporation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31920" y="320760"/>
            <a:ext cx="83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CTVC-B051  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CTVC meeting: Geneva, CH, 21-28 July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0280" y="1179000"/>
            <a:ext cx="875664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egion-based AIF was propo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ation results show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ing gain: about 0.6 points (SAIF: 5.0%  RBAIF: 5.6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performance depended on the region-dividing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for B pi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of more effective region-dividing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gges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posal can be combined with any xAI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should be incorporated into one of coding options for HEV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06280" y="1655640"/>
            <a:ext cx="87267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of the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ntional interpolation fil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xed interpolation: 6-tap filter of H.26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interpolation: 2D-AIF, SA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hancement of frame-based AI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mizing filter coefficients on a region-by-region ba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ffective than SAIF by about 0.6 points on a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:   SAIF: 5.0%, Proposal: 5.6%, Diff: 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: SAIF: 4.3%, Proposal: 6.6%, Diff: 2.3 (Cact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sic Id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IF: Filter coefficients are optimized on a frame-by-frame ba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n original image has multiple movements or each region of the image has different characteristics (motion, texture, etc.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-based AIF is the best metho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posal: Region-Based AIF (RBAI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er coefficients are optimized on a region-by-region ba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正方形/長方形 15"/>
          <p:cNvSpPr/>
          <p:nvPr/>
        </p:nvSpPr>
        <p:spPr>
          <a:xfrm>
            <a:off x="2006640" y="6229440"/>
            <a:ext cx="1844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ntional A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15"/>
          <p:cNvSpPr/>
          <p:nvPr/>
        </p:nvSpPr>
        <p:spPr>
          <a:xfrm>
            <a:off x="6039000" y="6229440"/>
            <a:ext cx="933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BA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36"/>
          <p:cNvSpPr/>
          <p:nvPr/>
        </p:nvSpPr>
        <p:spPr>
          <a:xfrm>
            <a:off x="615960" y="4629240"/>
            <a:ext cx="10699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76800"/>
                <a:tab algn="l" pos="8553600"/>
              </a:tabLst>
            </a:pPr>
            <a:r>
              <a:rPr b="0" lang="en-US" sz="9600" spc="-1" strike="noStrike">
                <a:solidFill>
                  <a:srgbClr val="114ffb"/>
                </a:solidFill>
                <a:latin typeface="Wingdings"/>
                <a:ea typeface="Wingdings"/>
              </a:rPr>
              <a:t>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11"/>
          <p:cNvSpPr/>
          <p:nvPr/>
        </p:nvSpPr>
        <p:spPr>
          <a:xfrm>
            <a:off x="7550280" y="4495680"/>
            <a:ext cx="116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76800"/>
                <a:tab algn="l" pos="85536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グループ化 23"/>
          <p:cNvGrpSpPr/>
          <p:nvPr/>
        </p:nvGrpSpPr>
        <p:grpSpPr>
          <a:xfrm>
            <a:off x="2009880" y="4824360"/>
            <a:ext cx="1731960" cy="1438920"/>
            <a:chOff x="2009880" y="4824360"/>
            <a:chExt cx="1731960" cy="1438920"/>
          </a:xfrm>
        </p:grpSpPr>
        <p:sp>
          <p:nvSpPr>
            <p:cNvPr id="101" name="正方形/長方形 2163"/>
            <p:cNvSpPr/>
            <p:nvPr/>
          </p:nvSpPr>
          <p:spPr>
            <a:xfrm>
              <a:off x="2038680" y="4851360"/>
              <a:ext cx="1703160" cy="138600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276800"/>
                  <a:tab algn="l" pos="8553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フローチャート : 手操作入力 2166"/>
            <p:cNvSpPr/>
            <p:nvPr/>
          </p:nvSpPr>
          <p:spPr>
            <a:xfrm>
              <a:off x="2038680" y="5501160"/>
              <a:ext cx="1703160" cy="736200"/>
            </a:xfrm>
            <a:prstGeom prst="flowChartManualInput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276800"/>
                  <a:tab algn="l" pos="8553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テキスト ボックス 7"/>
            <p:cNvSpPr/>
            <p:nvPr/>
          </p:nvSpPr>
          <p:spPr>
            <a:xfrm>
              <a:off x="2012040" y="48243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gion-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テキスト ボックス 7"/>
            <p:cNvSpPr/>
            <p:nvPr/>
          </p:nvSpPr>
          <p:spPr>
            <a:xfrm>
              <a:off x="2009880" y="59259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gion-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テキスト ボックス 9"/>
            <p:cNvSpPr/>
            <p:nvPr/>
          </p:nvSpPr>
          <p:spPr>
            <a:xfrm>
              <a:off x="2457000" y="5139360"/>
              <a:ext cx="990000" cy="82548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t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グループ化 22"/>
          <p:cNvGrpSpPr/>
          <p:nvPr/>
        </p:nvGrpSpPr>
        <p:grpSpPr>
          <a:xfrm>
            <a:off x="5535720" y="4853160"/>
            <a:ext cx="1703160" cy="1385640"/>
            <a:chOff x="5535720" y="4853160"/>
            <a:chExt cx="1703160" cy="1385640"/>
          </a:xfrm>
        </p:grpSpPr>
        <p:sp>
          <p:nvSpPr>
            <p:cNvPr id="107" name="正方形/長方形 2168"/>
            <p:cNvSpPr/>
            <p:nvPr/>
          </p:nvSpPr>
          <p:spPr>
            <a:xfrm>
              <a:off x="5535720" y="4853160"/>
              <a:ext cx="1703160" cy="13856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276800"/>
                  <a:tab algn="l" pos="8553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フローチャート : 手操作入力 2169"/>
            <p:cNvSpPr/>
            <p:nvPr/>
          </p:nvSpPr>
          <p:spPr>
            <a:xfrm>
              <a:off x="5535720" y="5502600"/>
              <a:ext cx="1703160" cy="736200"/>
            </a:xfrm>
            <a:prstGeom prst="flowChartManualInput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276800"/>
                  <a:tab algn="l" pos="8553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テキスト ボックス 9"/>
            <p:cNvSpPr/>
            <p:nvPr/>
          </p:nvSpPr>
          <p:spPr>
            <a:xfrm>
              <a:off x="5607000" y="4959720"/>
              <a:ext cx="1575000" cy="45972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lter Set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テキスト ボックス 9"/>
            <p:cNvSpPr/>
            <p:nvPr/>
          </p:nvSpPr>
          <p:spPr>
            <a:xfrm>
              <a:off x="5607000" y="5712840"/>
              <a:ext cx="1575000" cy="45972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lter Set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ected Eff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r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ment of coding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error energy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with conventional A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eri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of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of additional filter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BAIF would be effecti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high-resolution im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high bit-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gorithm (Current implementatio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704880" y="2579760"/>
            <a:ext cx="5645160" cy="36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the frame into blocks of 4x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04880" y="3295800"/>
            <a:ext cx="5645160" cy="36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a region number to each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704880" y="4006800"/>
            <a:ext cx="5645160" cy="35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e the coefficients and interpolate the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704880" y="4718160"/>
            <a:ext cx="5645160" cy="36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rive new M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2774880" y="6137280"/>
            <a:ext cx="1486080" cy="358920"/>
          </a:xfrm>
          <a:prstGeom prst="flowChartAlternateProcess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2774880" y="1162080"/>
            <a:ext cx="1486080" cy="358920"/>
          </a:xfrm>
          <a:prstGeom prst="flowChartAlternateProcess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24"/>
          <p:cNvCxnSpPr>
            <a:stCxn id="120" idx="2"/>
            <a:endCxn id="122" idx="0"/>
          </p:cNvCxnSpPr>
          <p:nvPr/>
        </p:nvCxnSpPr>
        <p:spPr>
          <a:xfrm>
            <a:off x="3517920" y="1521000"/>
            <a:ext cx="10080" cy="352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3" name="AutoShape 25"/>
          <p:cNvCxnSpPr>
            <a:stCxn id="115" idx="2"/>
            <a:endCxn id="116" idx="0"/>
          </p:cNvCxnSpPr>
          <p:nvPr/>
        </p:nvCxnSpPr>
        <p:spPr>
          <a:xfrm flipH="1">
            <a:off x="3525120" y="2941560"/>
            <a:ext cx="396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4" name="AutoShape 26"/>
          <p:cNvCxnSpPr>
            <a:stCxn id="116" idx="2"/>
            <a:endCxn id="117" idx="0"/>
          </p:cNvCxnSpPr>
          <p:nvPr/>
        </p:nvCxnSpPr>
        <p:spPr>
          <a:xfrm flipH="1">
            <a:off x="3526560" y="3656160"/>
            <a:ext cx="252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5" name="AutoShape 27"/>
          <p:cNvCxnSpPr>
            <a:stCxn id="117" idx="2"/>
            <a:endCxn id="118" idx="0"/>
          </p:cNvCxnSpPr>
          <p:nvPr/>
        </p:nvCxnSpPr>
        <p:spPr>
          <a:xfrm flipH="1">
            <a:off x="3526560" y="4365360"/>
            <a:ext cx="2520" cy="353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29"/>
          <p:cNvCxnSpPr>
            <a:stCxn id="118" idx="2"/>
            <a:endCxn id="127" idx="0"/>
          </p:cNvCxnSpPr>
          <p:nvPr/>
        </p:nvCxnSpPr>
        <p:spPr>
          <a:xfrm flipH="1">
            <a:off x="3525120" y="5079600"/>
            <a:ext cx="3960" cy="34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27" name="Rectangle 5"/>
          <p:cNvSpPr/>
          <p:nvPr/>
        </p:nvSpPr>
        <p:spPr>
          <a:xfrm>
            <a:off x="704880" y="5424480"/>
            <a:ext cx="5645160" cy="36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ode the filter coefficents of each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26"/>
          <p:cNvCxnSpPr>
            <a:stCxn id="127" idx="2"/>
            <a:endCxn id="119" idx="0"/>
          </p:cNvCxnSpPr>
          <p:nvPr/>
        </p:nvCxnSpPr>
        <p:spPr>
          <a:xfrm flipH="1">
            <a:off x="3517560" y="5784480"/>
            <a:ext cx="10080" cy="353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22" name="Rectangle 4"/>
          <p:cNvSpPr/>
          <p:nvPr/>
        </p:nvSpPr>
        <p:spPr>
          <a:xfrm>
            <a:off x="704880" y="1873080"/>
            <a:ext cx="5645160" cy="36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rive MVs using H.264/AVC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25"/>
          <p:cNvCxnSpPr>
            <a:stCxn id="122" idx="2"/>
            <a:endCxn id="115" idx="0"/>
          </p:cNvCxnSpPr>
          <p:nvPr/>
        </p:nvCxnSpPr>
        <p:spPr>
          <a:xfrm flipH="1">
            <a:off x="3525120" y="2234880"/>
            <a:ext cx="3960" cy="34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0" name="角丸四角形吹き出し 96"/>
          <p:cNvSpPr/>
          <p:nvPr/>
        </p:nvSpPr>
        <p:spPr>
          <a:xfrm>
            <a:off x="6972480" y="4451400"/>
            <a:ext cx="1911240" cy="933480"/>
          </a:xfrm>
          <a:prstGeom prst="wedgeRoundRectCallout">
            <a:avLst>
              <a:gd name="adj1" fmla="val -84351"/>
              <a:gd name="adj2" fmla="val -53032"/>
              <a:gd name="adj3" fmla="val 16667"/>
            </a:avLst>
          </a:prstGeom>
          <a:solidFill>
            <a:srgbClr val="ffcc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e calculation and interpolation method of SA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角丸四角形吹き出し 97"/>
          <p:cNvSpPr/>
          <p:nvPr/>
        </p:nvSpPr>
        <p:spPr>
          <a:xfrm>
            <a:off x="6838920" y="2184480"/>
            <a:ext cx="2044800" cy="844560"/>
          </a:xfrm>
          <a:prstGeom prst="wedgeRoundRectCallout">
            <a:avLst>
              <a:gd name="adj1" fmla="val -80337"/>
              <a:gd name="adj2" fmla="val 96976"/>
              <a:gd name="adj3" fmla="val 16667"/>
            </a:avLst>
          </a:prstGeom>
          <a:solidFill>
            <a:srgbClr val="ffcc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tial coord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m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TA 2.6r1, High Pro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VC CfP 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frames (GOP: 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P(I)=22, 27, 32, 37  /  QP(P)=QP(I)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olation filter: SAIF (UseAdaptiveFilter=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KTA tools were turne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parameters were same as the default of encoder.cf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on-dividing mode: 12 (detailed in the next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D-rate and BD-PSNR for the first P-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finition of region-dividing mo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3840" y="1477800"/>
          <a:ext cx="8858160" cy="4876920"/>
        </p:xfrm>
        <a:graphic>
          <a:graphicData uri="http://schemas.openxmlformats.org/drawingml/2006/table">
            <a:tbl>
              <a:tblPr/>
              <a:tblGrid>
                <a:gridCol w="357120"/>
                <a:gridCol w="2000160"/>
                <a:gridCol w="1857600"/>
                <a:gridCol w="1857240"/>
                <a:gridCol w="1785960"/>
                <a:gridCol w="100008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e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efin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.264/AV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Fixed 6-tap fil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onven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Frame-based conventional A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roposed meth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Region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Region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Region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Region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24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otion speed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&lt;MVx&l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624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otion speed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&lt;MVy&l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otion direction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or 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quadr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or 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quadr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otion direction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Vx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otion direction 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V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Left/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x &lt; W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p/bot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y &lt; H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Left/middle/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x &lt; W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W/3 &lt; x &lt; 2W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p/middle/bot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y &lt; H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/3 &lt; y &lt; 2H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orizontally-quarte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x &lt; W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W/4 &lt; x &lt; W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W/2 &lt; x &lt; 3W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Vertically-quarte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y &lt; H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/4 &lt; y &lt; H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/2 &lt; y &lt; 3H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Quarte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x &lt; W/2 &amp;&amp; y &lt; H/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W/2 &lt; x &amp;&amp; y &lt; H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x &lt; W/2 &amp;&amp; H/2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618400" cy="785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D-rate and BD-PSN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54160" y="1268280"/>
          <a:ext cx="7423200" cy="2560680"/>
        </p:xfrm>
        <a:graphic>
          <a:graphicData uri="http://schemas.openxmlformats.org/drawingml/2006/table">
            <a:tbl>
              <a:tblPr/>
              <a:tblGrid>
                <a:gridCol w="979560"/>
                <a:gridCol w="1279440"/>
                <a:gridCol w="1195200"/>
                <a:gridCol w="1279800"/>
                <a:gridCol w="2689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14f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A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14f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BA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14f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14f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aximum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14f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.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affic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8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.8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ctus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4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tyScene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.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.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QSquare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.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.9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idyo3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.6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154160" y="4019400"/>
          <a:ext cx="7423200" cy="2560680"/>
        </p:xfrm>
        <a:graphic>
          <a:graphicData uri="http://schemas.openxmlformats.org/drawingml/2006/table">
            <a:tbl>
              <a:tblPr/>
              <a:tblGrid>
                <a:gridCol w="987480"/>
                <a:gridCol w="1305000"/>
                <a:gridCol w="1169640"/>
                <a:gridCol w="1260720"/>
                <a:gridCol w="27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14f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A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14f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BA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14f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14f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aximum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14f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affic: 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ctus: 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tyScene: 0.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QSquare: 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idyo3: 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e"/>
                    </a:solidFill>
                  </a:tcPr>
                </a:tc>
              </a:tr>
            </a:tbl>
          </a:graphicData>
        </a:graphic>
      </p:graphicFrame>
      <p:sp>
        <p:nvSpPr>
          <p:cNvPr id="139" name="正方形/長方形 4"/>
          <p:cNvSpPr/>
          <p:nvPr/>
        </p:nvSpPr>
        <p:spPr>
          <a:xfrm>
            <a:off x="27000" y="1268280"/>
            <a:ext cx="1079640" cy="360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D-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5"/>
          <p:cNvSpPr/>
          <p:nvPr/>
        </p:nvSpPr>
        <p:spPr>
          <a:xfrm>
            <a:off x="27000" y="4014720"/>
            <a:ext cx="1079640" cy="358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D-PS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7:00:09Z</dcterms:created>
  <dc:creator>Shohei Matsuo</dc:creator>
  <dc:description/>
  <dc:language>en-US</dc:language>
  <cp:lastModifiedBy>Shohei Matsuo</cp:lastModifiedBy>
  <cp:lastPrinted>1999-06-25T10:10:31Z</cp:lastPrinted>
  <dcterms:modified xsi:type="dcterms:W3CDTF">2010-07-23T11:48:15Z</dcterms:modified>
  <cp:revision>2683</cp:revision>
  <dc:subject/>
  <dc:title>DCMcodecの仕様</dc:title>
</cp:coreProperties>
</file>