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4.png" ContentType="image/png"/>
  <Override PartName="/ppt/media/image5.wmf" ContentType="image/x-wmf"/>
  <Override PartName="/ppt/media/image2.png" ContentType="image/png"/>
  <Override PartName="/ppt/media/image10.wmf" ContentType="image/x-wmf"/>
  <Override PartName="/ppt/media/image19.jpeg" ContentType="image/jpeg"/>
  <Override PartName="/ppt/media/image6.wmf" ContentType="image/x-wmf"/>
  <Override PartName="/ppt/media/image11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529888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27200" y="4427640"/>
            <a:ext cx="941040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272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494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08880" y="176832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090560" y="176832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27200" y="442764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08880" y="442764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090560" y="442764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27200" y="39240"/>
            <a:ext cx="9410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272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494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27200" y="4427640"/>
            <a:ext cx="941040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800280" y="7569360"/>
          <a:ext cx="1800000" cy="17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280" y="7569360"/>
                    <a:ext cx="1800000" cy="1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-2224080" y="0"/>
            <a:ext cx="2095560" cy="87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封面英文标题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字体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Aria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大小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47p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颜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黑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反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封面中文标题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字体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黑体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大小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40-47p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颜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黑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反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英文内页标题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字体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A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大小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30-35p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颜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 R153 G0 B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英文内页正文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字体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 Aria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大小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18-24p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颜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R0 G0 B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中文内页标题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字体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黑体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大小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35p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颜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 R153 G0 B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中文内页正文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字体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细黑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大小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22-24p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颜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R0 G0 B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8504280" y="7481880"/>
            <a:ext cx="1728720" cy="35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49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1920"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265320">
              <a:spcBef>
                <a:spcPts val="649"/>
              </a:spcBef>
              <a:buClr>
                <a:srgbClr val="99cc00"/>
              </a:buClr>
              <a:buSzPct val="12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852560" indent="-264960">
              <a:spcBef>
                <a:spcPts val="649"/>
              </a:spcBef>
              <a:buClr>
                <a:srgbClr val="3333ff"/>
              </a:buClr>
              <a:buFont typeface="Wingdings" charset="2"/>
              <a:buChar char="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382840" indent="-26496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382840" indent="-264960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382840" indent="-264960"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Medium"/>
                <a:ea typeface="MS PGothic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Page </a:t>
            </a:r>
            <a:fld id="{C82315CF-1B4A-464E-B7A3-AE4A66BAB856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1336680"/>
            <a:ext cx="10528200" cy="7128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7313760"/>
            <a:ext cx="10528200" cy="7128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10528200" cy="800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28200" cy="790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655560" y="7313760"/>
          <a:ext cx="2448000" cy="14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560" y="7313760"/>
                    <a:ext cx="2448000" cy="1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856640" y="7169040"/>
            <a:ext cx="1985760" cy="41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35200" y="3137040"/>
            <a:ext cx="6193080" cy="183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216000" bIns="216000" anchor="t">
            <a:spAutoFit/>
          </a:bodyPr>
          <a:p>
            <a:pPr algn="r"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2600" spc="-1" strike="noStrike">
                <a:solidFill>
                  <a:srgbClr val="6699ff"/>
                </a:solidFill>
                <a:latin typeface="Arial"/>
                <a:ea typeface="华文细黑"/>
              </a:rPr>
              <a:t>TE3: Huawei &amp; Hisilicon report on flexible motion partitioning coding</a:t>
            </a:r>
            <a:r>
              <a:rPr b="0" lang="zh-CN" sz="2600" spc="-1" strike="noStrike">
                <a:solidFill>
                  <a:srgbClr val="6699ff"/>
                </a:solidFill>
                <a:latin typeface="Arial"/>
                <a:ea typeface="华文细黑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Xiaozhen Zhe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Haoping Y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24640" y="4792680"/>
            <a:ext cx="251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JCT-VC B0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Geneva, 21-28 July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-up to right-down partitioning: Check the left, up and up-left block’s partitioning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649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-45000" bIns="-450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535200" y="2921040"/>
          <a:ext cx="27244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5200" y="2921040"/>
                    <a:ext cx="2724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bove conditions can not be satisfied, the traditional AVC median prediction i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Experiment</a:t>
            </a: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horizontal / vertical partitioning case, the partitioning with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ue +/-2, +/-4, +/-6 ar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on-rectangular partitioning case, +/-45, +/-22.5 and +/-66.5 degree partitioning with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ue 0 +/-4, +/-8 and +/-12 ar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B, C, and D test sequences for constraint set 2 condition are chose for sim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F, ALF and MDDT are turned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Experiment (continue)</a:t>
            </a: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27200" y="1768320"/>
          <a:ext cx="8497800" cy="442296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224000"/>
                <a:gridCol w="1368360"/>
                <a:gridCol w="1224000"/>
                <a:gridCol w="1297080"/>
                <a:gridCol w="1224000"/>
              </a:tblGrid>
              <a:tr h="36576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Class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FrutigerNext LT Regular"/>
                          <a:ea typeface="FrutigerNext LT Regular"/>
                        </a:rPr>
                        <a:t>Bitrate Sa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a7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Clas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FrutigerNext LT Regular"/>
                          <a:ea typeface="FrutigerNext LT Regular"/>
                        </a:rPr>
                        <a:t>Bitrate Sa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a7a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FrutigerNext LT Regular"/>
                          <a:ea typeface="FrutigerNext LT Regular"/>
                        </a:rPr>
                        <a:t>Bitrate Sa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a7a7"/>
                    </a:solidFill>
                  </a:tcPr>
                </a:tc>
              </a:tr>
              <a:tr h="301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FrutigerNext LT Regular"/>
                          <a:ea typeface="FrutigerNext LT Regular"/>
                        </a:rPr>
                        <a:t>BasketballP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utigerNext LT Regular"/>
                          <a:ea typeface="黑体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utigerNext LT Regular"/>
                          <a:ea typeface="黑体"/>
                        </a:rPr>
                        <a:t>4.05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a7a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FrutigerNext LT Regular"/>
                        </a:rPr>
                        <a:t>BasketballDr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FrutigerNext LT Regular"/>
                        </a:rPr>
                        <a:t>4.8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a7a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FrutigerNext LT Regular"/>
                        </a:rPr>
                        <a:t>BasketballDr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FrutigerNext LT Regular"/>
                        </a:rPr>
                        <a:t>3.2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a7a7"/>
                    </a:solidFill>
                  </a:tcPr>
                </a:tc>
              </a:tr>
              <a:tr h="3013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FrutigerNext LT Regular"/>
                          <a:ea typeface="黑体"/>
                        </a:rPr>
                        <a:t>             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FrutigerNext LT Regular"/>
                          <a:ea typeface="黑体"/>
                        </a:rPr>
                        <a:t>2.56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a7a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FrutigerNext LT Regular"/>
                        </a:rPr>
                        <a:t>4.6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a7a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FrutigerNext LT Regular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FrutigerNext LT Regular"/>
                        </a:rPr>
                        <a:t>2.5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a7a7"/>
                    </a:solidFill>
                  </a:tcPr>
                </a:tc>
              </a:tr>
              <a:tr h="456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FrutigerNext LT Regular"/>
                          <a:ea typeface="FrutigerNext LT Regular"/>
                        </a:rPr>
                        <a:t>BlowingBub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FrutigerNext LT Regular"/>
                          <a:ea typeface="黑体"/>
                        </a:rPr>
                        <a:t>             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FrutigerNext LT Regular"/>
                          <a:ea typeface="黑体"/>
                        </a:rPr>
                        <a:t>1.99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a7a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FrutigerNext LT Regular"/>
                          <a:ea typeface="FrutigerNext LT Regular"/>
                        </a:rPr>
                        <a:t>BQM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FrutigerNext LT Regular"/>
                        </a:rPr>
                        <a:t>6.3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a7a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BQTerr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FrutigerNext LT Regular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FrutigerNext LT Regular"/>
                        </a:rPr>
                        <a:t>1.4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a7a7"/>
                    </a:solidFill>
                  </a:tcPr>
                </a:tc>
              </a:tr>
              <a:tr h="2998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utigerNext LT Regular"/>
                          <a:ea typeface="黑体"/>
                        </a:rPr>
                        <a:t>2.2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a7a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FrutigerNext LT Regular"/>
                        </a:rPr>
                        <a:t>6.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a7a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FrutigerNext LT Regular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FrutigerNext LT Regular"/>
                        </a:rPr>
                        <a:t>1.1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a7a7"/>
                    </a:solidFill>
                  </a:tcPr>
                </a:tc>
              </a:tr>
              <a:tr h="301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FrutigerNext LT Regular"/>
                          <a:ea typeface="FrutigerNext LT Regular"/>
                        </a:rPr>
                        <a:t>BQ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utigerNext LT Regular"/>
                          <a:ea typeface="黑体"/>
                        </a:rPr>
                        <a:t>4.97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a7a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FrutigerNext LT Regular"/>
                          <a:ea typeface="FrutigerNext LT Regular"/>
                        </a:rPr>
                        <a:t>PartySce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FrutigerNext LT Regular"/>
                        </a:rPr>
                        <a:t>3.6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a7a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Cac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FrutigerNext LT Regular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FrutigerNext LT Regular"/>
                        </a:rPr>
                        <a:t>2.3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a7a7"/>
                    </a:solidFill>
                  </a:tcPr>
                </a:tc>
              </a:tr>
              <a:tr h="3013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utigerNext LT Regular"/>
                          <a:ea typeface="黑体"/>
                        </a:rPr>
                        <a:t>5.04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a7a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FrutigerNext LT Regular"/>
                        </a:rPr>
                        <a:t>4.0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a7a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FrutigerNext LT Regular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FrutigerNext LT Regular"/>
                        </a:rPr>
                        <a:t>2.5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a7a7"/>
                    </a:solidFill>
                  </a:tcPr>
                </a:tc>
              </a:tr>
              <a:tr h="301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FrutigerNext LT Regular"/>
                          <a:ea typeface="FrutigerNext LT Regular"/>
                        </a:rPr>
                        <a:t>RaceHor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utigerNext LT Regular"/>
                          <a:ea typeface="黑体"/>
                        </a:rPr>
                        <a:t>4.93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a7a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FrutigerNext LT Regular"/>
                          <a:ea typeface="FrutigerNext LT Regular"/>
                        </a:rPr>
                        <a:t>RaceHor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FrutigerNext LT Regular"/>
                        </a:rPr>
                        <a:t>7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a7a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Kimono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FrutigerNext LT Regular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FrutigerNext LT Regular"/>
                        </a:rPr>
                        <a:t>1.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a7a7"/>
                    </a:solidFill>
                  </a:tcPr>
                </a:tc>
              </a:tr>
              <a:tr h="29520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utigerNext LT Regular"/>
                          <a:ea typeface="黑体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utigerNext LT Regular"/>
                          <a:ea typeface="黑体"/>
                        </a:rPr>
                        <a:t>3.9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a7a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FrutigerNext LT Regular"/>
                        </a:rPr>
                        <a:t>5.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a7a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FrutigerNext LT Regular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FrutigerNext LT Regular"/>
                        </a:rPr>
                        <a:t>1.3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a7a7"/>
                    </a:solidFill>
                  </a:tcPr>
                </a:tc>
              </a:tr>
              <a:tr h="3002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a7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a7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ParkScen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a7a7"/>
                    </a:solidFill>
                  </a:tcPr>
                </a:tc>
              </a:tr>
              <a:tr h="3002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a7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a7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9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a7a7"/>
                    </a:solidFill>
                  </a:tcPr>
                </a:tc>
              </a:tr>
              <a:tr h="299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utigerNext LT Regular"/>
                          <a:ea typeface="FrutigerNext LT Regular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utigerNext LT Regular"/>
                          <a:ea typeface="FrutigerNext LT Regular"/>
                        </a:rPr>
                        <a:t>3.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a7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5.4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a7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1.9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a7a7"/>
                    </a:solidFill>
                  </a:tcPr>
                </a:tc>
              </a:tr>
              <a:tr h="3002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FrutigerNext LT Regular"/>
                        </a:rPr>
                        <a:t>3.4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a7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5.1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a7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1.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a7a7"/>
                    </a:solidFill>
                  </a:tcPr>
                </a:tc>
              </a:tr>
              <a:tr h="297720">
                <a:tc gridSpan="7"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FrutigerNext LT Regular"/>
                        </a:rPr>
                        <a:t>Total Average for Class D, C and B:  3.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Closing remarks</a:t>
            </a: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liminary research work revealed that the compression capability of flexible motion partitioning can be further impro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 continuing TE to explore the potential improvement on inter-frame co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10528200" cy="8001000"/>
          </a:xfrm>
          <a:prstGeom prst="rect">
            <a:avLst/>
          </a:prstGeom>
          <a:solidFill>
            <a:srgbClr val="a7a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24280" y="47214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763800" y="2122560"/>
            <a:ext cx="3197520" cy="2442960"/>
            <a:chOff x="3763800" y="2122560"/>
            <a:chExt cx="3197520" cy="244296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rcRect l="17909" t="40828" r="0" b="0"/>
            <a:stretch/>
          </p:blipFill>
          <p:spPr>
            <a:xfrm>
              <a:off x="3816360" y="2173320"/>
              <a:ext cx="3105000" cy="23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3763800" y="2122560"/>
              <a:ext cx="3197520" cy="2442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4400640" y="55134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www.hisilico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Introduction</a:t>
            </a: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tion and improvement on the compression capability on flexible motion part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on method for block with flexible motion partitio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ing of block partitioning parame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motion vector prediction for non-AVC MB partitio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601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86040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-45000" bIns="-450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100" spc="-1" strike="noStrike">
                <a:solidFill>
                  <a:srgbClr val="cc0000"/>
                </a:solidFill>
                <a:latin typeface="Arial"/>
              </a:rPr>
              <a:t>Representation method for block with flexible motion partitioning</a:t>
            </a:r>
            <a:endParaRPr b="0" lang="en-US" sz="31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1920"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Use two points to indicate the partitioning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lvl="1" marL="860400" indent="-331920"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ode the position of two points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lvl="1" marL="86040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86040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86040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86040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quad-tree design to signal part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1920"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P_L0_L0_16x8 / P_L0_L0_8x16: Horizontal / Vertical partitioning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lvl="1" marL="860400" indent="-331920"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P_L0_16x16: Non-rectangular partitioning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lvl="1" marL="860400" indent="0">
              <a:spcBef>
                <a:spcPts val="550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96720" indent="0">
              <a:spcBef>
                <a:spcPts val="55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-45000" bIns="-450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095560" y="3063960"/>
          <a:ext cx="3529080" cy="162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560" y="3063960"/>
                    <a:ext cx="3529080" cy="16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 / Vertical part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1920"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Use a parameter </a:t>
            </a:r>
            <a:r>
              <a:rPr b="0" i="1" lang="en-US" sz="2200" spc="-1" strike="noStrike">
                <a:solidFill>
                  <a:srgbClr val="333399"/>
                </a:solidFill>
                <a:latin typeface="Arial"/>
              </a:rPr>
              <a:t>pos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 to indicate the size of rectangles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lvl="1" marL="860400" indent="-331920"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i="1" lang="en-US" sz="2200" spc="-1" strike="noStrike">
                <a:solidFill>
                  <a:srgbClr val="333399"/>
                </a:solidFill>
                <a:latin typeface="Arial"/>
              </a:rPr>
              <a:t>pos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 = 0 : 16x8 / 8x16 partitioning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lvl="1" marL="860400" indent="-331920"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i="1" lang="en-US" sz="2200" spc="-1" strike="noStrike">
                <a:solidFill>
                  <a:srgbClr val="333399"/>
                </a:solidFill>
                <a:latin typeface="Arial"/>
              </a:rPr>
              <a:t>pos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 != 0 : Asymmetric partitioning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lvl="1" marL="860400" indent="0">
              <a:spcBef>
                <a:spcPts val="550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-45000" bIns="-450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879560" y="3855960"/>
          <a:ext cx="2592360" cy="20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3855960"/>
                    <a:ext cx="259236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0" y="305280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-45000" bIns="-450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687920" y="3568680"/>
          <a:ext cx="1968480" cy="23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7920" y="3568680"/>
                    <a:ext cx="1968480" cy="23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540072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on-rectangular part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1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Arial"/>
              </a:rPr>
              <a:t>A flag used to indicate the partitioning direction: left-down to right-up or left-up to right-down partitioning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lvl="1" marL="860400" indent="-331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Arial"/>
              </a:rPr>
              <a:t>Parameter </a:t>
            </a:r>
            <a:r>
              <a:rPr b="0" i="1" lang="zh-CN" sz="2200" spc="-1" strike="noStrike">
                <a:solidFill>
                  <a:srgbClr val="333399"/>
                </a:solidFill>
                <a:latin typeface="Arial"/>
              </a:rPr>
              <a:t>pos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</a:rPr>
              <a:t> used to indicate the position of point A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lvl="1" marL="860400" indent="-331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200" spc="-1" strike="noStrike">
                <a:solidFill>
                  <a:srgbClr val="333399"/>
                </a:solidFill>
                <a:latin typeface="Arial"/>
              </a:rPr>
              <a:t>Parameter </a:t>
            </a:r>
            <a:r>
              <a:rPr b="0" i="1" lang="zh-CN" sz="2200" spc="-1" strike="noStrike">
                <a:solidFill>
                  <a:srgbClr val="333399"/>
                </a:solidFill>
                <a:latin typeface="Arial"/>
              </a:rPr>
              <a:t>scale_factor</a:t>
            </a:r>
            <a:r>
              <a:rPr b="0" lang="zh-CN" sz="2200" spc="-1" strike="noStrike">
                <a:solidFill>
                  <a:srgbClr val="333399"/>
                </a:solidFill>
                <a:latin typeface="Arial"/>
              </a:rPr>
              <a:t> used to indicate the position of point B (the length of BO)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lvl="2" marL="1324080" indent="-26532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120000"/>
              <a:buFont typeface="Wingdings" charset="2"/>
              <a:buChar char="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i="1" lang="zh-CN" sz="1800" spc="-1" strike="noStrike">
                <a:solidFill>
                  <a:srgbClr val="99cc00"/>
                </a:solidFill>
                <a:latin typeface="Arial"/>
              </a:rPr>
              <a:t>scale_factor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 = 0 : BO = AO</a:t>
            </a:r>
            <a:endParaRPr b="0" lang="en-US" sz="1800" spc="-1" strike="noStrike">
              <a:solidFill>
                <a:srgbClr val="99cc00"/>
              </a:solidFill>
              <a:latin typeface="Arial"/>
            </a:endParaRPr>
          </a:p>
          <a:p>
            <a:pPr lvl="2" marL="1324080" indent="-26532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120000"/>
              <a:buFont typeface="Wingdings" charset="2"/>
              <a:buChar char="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i="1" lang="zh-CN" sz="1800" spc="-1" strike="noStrike">
                <a:solidFill>
                  <a:srgbClr val="99cc00"/>
                </a:solidFill>
                <a:latin typeface="Arial"/>
              </a:rPr>
              <a:t>scale_factor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 = 1 :  BO = 0.5 x AO (22.5 degree partitioning)</a:t>
            </a:r>
            <a:endParaRPr b="0" lang="en-US" sz="1800" spc="-1" strike="noStrike">
              <a:solidFill>
                <a:srgbClr val="99cc00"/>
              </a:solidFill>
              <a:latin typeface="Arial"/>
            </a:endParaRPr>
          </a:p>
          <a:p>
            <a:pPr lvl="2" marL="1324080" indent="-26532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120000"/>
              <a:buFont typeface="Wingdings" charset="2"/>
              <a:buChar char="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i="1" lang="zh-CN" sz="1800" spc="-1" strike="noStrike">
                <a:solidFill>
                  <a:srgbClr val="99cc00"/>
                </a:solidFill>
                <a:latin typeface="Arial"/>
              </a:rPr>
              <a:t>scale_factor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 = -1 : BO = 2 x AO (66.5 degree partitioning)</a:t>
            </a:r>
            <a:endParaRPr b="0" lang="en-US" sz="1800" spc="-1" strike="noStrike">
              <a:solidFill>
                <a:srgbClr val="99cc00"/>
              </a:solidFill>
              <a:latin typeface="Arial"/>
            </a:endParaRPr>
          </a:p>
          <a:p>
            <a:pPr lvl="2" marL="1324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99cc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632640" y="1697040"/>
          <a:ext cx="2303280" cy="17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2640" y="1697040"/>
                    <a:ext cx="2303280" cy="17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6559560" y="3279600"/>
          <a:ext cx="2376360" cy="176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9560" y="3279600"/>
                    <a:ext cx="2376360" cy="17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6632640" y="4844880"/>
          <a:ext cx="2300400" cy="247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32640" y="4844880"/>
                    <a:ext cx="230040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Arial"/>
              </a:rPr>
              <a:t>Coding of block partitioning parameters</a:t>
            </a: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ive coding of position paramet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1920"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Use left block (A) and up block (B)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lvl="1" marL="860400" indent="-331920"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Form the predictive position parameter, and the difference is coded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lvl="1" marL="860400" indent="0">
              <a:spcBef>
                <a:spcPts val="550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103560" y="3713040"/>
            <a:ext cx="23065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Improved motion vector prediction for non-AVC MB partitioning</a:t>
            </a:r>
            <a:r>
              <a:rPr b="0" lang="en-US" sz="31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hoose the neighboring blocks that has same object’s boundary as current macro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orizontal partitioning: Check the left and up block’s partitioning mod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-45000" bIns="-450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92280" y="3639960"/>
          <a:ext cx="2771640" cy="28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2280" y="3639960"/>
                    <a:ext cx="2771640" cy="28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0" y="270504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-45000" bIns="-450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264280" y="3929040"/>
          <a:ext cx="255240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64280" y="3929040"/>
                    <a:ext cx="25524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partitioning: Check the up and left block’s partitioning mod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-45000" bIns="-450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92280" y="2921040"/>
          <a:ext cx="2914560" cy="30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2280" y="2921040"/>
                    <a:ext cx="2914560" cy="30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0" y="258588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-45000" bIns="-450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264280" y="3137040"/>
          <a:ext cx="2714400" cy="28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64280" y="3137040"/>
                    <a:ext cx="271440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-down to right-up partitioning: Check the left, up and up-right block’s partitioning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-45000" bIns="-450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671920" y="2992320"/>
          <a:ext cx="4248000" cy="29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1920" y="2992320"/>
                    <a:ext cx="4248000" cy="29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08:10:34Z</dcterms:created>
  <dc:creator>guopeng</dc:creator>
  <dc:description/>
  <dc:language>en-US</dc:language>
  <cp:lastModifiedBy>Xiaozhen ZHENG</cp:lastModifiedBy>
  <dcterms:modified xsi:type="dcterms:W3CDTF">2010-07-22T08:32:57Z</dcterms:modified>
  <cp:revision>55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65354239</vt:lpwstr>
  </property>
</Properties>
</file>