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4169-0FFF-4755-A6EC-A6A5BCA2CB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31FC-BB70-4E61-99B2-BD4CD9C2AF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C89A-55E9-4B91-AC66-9C8DA1202E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E3A20C90-30BD-411D-AE18-31063B2CD418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1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3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4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5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16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8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9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0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21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3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4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5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26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8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9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0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31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4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5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36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8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0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41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3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4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5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46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8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9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0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51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3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4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5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56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8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9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0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61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3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4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5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66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8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9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70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71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73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74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75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Logo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2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20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8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E54C-0800-4A06-B4AB-D7016398B32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6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BA18E0F1-7604-40EC-BB84-B96D225AAB04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4000" y="3182760"/>
            <a:ext cx="5305320" cy="865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hangcai Lai, Yongbing Li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36120" y="1391760"/>
            <a:ext cx="607860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ew intra prediction using the correlation between pixels and lines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8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36560" y="452520"/>
            <a:ext cx="875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0" name=""/>
          <p:cNvSpPr/>
          <p:nvPr/>
        </p:nvSpPr>
        <p:spPr>
          <a:xfrm>
            <a:off x="736560" y="1724040"/>
            <a:ext cx="896148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rmAutofit/>
          </a:bodyPr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lgorithm description</a:t>
            </a:r>
            <a:endParaRPr b="0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934920" indent="-533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Experimental results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Introdu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6000"/>
          </a:bodyPr>
          <a:p>
            <a:pPr marL="287640" indent="-287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Intra prediction in H.264/AVC uses the adjacent boundary pixels of reconstructed neighboring blocks to get the prediction of the entire coding block.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-287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using the correlation between lines and pixels to shorten the distance of predicted pixel and its reference pixels (Dresden)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-287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implemented RDOQ into the proposed intra prediction and fixed several bugs from Dresden meeting.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FrutigerNext LT Medium"/>
              </a:rPr>
              <a:t>Line-based intra prediction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Fig. 1. Directional prediction of 1x16 and 2x8 mode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x16, 16x1, 2x8 and 8x2 modes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re designed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or each mode, nine directional predictions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re proposed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DCT of size 1x16, 16x1, 2x8 or 8x2 is applied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195640" y="1916280"/>
          <a:ext cx="1485720" cy="140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16280"/>
                    <a:ext cx="1485720" cy="14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284720" y="1989000"/>
          <a:ext cx="1341360" cy="13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989000"/>
                    <a:ext cx="134136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0" name=""/>
          <p:cNvSpPr/>
          <p:nvPr/>
        </p:nvSpPr>
        <p:spPr>
          <a:xfrm>
            <a:off x="4380480" y="1409760"/>
            <a:ext cx="383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Resample-based intra predi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755640" y="1484280"/>
          <a:ext cx="802656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802656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3640" y="494136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80880" indent="-38088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Three new MB partitions based on resampling are proposed</a:t>
            </a:r>
            <a:endParaRPr b="1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934920" indent="-533160">
              <a:lnSpc>
                <a:spcPct val="12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</a:rPr>
              <a:t>A MB is decomposed into 4 blocks by down-sampling in the first level decomposition 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934920" indent="-533160">
              <a:lnSpc>
                <a:spcPct val="12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</a:rPr>
              <a:t>One of the down-sampled block is decomposed into 4 sub-blocks in the second level decomposition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Signal method:  two new flags combined with the existing transform_size_8x8_flag</a:t>
            </a:r>
            <a:endParaRPr b="1" lang="en-US" sz="15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CF6F0154-A73F-4EFA-9C99-65CBFCCBCE38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Intra prediction and interpolation in RIP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755640" y="4437000"/>
            <a:ext cx="792000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marL="457200" indent="-457200">
              <a:buClr>
                <a:srgbClr val="000000"/>
              </a:buClr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Block I0 is encoded with traditional</a:t>
            </a:r>
            <a:r>
              <a:rPr b="0" lang="en-US" sz="1400" spc="-1" strike="noStrike">
                <a:solidFill>
                  <a:srgbClr val="ff0000"/>
                </a:solidFill>
                <a:latin typeface="FrutigerNext LT Regular"/>
              </a:rPr>
              <a:t> block-based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intra prediction.  9 intra prediction modes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marL="457200" indent="-457200">
              <a:buClr>
                <a:srgbClr val="000000"/>
              </a:buClr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Block P1&amp;P2 are predicted </a:t>
            </a:r>
            <a:r>
              <a:rPr b="0" lang="en-US" sz="1400" spc="-1" strike="noStrike">
                <a:solidFill>
                  <a:srgbClr val="ff0000"/>
                </a:solidFill>
                <a:latin typeface="FrutigerNext LT Regular"/>
              </a:rPr>
              <a:t>pixel-by-pixel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with the reference of the block I0 by interpolation with 4-tap filter [-1 5 5 -1] horizontally and vertically, respectively. 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marL="457200" indent="-457200">
              <a:buClr>
                <a:srgbClr val="000000"/>
              </a:buClr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Block P3 is predicted </a:t>
            </a:r>
            <a:r>
              <a:rPr b="0" lang="en-US" sz="1400" spc="-1" strike="noStrike">
                <a:solidFill>
                  <a:srgbClr val="ff0000"/>
                </a:solidFill>
                <a:latin typeface="FrutigerNext LT Regular"/>
              </a:rPr>
              <a:t>pixel-by-pixel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with the reference of the block P1&amp;P2 by averaging four neighboring pixels. 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564720" y="1844640"/>
            <a:ext cx="3599640" cy="2236680"/>
            <a:chOff x="3564720" y="1844640"/>
            <a:chExt cx="3599640" cy="2236680"/>
          </a:xfrm>
        </p:grpSpPr>
        <p:graphicFrame>
          <p:nvGraphicFramePr>
            <p:cNvPr id="272" name="Object 6"/>
            <p:cNvGraphicFramePr/>
            <p:nvPr/>
          </p:nvGraphicFramePr>
          <p:xfrm>
            <a:off x="3975480" y="1844640"/>
            <a:ext cx="3188880" cy="223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75480" y="1844640"/>
                      <a:ext cx="3188880" cy="223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Text Box 9"/>
            <p:cNvSpPr/>
            <p:nvPr/>
          </p:nvSpPr>
          <p:spPr>
            <a:xfrm>
              <a:off x="3564720" y="2220120"/>
              <a:ext cx="5202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( I0 )</a:t>
              </a: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75" name="Text Box 10"/>
            <p:cNvSpPr/>
            <p:nvPr/>
          </p:nvSpPr>
          <p:spPr>
            <a:xfrm>
              <a:off x="3580200" y="2523960"/>
              <a:ext cx="5677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( P1 )</a:t>
              </a: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3580200" y="3170520"/>
              <a:ext cx="5677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( P2 )</a:t>
              </a: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77" name="Text Box 12"/>
            <p:cNvSpPr/>
            <p:nvPr/>
          </p:nvSpPr>
          <p:spPr>
            <a:xfrm>
              <a:off x="3593160" y="3766680"/>
              <a:ext cx="5677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( P3 )</a:t>
              </a: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9280" y="1341360"/>
          <a:ext cx="1633680" cy="287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341360"/>
                    <a:ext cx="163368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Experimental condition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Anchor: KTA2.6r1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fP common test condition except that GOP structure is all intra pictures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H.264/AVC High Profile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DO and RDOQ  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5 QP points </a:t>
            </a:r>
            <a:r>
              <a:rPr b="1" lang="zh-CN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ame as used in CfP anchor bit streams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proposed technique is only applied to luminance component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All HEVC sequences with full length are tested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C46E7A74-6E74-4947-BDAC-4A8D299B98C3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4" name=""/>
          <p:cNvSpPr/>
          <p:nvPr/>
        </p:nvSpPr>
        <p:spPr>
          <a:xfrm>
            <a:off x="-37080" y="1146240"/>
            <a:ext cx="24634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FrutigerNext LT Regular"/>
              </a:rPr>
              <a:t>Experimental </a:t>
            </a:r>
            <a:endParaRPr b="0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FrutigerNext LT Regular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700360" y="0"/>
          <a:ext cx="6300720" cy="6643800"/>
        </p:xfrm>
        <a:graphic>
          <a:graphicData uri="http://schemas.openxmlformats.org/drawingml/2006/table">
            <a:tbl>
              <a:tblPr/>
              <a:tblGrid>
                <a:gridCol w="2725560"/>
                <a:gridCol w="878040"/>
                <a:gridCol w="876240"/>
                <a:gridCol w="914400"/>
                <a:gridCol w="906480"/>
              </a:tblGrid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-bitrate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-bitrate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equ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PS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PS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ceHorses_416x240_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8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Pass_416x240_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5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owingBubbles_416x240_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Square_416x24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QWV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ceHorses_832x480_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7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Drill_832x480_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0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yScene_832x480_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Mall_832x48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6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4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WV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1_720p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3_720p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4_720p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5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5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imono1_1920x1080_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8.8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kScene_1920x1080_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Drive_1920x1080_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ctus_1920x1080_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0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Terrace_1920x108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7.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5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8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opleOnStreet_2560x1600_30_cr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7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.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raffic_2560x1600_30_cr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9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160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-5.3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0.2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-4.8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0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 Bitrate 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ctr" marL="79200" marR="79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79200" rIns="79200" tIns="39600" bIns="39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-5.07%     0.2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b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39:39Z</dcterms:created>
  <dc:creator>huawei</dc:creator>
  <dc:description/>
  <dc:language>en-US</dc:language>
  <cp:lastModifiedBy>l68327</cp:lastModifiedBy>
  <dcterms:modified xsi:type="dcterms:W3CDTF">2010-07-22T05:59:11Z</dcterms:modified>
  <cp:revision>169</cp:revision>
  <dc:subject/>
  <dc:title>幻灯片 1</dc:title>
</cp:coreProperties>
</file>