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FE4-BD41-4273-B24F-41EC233516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851-3C7F-425C-89AD-DEB0E7C0886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7F02-97F8-45D4-9846-F45D0373C9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B42-614D-4956-9D36-45C14338ACC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3D28-6C73-4168-9647-4CF8BEBB16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B59-E85C-4B3A-A165-1D4179CE82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77D-9DB0-4E63-9E09-449B2DEB87D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51C3-B09E-4FF8-A75F-6AF1B86BA77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798-10ED-43A2-BE70-947887BCD8C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4A4-440D-463F-AC21-6FD738B86E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B2F8-9998-4E76-8990-F9A0E86097D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2E8E-187D-4034-955D-225E5DCD88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E10-AD55-486B-A942-79880558477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605-9866-426C-AD42-1083A58018C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B41-F75A-47EC-B529-25E3CB59B4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E83-6F19-404D-B60E-66C09DF39F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9FE-DB27-419D-ADE5-AA38E809BDD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10730149-C18B-4F58-99D9-E18C41D3CB8E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  <a:ea typeface="ＭＳ Ｐゴシック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ＭＳ Ｐゴシック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7784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922-5B40-4FE5-844C-23746C4DDF19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1C720A76-5655-42BB-9E9C-4FC47D6B170B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42960" y="2928600"/>
            <a:ext cx="5616720" cy="865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Sixin Lin, Mingyuan Yang, Jiantong Zhou, Jin Song, Dong Wang, Haitao Yang, Jiali Fu, Haoping Yu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华文细黑"/>
              </a:rPr>
              <a:t>Yue Wang, Li Zhang, Siwei Ma, Wen Gao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细黑"/>
              </a:rPr>
              <a:t>Huawei  Technologies  Co., Ltd. &amp; Peking  University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rutigerNext LT Medium"/>
              </a:rPr>
              <a:t>TE1: Huawei report on DMVD improvements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703423A0-DD33-4C1E-953B-3599EF5DB1EC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Derivation of motion vector pai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571680" y="264312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est motion vector pai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071800" y="2071800"/>
          <a:ext cx="385740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2071800"/>
                    <a:ext cx="3857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Picture 4" descr=""/>
          <p:cNvPicPr/>
          <p:nvPr/>
        </p:nvPicPr>
        <p:blipFill>
          <a:blip r:embed="rId3"/>
          <a:stretch/>
        </p:blipFill>
        <p:spPr>
          <a:xfrm>
            <a:off x="2000160" y="3143160"/>
            <a:ext cx="4714920" cy="2082960"/>
          </a:xfrm>
          <a:prstGeom prst="rect">
            <a:avLst/>
          </a:prstGeom>
          <a:ln w="0">
            <a:noFill/>
          </a:ln>
        </p:spPr>
      </p:pic>
      <p:sp>
        <p:nvSpPr>
          <p:cNvPr id="319" name="矩形 11"/>
          <p:cNvSpPr/>
          <p:nvPr/>
        </p:nvSpPr>
        <p:spPr>
          <a:xfrm>
            <a:off x="1143000" y="550080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ost = SAD(MBforward, MBcorresponding)+lambda*SAD(Templateforward, Templatecurrent) +lambda*SAD(Templatecorresponding, Templatecunr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642960" y="121428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ssuming that the motion of objects is translational with constant speed, the corresponding motion vector is obtained by the following formu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Derivation of motion vector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3A1F2CE5-952E-4D47-8A87-3123F41107F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 in P Slice and B Sli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428760" y="1071720"/>
            <a:ext cx="79293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 algn="just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 slice, AVC P_SKIP mode is replaced by STDM PSKIP in macroblock 32x32 level. DMVD P_SKIP and STDM P_SKIP mode are selected in macroblock 16x16 level. One flag is needed to indicate which specific method is chosen in P_SKIP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 Slice, AVC B_SKIP/B_DIRECT and STDM B_SKIP/B_DIRECT are used in macroblock 16x16 and 32x32 levels. One flag for B_SKIP/B_DIRECT mode is needed to indicate which specific method is chosen in B SKIP/DIRECE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B8478439-C7F9-41A8-B9C3-8FC5E592327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mpression Performan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1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1413000"/>
          <a:ext cx="5832360" cy="2198520"/>
        </p:xfrm>
        <a:graphic>
          <a:graphicData uri="http://schemas.openxmlformats.org/drawingml/2006/table">
            <a:tbl>
              <a:tblPr/>
              <a:tblGrid>
                <a:gridCol w="1854000"/>
                <a:gridCol w="1063800"/>
                <a:gridCol w="971280"/>
                <a:gridCol w="970200"/>
                <a:gridCol w="9730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33" name="Rectangle 24"/>
          <p:cNvSpPr/>
          <p:nvPr/>
        </p:nvSpPr>
        <p:spPr>
          <a:xfrm>
            <a:off x="611280" y="357192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2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3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2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93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96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16"/>
          <p:cNvSpPr/>
          <p:nvPr/>
        </p:nvSpPr>
        <p:spPr>
          <a:xfrm>
            <a:off x="6715440" y="2637000"/>
            <a:ext cx="205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total gai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about 6% bitrate 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0.2 dB PSNR</a:t>
            </a:r>
            <a:r>
              <a:rPr b="0" lang="zh-CN" sz="1600" spc="-1" strike="noStrike">
                <a:solidFill>
                  <a:srgbClr val="990000"/>
                </a:solidFill>
                <a:latin typeface="Arial"/>
              </a:rPr>
              <a:t>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17"/>
          <p:cNvSpPr/>
          <p:nvPr/>
        </p:nvSpPr>
        <p:spPr>
          <a:xfrm>
            <a:off x="6788520" y="5084640"/>
            <a:ext cx="216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total gai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about 4.7% bitrate 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0.15 dB PSNR</a:t>
            </a:r>
            <a:r>
              <a:rPr b="0" lang="zh-CN" sz="1600" spc="-1" strike="noStrike">
                <a:solidFill>
                  <a:srgbClr val="990000"/>
                </a:solidFill>
                <a:latin typeface="Arial"/>
              </a:rPr>
              <a:t>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4005360"/>
          <a:ext cx="5832360" cy="2031840"/>
        </p:xfrm>
        <a:graphic>
          <a:graphicData uri="http://schemas.openxmlformats.org/drawingml/2006/table">
            <a:tbl>
              <a:tblPr/>
              <a:tblGrid>
                <a:gridCol w="1944720"/>
                <a:gridCol w="971280"/>
                <a:gridCol w="971640"/>
                <a:gridCol w="973080"/>
                <a:gridCol w="971640"/>
              </a:tblGrid>
              <a:tr h="338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6B48812C-B808-40CB-A185-206484CF6656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mplexity Performan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ecoding Time for CS1 relative to TE1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611280" y="314172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ecoding Time for CS2 relative to TE1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5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6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4360" y="1413000"/>
          <a:ext cx="5832360" cy="1530360"/>
        </p:xfrm>
        <a:graphic>
          <a:graphicData uri="http://schemas.openxmlformats.org/drawingml/2006/table">
            <a:tbl>
              <a:tblPr/>
              <a:tblGrid>
                <a:gridCol w="1717560"/>
                <a:gridCol w="968400"/>
                <a:gridCol w="1512720"/>
                <a:gridCol w="1633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4.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9.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7.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0.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.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684360" y="3789360"/>
          <a:ext cx="5832360" cy="1247760"/>
        </p:xfrm>
        <a:graphic>
          <a:graphicData uri="http://schemas.openxmlformats.org/drawingml/2006/table">
            <a:tbl>
              <a:tblPr/>
              <a:tblGrid>
                <a:gridCol w="1733400"/>
                <a:gridCol w="939960"/>
                <a:gridCol w="1520640"/>
                <a:gridCol w="1638360"/>
              </a:tblGrid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53" name="Rectangle 379"/>
          <p:cNvSpPr/>
          <p:nvPr/>
        </p:nvSpPr>
        <p:spPr>
          <a:xfrm>
            <a:off x="250920" y="529920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In cs1 the decoding time of proposed SDMVD_SSTDM  is 1 times slower than T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In cs2 the decoding time of proposed SDMVD_SSTDM  is 2.35 times slower than T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9A7B2281-A7BC-4C6A-97F7-7538FE85F56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48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990000"/>
                </a:solidFill>
                <a:latin typeface="FrutigerNext LT Medium"/>
              </a:rPr>
              <a:t>Improvement STDM in P Slice</a:t>
            </a:r>
            <a:endParaRPr b="0" lang="en-US" sz="39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2"/>
          <p:cNvSpPr/>
          <p:nvPr/>
        </p:nvSpPr>
        <p:spPr>
          <a:xfrm>
            <a:off x="539640" y="1476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ently find out instead of using DMVD P_SKIP with STDM P_SKIP in P slice, using AVC P_SKIP and STDM P_SKIP can obtain better compression performance. Now AVC P_SKIP and STDM P_SKIP are used in macroblock 16x16 and 32x32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90C95AF0-6D04-442E-8BF1-B7865859109B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48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990000"/>
                </a:solidFill>
                <a:latin typeface="FrutigerNext LT Medium"/>
              </a:rPr>
              <a:t>Improved STDM in P slice</a:t>
            </a:r>
            <a:endParaRPr b="0" lang="en-US" sz="39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1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611280" y="364968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2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4360" y="1341360"/>
          <a:ext cx="6912000" cy="2381400"/>
        </p:xfrm>
        <a:graphic>
          <a:graphicData uri="http://schemas.openxmlformats.org/drawingml/2006/table">
            <a:tbl>
              <a:tblPr/>
              <a:tblGrid>
                <a:gridCol w="1885680"/>
                <a:gridCol w="1351080"/>
                <a:gridCol w="1311120"/>
                <a:gridCol w="1130400"/>
                <a:gridCol w="1233720"/>
              </a:tblGrid>
              <a:tr h="411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-5.9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-5.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.9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-5.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684360" y="4149720"/>
          <a:ext cx="6912000" cy="1828800"/>
        </p:xfrm>
        <a:graphic>
          <a:graphicData uri="http://schemas.openxmlformats.org/drawingml/2006/table">
            <a:tbl>
              <a:tblPr/>
              <a:tblGrid>
                <a:gridCol w="2232000"/>
                <a:gridCol w="1168200"/>
                <a:gridCol w="1171800"/>
                <a:gridCol w="1168200"/>
                <a:gridCol w="1171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.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-4.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.7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-5.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5" name="Rectangle 511"/>
          <p:cNvSpPr/>
          <p:nvPr/>
        </p:nvSpPr>
        <p:spPr>
          <a:xfrm>
            <a:off x="7667640" y="4581360"/>
            <a:ext cx="129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Data in red color are data of ol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9175FB79-4F33-4C45-B8DC-981ABF458AC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500040" y="1071720"/>
            <a:ext cx="7929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In this proposal we present the detailed description of our SDMVD and STDM together with the analysis of coding performance and complex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ompared with TE1 anchor bitstreams, 6% of bitrate saving can be achieved in CS1 and 5% of bitrate saving in CS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23AF0546-F9A9-4BE7-8129-220B0B4290ED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51960" y="211464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Times New Roman"/>
              </a:rPr>
              <a:t>www.huawei.com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451CE4B7-237E-4AA9-99A6-B6C4FE8F19D3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5698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ten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1960" y="1071360"/>
            <a:ext cx="7929720" cy="47638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Simplified DMVD(SDMVD)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Spatial Temporal Direct Mode (STDM)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pression Performance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plexity Analysis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Improved STDM in P Slice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356476D0-8CFF-40DA-BADA-11B0CFA3CED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Block Diagram of 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036880" y="1486080"/>
            <a:ext cx="2160360" cy="71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emplat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3117960" y="1197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3117960" y="220500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036880" y="2421000"/>
            <a:ext cx="216036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Motion V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e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3117960" y="328608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036880" y="350208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036880" y="436572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Curr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3117960" y="41497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3117960" y="499572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4344840" y="338148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Estim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e reference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4344840" y="438948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Compens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interp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7FFA4D78-FBB6-4EE7-81C2-5F15E269F2B5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Block diagram of S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036880" y="1486080"/>
            <a:ext cx="2160360" cy="71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emplat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3117960" y="1197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3117960" y="220500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036880" y="2421000"/>
            <a:ext cx="216036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Motion V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e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3117960" y="328608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036880" y="3502080"/>
            <a:ext cx="216036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2036880" y="436572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Curr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3117960" y="41497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117960" y="499572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342680" y="3381480"/>
            <a:ext cx="45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Estimation procedure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linear  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o interpolate reference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4344840" y="438948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Compens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interp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2160B963-0AE4-4F24-81CC-E6008BA9E2FE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1960" y="1000080"/>
            <a:ext cx="792972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FrutigerNext LT Regular"/>
              </a:rPr>
              <a:t>Bilinear Interpolation of SDMVD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57120" y="1571760"/>
            <a:ext cx="7929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182920" cy="41050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6095880" y="4079520"/>
            <a:ext cx="245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h = (A + C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 = (B + D +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 = (A + B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 = (C + D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j = (b + s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a = (A + b +1 ) /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89F27FD5-5B59-449B-87B9-244004F9286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Complexity Analysi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1476360" y="907920"/>
            <a:ext cx="27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Decoding time for C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49440" y="1557360"/>
          <a:ext cx="3527280" cy="2016000"/>
        </p:xfrm>
        <a:graphic>
          <a:graphicData uri="http://schemas.openxmlformats.org/drawingml/2006/table">
            <a:tbl>
              <a:tblPr/>
              <a:tblGrid>
                <a:gridCol w="1299960"/>
                <a:gridCol w="1148040"/>
                <a:gridCol w="10792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4.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2.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84" name="Rectangle 24"/>
          <p:cNvSpPr/>
          <p:nvPr/>
        </p:nvSpPr>
        <p:spPr>
          <a:xfrm>
            <a:off x="1476360" y="3794040"/>
            <a:ext cx="27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Decoding time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47640" y="4365720"/>
          <a:ext cx="3384720" cy="1657080"/>
        </p:xfrm>
        <a:graphic>
          <a:graphicData uri="http://schemas.openxmlformats.org/drawingml/2006/table">
            <a:tbl>
              <a:tblPr/>
              <a:tblGrid>
                <a:gridCol w="1297080"/>
                <a:gridCol w="1152720"/>
                <a:gridCol w="9349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.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86" name="Text Box 346"/>
          <p:cNvSpPr/>
          <p:nvPr/>
        </p:nvSpPr>
        <p:spPr>
          <a:xfrm>
            <a:off x="5423760" y="3141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3%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47"/>
          <p:cNvSpPr/>
          <p:nvPr/>
        </p:nvSpPr>
        <p:spPr>
          <a:xfrm>
            <a:off x="5418360" y="566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7%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FC6B8564-2DDE-4A4B-8DEB-1DA3C9EA73E7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</a:rPr>
              <a:t>SDMVD- Compression Performance Analysi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674640" y="907920"/>
            <a:ext cx="5469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RD Performance for CS1 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674640" y="3573360"/>
            <a:ext cx="4977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RD Performance for CS2 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55640" y="4149720"/>
          <a:ext cx="5194440" cy="1828800"/>
        </p:xfrm>
        <a:graphic>
          <a:graphicData uri="http://schemas.openxmlformats.org/drawingml/2006/table">
            <a:tbl>
              <a:tblPr/>
              <a:tblGrid>
                <a:gridCol w="1233360"/>
                <a:gridCol w="1008360"/>
                <a:gridCol w="936360"/>
                <a:gridCol w="936720"/>
                <a:gridCol w="107964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55640" y="1413000"/>
          <a:ext cx="5256360" cy="2133360"/>
        </p:xfrm>
        <a:graphic>
          <a:graphicData uri="http://schemas.openxmlformats.org/drawingml/2006/table">
            <a:tbl>
              <a:tblPr/>
              <a:tblGrid>
                <a:gridCol w="1297080"/>
                <a:gridCol w="1006560"/>
                <a:gridCol w="936360"/>
                <a:gridCol w="935280"/>
                <a:gridCol w="10810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94" name="Text Box 625"/>
          <p:cNvSpPr/>
          <p:nvPr/>
        </p:nvSpPr>
        <p:spPr>
          <a:xfrm>
            <a:off x="6156360" y="35002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DMVD  has equiva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D performance as rwthDMV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FC0F1B67-1750-485B-9B20-C7A5D9F8DC4B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920" y="857160"/>
            <a:ext cx="7929720" cy="1571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7000"/>
          </a:bodyPr>
          <a:p>
            <a:pPr marL="44316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STDM is proposed here which could exploit both spatial and temporal information and improve coding efficiency.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1"/>
          <p:cNvGraphicFramePr/>
          <p:nvPr/>
        </p:nvGraphicFramePr>
        <p:xfrm>
          <a:off x="785880" y="2786040"/>
          <a:ext cx="69102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786040"/>
                    <a:ext cx="6910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B498AA35-457E-43F3-81D9-F83AC8DA41A5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Selection of the reference fra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285920" y="1357200"/>
          <a:ext cx="60008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357200"/>
                    <a:ext cx="60008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24"/>
          <p:cNvSpPr/>
          <p:nvPr/>
        </p:nvSpPr>
        <p:spPr>
          <a:xfrm>
            <a:off x="642960" y="3786120"/>
            <a:ext cx="7929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otion vector candidat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3"/>
          <a:stretch/>
        </p:blipFill>
        <p:spPr>
          <a:xfrm>
            <a:off x="2000160" y="4214880"/>
            <a:ext cx="4381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03:46Z</dcterms:created>
  <dc:creator>dipeiyun</dc:creator>
  <dc:description/>
  <dc:language>en-US</dc:language>
  <cp:lastModifiedBy>walkinnet</cp:lastModifiedBy>
  <dcterms:modified xsi:type="dcterms:W3CDTF">2010-07-21T19:49:51Z</dcterms:modified>
  <cp:revision>98</cp:revision>
  <dc:subject/>
  <dc:title>E2E原型平台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156733</vt:lpwstr>
  </property>
  <property fmtid="{D5CDD505-2E9C-101B-9397-08002B2CF9AE}" pid="3" name="slevel">
    <vt:lpwstr>5</vt:lpwstr>
  </property>
  <property fmtid="{D5CDD505-2E9C-101B-9397-08002B2CF9AE}" pid="4" name="slevelui">
    <vt:lpwstr>1</vt:lpwstr>
  </property>
</Properties>
</file>