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F9C9-4565-40DE-B52C-A71C4C6C34B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B2B3-D3CC-4650-880A-556E81BAC5A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70E7-5091-4765-B84B-D9FE23E29A8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C0DC-635A-4388-BD27-668B1A3B9DF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AD5E-CB3B-4DAD-B103-A9FEB3FCC35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B6CF-C53A-427F-B843-5DD35E8ACA5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690D-8D72-433F-BC6E-6D8BA0E6EDC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8617-168D-42C6-AE96-51D2508FA6D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56A6-99FE-4794-99D9-2482477E578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3845-82AC-4D4C-AB91-535BEA42AEA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8923-7EDC-4D6A-9A7D-B4DB1D221D4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5782-CE80-4513-809F-08E1CC2D848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C667-CA30-405C-A772-D4973A1A668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5CCF-F8EA-4A67-A068-BCED60445E7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37E9-C449-43F7-84A0-8F438588ADA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3A51-44F1-453E-B449-169207C662E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C83C-03A9-403C-B57D-F599E83417A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51960" y="42984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9B8156D2-3F17-4316-A905-BCCF0BCCA65B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1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6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1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6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1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6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1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6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1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6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1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6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1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  <a:ea typeface="ＭＳ Ｐゴシック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9" descr="Logo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2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0"/>
          <p:cNvSpPr/>
          <p:nvPr/>
        </p:nvSpPr>
        <p:spPr>
          <a:xfrm>
            <a:off x="555480" y="620712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  <a:ea typeface="ＭＳ Ｐゴシック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6778440" y="247680"/>
            <a:ext cx="14972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666666"/>
                </a:solidFill>
                <a:latin typeface="FrutigerNext LT Regular"/>
                <a:ea typeface="ＭＳ Ｐゴシック"/>
              </a:rPr>
              <a:t>Security Level: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2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C98F-E10C-4482-8EED-BBD3B8069FE9}" type="datetime">
              <a:rPr b="0" lang="zh-CN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6"/>
          <p:cNvSpPr/>
          <p:nvPr/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D670B5C5-B3A4-4BAC-B806-30E633064433}" type="datetime">
              <a:rPr b="0" lang="zh-CN" sz="12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42960" y="2928600"/>
            <a:ext cx="5616720" cy="865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细黑"/>
              </a:rPr>
              <a:t>Sixin Lin, Mingyuan Yang, Jiantong Zhou, Jin Song, Dong Wang, Haitao Yang, Jiali Fu, Haoping Yu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华文细黑"/>
              </a:rPr>
              <a:t>Yue Wang, Li Zhang, Siwei Ma, Wen Gao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细黑"/>
              </a:rPr>
              <a:t>Huawei  Technologies  Co., Ltd. &amp; Peking  University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636120" y="1391760"/>
            <a:ext cx="530388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FrutigerNext LT Medium"/>
              </a:rPr>
              <a:t>TE1: Huawei report on DMVD improvements</a:t>
            </a:r>
            <a:endParaRPr b="0" lang="en-US" sz="28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8A31097D-E201-4E82-A942-9D4206AC4874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TDM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1680" y="857160"/>
            <a:ext cx="7929360" cy="571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5720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Derivation of motion vector pair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45720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4"/>
          <p:cNvSpPr/>
          <p:nvPr/>
        </p:nvSpPr>
        <p:spPr>
          <a:xfrm>
            <a:off x="571680" y="2643120"/>
            <a:ext cx="79293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Best motion vector pair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2071800" y="2071800"/>
          <a:ext cx="385740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2071800"/>
                    <a:ext cx="38574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8" name="Picture 4" descr=""/>
          <p:cNvPicPr/>
          <p:nvPr/>
        </p:nvPicPr>
        <p:blipFill>
          <a:blip r:embed="rId3"/>
          <a:stretch/>
        </p:blipFill>
        <p:spPr>
          <a:xfrm>
            <a:off x="2000160" y="3143160"/>
            <a:ext cx="4714920" cy="2082960"/>
          </a:xfrm>
          <a:prstGeom prst="rect">
            <a:avLst/>
          </a:prstGeom>
          <a:ln w="0">
            <a:noFill/>
          </a:ln>
        </p:spPr>
      </p:pic>
      <p:sp>
        <p:nvSpPr>
          <p:cNvPr id="319" name="矩形 11"/>
          <p:cNvSpPr/>
          <p:nvPr/>
        </p:nvSpPr>
        <p:spPr>
          <a:xfrm>
            <a:off x="1143000" y="5500800"/>
            <a:ext cx="685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ost = SAD(MBforward, MBcorresponding)+lambda*SAD(Templateforward, Templatecurrent) +lambda*SAD(Templatecorresponding, Templatecunr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4"/>
          <p:cNvSpPr/>
          <p:nvPr/>
        </p:nvSpPr>
        <p:spPr>
          <a:xfrm>
            <a:off x="642960" y="121428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Assuming that the motion of objects is translational with constant speed, the corresponding motion vector is obtained by the following formu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4"/>
          <p:cNvSpPr/>
          <p:nvPr/>
        </p:nvSpPr>
        <p:spPr>
          <a:xfrm>
            <a:off x="571680" y="857160"/>
            <a:ext cx="79293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 Derivation of motion vector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A994ED17-CF63-46F4-A99E-E17342AB9071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TDM in P Slice and B Slic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428760" y="1071720"/>
            <a:ext cx="792936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 algn="just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 slice, AVC P_SKIP mode is replaced by STDM PSKIP in macroblock 32x32 level. DMVD P_SKIP and STDM P_SKIP mode are selected in macroblock 16x16 level. One flag is needed to indicate which specific method is chosen in P_SKIP m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 Slice, AVC B_SKIP/B_DIRECT and STDM B_SKIP/B_DIRECT are used in macroblock 16x16 and 32x32 levels. One flag for B_SKIP/B_DIRECT mode is needed to indicate which specific method is chosen in B SKIP/DIRECE m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7A4AC36F-D190-4ECA-88BC-44DA3779FA31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Compression Performanc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4"/>
          <p:cNvSpPr/>
          <p:nvPr/>
        </p:nvSpPr>
        <p:spPr>
          <a:xfrm>
            <a:off x="571680" y="857160"/>
            <a:ext cx="79293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RD performance for CS1 relative to TE1 anchor </a:t>
            </a:r>
            <a:r>
              <a:rPr b="0" lang="en-US" sz="2000" spc="-1" strike="noStrike">
                <a:solidFill>
                  <a:srgbClr val="990000"/>
                </a:solidFill>
                <a:latin typeface="FrutigerNext LT Regular"/>
                <a:ea typeface="ＭＳ Ｐゴシック"/>
              </a:rPr>
              <a:t>(ExtMB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84360" y="1413000"/>
          <a:ext cx="5832360" cy="2198520"/>
        </p:xfrm>
        <a:graphic>
          <a:graphicData uri="http://schemas.openxmlformats.org/drawingml/2006/table">
            <a:tbl>
              <a:tblPr/>
              <a:tblGrid>
                <a:gridCol w="1854000"/>
                <a:gridCol w="1063800"/>
                <a:gridCol w="971280"/>
                <a:gridCol w="970200"/>
                <a:gridCol w="97308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Seq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.6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7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.5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.5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0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.9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9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33" name="Rectangle 24"/>
          <p:cNvSpPr/>
          <p:nvPr/>
        </p:nvSpPr>
        <p:spPr>
          <a:xfrm>
            <a:off x="611280" y="357192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RD performance for CS2 relative to TE1 anchor </a:t>
            </a:r>
            <a:r>
              <a:rPr b="0" lang="en-US" sz="2000" spc="-1" strike="noStrike">
                <a:solidFill>
                  <a:srgbClr val="990000"/>
                </a:solidFill>
                <a:latin typeface="FrutigerNext LT Regular"/>
                <a:ea typeface="ＭＳ Ｐゴシック"/>
              </a:rPr>
              <a:t>(ExtMB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83"/>
          <p:cNvSpPr/>
          <p:nvPr/>
        </p:nvSpPr>
        <p:spPr>
          <a:xfrm>
            <a:off x="39020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92"/>
          <p:cNvSpPr/>
          <p:nvPr/>
        </p:nvSpPr>
        <p:spPr>
          <a:xfrm>
            <a:off x="39020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93"/>
          <p:cNvSpPr/>
          <p:nvPr/>
        </p:nvSpPr>
        <p:spPr>
          <a:xfrm>
            <a:off x="52736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96"/>
          <p:cNvSpPr/>
          <p:nvPr/>
        </p:nvSpPr>
        <p:spPr>
          <a:xfrm>
            <a:off x="52736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16"/>
          <p:cNvSpPr/>
          <p:nvPr/>
        </p:nvSpPr>
        <p:spPr>
          <a:xfrm>
            <a:off x="6715440" y="2637000"/>
            <a:ext cx="205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total gain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about 6% bitrate 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0.2 dB PSNR</a:t>
            </a:r>
            <a:r>
              <a:rPr b="0" lang="zh-CN" sz="1600" spc="-1" strike="noStrike">
                <a:solidFill>
                  <a:srgbClr val="990000"/>
                </a:solidFill>
                <a:latin typeface="Arial"/>
              </a:rPr>
              <a:t>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17"/>
          <p:cNvSpPr/>
          <p:nvPr/>
        </p:nvSpPr>
        <p:spPr>
          <a:xfrm>
            <a:off x="6788520" y="5084640"/>
            <a:ext cx="2166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total gain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about 4.7% bitrate 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0.15 dB PSNR</a:t>
            </a:r>
            <a:r>
              <a:rPr b="0" lang="zh-CN" sz="1600" spc="-1" strike="noStrike">
                <a:solidFill>
                  <a:srgbClr val="990000"/>
                </a:solidFill>
                <a:latin typeface="Arial"/>
              </a:rPr>
              <a:t>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684360" y="4005360"/>
          <a:ext cx="5832360" cy="2031840"/>
        </p:xfrm>
        <a:graphic>
          <a:graphicData uri="http://schemas.openxmlformats.org/drawingml/2006/table">
            <a:tbl>
              <a:tblPr/>
              <a:tblGrid>
                <a:gridCol w="1944720"/>
                <a:gridCol w="971280"/>
                <a:gridCol w="971640"/>
                <a:gridCol w="973080"/>
                <a:gridCol w="971640"/>
              </a:tblGrid>
              <a:tr h="338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Seq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7BC4D363-152D-4242-8068-CF142FB6C37C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Complexity Performanc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4"/>
          <p:cNvSpPr/>
          <p:nvPr/>
        </p:nvSpPr>
        <p:spPr>
          <a:xfrm>
            <a:off x="571680" y="857160"/>
            <a:ext cx="79293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ecoding Time for CS1 relative to TE1 anc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4"/>
          <p:cNvSpPr/>
          <p:nvPr/>
        </p:nvSpPr>
        <p:spPr>
          <a:xfrm>
            <a:off x="611280" y="314172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Decoding Time for CS2 relative to TE1 anc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4"/>
          <p:cNvSpPr/>
          <p:nvPr/>
        </p:nvSpPr>
        <p:spPr>
          <a:xfrm>
            <a:off x="39020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55"/>
          <p:cNvSpPr/>
          <p:nvPr/>
        </p:nvSpPr>
        <p:spPr>
          <a:xfrm>
            <a:off x="39020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6"/>
          <p:cNvSpPr/>
          <p:nvPr/>
        </p:nvSpPr>
        <p:spPr>
          <a:xfrm>
            <a:off x="52736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7"/>
          <p:cNvSpPr/>
          <p:nvPr/>
        </p:nvSpPr>
        <p:spPr>
          <a:xfrm>
            <a:off x="52736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684360" y="1413000"/>
          <a:ext cx="5832360" cy="1530360"/>
        </p:xfrm>
        <a:graphic>
          <a:graphicData uri="http://schemas.openxmlformats.org/drawingml/2006/table">
            <a:tbl>
              <a:tblPr/>
              <a:tblGrid>
                <a:gridCol w="1717560"/>
                <a:gridCol w="968400"/>
                <a:gridCol w="1512720"/>
                <a:gridCol w="1633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Seq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4.0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9.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7.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1.6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0.8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5.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.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.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6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.9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.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684360" y="3789360"/>
          <a:ext cx="5832360" cy="1247760"/>
        </p:xfrm>
        <a:graphic>
          <a:graphicData uri="http://schemas.openxmlformats.org/drawingml/2006/table">
            <a:tbl>
              <a:tblPr/>
              <a:tblGrid>
                <a:gridCol w="1733400"/>
                <a:gridCol w="939960"/>
                <a:gridCol w="1520640"/>
                <a:gridCol w="1638360"/>
              </a:tblGrid>
              <a:tr h="32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Seq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0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.9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53" name="Rectangle 379"/>
          <p:cNvSpPr/>
          <p:nvPr/>
        </p:nvSpPr>
        <p:spPr>
          <a:xfrm>
            <a:off x="250920" y="5299200"/>
            <a:ext cx="86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In cs1 the decoding time of proposed SDMVD_SSTDM  is 1 times slower than TE1 anc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In cs2 the decoding time of proposed SDMVD_SSTDM  is 2.35 times slower than TE1 anc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BB8DBA57-12D0-4F1D-8254-2731C00EBD59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4832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990000"/>
                </a:solidFill>
                <a:latin typeface="FrutigerNext LT Medium"/>
              </a:rPr>
              <a:t>Improvement STDM in P Slice</a:t>
            </a:r>
            <a:endParaRPr b="0" lang="en-US" sz="39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8"/>
          <p:cNvSpPr/>
          <p:nvPr/>
        </p:nvSpPr>
        <p:spPr>
          <a:xfrm>
            <a:off x="39020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9"/>
          <p:cNvSpPr/>
          <p:nvPr/>
        </p:nvSpPr>
        <p:spPr>
          <a:xfrm>
            <a:off x="39020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0"/>
          <p:cNvSpPr/>
          <p:nvPr/>
        </p:nvSpPr>
        <p:spPr>
          <a:xfrm>
            <a:off x="52736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1"/>
          <p:cNvSpPr/>
          <p:nvPr/>
        </p:nvSpPr>
        <p:spPr>
          <a:xfrm>
            <a:off x="52736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2"/>
          <p:cNvSpPr/>
          <p:nvPr/>
        </p:nvSpPr>
        <p:spPr>
          <a:xfrm>
            <a:off x="539640" y="147600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cently find out instead of using DMVD P_SKIP with STDM P_SKIP in P slice, using AVC P_SKIP and STDM P_SKIP can obtain better compression performance. Now AVC P_SKIP and STDM P_SKIP are used in macroblock 16x16 and 32x32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460FA8CB-DAA7-4A73-9691-9664F4C2CB3F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4832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990000"/>
                </a:solidFill>
                <a:latin typeface="FrutigerNext LT Medium"/>
              </a:rPr>
              <a:t>Improved STDM in P slice</a:t>
            </a:r>
            <a:endParaRPr b="0" lang="en-US" sz="39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"/>
          <p:cNvSpPr/>
          <p:nvPr/>
        </p:nvSpPr>
        <p:spPr>
          <a:xfrm>
            <a:off x="39020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7"/>
          <p:cNvSpPr/>
          <p:nvPr/>
        </p:nvSpPr>
        <p:spPr>
          <a:xfrm>
            <a:off x="39020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52736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9"/>
          <p:cNvSpPr/>
          <p:nvPr/>
        </p:nvSpPr>
        <p:spPr>
          <a:xfrm>
            <a:off x="5273640" y="21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4"/>
          <p:cNvSpPr/>
          <p:nvPr/>
        </p:nvSpPr>
        <p:spPr>
          <a:xfrm>
            <a:off x="571680" y="857160"/>
            <a:ext cx="79293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RD performance for CS1 relative to TE1 anchor </a:t>
            </a:r>
            <a:r>
              <a:rPr b="0" lang="en-US" sz="2000" spc="-1" strike="noStrike">
                <a:solidFill>
                  <a:srgbClr val="990000"/>
                </a:solidFill>
                <a:latin typeface="FrutigerNext LT Regular"/>
                <a:ea typeface="ＭＳ Ｐゴシック"/>
              </a:rPr>
              <a:t>(ExtMB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4"/>
          <p:cNvSpPr/>
          <p:nvPr/>
        </p:nvSpPr>
        <p:spPr>
          <a:xfrm>
            <a:off x="611280" y="364968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RD performance for CS2 relative to TE1 anchor </a:t>
            </a:r>
            <a:r>
              <a:rPr b="0" lang="en-US" sz="2000" spc="-1" strike="noStrike">
                <a:solidFill>
                  <a:srgbClr val="990000"/>
                </a:solidFill>
                <a:latin typeface="FrutigerNext LT Regular"/>
                <a:ea typeface="ＭＳ Ｐゴシック"/>
              </a:rPr>
              <a:t>(ExtMB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4360" y="1341360"/>
          <a:ext cx="6912000" cy="2381400"/>
        </p:xfrm>
        <a:graphic>
          <a:graphicData uri="http://schemas.openxmlformats.org/drawingml/2006/table">
            <a:tbl>
              <a:tblPr/>
              <a:tblGrid>
                <a:gridCol w="1885680"/>
                <a:gridCol w="1351080"/>
                <a:gridCol w="1311120"/>
                <a:gridCol w="1130400"/>
                <a:gridCol w="1233720"/>
              </a:tblGrid>
              <a:tr h="411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Seq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.7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.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.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.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.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.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2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0.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-5.9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-5.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2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0.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5.9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-5.9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684360" y="4149720"/>
          <a:ext cx="6912000" cy="1828800"/>
        </p:xfrm>
        <a:graphic>
          <a:graphicData uri="http://schemas.openxmlformats.org/drawingml/2006/table">
            <a:tbl>
              <a:tblPr/>
              <a:tblGrid>
                <a:gridCol w="2232000"/>
                <a:gridCol w="1168200"/>
                <a:gridCol w="1171800"/>
                <a:gridCol w="1168200"/>
                <a:gridCol w="1171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Seq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_SS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0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6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7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0.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4.7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-4.9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0.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4.7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-5.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75" name="Rectangle 511"/>
          <p:cNvSpPr/>
          <p:nvPr/>
        </p:nvSpPr>
        <p:spPr>
          <a:xfrm>
            <a:off x="7667640" y="4581360"/>
            <a:ext cx="129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Data in red color are data of old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3450D166-F201-4B3D-B7F0-7B5D5BBDB67E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Conclus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4"/>
          <p:cNvSpPr/>
          <p:nvPr/>
        </p:nvSpPr>
        <p:spPr>
          <a:xfrm>
            <a:off x="500040" y="1071720"/>
            <a:ext cx="79297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lvl="1" marL="7430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In this proposal we present the detailed description of our SDMVD and STDM together with the analysis of coding performance and complex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Compared with TE1 anchor bitstreams, 6% of bitrate saving can be achieved in CS1 and 5% of bitrate saving in CS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50AE35CE-21A3-4C3C-9304-7B8B9690325B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651960" y="211464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Times New Roman"/>
              </a:rPr>
              <a:t>Thank you</a:t>
            </a:r>
            <a:endParaRPr b="1" lang="en-US" sz="6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 algn="ctr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Times New Roman"/>
              </a:rPr>
              <a:t>www.huawei.com</a:t>
            </a:r>
            <a:endParaRPr b="1" lang="en-US" sz="36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8CAA805D-17FE-44FD-B544-6D14E82AECA1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5698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Content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1960" y="1071360"/>
            <a:ext cx="7929720" cy="47638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Next LT Regular"/>
              </a:rPr>
              <a:t>Simplified DMVD(SDMVD)</a:t>
            </a: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Next LT Regular"/>
              </a:rPr>
              <a:t>Spatial Temporal Direct Mode (STDM)</a:t>
            </a: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Next LT Regular"/>
              </a:rPr>
              <a:t>Compression Performance</a:t>
            </a: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Next LT Regular"/>
              </a:rPr>
              <a:t>Complexity Analysis</a:t>
            </a: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Next LT Regular"/>
              </a:rPr>
              <a:t>Improved STDM in P Slice</a:t>
            </a: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Next LT Regular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4F4528A3-BCE1-435E-B9E0-0C9D3758AC27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DMVD-Block Diagram of DMVD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036880" y="1486080"/>
            <a:ext cx="2160360" cy="718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templat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>
            <a:off x="3117960" y="119700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"/>
          <p:cNvSpPr/>
          <p:nvPr/>
        </p:nvSpPr>
        <p:spPr>
          <a:xfrm>
            <a:off x="3117960" y="220500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036880" y="2421000"/>
            <a:ext cx="2160360" cy="865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Motion V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 Se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3117960" y="328608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2036880" y="3502080"/>
            <a:ext cx="2160360" cy="649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late 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2036880" y="4365720"/>
            <a:ext cx="2160360" cy="649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 Current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3"/>
          <p:cNvSpPr/>
          <p:nvPr/>
        </p:nvSpPr>
        <p:spPr>
          <a:xfrm>
            <a:off x="3117960" y="414972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4"/>
          <p:cNvSpPr/>
          <p:nvPr/>
        </p:nvSpPr>
        <p:spPr>
          <a:xfrm>
            <a:off x="3117960" y="4995720"/>
            <a:ext cx="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5"/>
          <p:cNvSpPr/>
          <p:nvPr/>
        </p:nvSpPr>
        <p:spPr>
          <a:xfrm>
            <a:off x="4344840" y="3381480"/>
            <a:ext cx="375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Motion Estimation procedure,  H.26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ener filter or AIF filter is used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e reference templ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4344840" y="4389480"/>
            <a:ext cx="425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Motion Compensation procedure,  H.26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ener filter or AIF filter is used to interpol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blo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386A817B-5B56-4D02-BC57-C1C84EDB6F60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DMVD-Block diagram of SDMVD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2036880" y="1486080"/>
            <a:ext cx="2160360" cy="718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templat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3117960" y="119700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3117960" y="220500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2036880" y="2421000"/>
            <a:ext cx="2160360" cy="865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Motion V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 Se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3117960" y="328608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2036880" y="3502080"/>
            <a:ext cx="2160360" cy="64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late 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2036880" y="4365720"/>
            <a:ext cx="2160360" cy="649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 Current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3117960" y="414972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3117960" y="4995720"/>
            <a:ext cx="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4342680" y="3381480"/>
            <a:ext cx="453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Motion Estimation procedure,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ilinear  fil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to interpolate reference templ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4344840" y="4389480"/>
            <a:ext cx="425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Motion Compensation procedure,  H.26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ener filter or AIF filter is used to interpol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blo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2F600B2B-DF5A-44A4-864E-3F0FD5F42E11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DMVD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1960" y="1000080"/>
            <a:ext cx="7929720" cy="571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FrutigerNext LT Regular"/>
              </a:rPr>
              <a:t>Bilinear Interpolation of SDMVD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7" name="Rectangle 24"/>
          <p:cNvSpPr/>
          <p:nvPr/>
        </p:nvSpPr>
        <p:spPr>
          <a:xfrm>
            <a:off x="357120" y="1571760"/>
            <a:ext cx="79297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299880" indent="-29988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182920" cy="41050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"/>
          <p:cNvSpPr/>
          <p:nvPr/>
        </p:nvSpPr>
        <p:spPr>
          <a:xfrm>
            <a:off x="6095880" y="4079520"/>
            <a:ext cx="2451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h = (A + C + 1) /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m = (B + D +1) /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b = (A + B + 1) /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s = (C + D + 1) /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j = (b + s + 1) /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a = (A + b +1 ) /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A4FCE0E7-9BCC-412C-9570-7DE7A92097B1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DMVD-Complexity Analysi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2" name="Rectangle 24"/>
          <p:cNvSpPr/>
          <p:nvPr/>
        </p:nvSpPr>
        <p:spPr>
          <a:xfrm>
            <a:off x="1476360" y="907920"/>
            <a:ext cx="2736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utigerNext LT Regular"/>
                <a:ea typeface="ＭＳ Ｐゴシック"/>
              </a:rPr>
              <a:t>Decoding time for C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549440" y="1557360"/>
          <a:ext cx="3527280" cy="2016000"/>
        </p:xfrm>
        <a:graphic>
          <a:graphicData uri="http://schemas.openxmlformats.org/drawingml/2006/table">
            <a:tbl>
              <a:tblPr/>
              <a:tblGrid>
                <a:gridCol w="1299960"/>
                <a:gridCol w="1148040"/>
                <a:gridCol w="107928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Seq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wthDMV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14.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2.9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.7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4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.7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84" name="Rectangle 24"/>
          <p:cNvSpPr/>
          <p:nvPr/>
        </p:nvSpPr>
        <p:spPr>
          <a:xfrm>
            <a:off x="1476360" y="3794040"/>
            <a:ext cx="2736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utigerNext LT Regular"/>
                <a:ea typeface="ＭＳ Ｐゴシック"/>
              </a:rPr>
              <a:t>Decoding time for C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547640" y="4365720"/>
          <a:ext cx="3384720" cy="1657080"/>
        </p:xfrm>
        <a:graphic>
          <a:graphicData uri="http://schemas.openxmlformats.org/drawingml/2006/table">
            <a:tbl>
              <a:tblPr/>
              <a:tblGrid>
                <a:gridCol w="1297080"/>
                <a:gridCol w="1152720"/>
                <a:gridCol w="9349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Seq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wthDMV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1.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2.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.7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4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9.6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.4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86" name="Text Box 346"/>
          <p:cNvSpPr/>
          <p:nvPr/>
        </p:nvSpPr>
        <p:spPr>
          <a:xfrm>
            <a:off x="5423760" y="3141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53%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47"/>
          <p:cNvSpPr/>
          <p:nvPr/>
        </p:nvSpPr>
        <p:spPr>
          <a:xfrm>
            <a:off x="5418360" y="5661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57%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AECA405A-78F1-40C6-91FE-A4C1F926E19A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</a:rPr>
              <a:t>SDMVD- Compression Performance Analysis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674640" y="907920"/>
            <a:ext cx="5469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utigerNext LT Regular"/>
                <a:ea typeface="ＭＳ Ｐゴシック"/>
              </a:rPr>
              <a:t>RD Performance for CS1 (ExtMB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4"/>
          <p:cNvSpPr/>
          <p:nvPr/>
        </p:nvSpPr>
        <p:spPr>
          <a:xfrm>
            <a:off x="674640" y="3573360"/>
            <a:ext cx="4977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utigerNext LT Regular"/>
                <a:ea typeface="ＭＳ Ｐゴシック"/>
              </a:rPr>
              <a:t>RD Performance for CS2 (ExtMB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55640" y="4149720"/>
          <a:ext cx="5194440" cy="1828800"/>
        </p:xfrm>
        <a:graphic>
          <a:graphicData uri="http://schemas.openxmlformats.org/drawingml/2006/table">
            <a:tbl>
              <a:tblPr/>
              <a:tblGrid>
                <a:gridCol w="1233360"/>
                <a:gridCol w="1008360"/>
                <a:gridCol w="936360"/>
                <a:gridCol w="936720"/>
                <a:gridCol w="107964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Seq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wthDMV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5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3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9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755640" y="1413000"/>
          <a:ext cx="5256360" cy="2133360"/>
        </p:xfrm>
        <a:graphic>
          <a:graphicData uri="http://schemas.openxmlformats.org/drawingml/2006/table">
            <a:tbl>
              <a:tblPr/>
              <a:tblGrid>
                <a:gridCol w="1297080"/>
                <a:gridCol w="1006560"/>
                <a:gridCol w="936360"/>
                <a:gridCol w="935280"/>
                <a:gridCol w="108108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Seq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wthDMV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V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PSN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RAT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94" name="Text Box 625"/>
          <p:cNvSpPr/>
          <p:nvPr/>
        </p:nvSpPr>
        <p:spPr>
          <a:xfrm>
            <a:off x="6156360" y="350028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SDMVD  has equival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RD performance as rwthDMV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D196FB44-6520-4992-8A5F-343C7D02D3E2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TDM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0920" y="857160"/>
            <a:ext cx="7929720" cy="1571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7000"/>
          </a:bodyPr>
          <a:p>
            <a:pPr marL="44316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STDM is proposed here which could exploit both spatial and temporal information and improve coding efficiency.</a:t>
            </a:r>
            <a:endParaRPr b="1" lang="en-US" sz="2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1"/>
          <p:cNvGraphicFramePr/>
          <p:nvPr/>
        </p:nvGraphicFramePr>
        <p:xfrm>
          <a:off x="785880" y="2786040"/>
          <a:ext cx="6910200" cy="20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2786040"/>
                    <a:ext cx="691020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Page </a:t>
            </a:r>
            <a:fld id="{14BFBAD2-B388-442E-9E6D-44F107403374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TDM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71680" y="857160"/>
            <a:ext cx="7929360" cy="571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5720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Selection of the reference frame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457200" indent="0">
              <a:lnSpc>
                <a:spcPct val="14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3"/>
          <p:cNvGraphicFramePr/>
          <p:nvPr/>
        </p:nvGraphicFramePr>
        <p:xfrm>
          <a:off x="1285920" y="1357200"/>
          <a:ext cx="600084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357200"/>
                    <a:ext cx="600084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24"/>
          <p:cNvSpPr/>
          <p:nvPr/>
        </p:nvSpPr>
        <p:spPr>
          <a:xfrm>
            <a:off x="642960" y="3786120"/>
            <a:ext cx="7929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Motion vector candidat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"/>
          <p:cNvPicPr/>
          <p:nvPr/>
        </p:nvPicPr>
        <p:blipFill>
          <a:blip r:embed="rId3"/>
          <a:stretch/>
        </p:blipFill>
        <p:spPr>
          <a:xfrm>
            <a:off x="2000160" y="4214880"/>
            <a:ext cx="43815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0:03:46Z</dcterms:created>
  <dc:creator>dipeiyun</dc:creator>
  <dc:description/>
  <dc:language>en-US</dc:language>
  <cp:lastModifiedBy>walkinnet</cp:lastModifiedBy>
  <dcterms:modified xsi:type="dcterms:W3CDTF">2010-07-21T19:49:51Z</dcterms:modified>
  <cp:revision>98</cp:revision>
  <dc:subject/>
  <dc:title>E2E原型平台介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79156733</vt:lpwstr>
  </property>
  <property fmtid="{D5CDD505-2E9C-101B-9397-08002B2CF9AE}" pid="3" name="slevel">
    <vt:lpwstr>5</vt:lpwstr>
  </property>
  <property fmtid="{D5CDD505-2E9C-101B-9397-08002B2CF9AE}" pid="4" name="slevelui">
    <vt:lpwstr>1</vt:lpwstr>
  </property>
</Properties>
</file>