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CA8E-7D74-40B6-BCE8-E40D68BB5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BE7B-19FD-45DE-BCC5-609394871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78A9-BFD6-4054-9824-A84E3F0D6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270A-2BC8-4239-88D2-ECCAAABC9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BECA0-5106-4978-8969-6DD925A127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80643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9000" y="3605400"/>
            <a:ext cx="80643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11AB8-4FE7-4D94-A9B0-390C52F252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44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49000" y="360540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1440" y="360540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CEE7B-6A49-4A63-8397-C7BAC9B8CD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75640" y="148428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01920" y="148428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9000" y="360540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75640" y="360540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01920" y="360540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52DB5-7753-4450-85FC-7B95B9DB2A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49000" y="1484280"/>
            <a:ext cx="806436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80643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3935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1440" y="1484280"/>
            <a:ext cx="3935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58720" y="259920"/>
            <a:ext cx="806472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1440" y="1484280"/>
            <a:ext cx="3935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49000" y="360540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49000" y="1484280"/>
            <a:ext cx="806436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C1CEC-1030-4797-817B-2A4AEAA158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3935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44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1440" y="360540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144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9000" y="3605400"/>
            <a:ext cx="80643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80643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9000" y="3605400"/>
            <a:ext cx="80643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49000" y="360540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1440" y="360540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75640" y="148428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1920" y="148428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49000" y="360540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75640" y="360540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1920" y="360540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80643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01407-95B9-4D62-A651-7A5EECB3C9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3935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1440" y="1484280"/>
            <a:ext cx="3935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313B3-1C2B-4777-AC2D-244F8AD6F3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A7D2B-D0CA-4BF7-822F-97338E7909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58720" y="259920"/>
            <a:ext cx="806472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BE768-279E-4344-805E-2E7E0664F9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484280"/>
            <a:ext cx="3935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49000" y="360540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10F38-4D68-4181-9B66-9E628A10EE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3935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1440" y="360540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F23AE-4471-472D-B6A0-2AD2DA98B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44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9000" y="3605400"/>
            <a:ext cx="80643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79433-2435-45B3-BE25-5776E05F25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BlackBerry_Logo_Preferred_Black_New"/>
          <p:cNvPicPr/>
          <p:nvPr/>
        </p:nvPicPr>
        <p:blipFill>
          <a:blip r:embed="rId2"/>
          <a:stretch/>
        </p:blipFill>
        <p:spPr>
          <a:xfrm>
            <a:off x="423720" y="6343560"/>
            <a:ext cx="1633680" cy="363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49000" y="1484280"/>
            <a:ext cx="80643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75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255680" indent="-214200">
              <a:spcBef>
                <a:spcPts val="751"/>
              </a:spcBef>
              <a:buClr>
                <a:srgbClr val="00000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44640" indent="-228600">
              <a:spcBef>
                <a:spcPts val="7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2252520" indent="-22860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2252520" indent="-22860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2252520" indent="-22860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953120" y="6424200"/>
            <a:ext cx="87444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B6B3-5A3B-441E-B551-63F989FC5EEE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8" descr="BlackBerry_Logo_Preferred_White_New [Converted].png"/>
          <p:cNvPicPr/>
          <p:nvPr/>
        </p:nvPicPr>
        <p:blipFill>
          <a:blip r:embed="rId2"/>
          <a:stretch/>
        </p:blipFill>
        <p:spPr>
          <a:xfrm>
            <a:off x="439560" y="6346800"/>
            <a:ext cx="1617840" cy="35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484280"/>
            <a:ext cx="80643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75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255680" indent="-214200">
              <a:spcBef>
                <a:spcPts val="751"/>
              </a:spcBef>
              <a:buClr>
                <a:srgbClr val="00000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44640" indent="-228600">
              <a:spcBef>
                <a:spcPts val="7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2252520" indent="-22860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2252520" indent="-22860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2252520" indent="-22860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762B-F040-4152-B388-6B6DAB0864CB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4" descr="BlackBerry PPT Background_Red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6761880" y="633744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cember 16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2276640"/>
            <a:ext cx="7167240" cy="127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mproving throughput for V2V coding in HEVC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4000" y="3573000"/>
            <a:ext cx="55767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ake He, Gergely Korodi, Gaelle Martin-Cocher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esearch In Motion Ltd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bservation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268280"/>
            <a:ext cx="776772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ntext for sig[:, j]= sig[0,j], sig[1, j], …, sig[n-1, j] (or any subsequence derived from sig[:,j]) is the same.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equently, if we look at 4 continuous bins in sig[:, j], then the number of possible state combinations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499"/>
              </a:spcBef>
              <a:buClr>
                <a:srgbClr val="00b0f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64x2</a:t>
            </a:r>
            <a:r>
              <a:rPr b="0" lang="en-US" sz="2000" spc="-1" strike="noStrike" baseline="30000">
                <a:solidFill>
                  <a:srgbClr val="00b0f0"/>
                </a:solidFill>
                <a:latin typeface="Calibri"/>
              </a:rPr>
              <a:t>4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 = 102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ame observations hold for last[0,j], last[1,j], …, last[n-1,j] (or any subsequence derived from last[:,j]) is the same.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the proposed coding order, constant 4bins/cycle per entropy engine becomes easily feasible.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53E2-FB97-4B69-9B19-E8A41FFAD077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mproving throughpu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49360" y="1484280"/>
            <a:ext cx="76946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pproach 1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499"/>
              </a:spcBef>
              <a:buClr>
                <a:srgbClr val="0070c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Use a lookup table to determine the states for multiple bins at the same time (possible with the new coding orde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499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performance impact for 4x4 bloc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499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ttle performance impact for larger block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pproach 2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499"/>
              </a:spcBef>
              <a:buClr>
                <a:srgbClr val="0070c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update states every k bins (k &gt;1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499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 consecutive bins will have the same s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499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ll impact compression efficiency, but still limite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roughput targe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499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 bins/cycle easily feasi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E3B6-3E32-4E8D-992E-261061916B1E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ome experimental result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1521-6B44-4B37-AF00-1B7C5CC609D8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55640" y="3933720"/>
          <a:ext cx="7345440" cy="1440000"/>
        </p:xfrm>
        <a:graphic>
          <a:graphicData uri="http://schemas.openxmlformats.org/drawingml/2006/table">
            <a:tbl>
              <a:tblPr/>
              <a:tblGrid>
                <a:gridCol w="1836720"/>
                <a:gridCol w="1835280"/>
                <a:gridCol w="1836720"/>
                <a:gridCol w="1836720"/>
              </a:tblGrid>
              <a:tr h="446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ery 2 b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ery 3 b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ery 4 b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ss for BQM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%(0.02d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1%(0.02d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0%(0.03d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ss for RaceHor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1%(0.01d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6%(0.02d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3%(0.03d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49360" y="1483920"/>
            <a:ext cx="769464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asuring the performance impact of Approach 2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6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MuC 0.3 (CABA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6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GOP of 9 frames with default configu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49360" y="1484280"/>
            <a:ext cx="769464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he throughput of context modeling is critical to the overall decoding throughpu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Recommendation to include the proposed coding order in TMuC for further experiments.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E929-C27F-45BB-8F09-AF6AA8A302A5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3A7E-D0A7-4AA4-A05E-89B7391A287F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576"/>
                </a:solidFill>
                <a:latin typeface="Calibri"/>
              </a:rPr>
              <a:t>Review of decoding proces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49000" y="981000"/>
            <a:ext cx="7767720" cy="41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coding proces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499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n entropy deco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499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ext mode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499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erse binar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499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roughpu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499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# of bins/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064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 example with Parallel V2V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328760" y="2308320"/>
            <a:ext cx="982800" cy="2647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SimSun"/>
              </a:rPr>
              <a:t>Con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SimSun"/>
              </a:rPr>
              <a:t>Mod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  <a:ea typeface="SimSun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733320" y="2898720"/>
            <a:ext cx="595440" cy="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731880" y="2563920"/>
            <a:ext cx="42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2320920" y="263520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332080" y="2197080"/>
            <a:ext cx="166356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0,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0,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0,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708360" y="2276640"/>
            <a:ext cx="1584360" cy="668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  <a:ea typeface="SimSun"/>
              </a:rPr>
              <a:t>Bin entropy decoder with p</a:t>
            </a:r>
            <a:r>
              <a:rPr b="0" lang="en-US" sz="1600" spc="-1" strike="noStrike" baseline="-25000">
                <a:solidFill>
                  <a:srgbClr val="0066ff"/>
                </a:solidFill>
                <a:latin typeface="Arial"/>
                <a:ea typeface="SimSu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2333520" y="3103560"/>
            <a:ext cx="15908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1,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1,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1,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2336760" y="4265640"/>
            <a:ext cx="1658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N,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N,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N,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723000" y="2306520"/>
            <a:ext cx="657360" cy="2648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  <a:ea typeface="SimSu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  <a:ea typeface="SimSu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  <a:ea typeface="SimSu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  <a:ea typeface="SimSu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  <a:ea typeface="SimSu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2"/>
          <p:cNvSpPr/>
          <p:nvPr/>
        </p:nvSpPr>
        <p:spPr>
          <a:xfrm>
            <a:off x="5292720" y="2563920"/>
            <a:ext cx="143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5435640" y="2060640"/>
            <a:ext cx="12700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encoded bitstream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5364000" y="2924280"/>
            <a:ext cx="11620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encoded bitstream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5364000" y="4168800"/>
            <a:ext cx="11620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encoded bitstream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7380360" y="3274920"/>
            <a:ext cx="9554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encoded bitstr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>
            <a:off x="7380360" y="3521160"/>
            <a:ext cx="888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2541600" y="3613320"/>
            <a:ext cx="2570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9"/>
          <p:cNvSpPr/>
          <p:nvPr/>
        </p:nvSpPr>
        <p:spPr>
          <a:xfrm>
            <a:off x="2311560" y="4579920"/>
            <a:ext cx="1396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0"/>
          <p:cNvSpPr/>
          <p:nvPr/>
        </p:nvSpPr>
        <p:spPr>
          <a:xfrm>
            <a:off x="2311560" y="3427560"/>
            <a:ext cx="1396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1"/>
          <p:cNvSpPr/>
          <p:nvPr/>
        </p:nvSpPr>
        <p:spPr>
          <a:xfrm>
            <a:off x="4500720" y="378792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2"/>
          <p:cNvSpPr/>
          <p:nvPr/>
        </p:nvSpPr>
        <p:spPr>
          <a:xfrm>
            <a:off x="3708360" y="3068640"/>
            <a:ext cx="1584360" cy="668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  <a:ea typeface="SimSun"/>
              </a:rPr>
              <a:t>Bin entropy decoder with p</a:t>
            </a:r>
            <a:r>
              <a:rPr b="0" lang="en-US" sz="1600" spc="-1" strike="noStrike" baseline="-25000">
                <a:solidFill>
                  <a:srgbClr val="0066ff"/>
                </a:solidFill>
                <a:latin typeface="Arial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3"/>
          <p:cNvSpPr/>
          <p:nvPr/>
        </p:nvSpPr>
        <p:spPr>
          <a:xfrm>
            <a:off x="3708360" y="4292640"/>
            <a:ext cx="1584360" cy="668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  <a:ea typeface="SimSun"/>
              </a:rPr>
              <a:t>Bin entropy decoder with p</a:t>
            </a:r>
            <a:r>
              <a:rPr b="0" lang="en-US" sz="1600" spc="-1" strike="noStrike" baseline="-25000">
                <a:solidFill>
                  <a:srgbClr val="0066ff"/>
                </a:solidFill>
                <a:latin typeface="Arial"/>
                <a:ea typeface="SimSu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4"/>
          <p:cNvSpPr/>
          <p:nvPr/>
        </p:nvSpPr>
        <p:spPr>
          <a:xfrm>
            <a:off x="5292720" y="3427560"/>
            <a:ext cx="143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5"/>
          <p:cNvSpPr/>
          <p:nvPr/>
        </p:nvSpPr>
        <p:spPr>
          <a:xfrm>
            <a:off x="5292720" y="4653000"/>
            <a:ext cx="143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49000" y="1197000"/>
            <a:ext cx="8064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89160" indent="-38916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fter bin entropy decoder, context modeling becomes the obvious bottleneck.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AutoShape 27"/>
          <p:cNvSpPr/>
          <p:nvPr/>
        </p:nvSpPr>
        <p:spPr>
          <a:xfrm>
            <a:off x="1116000" y="5589720"/>
            <a:ext cx="698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llustration of the decoding process in the proposed frame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8838-26B7-4FC0-8A80-F664CB0EFDBB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588e"/>
                </a:solidFill>
                <a:latin typeface="Calibri"/>
              </a:rPr>
              <a:t>Problem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49360" y="1197000"/>
            <a:ext cx="747864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hroughput of context modeling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6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to process more than one bins/cyc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ontext modeling process in CABAC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6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ermine the con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6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date the state/probability by using a finite state mach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n exampl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3956040" cy="406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x4 DCT block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499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row represents a zig-zag scanned DCT block after quant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499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, the # of rows, is a parameter that can be specifie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499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g[i,j] = (X[i,j] &lt;&gt; 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499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st[i,j] indicates whether X[i,j] is the last significant coefficient in DCT block 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A890-CCE5-47D0-9203-746F43E9D0FA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4643280" y="1773360"/>
            <a:ext cx="39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[0,0]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[0,1]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[0, 15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[1,0]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[1,1]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[1, 15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[n-1, 0],X[n-1, 1],……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[n-1,15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58720" y="260280"/>
            <a:ext cx="8064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text modeling for significance map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7694640" cy="42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ermine the context for sig[i,j] as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ctx_sig_offse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j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date the state for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ctx_sig_offse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j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(sig[i,j])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6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ermine the context for last[i,j] as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ctx_last_offse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6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date the state for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ctx_last_offse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8130-C87E-415D-9814-F371EEB3C41C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326880"/>
            <a:ext cx="806472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 bins/cycle?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49360" y="1196640"/>
            <a:ext cx="76946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cess 3 bins starting at sig[i, j], we need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45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itial state for ctx_sig_offset+j (out of 64 possible valu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499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e for ctx_last_offset+j (needed if sig[i, j] ==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499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e for ctx_sig_offset+j+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499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e for ctx_last_offset+j+1 (needed if sig[i, j+1]==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499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e for ctx_sig_offset+j+2 (needed if sig[i, j] == 0 and sig[i, j+1] == 0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nce all states are from different contexts, we have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45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4x64x64x8 =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1800" spc="-1" strike="noStrike" baseline="30000">
                <a:solidFill>
                  <a:srgbClr val="ff0000"/>
                </a:solidFill>
                <a:latin typeface="Calibri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ossible combination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45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ble size will be too large to be practica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04AB-98D7-4AB9-8DF3-D25D1F1D2922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xisting Coding order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49360" y="1268280"/>
            <a:ext cx="54626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i=0,…,n-1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j=0,…,15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code sig[i,j]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(sig[i,j])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code last[i,j]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(last[i,j])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ak;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D917-BA7D-4C41-B3A5-AC10D1186FA6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oposed coding order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49000" y="1483920"/>
            <a:ext cx="7623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j=0,…,15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i=0,…,n-1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(last[i,0]+…+last[i,j-1] == 0)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code sig[i,j]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i=0,…,n-1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(sig[i,j] &amp; last[i,0]+…+last[i,j-1] == 0)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code last[i,j]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013C-240C-4CA2-944B-A95271D569B1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8:33:28Z</dcterms:created>
  <dc:creator>Elliot Ng</dc:creator>
  <dc:description/>
  <dc:language>en-US</dc:language>
  <cp:lastModifiedBy>Dake</cp:lastModifiedBy>
  <dcterms:modified xsi:type="dcterms:W3CDTF">2010-07-23T13:54:41Z</dcterms:modified>
  <cp:revision>158</cp:revision>
  <dc:subject/>
  <dc:title>Title of presentation</dc:title>
</cp:coreProperties>
</file>