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473E-F6A7-4AE7-A73A-B37623F20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5F1F-DF6F-44DD-8736-3D34283B8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ECF0-324D-4007-AE1C-35C78777F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7CB7-4146-47A5-BA81-005949FD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C875-2F58-46AA-A49A-44909259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8981-0586-408D-9009-62DF2D8B7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3B2E-22AB-4385-9C34-7785DF8FC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BABE-F7C0-4234-A388-6AD269AFB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F021-CCEC-4DB8-A974-B81A6D49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4912-AA12-4C48-A303-308D5FEE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9D7A-D6FE-4511-A45A-104996AED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6A3F-DCB2-4AF3-9EB6-A81E9C55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96B7-2B18-4768-8EFD-2F386F53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487-3020-4B60-99DE-163CDCFC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D3D8-5B34-49F5-8F07-3F68E2B99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A541-9CDC-4E33-9372-160CA153E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FA8F-3682-46EC-8799-7AD21501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8515-F056-4982-8978-083CAF890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C69B-8700-4365-942D-9E0F9F290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ACE9-9F10-42A4-AD25-65D05FA8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C19E-4008-4BD9-8222-44086849A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C177-64FD-44DB-8FC9-48D9F61C2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1BC5-B858-43F3-B871-F9F2D2147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4D62-295B-421A-A868-831A3F38A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564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192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900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564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192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DEE2-77AB-49EB-BCA6-2B32A1319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58720" y="259920"/>
            <a:ext cx="806472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F7A3-D8C7-4BE2-A4AC-576C18C72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564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192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900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7564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192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DD67-E206-4168-955F-4BACD9095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2981-9C8D-4F6E-99FB-1C43A7641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3755-3775-49D5-9CBC-83284844C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58720" y="259920"/>
            <a:ext cx="806472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F017-07E4-401B-9BF1-AB5B5A3D7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F7DC-320D-473A-845C-116F9B778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A869-4B50-4177-A49B-F7CD441C0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04FA-7C8F-4687-AAF7-E223BCFC9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lackBerry_Logo_Preferred_Black_New"/>
          <p:cNvPicPr/>
          <p:nvPr/>
        </p:nvPicPr>
        <p:blipFill>
          <a:blip r:embed="rId2"/>
          <a:stretch/>
        </p:blipFill>
        <p:spPr>
          <a:xfrm>
            <a:off x="423720" y="6343560"/>
            <a:ext cx="1633680" cy="36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7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-214200">
              <a:spcBef>
                <a:spcPts val="751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44640" indent="-2286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953120" y="6424200"/>
            <a:ext cx="87444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D47D-7C03-484F-AA5C-C75582611C3D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8" descr="BlackBerry_Logo_Preferred_White_New [Converted].png"/>
          <p:cNvPicPr/>
          <p:nvPr/>
        </p:nvPicPr>
        <p:blipFill>
          <a:blip r:embed="rId2"/>
          <a:stretch/>
        </p:blipFill>
        <p:spPr>
          <a:xfrm>
            <a:off x="439560" y="6346800"/>
            <a:ext cx="1617840" cy="35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7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-214200">
              <a:spcBef>
                <a:spcPts val="751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44640" indent="-2286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56A4-A691-4591-BBFC-81214F65C971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BlackBerry PPT Background_Red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368840" y="6337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 23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7848720" cy="12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JCTVC-B035: Improved Quantization for HEVC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573000"/>
            <a:ext cx="55767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ke He, Xiang Yu,  En-hui Yang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earch in Motion Ltd., Canada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4D31-B1F1-4903-BE96-B6E93C1B34ED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Proposed desig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094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ncoding with adaptive reconstruction levels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orks with multiple quantiz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/CU level uniform quantization to collect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for each quantiz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block level, apply RDOQ with give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based on the RDOQ outputs of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Straight Arrow Connector 4"/>
          <p:cNvCxnSpPr/>
          <p:nvPr/>
        </p:nvCxnSpPr>
        <p:spPr>
          <a:xfrm>
            <a:off x="899640" y="5154120"/>
            <a:ext cx="73587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7" name="Oval 5"/>
          <p:cNvSpPr/>
          <p:nvPr/>
        </p:nvSpPr>
        <p:spPr>
          <a:xfrm>
            <a:off x="1685880" y="501156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3247920" y="501156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"/>
          <p:cNvSpPr/>
          <p:nvPr/>
        </p:nvSpPr>
        <p:spPr>
          <a:xfrm>
            <a:off x="3894120" y="501156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8"/>
          <p:cNvSpPr/>
          <p:nvPr/>
        </p:nvSpPr>
        <p:spPr>
          <a:xfrm>
            <a:off x="5191200" y="501156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6"/>
          <p:cNvSpPr/>
          <p:nvPr/>
        </p:nvSpPr>
        <p:spPr>
          <a:xfrm>
            <a:off x="3218760" y="54021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7"/>
          <p:cNvSpPr/>
          <p:nvPr/>
        </p:nvSpPr>
        <p:spPr>
          <a:xfrm>
            <a:off x="1617120" y="540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3833280" y="54021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9"/>
          <p:cNvSpPr/>
          <p:nvPr/>
        </p:nvSpPr>
        <p:spPr>
          <a:xfrm>
            <a:off x="5122800" y="5429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6"/>
          <p:cNvSpPr/>
          <p:nvPr/>
        </p:nvSpPr>
        <p:spPr>
          <a:xfrm>
            <a:off x="2303640" y="4475160"/>
            <a:ext cx="315720" cy="125748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7"/>
          <p:cNvSpPr/>
          <p:nvPr/>
        </p:nvSpPr>
        <p:spPr>
          <a:xfrm>
            <a:off x="4757760" y="4508640"/>
            <a:ext cx="317520" cy="125892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8"/>
          <p:cNvSpPr/>
          <p:nvPr/>
        </p:nvSpPr>
        <p:spPr>
          <a:xfrm>
            <a:off x="5796000" y="4508640"/>
            <a:ext cx="317520" cy="125892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3606840" y="4508640"/>
            <a:ext cx="317520" cy="125892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2"/>
          <p:cNvSpPr/>
          <p:nvPr/>
        </p:nvSpPr>
        <p:spPr>
          <a:xfrm>
            <a:off x="6156360" y="4784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3"/>
          <p:cNvSpPr/>
          <p:nvPr/>
        </p:nvSpPr>
        <p:spPr>
          <a:xfrm>
            <a:off x="6442200" y="47847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6727680" y="4784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7165800" y="501336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9"/>
          <p:cNvSpPr/>
          <p:nvPr/>
        </p:nvSpPr>
        <p:spPr>
          <a:xfrm>
            <a:off x="7073280" y="537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6"/>
          <p:cNvSpPr/>
          <p:nvPr/>
        </p:nvSpPr>
        <p:spPr>
          <a:xfrm>
            <a:off x="7025400" y="45813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7FF0-DE82-4BEF-8E1F-CA5CA96847FA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esults: Bqsquare (416x240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87280" y="1357200"/>
          <a:ext cx="6409080" cy="3792600"/>
        </p:xfrm>
        <a:graphic>
          <a:graphicData uri="http://schemas.openxmlformats.org/drawingml/2006/table">
            <a:tbl>
              <a:tblPr/>
              <a:tblGrid>
                <a:gridCol w="1165320"/>
                <a:gridCol w="1292400"/>
                <a:gridCol w="1423800"/>
                <a:gridCol w="1190880"/>
                <a:gridCol w="133668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RDO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ro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Q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517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.06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202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4.45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767.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2.72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576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2.27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.7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67.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.50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9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68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9.4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Rectangle 7"/>
          <p:cNvSpPr/>
          <p:nvPr/>
        </p:nvSpPr>
        <p:spPr>
          <a:xfrm>
            <a:off x="2195640" y="537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D-PSNR gain = </a:t>
            </a:r>
            <a:r>
              <a:rPr b="0" lang="en-US" sz="2400" spc="-1" strike="noStrike">
                <a:solidFill>
                  <a:srgbClr val="00add8"/>
                </a:solidFill>
                <a:latin typeface="SimSun"/>
                <a:ea typeface="SimSun"/>
              </a:rPr>
              <a:t>0.27dB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D-Rate saving = </a:t>
            </a:r>
            <a:r>
              <a:rPr b="0" lang="en-US" sz="2400" spc="-1" strike="noStrike">
                <a:solidFill>
                  <a:srgbClr val="00add8"/>
                </a:solidFill>
                <a:latin typeface="SimSun"/>
                <a:ea typeface="SimSun"/>
              </a:rPr>
              <a:t>-9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B442-DA37-4582-927F-AEF16ECF342F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esults: Racehorse (416x240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71640" y="1628640"/>
          <a:ext cx="7243560" cy="3384720"/>
        </p:xfrm>
        <a:graphic>
          <a:graphicData uri="http://schemas.openxmlformats.org/drawingml/2006/table">
            <a:tbl>
              <a:tblPr/>
              <a:tblGrid>
                <a:gridCol w="1249200"/>
                <a:gridCol w="1631880"/>
                <a:gridCol w="1805040"/>
                <a:gridCol w="1279440"/>
                <a:gridCol w="1278000"/>
              </a:tblGrid>
              <a:tr h="56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RDO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ro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646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7.5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298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6.9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029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6.08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761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.4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342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.9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146.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.3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846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1.7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731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1.33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6"/>
          <p:cNvSpPr/>
          <p:nvPr/>
        </p:nvSpPr>
        <p:spPr>
          <a:xfrm>
            <a:off x="1857240" y="5572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PSNR gain = </a:t>
            </a:r>
            <a:r>
              <a:rPr b="0" lang="en-US" sz="2400" spc="-1" strike="noStrike">
                <a:solidFill>
                  <a:srgbClr val="00add8"/>
                </a:solidFill>
                <a:latin typeface="Arial"/>
              </a:rPr>
              <a:t>0.14dB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saving = </a:t>
            </a:r>
            <a:r>
              <a:rPr b="0" lang="en-US" sz="2400" spc="-1" strike="noStrike">
                <a:solidFill>
                  <a:srgbClr val="00add8"/>
                </a:solidFill>
                <a:latin typeface="Arial"/>
              </a:rPr>
              <a:t>-2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5561-9D2C-441C-9B71-4013282BC301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esults: BQmall (832x480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971640" y="1268280"/>
          <a:ext cx="6769080" cy="3549960"/>
        </p:xfrm>
        <a:graphic>
          <a:graphicData uri="http://schemas.openxmlformats.org/drawingml/2006/table">
            <a:tbl>
              <a:tblPr/>
              <a:tblGrid>
                <a:gridCol w="1209600"/>
                <a:gridCol w="1616040"/>
                <a:gridCol w="1496880"/>
                <a:gridCol w="1209960"/>
                <a:gridCol w="1236600"/>
              </a:tblGrid>
              <a:tr h="45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RDO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ro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Q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86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7.07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507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6.7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162.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.29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959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4.99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73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.49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61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.24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55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2.25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45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2.00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Rectangle 7"/>
          <p:cNvSpPr/>
          <p:nvPr/>
        </p:nvSpPr>
        <p:spPr>
          <a:xfrm>
            <a:off x="2050920" y="5300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PSNR gain = </a:t>
            </a:r>
            <a:r>
              <a:rPr b="0" lang="en-US" sz="2400" spc="-1" strike="noStrike">
                <a:solidFill>
                  <a:srgbClr val="00add8"/>
                </a:solidFill>
                <a:latin typeface="Arial"/>
              </a:rPr>
              <a:t>0.46dB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saving = </a:t>
            </a:r>
            <a:r>
              <a:rPr b="0" lang="en-US" sz="2400" spc="-1" strike="noStrike">
                <a:solidFill>
                  <a:srgbClr val="00add8"/>
                </a:solidFill>
                <a:latin typeface="Arial"/>
              </a:rPr>
              <a:t>-11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3306-C470-4246-BE32-6B4F224384D8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esults: Basketball (832x480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900000" y="1484280"/>
          <a:ext cx="6480360" cy="3524400"/>
        </p:xfrm>
        <a:graphic>
          <a:graphicData uri="http://schemas.openxmlformats.org/drawingml/2006/table">
            <a:tbl>
              <a:tblPr/>
              <a:tblGrid>
                <a:gridCol w="1220760"/>
                <a:gridCol w="1247760"/>
                <a:gridCol w="1514520"/>
                <a:gridCol w="1249560"/>
                <a:gridCol w="1247760"/>
              </a:tblGrid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RDO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ro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Q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726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7.35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47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7.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086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.7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937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.5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6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4.23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609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4.06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51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.20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453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.0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4"/>
          <p:cNvSpPr/>
          <p:nvPr/>
        </p:nvSpPr>
        <p:spPr>
          <a:xfrm>
            <a:off x="1979640" y="544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PSNR gain = </a:t>
            </a:r>
            <a:r>
              <a:rPr b="0" lang="en-US" sz="2400" spc="-1" strike="noStrike">
                <a:solidFill>
                  <a:srgbClr val="00add8"/>
                </a:solidFill>
                <a:latin typeface="Arial"/>
              </a:rPr>
              <a:t>0.29 dB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saving = </a:t>
            </a:r>
            <a:r>
              <a:rPr b="0" lang="en-US" sz="2400" spc="-1" strike="noStrike">
                <a:solidFill>
                  <a:srgbClr val="00add8"/>
                </a:solidFill>
                <a:latin typeface="Arial"/>
              </a:rPr>
              <a:t>-8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993B-C85B-4057-A352-338ABCEFA583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esults: PartyScene (832x480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16000" y="1268280"/>
          <a:ext cx="6480360" cy="3524400"/>
        </p:xfrm>
        <a:graphic>
          <a:graphicData uri="http://schemas.openxmlformats.org/drawingml/2006/table">
            <a:tbl>
              <a:tblPr/>
              <a:tblGrid>
                <a:gridCol w="1206360"/>
                <a:gridCol w="1338480"/>
                <a:gridCol w="1361880"/>
                <a:gridCol w="1339920"/>
                <a:gridCol w="1233720"/>
              </a:tblGrid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RDO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ro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Q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Bit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PS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6112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.04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507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4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6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2.7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6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2.4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210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.64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85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0.3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57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9.25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1307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imSun"/>
                          <a:ea typeface="Times New Roman"/>
                        </a:rPr>
                        <a:t>29.0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4"/>
          <p:cNvSpPr/>
          <p:nvPr/>
        </p:nvSpPr>
        <p:spPr>
          <a:xfrm>
            <a:off x="1547640" y="5300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PSNR gain = </a:t>
            </a:r>
            <a:r>
              <a:rPr b="0" lang="en-US" sz="2400" spc="-1" strike="noStrike">
                <a:solidFill>
                  <a:srgbClr val="00add8"/>
                </a:solidFill>
                <a:latin typeface="Arial"/>
              </a:rPr>
              <a:t>0.43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saving = </a:t>
            </a:r>
            <a:r>
              <a:rPr b="0" lang="en-US" sz="2400" spc="-1" strike="noStrike">
                <a:solidFill>
                  <a:srgbClr val="00add8"/>
                </a:solidFill>
                <a:latin typeface="Arial"/>
              </a:rPr>
              <a:t>-9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0927-F50F-4757-ACAC-F845AF57811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esults: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00000" y="1125360"/>
          <a:ext cx="7056720" cy="4691160"/>
        </p:xfrm>
        <a:graphic>
          <a:graphicData uri="http://schemas.openxmlformats.org/drawingml/2006/table">
            <a:tbl>
              <a:tblPr/>
              <a:tblGrid>
                <a:gridCol w="2352960"/>
                <a:gridCol w="2350800"/>
                <a:gridCol w="235296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D-PSNR (d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D-bitrat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Q-Square 240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e-horse 240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ketballpass 2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wingBubble 24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Q-Mall 480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ketball drill 4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yScene 480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ehorse 4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yo-1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yo-3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yo-4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DF67-0D24-40A3-963B-D026C4F44CB2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094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oposed method minimizes the rate distortion coding cost with respect to the partitions and the reconstruction levels.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mmend to be included in TMuC for further experiments.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711360" y="412920"/>
            <a:ext cx="806436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  <a:ea typeface="MS PGothic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60"/>
          <p:cNvGrpSpPr/>
          <p:nvPr/>
        </p:nvGrpSpPr>
        <p:grpSpPr>
          <a:xfrm>
            <a:off x="826920" y="2708280"/>
            <a:ext cx="7358760" cy="1438560"/>
            <a:chOff x="826920" y="2708280"/>
            <a:chExt cx="7358760" cy="1438560"/>
          </a:xfrm>
        </p:grpSpPr>
        <p:cxnSp>
          <p:nvCxnSpPr>
            <p:cNvPr id="322" name="Straight Arrow Connector 41"/>
            <p:cNvCxnSpPr/>
            <p:nvPr/>
          </p:nvCxnSpPr>
          <p:spPr>
            <a:xfrm>
              <a:off x="826920" y="3389400"/>
              <a:ext cx="7359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3" name="Oval 42"/>
            <p:cNvSpPr/>
            <p:nvPr/>
          </p:nvSpPr>
          <p:spPr>
            <a:xfrm>
              <a:off x="1612800" y="3246480"/>
              <a:ext cx="285480" cy="285480"/>
            </a:xfrm>
            <a:prstGeom prst="ellipse">
              <a:avLst/>
            </a:prstGeom>
            <a:solidFill>
              <a:srgbClr val="00add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43"/>
            <p:cNvSpPr/>
            <p:nvPr/>
          </p:nvSpPr>
          <p:spPr>
            <a:xfrm>
              <a:off x="3176640" y="3246480"/>
              <a:ext cx="285480" cy="285480"/>
            </a:xfrm>
            <a:prstGeom prst="ellipse">
              <a:avLst/>
            </a:prstGeom>
            <a:solidFill>
              <a:srgbClr val="00add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44"/>
            <p:cNvSpPr/>
            <p:nvPr/>
          </p:nvSpPr>
          <p:spPr>
            <a:xfrm>
              <a:off x="3821040" y="3246480"/>
              <a:ext cx="285480" cy="285480"/>
            </a:xfrm>
            <a:prstGeom prst="ellipse">
              <a:avLst/>
            </a:prstGeom>
            <a:solidFill>
              <a:srgbClr val="00add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5"/>
            <p:cNvSpPr/>
            <p:nvPr/>
          </p:nvSpPr>
          <p:spPr>
            <a:xfrm>
              <a:off x="5118120" y="3246480"/>
              <a:ext cx="285480" cy="285480"/>
            </a:xfrm>
            <a:prstGeom prst="ellipse">
              <a:avLst/>
            </a:prstGeom>
            <a:solidFill>
              <a:srgbClr val="00add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6"/>
            <p:cNvSpPr/>
            <p:nvPr/>
          </p:nvSpPr>
          <p:spPr>
            <a:xfrm>
              <a:off x="3146040" y="36367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7"/>
            <p:cNvSpPr/>
            <p:nvPr/>
          </p:nvSpPr>
          <p:spPr>
            <a:xfrm>
              <a:off x="1543680" y="363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9"/>
            <p:cNvSpPr/>
            <p:nvPr/>
          </p:nvSpPr>
          <p:spPr>
            <a:xfrm>
              <a:off x="3760200" y="36367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9"/>
            <p:cNvSpPr/>
            <p:nvPr/>
          </p:nvSpPr>
          <p:spPr>
            <a:xfrm>
              <a:off x="5050080" y="3662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0"/>
            <p:cNvSpPr/>
            <p:nvPr/>
          </p:nvSpPr>
          <p:spPr>
            <a:xfrm>
              <a:off x="2230200" y="2708280"/>
              <a:ext cx="317520" cy="1258920"/>
            </a:xfrm>
            <a:custGeom>
              <a:avLst/>
              <a:gdLst/>
              <a:ahLst/>
              <a:rect l="l" t="t" r="r" b="b"/>
              <a:pathLst>
                <a:path w="316872" h="1258432">
                  <a:moveTo>
                    <a:pt x="212757" y="0"/>
                  </a:moveTo>
                  <a:cubicBezTo>
                    <a:pt x="106378" y="176542"/>
                    <a:pt x="0" y="353085"/>
                    <a:pt x="13580" y="506994"/>
                  </a:cubicBezTo>
                  <a:cubicBezTo>
                    <a:pt x="27160" y="660903"/>
                    <a:pt x="271604" y="798213"/>
                    <a:pt x="294238" y="923453"/>
                  </a:cubicBezTo>
                  <a:cubicBezTo>
                    <a:pt x="316872" y="1048693"/>
                    <a:pt x="149382" y="1258432"/>
                    <a:pt x="149382" y="1258432"/>
                  </a:cubicBezTo>
                  <a:lnTo>
                    <a:pt x="149382" y="1258432"/>
                  </a:lnTo>
                </a:path>
              </a:pathLst>
            </a:custGeom>
            <a:noFill/>
            <a:ln w="25560">
              <a:solidFill>
                <a:srgbClr val="00add8"/>
              </a:solidFill>
              <a:prstDash val="sysDash"/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1"/>
            <p:cNvSpPr/>
            <p:nvPr/>
          </p:nvSpPr>
          <p:spPr>
            <a:xfrm>
              <a:off x="4686480" y="2741400"/>
              <a:ext cx="315720" cy="1258920"/>
            </a:xfrm>
            <a:custGeom>
              <a:avLst/>
              <a:gdLst/>
              <a:ahLst/>
              <a:rect l="l" t="t" r="r" b="b"/>
              <a:pathLst>
                <a:path w="316872" h="1258432">
                  <a:moveTo>
                    <a:pt x="212757" y="0"/>
                  </a:moveTo>
                  <a:cubicBezTo>
                    <a:pt x="106378" y="176542"/>
                    <a:pt x="0" y="353085"/>
                    <a:pt x="13580" y="506994"/>
                  </a:cubicBezTo>
                  <a:cubicBezTo>
                    <a:pt x="27160" y="660903"/>
                    <a:pt x="271604" y="798213"/>
                    <a:pt x="294238" y="923453"/>
                  </a:cubicBezTo>
                  <a:cubicBezTo>
                    <a:pt x="316872" y="1048693"/>
                    <a:pt x="149382" y="1258432"/>
                    <a:pt x="149382" y="1258432"/>
                  </a:cubicBezTo>
                  <a:lnTo>
                    <a:pt x="149382" y="1258432"/>
                  </a:lnTo>
                </a:path>
              </a:pathLst>
            </a:custGeom>
            <a:noFill/>
            <a:ln w="25560">
              <a:solidFill>
                <a:srgbClr val="00add8"/>
              </a:solidFill>
              <a:prstDash val="sysDash"/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2"/>
            <p:cNvSpPr/>
            <p:nvPr/>
          </p:nvSpPr>
          <p:spPr>
            <a:xfrm>
              <a:off x="5722920" y="2743200"/>
              <a:ext cx="317520" cy="1258920"/>
            </a:xfrm>
            <a:custGeom>
              <a:avLst/>
              <a:gdLst/>
              <a:ahLst/>
              <a:rect l="l" t="t" r="r" b="b"/>
              <a:pathLst>
                <a:path w="316872" h="1258432">
                  <a:moveTo>
                    <a:pt x="212757" y="0"/>
                  </a:moveTo>
                  <a:cubicBezTo>
                    <a:pt x="106378" y="176542"/>
                    <a:pt x="0" y="353085"/>
                    <a:pt x="13580" y="506994"/>
                  </a:cubicBezTo>
                  <a:cubicBezTo>
                    <a:pt x="27160" y="660903"/>
                    <a:pt x="271604" y="798213"/>
                    <a:pt x="294238" y="923453"/>
                  </a:cubicBezTo>
                  <a:cubicBezTo>
                    <a:pt x="316872" y="1048693"/>
                    <a:pt x="149382" y="1258432"/>
                    <a:pt x="149382" y="1258432"/>
                  </a:cubicBezTo>
                  <a:lnTo>
                    <a:pt x="149382" y="1258432"/>
                  </a:lnTo>
                </a:path>
              </a:pathLst>
            </a:custGeom>
            <a:noFill/>
            <a:ln w="25560">
              <a:solidFill>
                <a:srgbClr val="00add8"/>
              </a:solidFill>
              <a:prstDash val="sysDash"/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3"/>
            <p:cNvSpPr/>
            <p:nvPr/>
          </p:nvSpPr>
          <p:spPr>
            <a:xfrm>
              <a:off x="3533760" y="2741400"/>
              <a:ext cx="317520" cy="1258920"/>
            </a:xfrm>
            <a:custGeom>
              <a:avLst/>
              <a:gdLst/>
              <a:ahLst/>
              <a:rect l="l" t="t" r="r" b="b"/>
              <a:pathLst>
                <a:path w="316872" h="1258432">
                  <a:moveTo>
                    <a:pt x="212757" y="0"/>
                  </a:moveTo>
                  <a:cubicBezTo>
                    <a:pt x="106378" y="176542"/>
                    <a:pt x="0" y="353085"/>
                    <a:pt x="13580" y="506994"/>
                  </a:cubicBezTo>
                  <a:cubicBezTo>
                    <a:pt x="27160" y="660903"/>
                    <a:pt x="271604" y="798213"/>
                    <a:pt x="294238" y="923453"/>
                  </a:cubicBezTo>
                  <a:cubicBezTo>
                    <a:pt x="316872" y="1048693"/>
                    <a:pt x="149382" y="1258432"/>
                    <a:pt x="149382" y="1258432"/>
                  </a:cubicBezTo>
                  <a:lnTo>
                    <a:pt x="149382" y="1258432"/>
                  </a:lnTo>
                </a:path>
              </a:pathLst>
            </a:custGeom>
            <a:noFill/>
            <a:ln w="25560">
              <a:solidFill>
                <a:srgbClr val="00add8"/>
              </a:solidFill>
              <a:prstDash val="sysDash"/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4"/>
            <p:cNvSpPr/>
            <p:nvPr/>
          </p:nvSpPr>
          <p:spPr>
            <a:xfrm>
              <a:off x="6083280" y="301932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5"/>
            <p:cNvSpPr/>
            <p:nvPr/>
          </p:nvSpPr>
          <p:spPr>
            <a:xfrm>
              <a:off x="6369120" y="301932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6"/>
            <p:cNvSpPr/>
            <p:nvPr/>
          </p:nvSpPr>
          <p:spPr>
            <a:xfrm>
              <a:off x="6654960" y="301932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57"/>
            <p:cNvSpPr/>
            <p:nvPr/>
          </p:nvSpPr>
          <p:spPr>
            <a:xfrm>
              <a:off x="7094880" y="3246480"/>
              <a:ext cx="285480" cy="285480"/>
            </a:xfrm>
            <a:prstGeom prst="ellipse">
              <a:avLst/>
            </a:prstGeom>
            <a:solidFill>
              <a:srgbClr val="00add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39"/>
            <p:cNvSpPr/>
            <p:nvPr/>
          </p:nvSpPr>
          <p:spPr>
            <a:xfrm>
              <a:off x="7000200" y="36072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u∙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36"/>
            <p:cNvSpPr/>
            <p:nvPr/>
          </p:nvSpPr>
          <p:spPr>
            <a:xfrm>
              <a:off x="6952680" y="281448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u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4F2B-A503-43B0-AE09-F77D3F2B134E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1419-AB17-4780-8051-23360DCCAE9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1258920" y="1844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41  2260  1085  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332000" y="9079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7  212  61  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1258920" y="2924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1    2.20    3.176    4.236     5.295   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DFA5-637F-4D1C-8654-9695CBB9BD40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576"/>
                </a:solidFill>
                <a:latin typeface="Calibri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5616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57480" indent="-3574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0760" indent="-1814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r quant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0760" indent="-1814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ing distortion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0760" indent="-1814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ing RD cost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3574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lated work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0760" indent="-1814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ive ro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0760" indent="-1814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 decision quantization/RDO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0760" indent="-1814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ive quantization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3574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oposed design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480" indent="-3574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0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0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D34A-1694-4153-AD6A-F8E19C263BC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7a2d"/>
                </a:solidFill>
                <a:latin typeface="Calibri"/>
              </a:rPr>
              <a:t>HDQ+ARL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094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as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parti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reconstruction level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Straight Arrow Connector 5"/>
          <p:cNvCxnSpPr/>
          <p:nvPr/>
        </p:nvCxnSpPr>
        <p:spPr>
          <a:xfrm>
            <a:off x="856800" y="5285880"/>
            <a:ext cx="73587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Oval 6"/>
          <p:cNvSpPr/>
          <p:nvPr/>
        </p:nvSpPr>
        <p:spPr>
          <a:xfrm>
            <a:off x="1643040" y="5143680"/>
            <a:ext cx="28584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3206880" y="5143680"/>
            <a:ext cx="28548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3851280" y="5143680"/>
            <a:ext cx="28584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5148360" y="5143680"/>
            <a:ext cx="28548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6"/>
          <p:cNvSpPr/>
          <p:nvPr/>
        </p:nvSpPr>
        <p:spPr>
          <a:xfrm>
            <a:off x="3175920" y="55339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7"/>
          <p:cNvSpPr/>
          <p:nvPr/>
        </p:nvSpPr>
        <p:spPr>
          <a:xfrm>
            <a:off x="1574280" y="55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9"/>
          <p:cNvSpPr/>
          <p:nvPr/>
        </p:nvSpPr>
        <p:spPr>
          <a:xfrm>
            <a:off x="3790440" y="55339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14"/>
          <p:cNvSpPr/>
          <p:nvPr/>
        </p:nvSpPr>
        <p:spPr>
          <a:xfrm>
            <a:off x="2357280" y="435780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5"/>
          <p:cNvSpPr/>
          <p:nvPr/>
        </p:nvSpPr>
        <p:spPr>
          <a:xfrm>
            <a:off x="6072120" y="435780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6"/>
          <p:cNvSpPr/>
          <p:nvPr/>
        </p:nvSpPr>
        <p:spPr>
          <a:xfrm>
            <a:off x="4857840" y="435780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7"/>
          <p:cNvSpPr/>
          <p:nvPr/>
        </p:nvSpPr>
        <p:spPr>
          <a:xfrm>
            <a:off x="3635280" y="435780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8"/>
          <p:cNvSpPr/>
          <p:nvPr/>
        </p:nvSpPr>
        <p:spPr>
          <a:xfrm>
            <a:off x="6858000" y="492912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9"/>
          <p:cNvSpPr/>
          <p:nvPr/>
        </p:nvSpPr>
        <p:spPr>
          <a:xfrm>
            <a:off x="7143840" y="492912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0"/>
          <p:cNvSpPr/>
          <p:nvPr/>
        </p:nvSpPr>
        <p:spPr>
          <a:xfrm>
            <a:off x="7429680" y="492912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7"/>
          <p:cNvSpPr/>
          <p:nvPr/>
        </p:nvSpPr>
        <p:spPr>
          <a:xfrm>
            <a:off x="1791360" y="38577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8"/>
          <p:cNvSpPr/>
          <p:nvPr/>
        </p:nvSpPr>
        <p:spPr>
          <a:xfrm>
            <a:off x="3051720" y="38577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9"/>
          <p:cNvSpPr/>
          <p:nvPr/>
        </p:nvSpPr>
        <p:spPr>
          <a:xfrm>
            <a:off x="4363200" y="38577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0"/>
          <p:cNvSpPr/>
          <p:nvPr/>
        </p:nvSpPr>
        <p:spPr>
          <a:xfrm>
            <a:off x="5541120" y="38577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9"/>
          <p:cNvSpPr/>
          <p:nvPr/>
        </p:nvSpPr>
        <p:spPr>
          <a:xfrm>
            <a:off x="5087160" y="5559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49F2-4CE8-4249-9AEE-F65192690ED8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Background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500120"/>
            <a:ext cx="856944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form scalar quantizer given by a step siz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za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/ q + 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Par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-Quantization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ˆ = u ∙ q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st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27"/>
          <p:cNvCxnSpPr/>
          <p:nvPr/>
        </p:nvCxnSpPr>
        <p:spPr>
          <a:xfrm>
            <a:off x="856800" y="5285880"/>
            <a:ext cx="73587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Oval 32"/>
          <p:cNvSpPr/>
          <p:nvPr/>
        </p:nvSpPr>
        <p:spPr>
          <a:xfrm>
            <a:off x="1643040" y="5143680"/>
            <a:ext cx="28584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3"/>
          <p:cNvSpPr/>
          <p:nvPr/>
        </p:nvSpPr>
        <p:spPr>
          <a:xfrm>
            <a:off x="2857680" y="5143680"/>
            <a:ext cx="28548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4"/>
          <p:cNvSpPr/>
          <p:nvPr/>
        </p:nvSpPr>
        <p:spPr>
          <a:xfrm>
            <a:off x="4067280" y="5143680"/>
            <a:ext cx="28548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5"/>
          <p:cNvSpPr/>
          <p:nvPr/>
        </p:nvSpPr>
        <p:spPr>
          <a:xfrm>
            <a:off x="5292720" y="5143680"/>
            <a:ext cx="28584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2862000" y="55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1574280" y="55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5218920" y="5533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4004640" y="5533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40"/>
          <p:cNvSpPr/>
          <p:nvPr/>
        </p:nvSpPr>
        <p:spPr>
          <a:xfrm>
            <a:off x="2411280" y="435780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41"/>
          <p:cNvSpPr/>
          <p:nvPr/>
        </p:nvSpPr>
        <p:spPr>
          <a:xfrm>
            <a:off x="6072120" y="435780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42"/>
          <p:cNvSpPr/>
          <p:nvPr/>
        </p:nvSpPr>
        <p:spPr>
          <a:xfrm>
            <a:off x="4857840" y="435780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43"/>
          <p:cNvSpPr/>
          <p:nvPr/>
        </p:nvSpPr>
        <p:spPr>
          <a:xfrm>
            <a:off x="3635280" y="435780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4"/>
          <p:cNvSpPr/>
          <p:nvPr/>
        </p:nvSpPr>
        <p:spPr>
          <a:xfrm>
            <a:off x="6858000" y="492912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5"/>
          <p:cNvSpPr/>
          <p:nvPr/>
        </p:nvSpPr>
        <p:spPr>
          <a:xfrm>
            <a:off x="7143840" y="492912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7429680" y="492912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1791360" y="38577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3051720" y="38577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9"/>
          <p:cNvSpPr/>
          <p:nvPr/>
        </p:nvSpPr>
        <p:spPr>
          <a:xfrm>
            <a:off x="4363200" y="38577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0"/>
          <p:cNvSpPr/>
          <p:nvPr/>
        </p:nvSpPr>
        <p:spPr>
          <a:xfrm>
            <a:off x="5541120" y="38577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51"/>
          <p:cNvSpPr/>
          <p:nvPr/>
        </p:nvSpPr>
        <p:spPr>
          <a:xfrm>
            <a:off x="6215040" y="23572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52"/>
          <p:cNvSpPr/>
          <p:nvPr/>
        </p:nvSpPr>
        <p:spPr>
          <a:xfrm>
            <a:off x="6215040" y="278604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73D1-5F97-4922-9154-4671A6858A74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Background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80946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9840" indent="-42984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eneric scalar quantizer designing rules for minimizing distortion (Lloyd-max algorithm)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92680" indent="-203400">
              <a:spcBef>
                <a:spcPts val="649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nearest neighbor ru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92680" indent="-203400">
              <a:spcBef>
                <a:spcPts val="601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ntroid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6"/>
          <p:cNvCxnSpPr/>
          <p:nvPr/>
        </p:nvCxnSpPr>
        <p:spPr>
          <a:xfrm>
            <a:off x="856800" y="5038200"/>
            <a:ext cx="73587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Oval 8"/>
          <p:cNvSpPr/>
          <p:nvPr/>
        </p:nvSpPr>
        <p:spPr>
          <a:xfrm>
            <a:off x="1909800" y="4896000"/>
            <a:ext cx="28584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2928960" y="492912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4643280" y="492912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7"/>
          <p:cNvSpPr/>
          <p:nvPr/>
        </p:nvSpPr>
        <p:spPr>
          <a:xfrm>
            <a:off x="2556000" y="414324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0"/>
          <p:cNvSpPr/>
          <p:nvPr/>
        </p:nvSpPr>
        <p:spPr>
          <a:xfrm>
            <a:off x="6215040" y="407196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1"/>
          <p:cNvSpPr/>
          <p:nvPr/>
        </p:nvSpPr>
        <p:spPr>
          <a:xfrm>
            <a:off x="3929040" y="407196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2"/>
          <p:cNvSpPr/>
          <p:nvPr/>
        </p:nvSpPr>
        <p:spPr>
          <a:xfrm>
            <a:off x="7429680" y="4929120"/>
            <a:ext cx="28548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2868120" y="54291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1809000" y="53960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4582440" y="54291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7398720" y="54291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7"/>
          <p:cNvSpPr/>
          <p:nvPr/>
        </p:nvSpPr>
        <p:spPr>
          <a:xfrm>
            <a:off x="2224800" y="37148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8"/>
          <p:cNvSpPr/>
          <p:nvPr/>
        </p:nvSpPr>
        <p:spPr>
          <a:xfrm>
            <a:off x="3653640" y="37148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5939640" y="37148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0"/>
          <p:cNvSpPr/>
          <p:nvPr/>
        </p:nvSpPr>
        <p:spPr>
          <a:xfrm>
            <a:off x="7480440" y="435780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1"/>
          <p:cNvSpPr/>
          <p:nvPr/>
        </p:nvSpPr>
        <p:spPr>
          <a:xfrm>
            <a:off x="7765920" y="4357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2"/>
          <p:cNvSpPr/>
          <p:nvPr/>
        </p:nvSpPr>
        <p:spPr>
          <a:xfrm>
            <a:off x="8051760" y="4357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D7B2-7295-42CF-8715-70A09674E7C0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Background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9460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eneric scalar quantizer designing rules for minimizing RD cos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311560" y="2205000"/>
            <a:ext cx="482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– c^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2435040" y="2705040"/>
            <a:ext cx="35485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  mapp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  mapp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684360" y="378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e with respects to 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parti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 reconstruction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7"/>
          <p:cNvCxnSpPr/>
          <p:nvPr/>
        </p:nvCxnSpPr>
        <p:spPr>
          <a:xfrm>
            <a:off x="610920" y="5189040"/>
            <a:ext cx="73587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Oval 8"/>
          <p:cNvSpPr/>
          <p:nvPr/>
        </p:nvSpPr>
        <p:spPr>
          <a:xfrm>
            <a:off x="1397160" y="5046840"/>
            <a:ext cx="28548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2960640" y="5046840"/>
            <a:ext cx="28584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3606840" y="5046840"/>
            <a:ext cx="28584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4902120" y="5046840"/>
            <a:ext cx="285840" cy="28548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2930400" y="54370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1328400" y="543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9"/>
          <p:cNvSpPr/>
          <p:nvPr/>
        </p:nvSpPr>
        <p:spPr>
          <a:xfrm>
            <a:off x="3544200" y="54370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7077240" y="483228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6"/>
          <p:cNvSpPr/>
          <p:nvPr/>
        </p:nvSpPr>
        <p:spPr>
          <a:xfrm>
            <a:off x="7362720" y="4832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7"/>
          <p:cNvSpPr/>
          <p:nvPr/>
        </p:nvSpPr>
        <p:spPr>
          <a:xfrm>
            <a:off x="7648560" y="4832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9"/>
          <p:cNvSpPr/>
          <p:nvPr/>
        </p:nvSpPr>
        <p:spPr>
          <a:xfrm>
            <a:off x="2014560" y="4508640"/>
            <a:ext cx="317520" cy="125892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0"/>
          <p:cNvSpPr/>
          <p:nvPr/>
        </p:nvSpPr>
        <p:spPr>
          <a:xfrm>
            <a:off x="4470480" y="4543560"/>
            <a:ext cx="317520" cy="125712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6126120" y="4579920"/>
            <a:ext cx="317520" cy="125892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2"/>
          <p:cNvSpPr/>
          <p:nvPr/>
        </p:nvSpPr>
        <p:spPr>
          <a:xfrm>
            <a:off x="3319560" y="4543560"/>
            <a:ext cx="315720" cy="125712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3"/>
          <p:cNvSpPr/>
          <p:nvPr/>
        </p:nvSpPr>
        <p:spPr>
          <a:xfrm>
            <a:off x="6659640" y="504504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4833360" y="54450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9"/>
          <p:cNvSpPr/>
          <p:nvPr/>
        </p:nvSpPr>
        <p:spPr>
          <a:xfrm>
            <a:off x="6560640" y="54450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9FCA-B09D-431C-A21C-79F51B04C1D1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946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aptive rounding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1429200" y="3429000"/>
            <a:ext cx="667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Uniform reconstruction leve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{0, 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, 2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, 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195640" y="2492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/ q + 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Arrow Connector 8"/>
          <p:cNvCxnSpPr/>
          <p:nvPr/>
        </p:nvCxnSpPr>
        <p:spPr>
          <a:xfrm>
            <a:off x="826920" y="5444640"/>
            <a:ext cx="73591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1" name="Oval 9"/>
          <p:cNvSpPr/>
          <p:nvPr/>
        </p:nvSpPr>
        <p:spPr>
          <a:xfrm>
            <a:off x="1612800" y="530208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2827440" y="5302080"/>
            <a:ext cx="28548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4113360" y="5302080"/>
            <a:ext cx="28548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5327640" y="530208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2831760" y="569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1544400" y="569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8"/>
          <p:cNvSpPr/>
          <p:nvPr/>
        </p:nvSpPr>
        <p:spPr>
          <a:xfrm>
            <a:off x="5188680" y="569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3974400" y="569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7"/>
          <p:cNvSpPr/>
          <p:nvPr/>
        </p:nvSpPr>
        <p:spPr>
          <a:xfrm>
            <a:off x="2585880" y="451656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8"/>
          <p:cNvSpPr/>
          <p:nvPr/>
        </p:nvSpPr>
        <p:spPr>
          <a:xfrm>
            <a:off x="6300720" y="451656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9"/>
          <p:cNvSpPr/>
          <p:nvPr/>
        </p:nvSpPr>
        <p:spPr>
          <a:xfrm>
            <a:off x="5086440" y="451656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0"/>
          <p:cNvSpPr/>
          <p:nvPr/>
        </p:nvSpPr>
        <p:spPr>
          <a:xfrm>
            <a:off x="3851280" y="4516560"/>
            <a:ext cx="0" cy="1285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6827760" y="50878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7113600" y="50878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3"/>
          <p:cNvSpPr/>
          <p:nvPr/>
        </p:nvSpPr>
        <p:spPr>
          <a:xfrm>
            <a:off x="7399440" y="508788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7"/>
          <p:cNvSpPr/>
          <p:nvPr/>
        </p:nvSpPr>
        <p:spPr>
          <a:xfrm>
            <a:off x="2178720" y="40464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8"/>
          <p:cNvSpPr/>
          <p:nvPr/>
        </p:nvSpPr>
        <p:spPr>
          <a:xfrm>
            <a:off x="3439080" y="40464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9"/>
          <p:cNvSpPr/>
          <p:nvPr/>
        </p:nvSpPr>
        <p:spPr>
          <a:xfrm>
            <a:off x="4750560" y="40464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0"/>
          <p:cNvSpPr/>
          <p:nvPr/>
        </p:nvSpPr>
        <p:spPr>
          <a:xfrm>
            <a:off x="5928480" y="40464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1F71-5821-4F25-8A9F-E6868A3640B7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80946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oft decision quantization / RDOQ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2289240" y="198900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– c^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2221200" y="2421000"/>
            <a:ext cx="62395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  dynamic programming or simplifie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  Given by {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755640" y="3500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e with respects to 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partition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 reconstruction leve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till given as 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{0, 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, 2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, …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7"/>
          <p:cNvCxnSpPr/>
          <p:nvPr/>
        </p:nvCxnSpPr>
        <p:spPr>
          <a:xfrm>
            <a:off x="826920" y="5334120"/>
            <a:ext cx="7359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Oval 8"/>
          <p:cNvSpPr/>
          <p:nvPr/>
        </p:nvSpPr>
        <p:spPr>
          <a:xfrm>
            <a:off x="1612800" y="519120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2843280" y="519120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4070520" y="5191200"/>
            <a:ext cx="28548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5294160" y="519120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2774520" y="558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1544400" y="558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3928320" y="5581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7292880" y="49766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6"/>
          <p:cNvSpPr/>
          <p:nvPr/>
        </p:nvSpPr>
        <p:spPr>
          <a:xfrm>
            <a:off x="7578720" y="49766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7"/>
          <p:cNvSpPr/>
          <p:nvPr/>
        </p:nvSpPr>
        <p:spPr>
          <a:xfrm>
            <a:off x="7864560" y="49766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5224320" y="560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9"/>
          <p:cNvSpPr/>
          <p:nvPr/>
        </p:nvSpPr>
        <p:spPr>
          <a:xfrm>
            <a:off x="2124000" y="4653000"/>
            <a:ext cx="316080" cy="125892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4572000" y="4686480"/>
            <a:ext cx="317520" cy="125856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6156360" y="4724280"/>
            <a:ext cx="317520" cy="125892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2"/>
          <p:cNvSpPr/>
          <p:nvPr/>
        </p:nvSpPr>
        <p:spPr>
          <a:xfrm>
            <a:off x="3751200" y="4686480"/>
            <a:ext cx="316080" cy="1258560"/>
          </a:xfrm>
          <a:custGeom>
            <a:avLst/>
            <a:gdLst/>
            <a:ahLst/>
            <a:rect l="l" t="t" r="r" b="b"/>
            <a:pathLst>
              <a:path w="316872" h="1258432">
                <a:moveTo>
                  <a:pt x="212757" y="0"/>
                </a:moveTo>
                <a:cubicBezTo>
                  <a:pt x="106378" y="176542"/>
                  <a:pt x="0" y="353085"/>
                  <a:pt x="13580" y="506994"/>
                </a:cubicBezTo>
                <a:cubicBezTo>
                  <a:pt x="27160" y="660903"/>
                  <a:pt x="271604" y="798213"/>
                  <a:pt x="294238" y="923453"/>
                </a:cubicBezTo>
                <a:cubicBezTo>
                  <a:pt x="316872" y="1048693"/>
                  <a:pt x="149382" y="1258432"/>
                  <a:pt x="149382" y="1258432"/>
                </a:cubicBezTo>
                <a:lnTo>
                  <a:pt x="149382" y="1258432"/>
                </a:lnTo>
              </a:path>
            </a:pathLst>
          </a:custGeom>
          <a:noFill/>
          <a:ln w="25560">
            <a:solidFill>
              <a:srgbClr val="00add8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3"/>
          <p:cNvSpPr/>
          <p:nvPr/>
        </p:nvSpPr>
        <p:spPr>
          <a:xfrm>
            <a:off x="6516720" y="518940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9"/>
          <p:cNvSpPr/>
          <p:nvPr/>
        </p:nvSpPr>
        <p:spPr>
          <a:xfrm>
            <a:off x="6376320" y="56055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0EB9-7D12-4574-94E9-20E1D20F4B6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80946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aptive quantization table/multiple quantizers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258920" y="2637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Uni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itions;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Unifor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struction levels 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{0, 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30000">
                <a:solidFill>
                  <a:srgbClr val="00add8"/>
                </a:solidFill>
                <a:latin typeface="Times New Roman"/>
                <a:ea typeface="Times New Roman"/>
              </a:rPr>
              <a:t>(1)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, 2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30000">
                <a:solidFill>
                  <a:srgbClr val="00add8"/>
                </a:solidFill>
                <a:latin typeface="Times New Roman"/>
                <a:ea typeface="Times New Roman"/>
              </a:rPr>
              <a:t>(1)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, …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547640" y="2205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/ 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30000">
                <a:solidFill>
                  <a:srgbClr val="00add8"/>
                </a:solidFill>
                <a:latin typeface="Times New Roman"/>
                <a:ea typeface="Times New Roman"/>
              </a:rPr>
              <a:t>(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547640" y="400536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2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/ 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30000">
                <a:solidFill>
                  <a:srgbClr val="00add8"/>
                </a:solidFill>
                <a:latin typeface="Times New Roman"/>
                <a:ea typeface="Times New Roman"/>
              </a:rPr>
              <a:t>(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1332000" y="4437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Uni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itions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Unifor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struction levels 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{0, 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30000">
                <a:solidFill>
                  <a:srgbClr val="00add8"/>
                </a:solidFill>
                <a:latin typeface="Times New Roman"/>
                <a:ea typeface="Times New Roman"/>
              </a:rPr>
              <a:t>(2)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, 2</a:t>
            </a:r>
            <a:r>
              <a:rPr b="0" i="1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30000">
                <a:solidFill>
                  <a:srgbClr val="00add8"/>
                </a:solidFill>
                <a:latin typeface="Times New Roman"/>
                <a:ea typeface="Times New Roman"/>
              </a:rPr>
              <a:t>(2)</a:t>
            </a:r>
            <a:r>
              <a:rPr b="0" lang="en-US" sz="2400" spc="-1" strike="noStrike">
                <a:solidFill>
                  <a:srgbClr val="00add8"/>
                </a:solidFill>
                <a:latin typeface="Times New Roman"/>
                <a:ea typeface="Times New Roman"/>
              </a:rPr>
              <a:t>, …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2843280" y="595008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3129120" y="5950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3414600" y="595008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71C0-BFEE-4767-B003-39567548F808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Proposed desig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94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aptive reconstruction levels for decoding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971640" y="1700280"/>
            <a:ext cx="4572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ˆ =  0,      |u|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    |u|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    |u|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    |u|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788000" y="1700280"/>
            <a:ext cx="39290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ˆ =  0,       |u|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     |u|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     |u|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,    |u|&g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9"/>
          <p:cNvSpPr/>
          <p:nvPr/>
        </p:nvSpPr>
        <p:spPr>
          <a:xfrm>
            <a:off x="4284720" y="1773360"/>
            <a:ext cx="0" cy="1511280"/>
          </a:xfrm>
          <a:prstGeom prst="line">
            <a:avLst/>
          </a:prstGeom>
          <a:ln w="25560">
            <a:solidFill>
              <a:srgbClr val="00ad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7"/>
          <p:cNvCxnSpPr/>
          <p:nvPr/>
        </p:nvCxnSpPr>
        <p:spPr>
          <a:xfrm>
            <a:off x="598320" y="4206960"/>
            <a:ext cx="7359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1" name="Oval 8"/>
          <p:cNvSpPr/>
          <p:nvPr/>
        </p:nvSpPr>
        <p:spPr>
          <a:xfrm>
            <a:off x="1384200" y="406404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2946240" y="406404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3592440" y="406404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2853720" y="43657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7"/>
          <p:cNvSpPr/>
          <p:nvPr/>
        </p:nvSpPr>
        <p:spPr>
          <a:xfrm>
            <a:off x="1339560" y="436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9"/>
          <p:cNvSpPr/>
          <p:nvPr/>
        </p:nvSpPr>
        <p:spPr>
          <a:xfrm>
            <a:off x="3531600" y="43657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7148520" y="384984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7434360" y="384984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2"/>
          <p:cNvSpPr/>
          <p:nvPr/>
        </p:nvSpPr>
        <p:spPr>
          <a:xfrm>
            <a:off x="7719840" y="384984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9"/>
          <p:cNvSpPr/>
          <p:nvPr/>
        </p:nvSpPr>
        <p:spPr>
          <a:xfrm>
            <a:off x="4511160" y="43657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6"/>
          <p:cNvSpPr/>
          <p:nvPr/>
        </p:nvSpPr>
        <p:spPr>
          <a:xfrm>
            <a:off x="1221480" y="368784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2733480" y="368784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3424680" y="368784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6"/>
          <p:cNvSpPr/>
          <p:nvPr/>
        </p:nvSpPr>
        <p:spPr>
          <a:xfrm>
            <a:off x="4360680" y="368784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41"/>
          <p:cNvCxnSpPr/>
          <p:nvPr/>
        </p:nvCxnSpPr>
        <p:spPr>
          <a:xfrm>
            <a:off x="610920" y="5791320"/>
            <a:ext cx="7358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6" name="Oval 42"/>
          <p:cNvSpPr/>
          <p:nvPr/>
        </p:nvSpPr>
        <p:spPr>
          <a:xfrm>
            <a:off x="1397160" y="5648400"/>
            <a:ext cx="28548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2960640" y="564840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3606840" y="564840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4902120" y="564840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"/>
          <p:cNvSpPr/>
          <p:nvPr/>
        </p:nvSpPr>
        <p:spPr>
          <a:xfrm>
            <a:off x="2853720" y="59500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"/>
          <p:cNvSpPr/>
          <p:nvPr/>
        </p:nvSpPr>
        <p:spPr>
          <a:xfrm>
            <a:off x="1339560" y="595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3544200" y="59500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443640" y="54338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729480" y="54338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7015320" y="543384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9"/>
          <p:cNvSpPr/>
          <p:nvPr/>
        </p:nvSpPr>
        <p:spPr>
          <a:xfrm>
            <a:off x="4791960" y="595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6"/>
          <p:cNvSpPr/>
          <p:nvPr/>
        </p:nvSpPr>
        <p:spPr>
          <a:xfrm>
            <a:off x="1192680" y="52722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6"/>
          <p:cNvSpPr/>
          <p:nvPr/>
        </p:nvSpPr>
        <p:spPr>
          <a:xfrm>
            <a:off x="2746800" y="52722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6"/>
          <p:cNvSpPr/>
          <p:nvPr/>
        </p:nvSpPr>
        <p:spPr>
          <a:xfrm>
            <a:off x="3424680" y="52722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>
            <a:off x="4691520" y="52722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7"/>
          <p:cNvSpPr/>
          <p:nvPr/>
        </p:nvSpPr>
        <p:spPr>
          <a:xfrm>
            <a:off x="5845320" y="5661000"/>
            <a:ext cx="28548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5728320" y="595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9"/>
          <p:cNvSpPr/>
          <p:nvPr/>
        </p:nvSpPr>
        <p:spPr>
          <a:xfrm>
            <a:off x="7454880" y="5661000"/>
            <a:ext cx="285840" cy="28584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7360560" y="6021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∙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1"/>
          <p:cNvSpPr/>
          <p:nvPr/>
        </p:nvSpPr>
        <p:spPr>
          <a:xfrm>
            <a:off x="4643280" y="4064040"/>
            <a:ext cx="285840" cy="29376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2"/>
          <p:cNvSpPr/>
          <p:nvPr/>
        </p:nvSpPr>
        <p:spPr>
          <a:xfrm>
            <a:off x="5726160" y="4076640"/>
            <a:ext cx="285840" cy="29520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63"/>
          <p:cNvSpPr/>
          <p:nvPr/>
        </p:nvSpPr>
        <p:spPr>
          <a:xfrm>
            <a:off x="6545160" y="4076640"/>
            <a:ext cx="285840" cy="295200"/>
          </a:xfrm>
          <a:prstGeom prst="ellipse">
            <a:avLst/>
          </a:prstGeom>
          <a:solidFill>
            <a:srgbClr val="00add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6"/>
          <p:cNvSpPr/>
          <p:nvPr/>
        </p:nvSpPr>
        <p:spPr>
          <a:xfrm>
            <a:off x="5525640" y="368784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6"/>
          <p:cNvSpPr/>
          <p:nvPr/>
        </p:nvSpPr>
        <p:spPr>
          <a:xfrm>
            <a:off x="6318000" y="368784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6"/>
          <p:cNvSpPr/>
          <p:nvPr/>
        </p:nvSpPr>
        <p:spPr>
          <a:xfrm>
            <a:off x="7313400" y="52293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9"/>
          <p:cNvSpPr/>
          <p:nvPr/>
        </p:nvSpPr>
        <p:spPr>
          <a:xfrm>
            <a:off x="5697000" y="44370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9"/>
          <p:cNvSpPr/>
          <p:nvPr/>
        </p:nvSpPr>
        <p:spPr>
          <a:xfrm>
            <a:off x="6489000" y="45086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8:33:28Z</dcterms:created>
  <dc:creator>Elliot Ng</dc:creator>
  <dc:description/>
  <dc:language>en-US</dc:language>
  <cp:lastModifiedBy>.</cp:lastModifiedBy>
  <dcterms:modified xsi:type="dcterms:W3CDTF">2010-07-24T13:44:58Z</dcterms:modified>
  <cp:revision>134</cp:revision>
  <dc:subject/>
  <dc:title>Title of presentation</dc:title>
</cp:coreProperties>
</file>