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053-5CD7-4BB6-9300-2B6EFEDC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D73-90F9-46A7-A9AF-4922D42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377-8157-4E42-A35A-D354886B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379-50FF-465B-84E9-DECFCA60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227F-73A5-4E7E-B23D-4D7C6D3B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406D-3100-4885-93ED-9A594E0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FBE0-A418-403C-B5A7-3413CA74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BDD-4DCC-4561-B4E7-A2BEF91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5AF-4D99-47B1-9B9D-88B71A1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ABB-FBA2-4455-B6C7-891B52E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7818-5993-47FB-9F72-4081CFE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A9A-ABAF-4442-BF9F-76CE62B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B4D8-3B7D-45D2-9C23-E62C38E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B7D6-C137-46B5-95E6-3037E50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405-945F-43F7-AC9F-8A92E7F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67B6-1080-4116-AB5F-D1B41EB9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A69B-85E5-4BE7-B73C-95AAB45D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2659-C4AB-456F-AA37-2C25CF99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CAC7-BAEB-415E-A9E7-73750AD3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A719-40F9-4115-A69E-4DBB3B1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AF4F-E444-4EF8-A3BC-F5DC9BB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07F0-37C0-4070-B08D-CDBDD393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397-C813-40D6-87B2-C420520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1F50-602C-489B-9D8D-21F3ED9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F12D-98B1-42E5-B6C2-E58640D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745E-E00B-4923-A1B3-4C15613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36C8-3B83-4314-A46A-C05485D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8A66-BC95-4F0D-A56C-F65E5ADB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AFD3-B8FB-4FAF-A618-B0174097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8EAF-E858-4D93-A106-D9D62A33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6C20-2BFC-4207-8AD8-A37E34A3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C680-DDD3-4FC2-8EA8-0A22BD19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3329-0093-4725-8811-F1B1FBB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F62-141B-4698-9241-D4E4E48E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C36A-80B8-4CFA-8E8D-F68CCAB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3745-81AF-4E40-80F4-D573CB5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3608-3C5E-4F1E-9F23-E6E6141E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5E90-A7A7-4712-8017-C072152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D9B8-70D8-4D6A-BB4D-73DAC2C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28C0-1D8A-4C3C-B05E-BFB43BF4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D6B4-2499-470A-A7B8-430859A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BE9F-1DD1-4327-B8FC-3B54D1E4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C2B8-CF1A-4A29-8626-C848F36B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67FD1-3933-4B0E-8753-0E693C4A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A05-8BD5-4E25-B21A-3E60BB4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8517-D80E-4E4D-A2CF-E331F03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4DF0-1BA6-45E0-AB3D-67DE9ED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CEB0-2944-4230-80A3-EA24CF6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7949-EAFF-4FF1-A18D-093C1B6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DBC6-6EF1-4082-9866-1D29005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2175-2352-409C-AE01-1A9E66EC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DF24-2659-4485-9E87-3D31431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D9C6-8920-4A8E-9C43-959A858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2818-E090-4C42-9EC6-D1FCC0E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1429-BE4E-4B03-AF1C-9E0E4B0F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44B-58E0-403D-AA4E-78AE396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BE6A6-7627-41B0-989F-A370AF5D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5B9-E5D7-4439-88D2-3AAAF06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E4F-D116-4FCD-99F2-92536F3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B05-94CE-4835-B49D-800DBA0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40E-FCF4-45D8-A192-1967B09206F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03B-576B-4512-8981-C4F432CD5AB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CAE-D166-4C6A-A572-BD47B09772C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C6E5-F6CE-425D-A28E-B0A5F5E15B7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AB6-5EFB-406D-816D-EE65C5644D95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1C4-3D53-4753-B0DF-D32921B68D3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7B84-A60F-48FA-BD5C-8686C4E45F0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B1B6-DF25-4DAF-993B-05E4FDCD6E2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DF2-FB75-4369-BA03-94C0C8C06D9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BC56-FB05-4409-87BE-FF4F4982B87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ou@ti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ding efficiency test on large block size transforms in HEVC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000" y="3659040"/>
            <a:ext cx="84582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hua Zhou 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zhou@ti.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69760" y="26532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VTVC-B0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222-6D59-4483-80CF-E8D66944BF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D8399E-7DF7-461C-B5FA-90227FD98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rge block size transform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5680" y="1185840"/>
            <a:ext cx="84456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block size 16x16, 32x32, 64x64 transforms proposed in TMu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block size transforms have serious area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efficiency and complexity trade-off should be carefully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efficiency test results a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05D-9C41-4810-8064-912C7C2CAB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75CC9-C9F9-430E-AF85-895649D09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Condi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5680" y="1185840"/>
            <a:ext cx="84456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: striped-down version of A124 referenc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rames: only the first 121 frame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settings: followed the ones in Alpha.bat; Beta.bat (CU sizes, GOP structures, Q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frame only coding mode is also tes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12E-4195-4288-B53F-91BBABB9C8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4466A-918D-4218-A907-A1D9C2F99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Results (I+B+P and I+P modes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1360" y="1197000"/>
          <a:ext cx="8810640" cy="4203720"/>
        </p:xfrm>
        <a:graphic>
          <a:graphicData uri="http://schemas.openxmlformats.org/drawingml/2006/table">
            <a:tbl>
              <a:tblPr/>
              <a:tblGrid>
                <a:gridCol w="1587240"/>
                <a:gridCol w="1204560"/>
                <a:gridCol w="1110960"/>
                <a:gridCol w="1204560"/>
                <a:gridCol w="1295640"/>
                <a:gridCol w="1204560"/>
                <a:gridCol w="120312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-rate differenc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p to 32x32 transform size vs. up to 64x64 transform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-rate differenc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p to 16x16 transform size vs. up to 64x64 transform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settings (IB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 settings (I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2176560" y="5400360"/>
            <a:ext cx="478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. Experimental results for I+B+P (Alpha) and I+P (Beta) 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282-0228-4D84-821D-30546D0156D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9A06B-5854-4BAC-8F53-0024B9BB01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Results (I-frame only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8520" y="1112760"/>
          <a:ext cx="8877240" cy="4372200"/>
        </p:xfrm>
        <a:graphic>
          <a:graphicData uri="http://schemas.openxmlformats.org/drawingml/2006/table">
            <a:tbl>
              <a:tblPr/>
              <a:tblGrid>
                <a:gridCol w="1651680"/>
                <a:gridCol w="1205280"/>
                <a:gridCol w="1110960"/>
                <a:gridCol w="1204920"/>
                <a:gridCol w="1296000"/>
                <a:gridCol w="1204920"/>
                <a:gridCol w="120348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-rate differenc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p to 32x32 transform size vs. up to 64x64 transform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-rate differenc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p to 16x16 transform size vs. up to 64x64 transform si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settings (I-onl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 sett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-onl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307-A9CF-4D5B-9A4D-4170D6F1A39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CB119-56A0-4624-9C9E-9142EF364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serv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5680" y="1185840"/>
            <a:ext cx="84456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the gain provided by the large size transforms (32x32 and 64x64) is around 1 ~ 2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larger gain is observed in 1080p (Class B) sequences, in which an average gain around 3% (peak 6 – 9 %) was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itional gain by adding 64x64 transform on the top of 32x32 transform is very lim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 size transform is more effective in the cases where the inter-prediction is less effec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179-B65A-403B-8144-A31ECC3EA8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7673F-CF4E-4A19-B6DF-49831DD20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0-07-17T13:12:43Z</dcterms:modified>
  <cp:revision>97</cp:revision>
  <dc:subject/>
  <dc:title>Presentation Title Here</dc:title>
</cp:coreProperties>
</file>