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511-6DF1-42E3-9030-9995CC9F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6B2D-0F1F-4896-B0B9-20A74166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B523-075A-47FA-BE5A-8B86624BE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647B-BD68-41C8-9537-0ECEBA607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65B9-344E-4FDC-8525-F5EEAA3F0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97CA-09FF-4EFA-8711-D7205C100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83D0-0E93-440F-8B5C-5BA9CC432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792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6280" y="11430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920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792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6280" y="37299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5DFD-CAC5-4ECC-B6AC-1B4DD0437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F6C3-54EE-4D95-B752-38DE94684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513-3AAB-4BB9-8E2E-12612C47D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151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516B-5EC2-4D34-BACC-30BCEFAAB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C1B9-27F0-482B-81FE-2F4374A45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5480" y="37299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E71C-8F5D-408A-90FF-254E5A2F7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5480" y="11430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9200" y="37299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B0BF-F3C2-4065-9FF0-908B7D293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6" descr="bluebanner0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1" descr="stlogo3"/>
          <p:cNvPicPr/>
          <p:nvPr/>
        </p:nvPicPr>
        <p:blipFill>
          <a:blip r:embed="rId3"/>
          <a:stretch/>
        </p:blipFill>
        <p:spPr>
          <a:xfrm>
            <a:off x="8099280" y="228600"/>
            <a:ext cx="809640" cy="48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6960" y="662256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0583-1241-4121-AF00-9FA41270CB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857160"/>
            <a:ext cx="8879040" cy="0"/>
          </a:xfrm>
          <a:prstGeom prst="line">
            <a:avLst/>
          </a:prstGeom>
          <a:ln w="2844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30"/>
          <p:cNvSpPr/>
          <p:nvPr/>
        </p:nvSpPr>
        <p:spPr>
          <a:xfrm>
            <a:off x="0" y="2863800"/>
            <a:ext cx="8874000" cy="0"/>
          </a:xfrm>
          <a:prstGeom prst="line">
            <a:avLst/>
          </a:prstGeom>
          <a:ln w="38160">
            <a:solidFill>
              <a:srgbClr val="fbb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3" descr="bluebanner0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stlogo3"/>
          <p:cNvPicPr/>
          <p:nvPr/>
        </p:nvPicPr>
        <p:blipFill>
          <a:blip r:embed="rId3"/>
          <a:stretch/>
        </p:blipFill>
        <p:spPr>
          <a:xfrm>
            <a:off x="8099280" y="228600"/>
            <a:ext cx="809640" cy="482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680" y="2057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28e"/>
                </a:solidFill>
                <a:latin typeface="Arial"/>
              </a:rPr>
              <a:t>Proposals for video coding complexity assessment</a:t>
            </a:r>
            <a:endParaRPr b="1" lang="en-US" sz="40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5680" y="31618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e Alfo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CTVC-B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eva, CH, 21-28 July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Remark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xity measurement method shall have good properties of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accuracy, precision, reproducibility </a:t>
            </a:r>
            <a:r>
              <a:rPr b="0" lang="en-US" sz="2000" spc="-1" strike="noStrike">
                <a:solidFill>
                  <a:srgbClr val="00528e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 simpl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omplexity is a multi-dimensional conce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 focused on computation and memory bandwidth, because these factors have the most relevant impact on the implementa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to define the computational complexity of an application “per se”: it depends on the application, on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ompiler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n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CPU Instruction Set Archite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perform simplified complexity estimation over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generic x86 CP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with the Valgrind tool suite for Linux 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ecessary to specify and agree on the following points: compiler version, optimization level, set of test sequences and configu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98B2-8CAF-45E4-B3C7-98E48B7ECE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roposals to JCT-VC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valuate HVC contributions in terms of both coding efficiency and complexity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fine a procedure for complexity assessment, considering the present 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y the procedure in a document like 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Recommended simulation common conditions for complexity efficiency experiments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0E7D-96A8-4FE2-AE17-1883E69A0B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Properties of a measurement system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a measure is a </a:t>
            </a:r>
            <a:r>
              <a:rPr b="1" lang="en-US" sz="2400" spc="-1" strike="noStrike">
                <a:solidFill>
                  <a:srgbClr val="00528e"/>
                </a:solidFill>
                <a:latin typeface="Arial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of a measure is def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Accura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oseness of a measured quantity to its tru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Repea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degree to which further measurements show the same or similar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esirable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Reproduc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bility of a test or experiment to be accurately reproduced by someone else working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bb03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Simpli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pability to execute measures in an automated way, with limited human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FB8-9F5D-4EE1-B2DA-AB1D6057E7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mplexity as execution tim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utational complexity of an application is often estimated by its overall execut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 can put the CPU in one of the following 4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Executing in 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PU is executing the machine code of a process that accesses its own data space in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Executing in System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so known as </a:t>
            </a:r>
            <a:r>
              <a:rPr b="0" lang="en-US" sz="1800" spc="-1" strike="noStrike">
                <a:solidFill>
                  <a:srgbClr val="00528e"/>
                </a:solidFill>
                <a:latin typeface="Arial"/>
              </a:rPr>
              <a:t>Kernel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the CPU is executing a system call made by the process to require the services of the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Idle waiting for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are sleeping while waiting for the completion of I/O to disk or other block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199"/>
              </a:spcBef>
              <a:buClr>
                <a:srgbClr val="fbb0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8e"/>
                </a:solidFill>
                <a:latin typeface="Arial"/>
              </a:rPr>
              <a:t>I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 processes are ready-to-run on the CPU or are sleeping waiting for block I/O or keyboard input or network I/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FFFC-337C-4836-B638-58094BEEB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lapsed Time vs. User Time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overall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elapsed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 accu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counts for CPU time spent in idle states and in running other processes, on behalf of the OS or other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reproduc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pends on the CPU architecture, not only on the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the </a:t>
            </a:r>
            <a:r>
              <a:rPr b="1" lang="en-US" sz="2000" spc="-1" strike="noStrike">
                <a:solidFill>
                  <a:srgbClr val="00528e"/>
                </a:solidFill>
                <a:latin typeface="Arial"/>
              </a:rPr>
              <a:t>user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s accuracy issues, but it still has low reproduc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measures may have limited precision (see 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4AD-A591-4FAA-98AF-55DBA3C890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Encoding User Time resul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9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R = Variance to Mean Ratio (Index of Dispers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able to perform multiple measures and take the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BBE-154B-4102-93E7-CCC88F0066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908760" cy="426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Complexity definition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R) depends only on the CP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s Per In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PI) depends on the application, on the compiler and on the CPU and is very hard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simplified complexity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D48-5C7F-4C34-8CC7-A82874EBA0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914400" y="1143000"/>
                <a:ext cx="6432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xit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U_tim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on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gra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nstruction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gram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lock_cyc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struction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on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lock_cycle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932040" y="3048120"/>
                <a:ext cx="595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lex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lock_cyc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stru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lock_cyc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structio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P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666880" y="5257800"/>
                <a:ext cx="3429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lex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structio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gra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tool suite for debugging and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Instruction and Data Caches si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cache access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ructions Count 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-cache access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ware and open source (GPL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Linux distributions as precompiled pack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(latest release dated 19 Aug. 200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easy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execution slow down by up to 100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cycles per instruction not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ize of D-cache accesses not meas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5B9-20CF-4197-B252-D4C9BFAD3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 results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lling tomatoe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equence (1080p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cache and D-caches accesses for encoding of 1s vid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low VM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ingle measure is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490B-E7DA-4BD3-B326-ACB336EF33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94640" cy="12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8594640" cy="12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8e"/>
                </a:solidFill>
                <a:latin typeface="Arial"/>
              </a:rPr>
              <a:t>Valgrind results (2)</a:t>
            </a:r>
            <a:endParaRPr b="1" lang="en-US" sz="3200" spc="-1" strike="noStrike">
              <a:solidFill>
                <a:srgbClr val="00528e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49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bb0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and decoding complexity values, averaged on 4 HD 1080p test sequ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616960" y="66229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328-0862-4427-8033-F20F8FA80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914400" y="4276800"/>
            <a:ext cx="685800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824040" y="2133720"/>
            <a:ext cx="7024680" cy="188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7:53:50Z</dcterms:created>
  <dc:creator>Daniele Alfonso</dc:creator>
  <dc:description/>
  <dc:language>en-US</dc:language>
  <cp:lastModifiedBy>Daniele Alfonso</cp:lastModifiedBy>
  <cp:lastPrinted>2009-12-10T10:33:55Z</cp:lastPrinted>
  <dcterms:modified xsi:type="dcterms:W3CDTF">2010-07-20T12:27:00Z</dcterms:modified>
  <cp:revision>13</cp:revision>
  <dc:subject/>
  <dc:title>Proposals for video coding complexity assessment</dc:title>
</cp:coreProperties>
</file>