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jpeg" ContentType="image/jpeg"/>
  <Override PartName="/ppt/media/image3.png" ContentType="image/png"/>
  <Override PartName="/ppt/media/image26.png" ContentType="image/png"/>
  <Override PartName="/ppt/media/image30.png" ContentType="image/png"/>
  <Override PartName="/ppt/media/image32.wmf" ContentType="image/x-wmf"/>
  <Override PartName="/ppt/media/image12.png" ContentType="image/png"/>
  <Override PartName="/ppt/media/image33.wmf" ContentType="image/x-wmf"/>
  <Override PartName="/ppt/media/image38.wmf" ContentType="image/x-wmf"/>
  <Override PartName="/ppt/media/image8.wmf" ContentType="image/x-wmf"/>
  <Override PartName="/ppt/media/image10.wmf" ContentType="image/x-wmf"/>
  <Override PartName="/ppt/media/image34.wmf" ContentType="image/x-wmf"/>
  <Override PartName="/ppt/media/image35.png" ContentType="image/png"/>
  <Override PartName="/ppt/media/image11.wmf" ContentType="image/x-wmf"/>
  <Override PartName="/ppt/media/image5.jpeg" ContentType="image/jpeg"/>
  <Override PartName="/ppt/media/image20.wmf" ContentType="image/x-wmf"/>
  <Override PartName="/ppt/media/image36.png" ContentType="image/png"/>
  <Override PartName="/ppt/media/image37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9.wmf" ContentType="image/x-wmf"/>
  <Override PartName="/ppt/media/image9.wmf" ContentType="image/x-wmf"/>
  <Override PartName="/ppt/media/image39.wmf" ContentType="image/x-wmf"/>
  <Override PartName="/ppt/media/image13.jpeg" ContentType="image/jpeg"/>
  <Override PartName="/ppt/media/image4.png" ContentType="image/png"/>
  <Override PartName="/ppt/media/image27.png" ContentType="image/png"/>
  <Override PartName="/ppt/media/image18.wmf" ContentType="image/x-wmf"/>
  <Override PartName="/ppt/media/image2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495A-64D1-47D1-BC50-A79E8B3294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2BBA-A58F-464E-BD42-2EB9A0FF3F4B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46A2-2C0E-48BD-92A8-0EC3F04F7F87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AC50-F524-4352-90E0-0FCE68915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CBFC-2F6A-4654-B55B-C8DD6BBEB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A1A8-D42B-402E-A171-CD89AEE7E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276E-910E-459F-A42C-DD2AB094587B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3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7" descr="BBC-Blocks"/>
          <p:cNvPicPr/>
          <p:nvPr/>
        </p:nvPicPr>
        <p:blipFill>
          <a:blip r:embed="rId3"/>
          <a:stretch/>
        </p:blipFill>
        <p:spPr>
          <a:xfrm>
            <a:off x="8288280" y="6502320"/>
            <a:ext cx="660600" cy="18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3840" y="3000240"/>
            <a:ext cx="8931240" cy="11448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Samsung and BBC response to</a:t>
            </a:r>
            <a:br>
              <a:rPr sz="32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ll for Proposals on Video Compression Techn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56760" y="4573440"/>
            <a:ext cx="71154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 McCann (Samsu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Davies (BB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9796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Unit Defini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Relationship of CU, PU and TU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5899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Mo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Asymmetric Motion Partition (AMP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214280"/>
            <a:ext cx="8502840" cy="1857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179280" indent="-17928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symmetric motion partition (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MP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Describes various object motions efficiently without further splitt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Computationally efficient compared to non-rectangular parti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Motion estimation, motion compensation, transform, etc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928800" y="3071880"/>
            <a:ext cx="6481800" cy="826920"/>
          </a:xfrm>
          <a:prstGeom prst="rect">
            <a:avLst/>
          </a:prstGeom>
          <a:ln w="0">
            <a:noFill/>
          </a:ln>
        </p:spPr>
      </p:pic>
      <p:sp>
        <p:nvSpPr>
          <p:cNvPr id="204" name="직사각형 15"/>
          <p:cNvSpPr/>
          <p:nvPr/>
        </p:nvSpPr>
        <p:spPr>
          <a:xfrm>
            <a:off x="4214880" y="2928960"/>
            <a:ext cx="3386160" cy="1001520"/>
          </a:xfrm>
          <a:prstGeom prst="rect">
            <a:avLst/>
          </a:prstGeom>
          <a:noFill/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5004720" y="4002120"/>
            <a:ext cx="2000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U types for 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cu_L2.bmp"/>
          <p:cNvPicPr/>
          <p:nvPr/>
        </p:nvPicPr>
        <p:blipFill>
          <a:blip r:embed="rId2"/>
          <a:stretch/>
        </p:blipFill>
        <p:spPr>
          <a:xfrm>
            <a:off x="4645080" y="4502160"/>
            <a:ext cx="107928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4645080" y="4502160"/>
          <a:ext cx="1071360" cy="1071720"/>
        </p:xfrm>
        <a:graphic>
          <a:graphicData uri="http://schemas.openxmlformats.org/drawingml/2006/table">
            <a:tbl>
              <a:tblPr/>
              <a:tblGrid>
                <a:gridCol w="268200"/>
                <a:gridCol w="803160"/>
              </a:tblGrid>
              <a:tr h="1071720">
                <a:tc>
                  <a:txBody>
                    <a:bodyPr lIns="74880" rIns="7488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880" marR="7488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4880" rIns="7488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880" marR="74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8" name="Picture 3" descr="C:\cu_R.bmp"/>
          <p:cNvPicPr/>
          <p:nvPr/>
        </p:nvPicPr>
        <p:blipFill>
          <a:blip r:embed="rId3"/>
          <a:stretch/>
        </p:blipFill>
        <p:spPr>
          <a:xfrm>
            <a:off x="6216480" y="45021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cu_D.bmp"/>
          <p:cNvPicPr/>
          <p:nvPr/>
        </p:nvPicPr>
        <p:blipFill>
          <a:blip r:embed="rId4"/>
          <a:stretch/>
        </p:blipFill>
        <p:spPr>
          <a:xfrm>
            <a:off x="3071880" y="4502160"/>
            <a:ext cx="1081080" cy="1079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cu_U2.bmp"/>
          <p:cNvPicPr/>
          <p:nvPr/>
        </p:nvPicPr>
        <p:blipFill>
          <a:blip r:embed="rId5"/>
          <a:stretch/>
        </p:blipFill>
        <p:spPr>
          <a:xfrm>
            <a:off x="1500120" y="4502160"/>
            <a:ext cx="107964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500120" y="4502160"/>
          <a:ext cx="1071720" cy="1071720"/>
        </p:xfrm>
        <a:graphic>
          <a:graphicData uri="http://schemas.openxmlformats.org/drawingml/2006/table">
            <a:tbl>
              <a:tblPr/>
              <a:tblGrid>
                <a:gridCol w="1071720"/>
              </a:tblGrid>
              <a:tr h="268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071880" y="4502160"/>
          <a:ext cx="1071360" cy="1071720"/>
        </p:xfrm>
        <a:graphic>
          <a:graphicData uri="http://schemas.openxmlformats.org/drawingml/2006/table">
            <a:tbl>
              <a:tblPr/>
              <a:tblGrid>
                <a:gridCol w="1071360"/>
              </a:tblGrid>
              <a:tr h="803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6224760" y="4502160"/>
          <a:ext cx="1071360" cy="1071720"/>
        </p:xfrm>
        <a:graphic>
          <a:graphicData uri="http://schemas.openxmlformats.org/drawingml/2006/table">
            <a:tbl>
              <a:tblPr/>
              <a:tblGrid>
                <a:gridCol w="803160"/>
                <a:gridCol w="268200"/>
              </a:tblGrid>
              <a:tr h="107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 Box 15"/>
          <p:cNvSpPr/>
          <p:nvPr/>
        </p:nvSpPr>
        <p:spPr>
          <a:xfrm>
            <a:off x="1698480" y="5519880"/>
            <a:ext cx="72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Nx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218400" y="5519880"/>
            <a:ext cx="72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Nx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6433920" y="5519880"/>
            <a:ext cx="72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Rx2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4860720" y="5519880"/>
            <a:ext cx="69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Lx2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1071720" y="5859360"/>
            <a:ext cx="764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2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Examples of use of AMP (from RaceHorses in Class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1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4052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700" spc="-1" strike="noStrike">
                <a:solidFill>
                  <a:srgbClr val="2d2d8a"/>
                </a:solidFill>
                <a:latin typeface="Arial"/>
              </a:rPr>
              <a:t>Motion: </a:t>
            </a:r>
            <a:r>
              <a:rPr b="1" lang="en-GB" sz="2700" spc="-1" strike="noStrike">
                <a:solidFill>
                  <a:srgbClr val="2d2d8a"/>
                </a:solidFill>
                <a:latin typeface="Arial"/>
              </a:rPr>
              <a:t>Advanced Motion Vector Prediction (AMVP)</a:t>
            </a:r>
            <a:endParaRPr b="1" lang="en-US" sz="27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56760" y="909720"/>
            <a:ext cx="8574120" cy="525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179280" indent="-17928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dvanced Motion Vector Prediction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AMVP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Extension of motion vector competition techniqu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Explicit motion vector predictor signaling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349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New candidate motion vectors </a:t>
            </a:r>
            <a:br>
              <a:rPr sz="1800"/>
            </a:b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맑은 고딕"/>
              </a:rPr>
              <a:t>(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motion vector candidates = {median(a</a:t>
            </a:r>
            <a:r>
              <a:rPr b="0" lang="en-US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, b</a:t>
            </a:r>
            <a:r>
              <a:rPr b="0" lang="en-US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, c'), a</a:t>
            </a:r>
            <a:r>
              <a:rPr b="0" lang="en-US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, b</a:t>
            </a:r>
            <a:r>
              <a:rPr b="0" lang="en-US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, c</a:t>
            </a:r>
            <a:r>
              <a:rPr b="0" lang="en-US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, temporal predictor}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맑은 고딕"/>
              </a:rPr>
              <a:t>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Three spatial motion vectors  (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, b</a:t>
            </a:r>
            <a:r>
              <a:rPr b="0" lang="en-US" sz="18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, c</a:t>
            </a:r>
            <a:r>
              <a:rPr b="0" lang="en-US" sz="18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35160" indent="-20340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The first available one for each group (inter mode &amp; same ref. idx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35160" indent="-20340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Groups are the above group {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, 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,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…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, 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na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}, the left group {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,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,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…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,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nb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} and the corner {c,d,e}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Median motion vector of three spatial motion vectors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Temporal motion predictor using one colocated motion vecto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Signaling overhead is minimiz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Candidate order is adapted according to PU splitt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Unnecessary or duplicated motion vectors are remov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222" name="그룹 24"/>
          <p:cNvGrpSpPr/>
          <p:nvPr/>
        </p:nvGrpSpPr>
        <p:grpSpPr>
          <a:xfrm>
            <a:off x="7359480" y="1285920"/>
            <a:ext cx="1368720" cy="1368360"/>
            <a:chOff x="7359480" y="1285920"/>
            <a:chExt cx="1368720" cy="1368360"/>
          </a:xfrm>
        </p:grpSpPr>
        <p:sp>
          <p:nvSpPr>
            <p:cNvPr id="223" name="Rectangle 4"/>
            <p:cNvSpPr/>
            <p:nvPr/>
          </p:nvSpPr>
          <p:spPr>
            <a:xfrm>
              <a:off x="7575480" y="1503360"/>
              <a:ext cx="935280" cy="934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7573680" y="1287360"/>
              <a:ext cx="216000" cy="215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6"/>
            <p:cNvSpPr/>
            <p:nvPr/>
          </p:nvSpPr>
          <p:spPr>
            <a:xfrm>
              <a:off x="7789680" y="1287360"/>
              <a:ext cx="216000" cy="215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8296200" y="1285920"/>
              <a:ext cx="216000" cy="215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"/>
            <p:cNvSpPr/>
            <p:nvPr/>
          </p:nvSpPr>
          <p:spPr>
            <a:xfrm>
              <a:off x="7359480" y="1503360"/>
              <a:ext cx="216000" cy="215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>
              <a:off x="7359480" y="1719360"/>
              <a:ext cx="216000" cy="215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"/>
            <p:cNvSpPr/>
            <p:nvPr/>
          </p:nvSpPr>
          <p:spPr>
            <a:xfrm>
              <a:off x="7359480" y="2222640"/>
              <a:ext cx="216000" cy="215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n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"/>
            <p:cNvSpPr/>
            <p:nvPr/>
          </p:nvSpPr>
          <p:spPr>
            <a:xfrm>
              <a:off x="8512200" y="1287360"/>
              <a:ext cx="216000" cy="21564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2"/>
            <p:cNvSpPr/>
            <p:nvPr/>
          </p:nvSpPr>
          <p:spPr>
            <a:xfrm>
              <a:off x="7359480" y="2438640"/>
              <a:ext cx="216000" cy="21564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>
              <a:off x="7359480" y="1285920"/>
              <a:ext cx="216000" cy="21564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8031240" y="14014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5"/>
            <p:cNvSpPr/>
            <p:nvPr/>
          </p:nvSpPr>
          <p:spPr>
            <a:xfrm flipV="1">
              <a:off x="7459200" y="19681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Mo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Improved Skip and Direct modes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6760" y="909360"/>
            <a:ext cx="8502840" cy="4787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Improved Skip and Direct provide intermediate complexity mod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Skip and direct modes are enabled for both P and B slic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24000" indent="-20340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Differentiated only by whether texture information is sent or no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24000" indent="-20340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The motion of skip and direct modes is derived by AMV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The motion vector prediction information is sen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24000" indent="-20340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AMVP index information is sent to determine motion predicto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There are three kinds of direct mode in B slic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24000" indent="-20340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Two uni-directional direct modes and a bi-directional direct mod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Mo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DCT-based interpolation filter (DIF) 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6760" y="909720"/>
            <a:ext cx="8502840" cy="2071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89000"/>
          </a:bodyPr>
          <a:p>
            <a:pPr marL="271080" indent="-27108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DIF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provides an elegant method of high-accuracy interpol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586080" indent="-2232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Direct fractional pixel generation replaces Wiener + bi-linear combin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903960" indent="-18036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Only one filtering is used to generate pixels at any accurac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903960" indent="-18036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Mathematically, it is a forward DCT followed by inverse DCT with shifted argument of basis func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903960" indent="-18036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upports any accuracy &amp; filter length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86080" indent="-2232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Implemented as a multiplication-free spatial domain filter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239" name="Object 3"/>
          <p:cNvGraphicFramePr/>
          <p:nvPr/>
        </p:nvGraphicFramePr>
        <p:xfrm>
          <a:off x="1116000" y="2711520"/>
          <a:ext cx="693108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711520"/>
                    <a:ext cx="693108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4"/>
          <p:cNvGraphicFramePr/>
          <p:nvPr/>
        </p:nvGraphicFramePr>
        <p:xfrm>
          <a:off x="6288120" y="3867120"/>
          <a:ext cx="2574720" cy="3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67120"/>
                    <a:ext cx="257472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5"/>
          <p:cNvGraphicFramePr/>
          <p:nvPr/>
        </p:nvGraphicFramePr>
        <p:xfrm>
          <a:off x="1071720" y="4081320"/>
          <a:ext cx="2857320" cy="9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1720" y="4081320"/>
                    <a:ext cx="2857320" cy="92880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5" name="Object 6"/>
          <p:cNvGraphicFramePr/>
          <p:nvPr/>
        </p:nvGraphicFramePr>
        <p:xfrm>
          <a:off x="1071720" y="5153040"/>
          <a:ext cx="2857320" cy="94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1720" y="5153040"/>
                    <a:ext cx="2857320" cy="94140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7" name="Object 7"/>
          <p:cNvGraphicFramePr/>
          <p:nvPr/>
        </p:nvGraphicFramePr>
        <p:xfrm>
          <a:off x="5502240" y="4438800"/>
          <a:ext cx="2203560" cy="12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2240" y="4438800"/>
                    <a:ext cx="2203560" cy="12873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AutoShape 72"/>
          <p:cNvSpPr/>
          <p:nvPr/>
        </p:nvSpPr>
        <p:spPr>
          <a:xfrm>
            <a:off x="4645080" y="4730760"/>
            <a:ext cx="210960" cy="619200"/>
          </a:xfrm>
          <a:custGeom>
            <a:avLst/>
            <a:gdLst>
              <a:gd name="textAreaLeft" fmla="*/ 0 w 210960"/>
              <a:gd name="textAreaRight" fmla="*/ 75960 w 210960"/>
              <a:gd name="textAreaTop" fmla="*/ 43920 h 619200"/>
              <a:gd name="textAreaBottom" fmla="*/ 5752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6"/>
                  <a:pt x="10800" y="4931"/>
                </a:cubicBezTo>
                <a:lnTo>
                  <a:pt x="10800" y="5767"/>
                </a:lnTo>
                <a:cubicBezTo>
                  <a:pt x="10800" y="8233"/>
                  <a:pt x="16200" y="10698"/>
                  <a:pt x="21600" y="10698"/>
                </a:cubicBezTo>
                <a:cubicBezTo>
                  <a:pt x="16200" y="10698"/>
                  <a:pt x="10800" y="13164"/>
                  <a:pt x="10800" y="15629"/>
                </a:cubicBezTo>
                <a:lnTo>
                  <a:pt x="10800" y="16669"/>
                </a:lnTo>
                <a:cubicBezTo>
                  <a:pt x="10800" y="19135"/>
                  <a:pt x="5400" y="21600"/>
                  <a:pt x="0" y="21600"/>
                </a:cubicBez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3"/>
          <p:cNvSpPr/>
          <p:nvPr/>
        </p:nvSpPr>
        <p:spPr>
          <a:xfrm>
            <a:off x="4214880" y="5457960"/>
            <a:ext cx="1001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r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Mo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High Accuracy Motion (HAM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56760" y="1214280"/>
            <a:ext cx="8502840" cy="4788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High Accuracy Motion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HAM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provid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Higher motion accuracy than ¼ p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Proposal uses a refinement represent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Motion vector (lower accuracy, e.g. ¼ pel) + refinement (0, -1, +1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1 bit overhead when refinement not us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maller overhead to always 1/8 desig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No negative gain sequenc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Prediction is used only for lower accuracy MV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To prevent randomness of MV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maller MVD magnitud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Current design uses 1/12 pel accuracy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More compact coverage than 1/8 p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53" name="Picture 11" descr=""/>
          <p:cNvPicPr/>
          <p:nvPr/>
        </p:nvPicPr>
        <p:blipFill>
          <a:blip r:embed="rId1"/>
          <a:stretch/>
        </p:blipFill>
        <p:spPr>
          <a:xfrm>
            <a:off x="6229440" y="2781360"/>
            <a:ext cx="2678040" cy="3300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Intra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Arbitrary Direction Intra (ADI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4000" y="909360"/>
            <a:ext cx="8502480" cy="5329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rbitrary Direction Intra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ADI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provides improved directional predic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Prediction of any direction is defined by the delta value (dx, dy) from current pixel to the corresponding reference pixel: Y[x, y] = Y[x-dx, y-dy]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Left down pixels are possible reference pixel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Filtering of boundary reconstructed pixels before predi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Number of prediction modes dependent on PU siz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Up to 33 prediction mod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57" name="Picture 11" descr=""/>
          <p:cNvPicPr/>
          <p:nvPr/>
        </p:nvPicPr>
        <p:blipFill>
          <a:blip r:embed="rId1"/>
          <a:stretch/>
        </p:blipFill>
        <p:spPr>
          <a:xfrm>
            <a:off x="5581800" y="2997360"/>
            <a:ext cx="2823840" cy="277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2"/>
          <p:cNvSpPr/>
          <p:nvPr/>
        </p:nvSpPr>
        <p:spPr>
          <a:xfrm>
            <a:off x="5581800" y="5713560"/>
            <a:ext cx="3058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Arial"/>
              </a:rPr>
              <a:t>Prediction generation with arbitrary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044720" y="3430440"/>
          <a:ext cx="3716280" cy="2346480"/>
        </p:xfrm>
        <a:graphic>
          <a:graphicData uri="http://schemas.openxmlformats.org/drawingml/2006/table">
            <a:tbl>
              <a:tblPr/>
              <a:tblGrid>
                <a:gridCol w="1214280"/>
                <a:gridCol w="250200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PU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umber of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x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6x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2x3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4x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28x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Intra: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 Multi-Parameter Intra (MPI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56760" y="1213920"/>
            <a:ext cx="8502840" cy="785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Multi-Parameter Intra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MPI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provides more natural prediction patter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Uses a 4-point filter for each pixel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 inside the predicted block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"/>
          <p:cNvPicPr/>
          <p:nvPr/>
        </p:nvPicPr>
        <p:blipFill>
          <a:blip r:embed="rId1"/>
          <a:stretch/>
        </p:blipFill>
        <p:spPr>
          <a:xfrm>
            <a:off x="2413080" y="2062080"/>
            <a:ext cx="3744720" cy="14320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755640" y="3573360"/>
            <a:ext cx="82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red’[x,y] = (pred[x,y]+pred[x-1,y]+ pred[x,y-1]+ pred[x,y+1] +2 ) &gt;&gt;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2700360" y="4078440"/>
            <a:ext cx="3479760" cy="20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4052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600" spc="-1" strike="noStrike">
                <a:solidFill>
                  <a:srgbClr val="2d2d8a"/>
                </a:solidFill>
                <a:latin typeface="Arial"/>
              </a:rPr>
              <a:t>Intra: </a:t>
            </a:r>
            <a:r>
              <a:rPr b="1" lang="en-US" sz="2600" spc="-1" strike="noStrike">
                <a:solidFill>
                  <a:srgbClr val="2d2d8a"/>
                </a:solidFill>
                <a:latin typeface="Arial"/>
              </a:rPr>
              <a:t>Color Component Correlation Prediction (CCCP)</a:t>
            </a:r>
            <a:endParaRPr b="1" lang="en-US" sz="26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56760" y="1213920"/>
            <a:ext cx="8502840" cy="1428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CCCP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improves chroma intra prediction by using information inferred from reconstructed luma sampl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hroma intra prediction based on segmentation map from luma sampl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apable of generating complex object shap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16_2_BasketballDrill_chroma_crop_Q26"/>
          <p:cNvPicPr/>
          <p:nvPr/>
        </p:nvPicPr>
        <p:blipFill>
          <a:blip r:embed="rId1"/>
          <a:stretch/>
        </p:blipFill>
        <p:spPr>
          <a:xfrm>
            <a:off x="3243240" y="2762280"/>
            <a:ext cx="2757600" cy="2573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2" descr="16_2_BasketballDrill_chroma_crop_Q26_CCP"/>
          <p:cNvPicPr/>
          <p:nvPr/>
        </p:nvPicPr>
        <p:blipFill>
          <a:blip r:embed="rId2"/>
          <a:stretch/>
        </p:blipFill>
        <p:spPr>
          <a:xfrm>
            <a:off x="6216480" y="2762280"/>
            <a:ext cx="2772000" cy="2574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3" descr="BasketballDrill_chroma_orig_crop"/>
          <p:cNvPicPr/>
          <p:nvPr/>
        </p:nvPicPr>
        <p:blipFill>
          <a:blip r:embed="rId3"/>
          <a:stretch/>
        </p:blipFill>
        <p:spPr>
          <a:xfrm>
            <a:off x="252360" y="2762280"/>
            <a:ext cx="2724120" cy="25923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4"/>
          <p:cNvSpPr/>
          <p:nvPr/>
        </p:nvSpPr>
        <p:spPr>
          <a:xfrm>
            <a:off x="428760" y="54468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iginal Chroma 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3500280" y="54468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diction of H.264/A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6216480" y="5446800"/>
            <a:ext cx="264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diction of proposed method (CCCP replace DC mo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7"/>
          <p:cNvSpPr/>
          <p:nvPr/>
        </p:nvSpPr>
        <p:spPr>
          <a:xfrm>
            <a:off x="2197080" y="4078440"/>
            <a:ext cx="412920" cy="431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5"/>
          <p:cNvSpPr/>
          <p:nvPr/>
        </p:nvSpPr>
        <p:spPr>
          <a:xfrm rot="14392800">
            <a:off x="1268280" y="4179960"/>
            <a:ext cx="1209600" cy="28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8"/>
          <p:cNvSpPr/>
          <p:nvPr/>
        </p:nvSpPr>
        <p:spPr>
          <a:xfrm rot="14392800">
            <a:off x="4254480" y="4179600"/>
            <a:ext cx="120960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9"/>
          <p:cNvSpPr/>
          <p:nvPr/>
        </p:nvSpPr>
        <p:spPr>
          <a:xfrm rot="14392800">
            <a:off x="7207200" y="4179600"/>
            <a:ext cx="120960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7"/>
          <p:cNvSpPr/>
          <p:nvPr/>
        </p:nvSpPr>
        <p:spPr>
          <a:xfrm>
            <a:off x="5202360" y="4106880"/>
            <a:ext cx="412560" cy="431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8172360" y="4106880"/>
            <a:ext cx="412920" cy="431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9796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Intra: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 Pixel based template matching (PTM) 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56760" y="1214280"/>
            <a:ext cx="8502840" cy="4880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Pixel based template matching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PTM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improves intra prediction in regions with repeated regular patter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L-shaped search region, including already predicted samples in templat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Want to predict P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Use T0, T1, T2 as template of size 6x6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Total 27 points are search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Previously predicted pixels are reused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as candidate and templat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hoose pixel C if it gives min. SA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3" descr=""/>
          <p:cNvPicPr/>
          <p:nvPr/>
        </p:nvPicPr>
        <p:blipFill>
          <a:blip r:embed="rId1"/>
          <a:stretch/>
        </p:blipFill>
        <p:spPr>
          <a:xfrm>
            <a:off x="5508720" y="2576520"/>
            <a:ext cx="33843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1053720"/>
            <a:ext cx="8359560" cy="50418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lgorithm Descrip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nit Defini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otion Represent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tra-frame Predi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patial Transform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-loop Filter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ntropy Cod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mpression Performanc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mplexity Analysi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23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3d3d3d"/>
                </a:solidFill>
                <a:latin typeface="Arial"/>
              </a:rPr>
              <a:t>Combined Intra Prediction (</a:t>
            </a:r>
            <a:r>
              <a:rPr b="1" lang="en-GB" sz="2000" spc="-1" strike="noStrike">
                <a:solidFill>
                  <a:srgbClr val="3d3d3d"/>
                </a:solidFill>
                <a:latin typeface="Arial"/>
              </a:rPr>
              <a:t>CIP</a:t>
            </a:r>
            <a:r>
              <a:rPr b="0" lang="en-GB" sz="2000" spc="-1" strike="noStrike">
                <a:solidFill>
                  <a:srgbClr val="3d3d3d"/>
                </a:solidFill>
                <a:latin typeface="Arial"/>
              </a:rPr>
              <a:t>) improves other prediction methods by allowing pixel-by-pixel adapt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3d3d3d"/>
                </a:solidFill>
                <a:latin typeface="Arial"/>
              </a:rPr>
              <a:t>In A125, ADI predictions are </a:t>
            </a:r>
            <a:br>
              <a:rPr sz="2000"/>
            </a:br>
            <a:r>
              <a:rPr b="0" lang="en-GB" sz="2000" spc="-1" strike="noStrike">
                <a:solidFill>
                  <a:srgbClr val="3d3d3d"/>
                </a:solidFill>
                <a:latin typeface="Arial"/>
              </a:rPr>
              <a:t>combined with a local mean </a:t>
            </a:r>
            <a:br>
              <a:rPr sz="2000"/>
            </a:br>
            <a:r>
              <a:rPr b="0" lang="en-GB" sz="2000" spc="-1" strike="noStrike">
                <a:solidFill>
                  <a:srgbClr val="3d3d3d"/>
                </a:solidFill>
                <a:latin typeface="Arial"/>
              </a:rPr>
              <a:t>within a block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3d3d3d"/>
                </a:solidFill>
                <a:latin typeface="Arial"/>
              </a:rPr>
              <a:t>Forward prediction using the local</a:t>
            </a:r>
            <a:br>
              <a:rPr sz="2000"/>
            </a:br>
            <a:r>
              <a:rPr b="0" lang="en-GB" sz="2000" spc="-1" strike="noStrike">
                <a:solidFill>
                  <a:srgbClr val="3d3d3d"/>
                </a:solidFill>
                <a:latin typeface="Arial"/>
              </a:rPr>
              <a:t>mean is open-loop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d3d3d"/>
                </a:solidFill>
                <a:latin typeface="Arial"/>
              </a:rPr>
              <a:t>any noise is damped by the </a:t>
            </a:r>
            <a:br>
              <a:rPr sz="1800"/>
            </a:br>
            <a:r>
              <a:rPr b="0" lang="en-GB" sz="1800" spc="-1" strike="noStrike">
                <a:solidFill>
                  <a:srgbClr val="3d3d3d"/>
                </a:solidFill>
                <a:latin typeface="Arial"/>
              </a:rPr>
              <a:t>combination factors and more </a:t>
            </a:r>
            <a:br>
              <a:rPr sz="1800"/>
            </a:br>
            <a:r>
              <a:rPr b="0" lang="en-GB" sz="1800" spc="-1" strike="noStrike">
                <a:solidFill>
                  <a:srgbClr val="3d3d3d"/>
                </a:solidFill>
                <a:latin typeface="Arial"/>
              </a:rPr>
              <a:t>than compensated by a better,</a:t>
            </a:r>
            <a:br>
              <a:rPr sz="1800"/>
            </a:br>
            <a:r>
              <a:rPr b="0" lang="en-GB" sz="1800" spc="-1" strike="noStrike">
                <a:solidFill>
                  <a:srgbClr val="3d3d3d"/>
                </a:solidFill>
                <a:latin typeface="Arial"/>
              </a:rPr>
              <a:t>adaptive prediction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396720" y="76500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local_mean"/>
          <p:cNvPicPr/>
          <p:nvPr/>
        </p:nvPicPr>
        <p:blipFill>
          <a:blip r:embed="rId1"/>
          <a:stretch/>
        </p:blipFill>
        <p:spPr>
          <a:xfrm>
            <a:off x="4859280" y="2143080"/>
            <a:ext cx="4032360" cy="3551400"/>
          </a:xfrm>
          <a:prstGeom prst="rect">
            <a:avLst/>
          </a:prstGeom>
          <a:ln w="0">
            <a:noFill/>
          </a:ln>
        </p:spPr>
      </p:pic>
      <p:sp>
        <p:nvSpPr>
          <p:cNvPr id="288" name="Title 1"/>
          <p:cNvSpPr/>
          <p:nvPr/>
        </p:nvSpPr>
        <p:spPr>
          <a:xfrm>
            <a:off x="304920" y="152280"/>
            <a:ext cx="869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Intra: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 Combined Intra Prediction (C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Transform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Large Transform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24000" y="909720"/>
            <a:ext cx="8502480" cy="2448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 proposal extends transform to larger siz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16x16, 32x32 and 64x64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Minimising complexity is important in large transform desig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hen’s fast DCT has been chosen for this proposa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Reduced implementation complexity due to the regular butterfly desig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Approximation of values from sinusoidal functions into dyadic rational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an be implemented using additions and shifts onl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91" name="Picture 14" descr=""/>
          <p:cNvPicPr/>
          <p:nvPr/>
        </p:nvPicPr>
        <p:blipFill>
          <a:blip r:embed="rId1"/>
          <a:stretch/>
        </p:blipFill>
        <p:spPr>
          <a:xfrm>
            <a:off x="1405080" y="3357720"/>
            <a:ext cx="647352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Transform: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Rotational Transform (ROT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56760" y="1214280"/>
            <a:ext cx="8502840" cy="2143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0000"/>
          </a:bodyPr>
          <a:p>
            <a:pPr marL="274320" indent="-2743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Rotational Transform (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RO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) provides a way to rotate DCT basi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592920" indent="-2257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igned as 2</a:t>
            </a:r>
            <a:r>
              <a:rPr b="0" lang="en-US" sz="1800" spc="-1" strike="noStrike" baseline="30000">
                <a:solidFill>
                  <a:srgbClr val="40404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tranform after DCT: can be applied with any transform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92920" indent="-2257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imilar to directional transform, but simpler approach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mplementation cost is minimized in this proposal by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592920" indent="-2257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owing only four possible rotation angl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92920" indent="-2257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xcluding areas outside of the 8x8 low 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frequency area – advantages from transform domain process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4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4500720" y="3286080"/>
            <a:ext cx="37209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Transform: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 Logical transform (LOT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56760" y="1214280"/>
            <a:ext cx="8574120" cy="2216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 Logical Transform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LOT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llows the input residual size to be bigger than the maximum physical transform siz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oughly equivalent to taking only low-frequency components of DC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Beneficial in coding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mooth regions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Wavelet transform is followed by down-sampling and conventional transfor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only LL-band signals are transformed by spatial transfor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그룹 42"/>
          <p:cNvGrpSpPr/>
          <p:nvPr/>
        </p:nvGrpSpPr>
        <p:grpSpPr>
          <a:xfrm>
            <a:off x="3924360" y="4003560"/>
            <a:ext cx="1428480" cy="1428480"/>
            <a:chOff x="3924360" y="4003560"/>
            <a:chExt cx="1428480" cy="1428480"/>
          </a:xfrm>
        </p:grpSpPr>
        <p:sp>
          <p:nvSpPr>
            <p:cNvPr id="300" name="직사각형 4"/>
            <p:cNvSpPr/>
            <p:nvPr/>
          </p:nvSpPr>
          <p:spPr>
            <a:xfrm>
              <a:off x="3924360" y="4003560"/>
              <a:ext cx="357120" cy="357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직사각형 5"/>
            <p:cNvSpPr/>
            <p:nvPr/>
          </p:nvSpPr>
          <p:spPr>
            <a:xfrm>
              <a:off x="4638600" y="4003560"/>
              <a:ext cx="714240" cy="714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직사각형 6"/>
            <p:cNvSpPr/>
            <p:nvPr/>
          </p:nvSpPr>
          <p:spPr>
            <a:xfrm>
              <a:off x="3924360" y="4717800"/>
              <a:ext cx="714240" cy="714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직사각형 7"/>
            <p:cNvSpPr/>
            <p:nvPr/>
          </p:nvSpPr>
          <p:spPr>
            <a:xfrm>
              <a:off x="4638600" y="4717800"/>
              <a:ext cx="714240" cy="714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직사각형 8"/>
            <p:cNvSpPr/>
            <p:nvPr/>
          </p:nvSpPr>
          <p:spPr>
            <a:xfrm>
              <a:off x="4281480" y="4003560"/>
              <a:ext cx="357120" cy="357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직사각형 9"/>
            <p:cNvSpPr/>
            <p:nvPr/>
          </p:nvSpPr>
          <p:spPr>
            <a:xfrm>
              <a:off x="3924360" y="4360680"/>
              <a:ext cx="357120" cy="357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직사각형 10"/>
            <p:cNvSpPr/>
            <p:nvPr/>
          </p:nvSpPr>
          <p:spPr>
            <a:xfrm>
              <a:off x="4281480" y="4360680"/>
              <a:ext cx="357120" cy="357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Box 16"/>
          <p:cNvSpPr/>
          <p:nvPr/>
        </p:nvSpPr>
        <p:spPr>
          <a:xfrm>
            <a:off x="3852000" y="3502080"/>
            <a:ext cx="82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L 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2x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직사각형 105"/>
          <p:cNvSpPr/>
          <p:nvPr/>
        </p:nvSpPr>
        <p:spPr>
          <a:xfrm>
            <a:off x="7238880" y="4479840"/>
            <a:ext cx="285840" cy="295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06"/>
          <p:cNvSpPr/>
          <p:nvPr/>
        </p:nvSpPr>
        <p:spPr>
          <a:xfrm>
            <a:off x="7524720" y="441792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effic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(32x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직사각형 3"/>
          <p:cNvSpPr/>
          <p:nvPr/>
        </p:nvSpPr>
        <p:spPr>
          <a:xfrm>
            <a:off x="835200" y="4005360"/>
            <a:ext cx="1488960" cy="142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coding unit (128x12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1"/>
          <p:cNvSpPr/>
          <p:nvPr/>
        </p:nvSpPr>
        <p:spPr>
          <a:xfrm>
            <a:off x="5865480" y="3914640"/>
            <a:ext cx="170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Trans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x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0"/>
          <p:cNvSpPr/>
          <p:nvPr/>
        </p:nvSpPr>
        <p:spPr>
          <a:xfrm>
            <a:off x="2314080" y="4294080"/>
            <a:ext cx="16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elet trans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5"/>
          <p:cNvSpPr/>
          <p:nvPr/>
        </p:nvSpPr>
        <p:spPr>
          <a:xfrm>
            <a:off x="2340000" y="422280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6"/>
          <p:cNvSpPr/>
          <p:nvPr/>
        </p:nvSpPr>
        <p:spPr>
          <a:xfrm>
            <a:off x="4284720" y="422280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7"/>
          <p:cNvSpPr/>
          <p:nvPr/>
        </p:nvSpPr>
        <p:spPr>
          <a:xfrm>
            <a:off x="6661080" y="4275000"/>
            <a:ext cx="50328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Loop Filtering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Overview of In-loop filtering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96360" y="1125360"/>
            <a:ext cx="8502840" cy="642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 in-loop filter in A124 is a combination of several spatial processe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18" name="Picture 13" descr=""/>
          <p:cNvPicPr/>
          <p:nvPr/>
        </p:nvPicPr>
        <p:blipFill>
          <a:blip r:embed="rId1"/>
          <a:stretch/>
        </p:blipFill>
        <p:spPr>
          <a:xfrm>
            <a:off x="785880" y="1701720"/>
            <a:ext cx="7419960" cy="1123920"/>
          </a:xfrm>
          <a:prstGeom prst="rect">
            <a:avLst/>
          </a:prstGeom>
          <a:ln w="0">
            <a:noFill/>
          </a:ln>
        </p:spPr>
      </p:pic>
      <p:sp>
        <p:nvSpPr>
          <p:cNvPr id="319" name="Content Placeholder 2"/>
          <p:cNvSpPr/>
          <p:nvPr/>
        </p:nvSpPr>
        <p:spPr>
          <a:xfrm>
            <a:off x="428760" y="3573360"/>
            <a:ext cx="8502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 in-loop filter in A125 is only the Deblocking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-  Same filters and boundary strength decision as H.264/A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757080" y="4438800"/>
            <a:ext cx="1519200" cy="1077840"/>
            <a:chOff x="757080" y="4438800"/>
            <a:chExt cx="1519200" cy="1077840"/>
          </a:xfrm>
        </p:grpSpPr>
        <p:sp>
          <p:nvSpPr>
            <p:cNvPr id="321" name="Rectangle 5"/>
            <p:cNvSpPr/>
            <p:nvPr/>
          </p:nvSpPr>
          <p:spPr>
            <a:xfrm>
              <a:off x="757080" y="45068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??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Group 32"/>
            <p:cNvGrpSpPr/>
            <p:nvPr/>
          </p:nvGrpSpPr>
          <p:grpSpPr>
            <a:xfrm>
              <a:off x="776160" y="4438800"/>
              <a:ext cx="1500120" cy="1077840"/>
              <a:chOff x="776160" y="4438800"/>
              <a:chExt cx="1500120" cy="107784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776160" y="4438800"/>
                <a:ext cx="1071720" cy="1077840"/>
              </a:xfrm>
              <a:prstGeom prst="rect">
                <a:avLst/>
              </a:prstGeom>
              <a:solidFill>
                <a:srgbClr val="e8ee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776160" y="4438800"/>
                <a:ext cx="1071720" cy="107784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53920" y="4759560"/>
                <a:ext cx="933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162080"/>
                    <a:tab algn="l" pos="2324160"/>
                    <a:tab algn="l" pos="3486240"/>
                    <a:tab algn="l" pos="4648320"/>
                    <a:tab algn="l" pos="5810400"/>
                    <a:tab algn="l" pos="6972480"/>
                    <a:tab algn="l" pos="8134200"/>
                    <a:tab algn="l" pos="9296280"/>
                    <a:tab algn="l" pos="1045836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block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139400" y="4975200"/>
                <a:ext cx="33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162080"/>
                    <a:tab algn="l" pos="2324160"/>
                    <a:tab algn="l" pos="3486240"/>
                    <a:tab algn="l" pos="4648320"/>
                    <a:tab algn="l" pos="5810400"/>
                    <a:tab algn="l" pos="6972480"/>
                    <a:tab algn="l" pos="8134200"/>
                    <a:tab algn="l" pos="9296280"/>
                    <a:tab algn="l" pos="1045836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l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8"/>
              <p:cNvSpPr/>
              <p:nvPr/>
            </p:nvSpPr>
            <p:spPr>
              <a:xfrm>
                <a:off x="1847880" y="4654800"/>
                <a:ext cx="428400" cy="60300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603000"/>
                  <a:gd name="textAreaBottom" fmla="*/ 603360 h 603000"/>
                </a:gdLst>
                <a:ahLst/>
                <a:rect l="textAreaLeft" t="textAreaTop" r="textAreaRight" b="textAreaBottom"/>
                <a:pathLst>
                  <a:path w="270" h="380">
                    <a:moveTo>
                      <a:pt x="270" y="190"/>
                    </a:moveTo>
                    <a:lnTo>
                      <a:pt x="162" y="0"/>
                    </a:lnTo>
                    <a:lnTo>
                      <a:pt x="162" y="125"/>
                    </a:lnTo>
                    <a:lnTo>
                      <a:pt x="0" y="125"/>
                    </a:lnTo>
                    <a:lnTo>
                      <a:pt x="0" y="254"/>
                    </a:lnTo>
                    <a:lnTo>
                      <a:pt x="162" y="254"/>
                    </a:lnTo>
                    <a:lnTo>
                      <a:pt x="162" y="380"/>
                    </a:lnTo>
                    <a:lnTo>
                      <a:pt x="270" y="190"/>
                    </a:lnTo>
                    <a:close/>
                  </a:path>
                </a:pathLst>
              </a:custGeom>
              <a:solidFill>
                <a:srgbClr val="b7c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TextBox 16"/>
          <p:cNvSpPr/>
          <p:nvPr/>
        </p:nvSpPr>
        <p:spPr>
          <a:xfrm>
            <a:off x="609120" y="2925720"/>
            <a:ext cx="14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ing artif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2193840" y="292572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ge cor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6"/>
          <p:cNvSpPr/>
          <p:nvPr/>
        </p:nvSpPr>
        <p:spPr>
          <a:xfrm>
            <a:off x="3852720" y="29257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 M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6"/>
          <p:cNvSpPr/>
          <p:nvPr/>
        </p:nvSpPr>
        <p:spPr>
          <a:xfrm>
            <a:off x="5436360" y="292572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 ma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6"/>
          <p:cNvSpPr/>
          <p:nvPr/>
        </p:nvSpPr>
        <p:spPr>
          <a:xfrm>
            <a:off x="6802560" y="292572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e adjus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6"/>
          <p:cNvSpPr/>
          <p:nvPr/>
        </p:nvSpPr>
        <p:spPr>
          <a:xfrm>
            <a:off x="609120" y="5591160"/>
            <a:ext cx="14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ing artif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Loop Filtering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CU-synchronized ALF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52360" y="1197000"/>
            <a:ext cx="8717040" cy="1728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CU-synchronized Adaptive Loop Filter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ALF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further reduces distor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On/off partition reuses CU boundaries - no need to transmit partition info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Much simpler to estimate in encoder-sid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Multi-level merging of CU boundary is support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U-synchronized ALF process can be implemented in decoder-sid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직사각형 26"/>
          <p:cNvSpPr/>
          <p:nvPr/>
        </p:nvSpPr>
        <p:spPr>
          <a:xfrm>
            <a:off x="149400" y="326880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직사각형 27"/>
          <p:cNvSpPr/>
          <p:nvPr/>
        </p:nvSpPr>
        <p:spPr>
          <a:xfrm>
            <a:off x="870120" y="326556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직사각형 28"/>
          <p:cNvSpPr/>
          <p:nvPr/>
        </p:nvSpPr>
        <p:spPr>
          <a:xfrm>
            <a:off x="1587600" y="326556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직사각형 29"/>
          <p:cNvSpPr/>
          <p:nvPr/>
        </p:nvSpPr>
        <p:spPr>
          <a:xfrm>
            <a:off x="149400" y="398628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직사각형 30"/>
          <p:cNvSpPr/>
          <p:nvPr/>
        </p:nvSpPr>
        <p:spPr>
          <a:xfrm>
            <a:off x="870120" y="398628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직사각형 31"/>
          <p:cNvSpPr/>
          <p:nvPr/>
        </p:nvSpPr>
        <p:spPr>
          <a:xfrm>
            <a:off x="1587600" y="398628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직사각형 35"/>
          <p:cNvSpPr/>
          <p:nvPr/>
        </p:nvSpPr>
        <p:spPr>
          <a:xfrm>
            <a:off x="149400" y="470520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직사각형 36"/>
          <p:cNvSpPr/>
          <p:nvPr/>
        </p:nvSpPr>
        <p:spPr>
          <a:xfrm>
            <a:off x="870120" y="470520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직사각형 37"/>
          <p:cNvSpPr/>
          <p:nvPr/>
        </p:nvSpPr>
        <p:spPr>
          <a:xfrm>
            <a:off x="1587600" y="470520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직선 연결선 44"/>
          <p:cNvSpPr/>
          <p:nvPr/>
        </p:nvSpPr>
        <p:spPr>
          <a:xfrm flipV="1">
            <a:off x="869400" y="3625920"/>
            <a:ext cx="717480" cy="144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직선 연결선 46"/>
          <p:cNvSpPr/>
          <p:nvPr/>
        </p:nvSpPr>
        <p:spPr>
          <a:xfrm>
            <a:off x="1227960" y="3267000"/>
            <a:ext cx="1800" cy="72072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선 연결선 51"/>
          <p:cNvSpPr/>
          <p:nvPr/>
        </p:nvSpPr>
        <p:spPr>
          <a:xfrm flipV="1">
            <a:off x="866160" y="4354560"/>
            <a:ext cx="717480" cy="144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선 연결선 52"/>
          <p:cNvSpPr/>
          <p:nvPr/>
        </p:nvSpPr>
        <p:spPr>
          <a:xfrm>
            <a:off x="1224720" y="3994200"/>
            <a:ext cx="1800" cy="72216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선 연결선 53"/>
          <p:cNvSpPr/>
          <p:nvPr/>
        </p:nvSpPr>
        <p:spPr>
          <a:xfrm>
            <a:off x="874800" y="4533840"/>
            <a:ext cx="355680" cy="180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선 연결선 54"/>
          <p:cNvSpPr/>
          <p:nvPr/>
        </p:nvSpPr>
        <p:spPr>
          <a:xfrm flipV="1">
            <a:off x="1047600" y="4362480"/>
            <a:ext cx="1800" cy="35712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직선 연결선 55"/>
          <p:cNvSpPr/>
          <p:nvPr/>
        </p:nvSpPr>
        <p:spPr>
          <a:xfrm>
            <a:off x="1236600" y="4165560"/>
            <a:ext cx="357120" cy="180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직선 연결선 56"/>
          <p:cNvSpPr/>
          <p:nvPr/>
        </p:nvSpPr>
        <p:spPr>
          <a:xfrm flipV="1">
            <a:off x="1411200" y="3994200"/>
            <a:ext cx="1800" cy="3556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선 연결선 61"/>
          <p:cNvSpPr/>
          <p:nvPr/>
        </p:nvSpPr>
        <p:spPr>
          <a:xfrm flipV="1">
            <a:off x="143640" y="5057280"/>
            <a:ext cx="717480" cy="180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선 연결선 62"/>
          <p:cNvSpPr/>
          <p:nvPr/>
        </p:nvSpPr>
        <p:spPr>
          <a:xfrm>
            <a:off x="503280" y="4699080"/>
            <a:ext cx="1440" cy="72072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선 연결선 65"/>
          <p:cNvSpPr/>
          <p:nvPr/>
        </p:nvSpPr>
        <p:spPr>
          <a:xfrm flipV="1">
            <a:off x="1593720" y="5054760"/>
            <a:ext cx="717840" cy="144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선 연결선 66"/>
          <p:cNvSpPr/>
          <p:nvPr/>
        </p:nvSpPr>
        <p:spPr>
          <a:xfrm>
            <a:off x="1953360" y="4695840"/>
            <a:ext cx="1800" cy="72072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선 연결선 67"/>
          <p:cNvSpPr/>
          <p:nvPr/>
        </p:nvSpPr>
        <p:spPr>
          <a:xfrm>
            <a:off x="1601640" y="5235480"/>
            <a:ext cx="357480" cy="180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선 연결선 68"/>
          <p:cNvSpPr/>
          <p:nvPr/>
        </p:nvSpPr>
        <p:spPr>
          <a:xfrm flipV="1">
            <a:off x="1776240" y="5064120"/>
            <a:ext cx="1800" cy="3556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직선 연결선 69"/>
          <p:cNvSpPr/>
          <p:nvPr/>
        </p:nvSpPr>
        <p:spPr>
          <a:xfrm>
            <a:off x="1598760" y="4865760"/>
            <a:ext cx="357120" cy="144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직선 연결선 70"/>
          <p:cNvSpPr/>
          <p:nvPr/>
        </p:nvSpPr>
        <p:spPr>
          <a:xfrm flipV="1">
            <a:off x="1773360" y="4694400"/>
            <a:ext cx="1440" cy="35712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33"/>
          <p:cNvSpPr/>
          <p:nvPr/>
        </p:nvSpPr>
        <p:spPr>
          <a:xfrm>
            <a:off x="2916360" y="2946240"/>
            <a:ext cx="11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234"/>
          <p:cNvSpPr/>
          <p:nvPr/>
        </p:nvSpPr>
        <p:spPr>
          <a:xfrm>
            <a:off x="4932360" y="2925720"/>
            <a:ext cx="16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first me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35"/>
          <p:cNvSpPr/>
          <p:nvPr/>
        </p:nvSpPr>
        <p:spPr>
          <a:xfrm>
            <a:off x="6948360" y="292572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second me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직사각형 282"/>
          <p:cNvSpPr/>
          <p:nvPr/>
        </p:nvSpPr>
        <p:spPr>
          <a:xfrm>
            <a:off x="2386080" y="326700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283"/>
          <p:cNvSpPr/>
          <p:nvPr/>
        </p:nvSpPr>
        <p:spPr>
          <a:xfrm>
            <a:off x="3106800" y="326376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284"/>
          <p:cNvSpPr/>
          <p:nvPr/>
        </p:nvSpPr>
        <p:spPr>
          <a:xfrm>
            <a:off x="3824280" y="326376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285"/>
          <p:cNvSpPr/>
          <p:nvPr/>
        </p:nvSpPr>
        <p:spPr>
          <a:xfrm>
            <a:off x="2386080" y="398448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직사각형 286"/>
          <p:cNvSpPr/>
          <p:nvPr/>
        </p:nvSpPr>
        <p:spPr>
          <a:xfrm>
            <a:off x="3106800" y="398448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직사각형 287"/>
          <p:cNvSpPr/>
          <p:nvPr/>
        </p:nvSpPr>
        <p:spPr>
          <a:xfrm>
            <a:off x="3824280" y="398448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직사각형 288"/>
          <p:cNvSpPr/>
          <p:nvPr/>
        </p:nvSpPr>
        <p:spPr>
          <a:xfrm>
            <a:off x="2386080" y="470376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직사각형 289"/>
          <p:cNvSpPr/>
          <p:nvPr/>
        </p:nvSpPr>
        <p:spPr>
          <a:xfrm>
            <a:off x="3106800" y="470376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직사각형 290"/>
          <p:cNvSpPr/>
          <p:nvPr/>
        </p:nvSpPr>
        <p:spPr>
          <a:xfrm>
            <a:off x="3824280" y="470376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직선 연결선 292"/>
          <p:cNvSpPr/>
          <p:nvPr/>
        </p:nvSpPr>
        <p:spPr>
          <a:xfrm>
            <a:off x="3098880" y="3624120"/>
            <a:ext cx="717480" cy="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직선 연결선 293"/>
          <p:cNvSpPr/>
          <p:nvPr/>
        </p:nvSpPr>
        <p:spPr>
          <a:xfrm>
            <a:off x="3467160" y="3255840"/>
            <a:ext cx="0" cy="7207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직선 연결선 295"/>
          <p:cNvSpPr/>
          <p:nvPr/>
        </p:nvSpPr>
        <p:spPr>
          <a:xfrm flipV="1">
            <a:off x="3102840" y="4351320"/>
            <a:ext cx="717480" cy="144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직선 연결선 296"/>
          <p:cNvSpPr/>
          <p:nvPr/>
        </p:nvSpPr>
        <p:spPr>
          <a:xfrm>
            <a:off x="3462480" y="3992400"/>
            <a:ext cx="1440" cy="7207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직선 연결선 297"/>
          <p:cNvSpPr/>
          <p:nvPr/>
        </p:nvSpPr>
        <p:spPr>
          <a:xfrm>
            <a:off x="3111480" y="4530600"/>
            <a:ext cx="357120" cy="180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직선 연결선 298"/>
          <p:cNvSpPr/>
          <p:nvPr/>
        </p:nvSpPr>
        <p:spPr>
          <a:xfrm flipV="1">
            <a:off x="3286080" y="4359240"/>
            <a:ext cx="1800" cy="3571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299"/>
          <p:cNvSpPr/>
          <p:nvPr/>
        </p:nvSpPr>
        <p:spPr>
          <a:xfrm>
            <a:off x="3473280" y="4162320"/>
            <a:ext cx="357480" cy="180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직선 연결선 300"/>
          <p:cNvSpPr/>
          <p:nvPr/>
        </p:nvSpPr>
        <p:spPr>
          <a:xfrm flipV="1">
            <a:off x="3648240" y="3990960"/>
            <a:ext cx="1440" cy="3571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직선 연결선 303"/>
          <p:cNvSpPr/>
          <p:nvPr/>
        </p:nvSpPr>
        <p:spPr>
          <a:xfrm flipV="1">
            <a:off x="2380680" y="5056200"/>
            <a:ext cx="717480" cy="144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직선 연결선 304"/>
          <p:cNvSpPr/>
          <p:nvPr/>
        </p:nvSpPr>
        <p:spPr>
          <a:xfrm>
            <a:off x="2739240" y="4695840"/>
            <a:ext cx="1800" cy="7207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직선 연결선 307"/>
          <p:cNvSpPr/>
          <p:nvPr/>
        </p:nvSpPr>
        <p:spPr>
          <a:xfrm flipV="1">
            <a:off x="3831480" y="5052600"/>
            <a:ext cx="717480" cy="180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직선 연결선 308"/>
          <p:cNvSpPr/>
          <p:nvPr/>
        </p:nvSpPr>
        <p:spPr>
          <a:xfrm>
            <a:off x="4191120" y="4692600"/>
            <a:ext cx="1440" cy="7207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직선 연결선 309"/>
          <p:cNvSpPr/>
          <p:nvPr/>
        </p:nvSpPr>
        <p:spPr>
          <a:xfrm>
            <a:off x="3840120" y="5232240"/>
            <a:ext cx="357120" cy="180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직선 연결선 310"/>
          <p:cNvSpPr/>
          <p:nvPr/>
        </p:nvSpPr>
        <p:spPr>
          <a:xfrm flipV="1">
            <a:off x="4014720" y="5060880"/>
            <a:ext cx="1800" cy="35568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직선 연결선 311"/>
          <p:cNvSpPr/>
          <p:nvPr/>
        </p:nvSpPr>
        <p:spPr>
          <a:xfrm>
            <a:off x="3836880" y="4862520"/>
            <a:ext cx="357120" cy="144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직선 연결선 312"/>
          <p:cNvSpPr/>
          <p:nvPr/>
        </p:nvSpPr>
        <p:spPr>
          <a:xfrm flipV="1">
            <a:off x="4011480" y="4692600"/>
            <a:ext cx="1800" cy="35568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직사각형 354"/>
          <p:cNvSpPr/>
          <p:nvPr/>
        </p:nvSpPr>
        <p:spPr>
          <a:xfrm>
            <a:off x="6848640" y="3260880"/>
            <a:ext cx="7189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직사각형 355"/>
          <p:cNvSpPr/>
          <p:nvPr/>
        </p:nvSpPr>
        <p:spPr>
          <a:xfrm>
            <a:off x="7569360" y="3257640"/>
            <a:ext cx="7207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직사각형 356"/>
          <p:cNvSpPr/>
          <p:nvPr/>
        </p:nvSpPr>
        <p:spPr>
          <a:xfrm>
            <a:off x="8286840" y="3257640"/>
            <a:ext cx="7207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직사각형 357"/>
          <p:cNvSpPr/>
          <p:nvPr/>
        </p:nvSpPr>
        <p:spPr>
          <a:xfrm>
            <a:off x="6848640" y="3978360"/>
            <a:ext cx="7189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직사각형 358"/>
          <p:cNvSpPr/>
          <p:nvPr/>
        </p:nvSpPr>
        <p:spPr>
          <a:xfrm>
            <a:off x="7569360" y="3978360"/>
            <a:ext cx="7207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직사각형 359"/>
          <p:cNvSpPr/>
          <p:nvPr/>
        </p:nvSpPr>
        <p:spPr>
          <a:xfrm>
            <a:off x="8286840" y="3978360"/>
            <a:ext cx="7207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직사각형 360"/>
          <p:cNvSpPr/>
          <p:nvPr/>
        </p:nvSpPr>
        <p:spPr>
          <a:xfrm>
            <a:off x="6848640" y="4697280"/>
            <a:ext cx="7189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직사각형 361"/>
          <p:cNvSpPr/>
          <p:nvPr/>
        </p:nvSpPr>
        <p:spPr>
          <a:xfrm>
            <a:off x="7569360" y="469728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직사각형 362"/>
          <p:cNvSpPr/>
          <p:nvPr/>
        </p:nvSpPr>
        <p:spPr>
          <a:xfrm>
            <a:off x="8286840" y="469728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33"/>
          <p:cNvSpPr/>
          <p:nvPr/>
        </p:nvSpPr>
        <p:spPr>
          <a:xfrm>
            <a:off x="612720" y="2946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 bound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직사각형 319"/>
          <p:cNvSpPr/>
          <p:nvPr/>
        </p:nvSpPr>
        <p:spPr>
          <a:xfrm>
            <a:off x="4605480" y="3263760"/>
            <a:ext cx="7189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직사각형 320"/>
          <p:cNvSpPr/>
          <p:nvPr/>
        </p:nvSpPr>
        <p:spPr>
          <a:xfrm>
            <a:off x="5326200" y="3270240"/>
            <a:ext cx="7189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직사각형 321"/>
          <p:cNvSpPr/>
          <p:nvPr/>
        </p:nvSpPr>
        <p:spPr>
          <a:xfrm>
            <a:off x="6043680" y="3270240"/>
            <a:ext cx="7189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직사각형 322"/>
          <p:cNvSpPr/>
          <p:nvPr/>
        </p:nvSpPr>
        <p:spPr>
          <a:xfrm>
            <a:off x="4605480" y="3990960"/>
            <a:ext cx="7189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직사각형 323"/>
          <p:cNvSpPr/>
          <p:nvPr/>
        </p:nvSpPr>
        <p:spPr>
          <a:xfrm>
            <a:off x="5326200" y="3990960"/>
            <a:ext cx="7189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직사각형 324"/>
          <p:cNvSpPr/>
          <p:nvPr/>
        </p:nvSpPr>
        <p:spPr>
          <a:xfrm>
            <a:off x="6043680" y="3990960"/>
            <a:ext cx="7189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직사각형 325"/>
          <p:cNvSpPr/>
          <p:nvPr/>
        </p:nvSpPr>
        <p:spPr>
          <a:xfrm>
            <a:off x="4605480" y="4710240"/>
            <a:ext cx="7189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326"/>
          <p:cNvSpPr/>
          <p:nvPr/>
        </p:nvSpPr>
        <p:spPr>
          <a:xfrm>
            <a:off x="5326200" y="4710240"/>
            <a:ext cx="7189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327"/>
          <p:cNvSpPr/>
          <p:nvPr/>
        </p:nvSpPr>
        <p:spPr>
          <a:xfrm>
            <a:off x="6043680" y="4710240"/>
            <a:ext cx="7189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선 연결선 329"/>
          <p:cNvSpPr/>
          <p:nvPr/>
        </p:nvSpPr>
        <p:spPr>
          <a:xfrm flipV="1">
            <a:off x="5325480" y="3630600"/>
            <a:ext cx="717480" cy="144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선 연결선 330"/>
          <p:cNvSpPr/>
          <p:nvPr/>
        </p:nvSpPr>
        <p:spPr>
          <a:xfrm>
            <a:off x="5684040" y="3270240"/>
            <a:ext cx="1800" cy="7207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직선 연결선 332"/>
          <p:cNvSpPr/>
          <p:nvPr/>
        </p:nvSpPr>
        <p:spPr>
          <a:xfrm flipV="1">
            <a:off x="5322240" y="4357800"/>
            <a:ext cx="717480" cy="144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직선 연결선 333"/>
          <p:cNvSpPr/>
          <p:nvPr/>
        </p:nvSpPr>
        <p:spPr>
          <a:xfrm>
            <a:off x="5691240" y="3998880"/>
            <a:ext cx="1440" cy="7207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선 연결선 340"/>
          <p:cNvSpPr/>
          <p:nvPr/>
        </p:nvSpPr>
        <p:spPr>
          <a:xfrm flipV="1">
            <a:off x="4600440" y="5062680"/>
            <a:ext cx="717840" cy="144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선 연결선 341"/>
          <p:cNvSpPr/>
          <p:nvPr/>
        </p:nvSpPr>
        <p:spPr>
          <a:xfrm>
            <a:off x="4959360" y="4702320"/>
            <a:ext cx="1440" cy="7207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선 연결선 344"/>
          <p:cNvSpPr/>
          <p:nvPr/>
        </p:nvSpPr>
        <p:spPr>
          <a:xfrm flipV="1">
            <a:off x="6049800" y="5059440"/>
            <a:ext cx="717840" cy="144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선 연결선 345"/>
          <p:cNvSpPr/>
          <p:nvPr/>
        </p:nvSpPr>
        <p:spPr>
          <a:xfrm>
            <a:off x="6409440" y="4699080"/>
            <a:ext cx="1800" cy="7207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01"/>
          <p:cNvSpPr/>
          <p:nvPr/>
        </p:nvSpPr>
        <p:spPr>
          <a:xfrm>
            <a:off x="5724360" y="5518080"/>
            <a:ext cx="0" cy="411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4"/>
          <p:cNvSpPr/>
          <p:nvPr/>
        </p:nvSpPr>
        <p:spPr>
          <a:xfrm>
            <a:off x="5797440" y="5495760"/>
            <a:ext cx="16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best RD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34"/>
          <p:cNvSpPr/>
          <p:nvPr/>
        </p:nvSpPr>
        <p:spPr>
          <a:xfrm>
            <a:off x="4140360" y="5929200"/>
            <a:ext cx="34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/off signal is sent for each par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Loop Filtering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Extreme correction (EXC) 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6760" y="1213920"/>
            <a:ext cx="8502840" cy="3287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Extreme correction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EXC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is useful to compensate distortion for specific pixel class, e.g. object edg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Extreme type is determined by comparison of current pixel value with upper, lower, left and right neighbors (for non-boundary pixels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Location of points to be corrected are determined by decod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rrection values are calculated for 6 types of extreme points as mean  error among the fram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6798240" y="5011920"/>
            <a:ext cx="2180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Extreme type der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for value of pixel P us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4 neighb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44" descr=""/>
          <p:cNvPicPr/>
          <p:nvPr/>
        </p:nvPicPr>
        <p:blipFill>
          <a:blip r:embed="rId1"/>
          <a:srcRect l="9086" t="0" r="9104" b="8799"/>
          <a:stretch/>
        </p:blipFill>
        <p:spPr>
          <a:xfrm>
            <a:off x="324000" y="3646440"/>
            <a:ext cx="6337080" cy="2270160"/>
          </a:xfrm>
          <a:prstGeom prst="rect">
            <a:avLst/>
          </a:prstGeom>
          <a:ln w="0">
            <a:noFill/>
          </a:ln>
        </p:spPr>
      </p:pic>
      <p:sp>
        <p:nvSpPr>
          <p:cNvPr id="425" name="Oval 145"/>
          <p:cNvSpPr/>
          <p:nvPr/>
        </p:nvSpPr>
        <p:spPr>
          <a:xfrm>
            <a:off x="7669080" y="4151160"/>
            <a:ext cx="216000" cy="216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46"/>
          <p:cNvSpPr/>
          <p:nvPr/>
        </p:nvSpPr>
        <p:spPr>
          <a:xfrm>
            <a:off x="7669080" y="36464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47"/>
          <p:cNvSpPr/>
          <p:nvPr/>
        </p:nvSpPr>
        <p:spPr>
          <a:xfrm>
            <a:off x="7164360" y="41511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48"/>
          <p:cNvSpPr/>
          <p:nvPr/>
        </p:nvSpPr>
        <p:spPr>
          <a:xfrm>
            <a:off x="8174160" y="415116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49"/>
          <p:cNvSpPr/>
          <p:nvPr/>
        </p:nvSpPr>
        <p:spPr>
          <a:xfrm>
            <a:off x="7669080" y="46544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Loop Filtering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Band Correction (BDC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56760" y="1213920"/>
            <a:ext cx="8502840" cy="20718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Band Correction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BDC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allows the correction of systematic errors, related to specific ranges of pixel valu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nceptually similar to PDF matching process between two signal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Band may be defined by the p most significant bits of pixel valu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Integer correction values for each band are determined while cod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rrection values for each band are coded in slice head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2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809720" y="4152960"/>
          <a:ext cx="5622840" cy="1555560"/>
        </p:xfrm>
        <a:graphic>
          <a:graphicData uri="http://schemas.openxmlformats.org/drawingml/2006/table">
            <a:tbl>
              <a:tblPr/>
              <a:tblGrid>
                <a:gridCol w="1368360"/>
                <a:gridCol w="881280"/>
                <a:gridCol w="1123920"/>
                <a:gridCol w="1123920"/>
                <a:gridCol w="11253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and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econstructed pixel value b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 -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56 - 5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840 - 4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Correction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34" name="Rectangle 37"/>
          <p:cNvSpPr/>
          <p:nvPr/>
        </p:nvSpPr>
        <p:spPr>
          <a:xfrm>
            <a:off x="1476360" y="3430440"/>
            <a:ext cx="634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and derivation by 4 most significant bits for 12-bit depth of pixel values and correction values (PeopleOnStreet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fram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92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500" spc="-1" strike="noStrike">
                <a:solidFill>
                  <a:srgbClr val="2d2d8a"/>
                </a:solidFill>
                <a:latin typeface="Arial"/>
              </a:rPr>
              <a:t>Loop Filtering: </a:t>
            </a:r>
            <a:r>
              <a:rPr b="1" lang="en-US" sz="2500" spc="-1" strike="noStrike">
                <a:solidFill>
                  <a:srgbClr val="2d2d8a"/>
                </a:solidFill>
                <a:latin typeface="Arial"/>
              </a:rPr>
              <a:t>Content Adaptive Dynamic Range (CADR)</a:t>
            </a:r>
            <a:endParaRPr b="1" lang="en-US" sz="25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56760" y="1213920"/>
            <a:ext cx="8502840" cy="1714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9000"/>
          </a:bodyPr>
          <a:p>
            <a:pPr marL="301680" indent="-30168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ntent Adaptive Dynamic Range (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CADR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) gives improved accuracy for internal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calculat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 by exploiting known limits to luma sampl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1960" indent="-2484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Without requiring increased bit depth – useful for bit-depth limited H/W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r example, clipped BT.709 luma samples lie in the range [16, 235]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1960" indent="-2484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ADR mapping expands dynamic range to [0,255]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7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차트 1" descr=""/>
          <p:cNvPicPr/>
          <p:nvPr/>
        </p:nvPicPr>
        <p:blipFill>
          <a:blip r:embed="rId1"/>
          <a:stretch/>
        </p:blipFill>
        <p:spPr>
          <a:xfrm>
            <a:off x="752400" y="3214800"/>
            <a:ext cx="4248360" cy="2367000"/>
          </a:xfrm>
          <a:prstGeom prst="rect">
            <a:avLst/>
          </a:prstGeom>
          <a:ln w="0">
            <a:noFill/>
          </a:ln>
        </p:spPr>
      </p:pic>
      <p:sp>
        <p:nvSpPr>
          <p:cNvPr id="439" name="직선 연결선 16"/>
          <p:cNvSpPr/>
          <p:nvPr/>
        </p:nvSpPr>
        <p:spPr>
          <a:xfrm>
            <a:off x="6000840" y="3855960"/>
            <a:ext cx="2143080" cy="1800"/>
          </a:xfrm>
          <a:prstGeom prst="line">
            <a:avLst/>
          </a:prstGeom>
          <a:ln w="28440">
            <a:solidFill>
              <a:srgbClr val="2929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직선 연결선 18"/>
          <p:cNvSpPr/>
          <p:nvPr/>
        </p:nvSpPr>
        <p:spPr>
          <a:xfrm>
            <a:off x="5500800" y="4713120"/>
            <a:ext cx="3071880" cy="1800"/>
          </a:xfrm>
          <a:prstGeom prst="line">
            <a:avLst/>
          </a:prstGeom>
          <a:ln w="28440">
            <a:solidFill>
              <a:srgbClr val="2929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직선 연결선 22"/>
          <p:cNvSpPr/>
          <p:nvPr/>
        </p:nvSpPr>
        <p:spPr>
          <a:xfrm flipH="1">
            <a:off x="5500440" y="3929040"/>
            <a:ext cx="500040" cy="714240"/>
          </a:xfrm>
          <a:prstGeom prst="line">
            <a:avLst/>
          </a:prstGeom>
          <a:ln w="19080">
            <a:solidFill>
              <a:srgbClr val="0070c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직선 연결선 23"/>
          <p:cNvSpPr/>
          <p:nvPr/>
        </p:nvSpPr>
        <p:spPr>
          <a:xfrm>
            <a:off x="8143200" y="3929040"/>
            <a:ext cx="428760" cy="714240"/>
          </a:xfrm>
          <a:prstGeom prst="line">
            <a:avLst/>
          </a:prstGeom>
          <a:ln w="19080">
            <a:solidFill>
              <a:srgbClr val="0070c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25"/>
          <p:cNvSpPr/>
          <p:nvPr/>
        </p:nvSpPr>
        <p:spPr>
          <a:xfrm>
            <a:off x="6215040" y="3454560"/>
            <a:ext cx="17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dynam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26"/>
          <p:cNvSpPr/>
          <p:nvPr/>
        </p:nvSpPr>
        <p:spPr>
          <a:xfrm>
            <a:off x="6215040" y="481176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d dynam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7"/>
          <p:cNvSpPr/>
          <p:nvPr/>
        </p:nvSpPr>
        <p:spPr>
          <a:xfrm>
            <a:off x="5786280" y="3586320"/>
            <a:ext cx="42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8"/>
          <p:cNvSpPr/>
          <p:nvPr/>
        </p:nvSpPr>
        <p:spPr>
          <a:xfrm>
            <a:off x="7929720" y="3586320"/>
            <a:ext cx="42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9"/>
          <p:cNvSpPr/>
          <p:nvPr/>
        </p:nvSpPr>
        <p:spPr>
          <a:xfrm>
            <a:off x="8429760" y="4714920"/>
            <a:ext cx="42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30"/>
          <p:cNvSpPr/>
          <p:nvPr/>
        </p:nvSpPr>
        <p:spPr>
          <a:xfrm>
            <a:off x="5286240" y="4714920"/>
            <a:ext cx="42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Entropy Coding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SBAC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24000" y="980640"/>
            <a:ext cx="8502480" cy="20718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 proposal uses Syntax-based context-adaptive binary arithmetic coding (SBAC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ding engine is based on JPEG Annex 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ding performance appears to be slightly better than H.264/AVC’s CABA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Overall architecture is similar to CABAC, but the details of each step are differen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51" name="Picture 14" descr="sbac_encoder"/>
          <p:cNvPicPr/>
          <p:nvPr/>
        </p:nvPicPr>
        <p:blipFill>
          <a:blip r:embed="rId1"/>
          <a:stretch/>
        </p:blipFill>
        <p:spPr>
          <a:xfrm>
            <a:off x="828720" y="2997360"/>
            <a:ext cx="7772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</a:rPr>
              <a:t>Introduction: </a:t>
            </a: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Samsung/BBC Coding Framework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is presentation cover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JCTVC-A124: Samsung Response to Cf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JCTVC-A125: BBC response to Cf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e Samsung/BBC coding framework provides the ability to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rade off complexity and compression efficiency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In our responses to the CfP we demonstrate two key operating poin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125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low-complexity operating point, with comparable complexity to H.264/AVC but better compression efficienc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verag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about 30% b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han Alpha and Beta ancho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coding time about 0.6 to1.3 times that of JM17.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124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high-performance operating point, giving even higher compression efficiency with a moderate increase in complexity over H.264/AV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verag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about 40% b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han Alpha and Beta ancho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coding time about 0.9 to 2.4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Gulim"/>
              </a:rPr>
              <a:t>times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hat of JM17.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13840" y="151920"/>
            <a:ext cx="89312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700" spc="-1" strike="noStrike">
                <a:solidFill>
                  <a:srgbClr val="2d2d8a"/>
                </a:solidFill>
                <a:latin typeface="Arial"/>
              </a:rPr>
              <a:t>Entropy Coding: </a:t>
            </a:r>
            <a:r>
              <a:rPr b="1" lang="en-GB" sz="2700" spc="-1" strike="noStrike">
                <a:solidFill>
                  <a:srgbClr val="2d2d8a"/>
                </a:solidFill>
                <a:latin typeface="Arial"/>
              </a:rPr>
              <a:t>Adaptive Coefficient Scanning (ACS)</a:t>
            </a:r>
            <a:endParaRPr b="1" lang="en-US" sz="27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24000" y="981000"/>
            <a:ext cx="8502480" cy="4788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daptive Coefficient Scanning (ACS) improves the coding performance when using large transform block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llows scanning pattern to be selected by encoder: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11080" indent="-4572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nventional zig-za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11080" indent="-4572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Horizontal 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11080" indent="-4572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Vertical 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Only signalled when there are non-DC coefficien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454" name="Object 12"/>
          <p:cNvGraphicFramePr/>
          <p:nvPr/>
        </p:nvGraphicFramePr>
        <p:xfrm>
          <a:off x="1476360" y="3646440"/>
          <a:ext cx="633744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646440"/>
                    <a:ext cx="63374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Text Box 14"/>
          <p:cNvSpPr/>
          <p:nvPr/>
        </p:nvSpPr>
        <p:spPr>
          <a:xfrm>
            <a:off x="1696680" y="5526000"/>
            <a:ext cx="1325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g-zag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3916080" y="5533920"/>
            <a:ext cx="1550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6"/>
          <p:cNvSpPr/>
          <p:nvPr/>
        </p:nvSpPr>
        <p:spPr>
          <a:xfrm>
            <a:off x="6197040" y="5533920"/>
            <a:ext cx="1314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tical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56" descr=""/>
          <p:cNvPicPr/>
          <p:nvPr/>
        </p:nvPicPr>
        <p:blipFill>
          <a:blip r:embed="rId1"/>
          <a:stretch/>
        </p:blipFill>
        <p:spPr>
          <a:xfrm>
            <a:off x="1000080" y="3645000"/>
            <a:ext cx="7291440" cy="2714400"/>
          </a:xfrm>
          <a:prstGeom prst="rect">
            <a:avLst/>
          </a:prstGeom>
          <a:ln w="0">
            <a:noFill/>
          </a:ln>
        </p:spPr>
      </p:pic>
      <p:sp>
        <p:nvSpPr>
          <p:cNvPr id="460" name="Content Placeholder 2"/>
          <p:cNvSpPr/>
          <p:nvPr/>
        </p:nvSpPr>
        <p:spPr>
          <a:xfrm>
            <a:off x="324000" y="909720"/>
            <a:ext cx="85024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verage bit-saving 31.95% for CS1 and 29.97% for C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Best classes: Class B@CS1 and Class E@C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Worst class: Class D@C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Best sequence: BQTerrace@CS2 (50.5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Worst sequence: RaceHorses@CS2 (13.3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Compression Perfomance (A12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285840" y="2714760"/>
          <a:ext cx="8534160" cy="9144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  <a:gridCol w="1219320"/>
                <a:gridCol w="1218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27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6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27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1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5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26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22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6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29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39" descr=""/>
          <p:cNvPicPr/>
          <p:nvPr/>
        </p:nvPicPr>
        <p:blipFill>
          <a:blip r:embed="rId1"/>
          <a:stretch/>
        </p:blipFill>
        <p:spPr>
          <a:xfrm>
            <a:off x="1000080" y="3645000"/>
            <a:ext cx="7291440" cy="2714400"/>
          </a:xfrm>
          <a:prstGeom prst="rect">
            <a:avLst/>
          </a:prstGeom>
          <a:ln w="0">
            <a:noFill/>
          </a:ln>
        </p:spPr>
      </p:pic>
      <p:sp>
        <p:nvSpPr>
          <p:cNvPr id="464" name="Content Placeholder 2"/>
          <p:cNvSpPr/>
          <p:nvPr/>
        </p:nvSpPr>
        <p:spPr>
          <a:xfrm>
            <a:off x="324000" y="909720"/>
            <a:ext cx="85024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verage bit-saving 39.49% for CS1 and 39.48% for C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Best class: Class E@C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Worst class: Class D@C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Best sequence: BQTerrace@CS2 (60.6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Worst sequence: RaceHorses@CS2 (21.5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Compression Perfomance (A12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428760" y="2714760"/>
          <a:ext cx="8534160" cy="9144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  <a:gridCol w="1219320"/>
                <a:gridCol w="1218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5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43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9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6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9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43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5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2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47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9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Complexity Analysis (A12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68" name="Content Placeholder 2"/>
          <p:cNvSpPr/>
          <p:nvPr/>
        </p:nvSpPr>
        <p:spPr>
          <a:xfrm>
            <a:off x="324000" y="909720"/>
            <a:ext cx="85024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ecoding time using PC with fast SATA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Average decoding time about 1.3 times that of JM1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3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3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3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ecoding time using PC with SCSI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Average decoding time about 0.6 times that of JM1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285840" y="1857240"/>
          <a:ext cx="8534160" cy="10065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  <a:gridCol w="1219320"/>
                <a:gridCol w="1218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JM1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285840" y="4002120"/>
          <a:ext cx="8534160" cy="10065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  <a:gridCol w="1219320"/>
                <a:gridCol w="1218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JM1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Complexity Analysis (A12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2" name="Content Placeholder 2"/>
          <p:cNvSpPr/>
          <p:nvPr/>
        </p:nvSpPr>
        <p:spPr>
          <a:xfrm>
            <a:off x="324000" y="909720"/>
            <a:ext cx="85024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ecoding time using PC with fast SATA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Average decoding time about 2.4 times that of JM1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3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ecoding time using PC with SCSI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Average decoding time about 0.9 times that of JM1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285840" y="3930480"/>
          <a:ext cx="8534160" cy="10065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  <a:gridCol w="1219320"/>
                <a:gridCol w="1218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JM1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285840" y="1785960"/>
          <a:ext cx="8534160" cy="10065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  <a:gridCol w="1219320"/>
                <a:gridCol w="1218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JM1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3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2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2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2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2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2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2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2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Content Placeholder 2"/>
          <p:cNvSpPr/>
          <p:nvPr/>
        </p:nvSpPr>
        <p:spPr>
          <a:xfrm>
            <a:off x="324000" y="909720"/>
            <a:ext cx="85024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verage bit-saving is now 41.58% for C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2.09% better than in submitted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Further improvements after submission (A12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684360" y="1773360"/>
          <a:ext cx="4579920" cy="4340160"/>
        </p:xfrm>
        <a:graphic>
          <a:graphicData uri="http://schemas.openxmlformats.org/drawingml/2006/table">
            <a:tbl>
              <a:tblPr/>
              <a:tblGrid>
                <a:gridCol w="628560"/>
                <a:gridCol w="1447920"/>
                <a:gridCol w="982440"/>
                <a:gridCol w="922320"/>
                <a:gridCol w="598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Sequ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Impr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Traff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PeopleOnStre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9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2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1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Kimo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ParkSc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c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asketballDr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QTerr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4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2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0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4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54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5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3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5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55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0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asketballDr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Q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PartySc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RaceHo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9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1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5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4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1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3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7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asketballP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Q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lowingBub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RaceHo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0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54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3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7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3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56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6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8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5508720" y="1773360"/>
          <a:ext cx="3132000" cy="1858680"/>
        </p:xfrm>
        <a:graphic>
          <a:graphicData uri="http://schemas.openxmlformats.org/drawingml/2006/table">
            <a:tbl>
              <a:tblPr/>
              <a:tblGrid>
                <a:gridCol w="628560"/>
                <a:gridCol w="982800"/>
                <a:gridCol w="922320"/>
                <a:gridCol w="598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Impr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5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7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3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5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9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1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6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9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9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1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Text Box 161"/>
          <p:cNvSpPr/>
          <p:nvPr/>
        </p:nvSpPr>
        <p:spPr>
          <a:xfrm>
            <a:off x="5509800" y="4365720"/>
            <a:ext cx="34358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p &amp; direct mode using 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eblocking filter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-directional prediction refi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62"/>
          <p:cNvSpPr/>
          <p:nvPr/>
        </p:nvSpPr>
        <p:spPr>
          <a:xfrm>
            <a:off x="5583240" y="3933720"/>
            <a:ext cx="246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ly added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52000" y="1054080"/>
            <a:ext cx="8645400" cy="4788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amsung/BBC coding framework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has been described in some detai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In our responses to the CfP we demonstrated two key operating poin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A low-complexity operating point, with comparable complexity to H.264/AVC and better compression efficienc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verage efficiency about 30% better than Alpha and Beta ancho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coding time about 0.6 to 1.3 times that of JM17.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A high-performance operating point, giving even higher compression efficiency with a moderate increase in complexity over H.264/AV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verage efficiency about 40% better than Alpha and Beta ancho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coding time about 0.9 to 2.4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Gulim"/>
              </a:rPr>
              <a:t>times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hat of JM17.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amsung/BBC coding framework should be considered to be a strong candidate for the Test Model that will be used as the basis of the Core Experiments in the next phase of HVC standardiz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</a:rPr>
              <a:t>Introduction: </a:t>
            </a: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Key Features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4000" y="981000"/>
            <a:ext cx="8502480" cy="4788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Flexible block structure to support arbitrary min &amp; max unit siz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Coding Unit (CU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Prediction Unit (PU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Transform Unit (TU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Consistent syntax representation, independent of siz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Asymmetric motion partitio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Greater than ¼ pixel motion accuracy with new interpolation filte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Large integer transforms up to 64x64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New rotational transform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New motion vector prediction metho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New in-loop filtering method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New intra-coding prediction method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New entropy coding with explicit scan order signaling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Introduc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Building Blocks in Decoder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0"/>
            <a:ext cx="91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1"/>
          <a:stretch/>
        </p:blipFill>
        <p:spPr>
          <a:xfrm>
            <a:off x="973080" y="838080"/>
            <a:ext cx="72723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Unit Defini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Coding Unit (CU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pic>
        <p:nvPicPr>
          <p:cNvPr id="183" name="Object 5" descr=""/>
          <p:cNvPicPr/>
          <p:nvPr/>
        </p:nvPicPr>
        <p:blipFill>
          <a:blip r:embed="rId1"/>
          <a:srcRect l="-2357" t="-1131" r="-563" b="-174"/>
          <a:stretch/>
        </p:blipFill>
        <p:spPr>
          <a:xfrm>
            <a:off x="5148360" y="909720"/>
            <a:ext cx="3633840" cy="4878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323640" y="981000"/>
            <a:ext cx="5002200" cy="4788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CU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 is the basic processing block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Used for quad-tree based segmentation of reg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Plays a similar role to macroblock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Can take various siz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81160" indent="-20340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Always power of 2 siz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81160" indent="-20340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Always square shap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Range of allowed sizes specified in Sequence Parameter Se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Largest CU (LCU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Maximum hierarchical depth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Easily adapted for various applica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Recursive structure with split flag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Single 2Nx2N or four NxN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5002200" y="6002280"/>
            <a:ext cx="4143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U size = 128 (N=64), maximum hierarchical depth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Unit Defini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Benefits of CU structure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2360" y="1197000"/>
            <a:ext cx="4859280" cy="4788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Supports large CU siz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Virtually no limit to maximum siz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Maximum of 128x128 used in CfP submiss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Flexible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Can be optimized for content, device or applic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Size-independent syntax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Each CU has an identical syntax regardless of its siz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Reduces complexity of pars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88" name="Picture 2" descr="bstruc2-PU"/>
          <p:cNvPicPr/>
          <p:nvPr/>
        </p:nvPicPr>
        <p:blipFill>
          <a:blip r:embed="rId1"/>
          <a:stretch/>
        </p:blipFill>
        <p:spPr>
          <a:xfrm>
            <a:off x="5076720" y="1413000"/>
            <a:ext cx="3919680" cy="36226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5859360" y="4287960"/>
            <a:ext cx="92880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Unit Defini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Prediction Unit (PU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909720"/>
            <a:ext cx="8502480" cy="1643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Prediction Unit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PU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is the basic unit for predic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Largest allowed PU size is equal to the CU siz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Other allowed PU sizes depend on prediction type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Includes asymmetric splitting options for inter-predi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109960" y="2266920"/>
            <a:ext cx="4706640" cy="2298600"/>
          </a:xfrm>
          <a:prstGeom prst="rect">
            <a:avLst/>
          </a:prstGeom>
          <a:ln w="0">
            <a:noFill/>
          </a:ln>
        </p:spPr>
      </p:pic>
      <p:sp>
        <p:nvSpPr>
          <p:cNvPr id="193" name="Content Placeholder 2"/>
          <p:cNvSpPr/>
          <p:nvPr/>
        </p:nvSpPr>
        <p:spPr>
          <a:xfrm>
            <a:off x="466560" y="4697280"/>
            <a:ext cx="835992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Example of 128x128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092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Skip: PU = 128x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092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Intra: PU = 128x128 or 64x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092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Inter: PU = 128x128, 128x64, 64x128, 64x64, 128x32, 128x96, 32x128 or 96x12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 rot="16200000">
            <a:off x="5616360" y="2745720"/>
            <a:ext cx="289080" cy="1943280"/>
          </a:xfrm>
          <a:custGeom>
            <a:avLst/>
            <a:gdLst>
              <a:gd name="textAreaLeft" fmla="*/ 0 w 289080"/>
              <a:gd name="textAreaRight" fmla="*/ 104400 w 28908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4857120" y="32130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400" spc="-1" strike="noStrike">
                <a:solidFill>
                  <a:srgbClr val="404040"/>
                </a:solidFill>
                <a:latin typeface="Arial"/>
              </a:rPr>
              <a:t>Asymmetric spl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Unit Defini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Transform Unit (TU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981000"/>
            <a:ext cx="8502480" cy="2502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ransform Unit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TU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is the basic unit for transform and quantiz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May exceed size of PU, but not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Only two TU options are allowed, signalled by transform unit size flag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Transform unit size flag = 0 </a:t>
            </a:r>
            <a:r>
              <a:rPr b="0" lang="en-GB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2Nx2N - same as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Transform unit size flag = 1 </a:t>
            </a:r>
            <a:r>
              <a:rPr b="0" lang="en-GB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square units of smaller size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NxN when PU splitting is symmetri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N/2xN/2 when PU splitting is asymmetri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857160" y="3646440"/>
            <a:ext cx="742176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Ken</cp:lastModifiedBy>
  <dcterms:modified xsi:type="dcterms:W3CDTF">2010-04-16T10:00:05Z</dcterms:modified>
  <cp:revision>261</cp:revision>
  <dc:subject/>
  <dc:title>Presentation title</dc:title>
</cp:coreProperties>
</file>