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4.wmf" ContentType="image/x-wmf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1839C15D-9404-4FE6-B169-59642A65D09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7CA3EEFC-822A-444B-A155-3A74CE968651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FE23EA4C-B5E0-4C89-98E8-BA5D5A27568D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4B9A3C11-8DEF-4173-9785-147EA2B2132C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1BEB380F-01F3-43E1-963A-D92CDB8D96F8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1CE976DB-5EAD-4DAF-B6A1-B0E5104961D1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89C935B0-FDBD-4D99-8AB3-B865E669DD7B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64FD4274-527D-4397-B4CC-FDA4B86382E4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EC86C2A6-30E3-4274-9887-286A8E6F824B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101CBB38-1BCC-46F8-BC26-B60A8D4CA8C7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B7AEF7FC-7407-4632-B7FA-ED00586FF65D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D298EA49-18E1-462C-8F1D-8F2466DAED3A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投影片編號版面配置區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57C5EC6C-093C-4C9E-9572-30DDF7AE8830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080F-BA7C-4AF4-84EE-558F3F6B1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1280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6920" y="4050000"/>
            <a:ext cx="81280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7059-2724-4C1F-915D-DC9C5EA44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6920" y="4050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92120" y="4050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BB8E-999D-48CF-8EA4-7BC59A065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5160" y="1773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3040" y="1773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6920" y="4050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5160" y="4050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3040" y="4050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A22C-D93D-4E4E-9B40-FBAB3D140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C57-36B1-4350-A5B0-22013D4E1E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040-FB98-40F2-971E-3E8171FBB0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B4B-54CF-4BC0-8C84-2054AE1182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CB1-28E3-4D29-98DF-ABE2277E3B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813-DD7C-45CC-8622-4E9007F454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280-2466-47D6-AE0A-2C530E1939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6920" y="4050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980-2723-44A2-94BE-663B9B97D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F736-1A31-4756-8581-A962E74FB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92120" y="4050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9C0-5E8C-4B09-8A65-7FC84DB7F8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26920" y="4050000"/>
            <a:ext cx="81280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169-AA2E-472E-B0AD-66FE54B116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1280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26920" y="4050000"/>
            <a:ext cx="81280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BD1-0955-40DE-975E-678A640BC9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26920" y="4050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92120" y="4050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CE2-0A55-4667-86FE-DAC13F058A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75160" y="1773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3040" y="1773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26920" y="4050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75160" y="4050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3040" y="4050000"/>
            <a:ext cx="261684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15C-3E5C-4F6B-8B43-721F2B314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ECFD-EA58-4923-9A50-B40F3AF63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6C1F-1970-43CD-94E9-F44A8F87C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C57B-1490-4A4E-8475-5909E3CCB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A493-2EA7-4706-B49A-CAF02B3B0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4050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3050-79E1-4571-B320-C9EE60B99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92120" y="4050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C5A5-69FF-4D18-A7CA-9794F855B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2120" y="1773000"/>
            <a:ext cx="39664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4050000"/>
            <a:ext cx="8128080" cy="20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E8CE-894E-4998-98AF-36F2EBC92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1120" y="7095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000" y="709560"/>
            <a:ext cx="3304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1131840"/>
            <a:ext cx="42372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03240" y="11318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54200" y="60156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36680" y="1392120"/>
            <a:ext cx="82245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4654-DA4B-4D47-BA32-B1B194BB976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4" descr="nctulogo"/>
          <p:cNvPicPr/>
          <p:nvPr/>
        </p:nvPicPr>
        <p:blipFill>
          <a:blip r:embed="rId2"/>
          <a:stretch/>
        </p:blipFill>
        <p:spPr>
          <a:xfrm>
            <a:off x="5724360" y="6397560"/>
            <a:ext cx="3419640" cy="41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ABD-CDE6-44E0-ADCB-D11E5D0F0B81}" type="slidenum">
              <a:rPr b="0" lang="zh-TW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6.png"/><Relationship Id="rId13" Type="http://schemas.openxmlformats.org/officeDocument/2006/relationships/image" Target="../media/image29.png"/><Relationship Id="rId14" Type="http://schemas.openxmlformats.org/officeDocument/2006/relationships/image" Target="../media/image26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26.png"/><Relationship Id="rId18" Type="http://schemas.openxmlformats.org/officeDocument/2006/relationships/image" Target="../media/image32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JCTVC-A123 NCTU CfP Proposal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Parametric Overlapped Block Motion Compensation (POBMC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tional Chiao Tung University (NCTU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en-Hsiao Peng, Yi-Wen Chen, Tse-Wei Wang, et al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投影片編號版面配置區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0CD8-4B95-4310-98F5-295DACA240A3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OBMC Highlight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ulti-hypothesis motion compens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Improve prediction efficiency, error resilienc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lleviate blocking artifact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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ur moderate increase in memory accesse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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quire to buffer motion information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atially varying weight vec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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computational complex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61" name="投影片編號版面配置區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74C3-1ADA-47D2-906F-A2CADC0F00F1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Mode Decisio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920" y="1773000"/>
            <a:ext cx="398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#1 &amp; #2 iterations w/o AIF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#3 &amp; #4 iterations w. AIF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mark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gmentation decision an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tion search are carried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t based on BMC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4" name="投影片編號版面配置區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D87E-4F0A-4312-B9F6-20182110CDA0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5214960" y="1500120"/>
            <a:ext cx="1465200" cy="561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 #1 M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o POBM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矩形 13"/>
          <p:cNvSpPr/>
          <p:nvPr/>
        </p:nvSpPr>
        <p:spPr>
          <a:xfrm>
            <a:off x="5214960" y="2786040"/>
            <a:ext cx="146520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 #2 M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POBM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矩形 14"/>
          <p:cNvSpPr/>
          <p:nvPr/>
        </p:nvSpPr>
        <p:spPr>
          <a:xfrm>
            <a:off x="6823080" y="2441520"/>
            <a:ext cx="1465200" cy="48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矩形 15"/>
          <p:cNvSpPr/>
          <p:nvPr/>
        </p:nvSpPr>
        <p:spPr>
          <a:xfrm>
            <a:off x="6823080" y="4143240"/>
            <a:ext cx="1465200" cy="55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 #4 M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POBM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矩形 16"/>
          <p:cNvSpPr/>
          <p:nvPr/>
        </p:nvSpPr>
        <p:spPr>
          <a:xfrm>
            <a:off x="6024600" y="5929200"/>
            <a:ext cx="146520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F &amp; A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0" name="直線單箭頭接點 17"/>
          <p:cNvCxnSpPr>
            <a:stCxn id="265" idx="2"/>
            <a:endCxn id="266" idx="0"/>
          </p:cNvCxnSpPr>
          <p:nvPr/>
        </p:nvCxnSpPr>
        <p:spPr>
          <a:xfrm flipH="1">
            <a:off x="5946480" y="2063880"/>
            <a:ext cx="2160" cy="72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圖案 18"/>
          <p:cNvCxnSpPr>
            <a:stCxn id="265" idx="3"/>
            <a:endCxn id="267" idx="0"/>
          </p:cNvCxnSpPr>
          <p:nvPr/>
        </p:nvCxnSpPr>
        <p:spPr>
          <a:xfrm>
            <a:off x="6680160" y="1781280"/>
            <a:ext cx="876960" cy="660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直線單箭頭接點 19"/>
          <p:cNvCxnSpPr>
            <a:stCxn id="273" idx="2"/>
            <a:endCxn id="268" idx="0"/>
          </p:cNvCxnSpPr>
          <p:nvPr/>
        </p:nvCxnSpPr>
        <p:spPr>
          <a:xfrm flipH="1">
            <a:off x="7554600" y="3714480"/>
            <a:ext cx="2160" cy="43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4" name="肘形接點 20"/>
          <p:cNvCxnSpPr>
            <a:stCxn id="266" idx="2"/>
            <a:endCxn id="268" idx="2"/>
          </p:cNvCxnSpPr>
          <p:nvPr/>
        </p:nvCxnSpPr>
        <p:spPr>
          <a:xfrm flipH="1" rot="16200000">
            <a:off x="6078600" y="3224880"/>
            <a:ext cx="1343520" cy="1608840"/>
          </a:xfrm>
          <a:prstGeom prst="bentConnector3">
            <a:avLst>
              <a:gd name="adj1" fmla="val 117019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75" name="矩形 21"/>
          <p:cNvSpPr/>
          <p:nvPr/>
        </p:nvSpPr>
        <p:spPr>
          <a:xfrm>
            <a:off x="6029280" y="5202360"/>
            <a:ext cx="1465200" cy="428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F Deci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6" name="直線單箭頭接點 22"/>
          <p:cNvCxnSpPr/>
          <p:nvPr/>
        </p:nvCxnSpPr>
        <p:spPr>
          <a:xfrm>
            <a:off x="6750720" y="492912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直線單箭頭接點 23"/>
          <p:cNvCxnSpPr/>
          <p:nvPr/>
        </p:nvCxnSpPr>
        <p:spPr>
          <a:xfrm>
            <a:off x="6750720" y="5643360"/>
            <a:ext cx="1080" cy="28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矩形 31"/>
          <p:cNvSpPr/>
          <p:nvPr/>
        </p:nvSpPr>
        <p:spPr>
          <a:xfrm>
            <a:off x="6786720" y="2428920"/>
            <a:ext cx="1500120" cy="1285920"/>
          </a:xfrm>
          <a:prstGeom prst="rect">
            <a:avLst/>
          </a:prstGeom>
          <a:solidFill>
            <a:srgbClr val="969696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矩形 32"/>
          <p:cNvSpPr/>
          <p:nvPr/>
        </p:nvSpPr>
        <p:spPr>
          <a:xfrm>
            <a:off x="5214960" y="2786040"/>
            <a:ext cx="1500120" cy="571680"/>
          </a:xfrm>
          <a:prstGeom prst="rect">
            <a:avLst/>
          </a:prstGeom>
          <a:solidFill>
            <a:srgbClr val="ffec99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矩形 33"/>
          <p:cNvSpPr/>
          <p:nvPr/>
        </p:nvSpPr>
        <p:spPr>
          <a:xfrm>
            <a:off x="5214960" y="1500120"/>
            <a:ext cx="1500120" cy="571680"/>
          </a:xfrm>
          <a:prstGeom prst="rect">
            <a:avLst/>
          </a:prstGeom>
          <a:solidFill>
            <a:srgbClr val="00e4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矩形 34"/>
          <p:cNvSpPr/>
          <p:nvPr/>
        </p:nvSpPr>
        <p:spPr>
          <a:xfrm>
            <a:off x="6823080" y="3143160"/>
            <a:ext cx="146520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 #3 M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o POBM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1" name="直線單箭頭接點 35"/>
          <p:cNvCxnSpPr>
            <a:stCxn id="267" idx="2"/>
            <a:endCxn id="273" idx="0"/>
          </p:cNvCxnSpPr>
          <p:nvPr/>
        </p:nvCxnSpPr>
        <p:spPr>
          <a:xfrm flipH="1">
            <a:off x="7554600" y="2928600"/>
            <a:ext cx="216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2" name="矩形 37"/>
          <p:cNvSpPr/>
          <p:nvPr/>
        </p:nvSpPr>
        <p:spPr>
          <a:xfrm>
            <a:off x="6786720" y="4143240"/>
            <a:ext cx="1500120" cy="571680"/>
          </a:xfrm>
          <a:prstGeom prst="rect">
            <a:avLst/>
          </a:prstGeom>
          <a:solidFill>
            <a:srgbClr val="7030a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矩形 38"/>
          <p:cNvSpPr/>
          <p:nvPr/>
        </p:nvSpPr>
        <p:spPr>
          <a:xfrm>
            <a:off x="6000840" y="5214960"/>
            <a:ext cx="1500120" cy="1143000"/>
          </a:xfrm>
          <a:prstGeom prst="rect">
            <a:avLst/>
          </a:prstGeom>
          <a:solidFill>
            <a:srgbClr val="c00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直線接點 9"/>
          <p:cNvSpPr/>
          <p:nvPr/>
        </p:nvSpPr>
        <p:spPr>
          <a:xfrm>
            <a:off x="5072040" y="2214720"/>
            <a:ext cx="328608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直線接點 42"/>
          <p:cNvSpPr/>
          <p:nvPr/>
        </p:nvSpPr>
        <p:spPr>
          <a:xfrm>
            <a:off x="5072040" y="4000680"/>
            <a:ext cx="328608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直線接點 43"/>
          <p:cNvSpPr/>
          <p:nvPr/>
        </p:nvSpPr>
        <p:spPr>
          <a:xfrm>
            <a:off x="5072040" y="5000760"/>
            <a:ext cx="328608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mpression Performance vs. Alpha 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14200" y="2714760"/>
          <a:ext cx="8572680" cy="2225520"/>
        </p:xfrm>
        <a:graphic>
          <a:graphicData uri="http://schemas.openxmlformats.org/drawingml/2006/table">
            <a:tbl>
              <a:tblPr/>
              <a:tblGrid>
                <a:gridCol w="1559160"/>
                <a:gridCol w="1368360"/>
                <a:gridCol w="1741320"/>
                <a:gridCol w="1974960"/>
                <a:gridCol w="1928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/max/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 BD-rate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 BD-SNR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BD-SNR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 BD-SNR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/23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9/0.99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9/1.5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99/-0.36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/28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5/1.2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.09/1.36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12/2.06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/25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5/1.24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8/0.2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8/0.42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/3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9/1.28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38/0.22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12/0.15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/3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5/1.28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38/1.5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99/2.06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mpression Performance vs. Beta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85840" y="2771640"/>
          <a:ext cx="8572320" cy="2324160"/>
        </p:xfrm>
        <a:graphic>
          <a:graphicData uri="http://schemas.openxmlformats.org/drawingml/2006/table">
            <a:tbl>
              <a:tblPr/>
              <a:tblGrid>
                <a:gridCol w="1520640"/>
                <a:gridCol w="1521000"/>
                <a:gridCol w="1658880"/>
                <a:gridCol w="1871640"/>
                <a:gridCol w="2000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/max/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 BD-rate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 BD-SNR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BD-SNR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 BD-SNR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/35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6/1.58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35/-0.04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50/-0.02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/2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2/1.12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45/-0.09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59/0.1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/1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5/0.9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75/-0.05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67/-0.0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/36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9/1.8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15/0.63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87/0.2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/36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5/1.8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75/0.63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87/0.2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mpression Performance vs. Gamma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85840" y="2857680"/>
          <a:ext cx="8572320" cy="222552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  <a:gridCol w="1714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/max/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 BD-rate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 BD-SNR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BD-SNR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 BD-SNR(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/59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3/2.5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5/0.49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7/0.71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/43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6/2.26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5/0.69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3/0.9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/55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5/2.40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12/0.42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2/0.39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/52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3/3.0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4/1.50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8/0.9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/59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5/30.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12/1.50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2/0.97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omplexity Analysi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42960" y="4000680"/>
          <a:ext cx="7572240" cy="2312640"/>
        </p:xfrm>
        <a:graphic>
          <a:graphicData uri="http://schemas.openxmlformats.org/drawingml/2006/table">
            <a:tbl>
              <a:tblPr/>
              <a:tblGrid>
                <a:gridCol w="1287360"/>
                <a:gridCol w="1571760"/>
                <a:gridCol w="1569960"/>
                <a:gridCol w="1571760"/>
                <a:gridCol w="1571400"/>
              </a:tblGrid>
              <a:tr h="279000">
                <a:tc rowSpan="2"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oding Time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 gridSpan="2"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oding w/o 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oding with 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aint se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aint se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aint se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aint se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257400"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4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7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14040" rIns="14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.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.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14040" rIns="14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.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4040" marR="14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428840" y="1714680"/>
          <a:ext cx="6095880" cy="19904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932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coding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h:m: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aint se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aint se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2491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A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:36: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:47: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:32: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C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:26: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:42: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D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:42: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:33: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:47: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g.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　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:38: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:24: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AB28-478B-480C-BA0E-579E976B393F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lock-based hybrid codec based on KTA 2.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nable EAIF, RDOQ, QALF, EMB, MDD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Incorporate POBMC, TMP-Skip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pression perform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22.04% saving, 0.90dB gain over Alpha 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21.93% saving, 0.91dB gain over Beta 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41.46% saving, 1.98dB gain over Gamma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投影片編號版面配置區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396A-5A4B-47CF-9F86-FF5532F8E119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plexity analysi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ncoding time 2-100 hrs/cas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Decoding time w. YUV outpu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(Ours : Alpha = 58 : 1)(Ours : Beta : Gamma= 75 : 1 : 1)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Decoding time w/o YUV outpu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(Ours : Alpha = 86 : 1)(Ours : Beta : Gamma= 128 : 1 : 0.9)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ighlighted aspec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ulti-hypothesis motion compensation 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rror resilience, memory bandwidth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投影片編號版面配置區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701-4BA7-46C1-AE7A-6BCFFD673491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Overlapped Block Motion Comp.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171432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diction based on MVs of neighboring bloc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ight vector varies with relative pixel posi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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y symmetry, only 36 weight vectors!</a:t>
            </a:r>
            <a:endParaRPr b="0" lang="en-US" sz="2800" spc="-1" strike="noStrike">
              <a:solidFill>
                <a:srgbClr val="ff6600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5" name="投影片編號版面配置區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9986-2D52-4814-A8E0-020466162535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5572080" y="43578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MMSE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右大括弧 11"/>
          <p:cNvSpPr/>
          <p:nvPr/>
        </p:nvSpPr>
        <p:spPr>
          <a:xfrm rot="5400000">
            <a:off x="6679080" y="2607120"/>
            <a:ext cx="214200" cy="2857320"/>
          </a:xfrm>
          <a:custGeom>
            <a:avLst/>
            <a:gdLst>
              <a:gd name="textAreaLeft" fmla="*/ 0 w 214200"/>
              <a:gd name="textAreaRight" fmla="*/ 77400 w 214200"/>
              <a:gd name="textAreaTop" fmla="*/ 5400 h 2857320"/>
              <a:gd name="textAreaBottom" fmla="*/ 2851920 h 28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"/>
                  <a:pt x="10800" y="135"/>
                </a:cubicBezTo>
                <a:lnTo>
                  <a:pt x="10800" y="10665"/>
                </a:lnTo>
                <a:cubicBezTo>
                  <a:pt x="10800" y="10733"/>
                  <a:pt x="16200" y="10800"/>
                  <a:pt x="21600" y="10800"/>
                </a:cubicBezTo>
                <a:cubicBezTo>
                  <a:pt x="16200" y="10800"/>
                  <a:pt x="10800" y="10868"/>
                  <a:pt x="10800" y="10935"/>
                </a:cubicBezTo>
                <a:lnTo>
                  <a:pt x="10800" y="21465"/>
                </a:lnTo>
                <a:cubicBezTo>
                  <a:pt x="10800" y="2153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1357200" y="2500200"/>
            <a:ext cx="3000600" cy="2643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4572000" y="2571840"/>
            <a:ext cx="3571920" cy="14238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ight vector depends on absolute pixel pos.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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fferent pixels, different weight vectors</a:t>
            </a:r>
            <a:endParaRPr b="0" lang="en-US" sz="28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to obtain? How to keep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投影片編號版面配置區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C163-5FB4-4185-98AB-4728641B1071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1500120" y="3571920"/>
            <a:ext cx="3000600" cy="2643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4640400" y="3552840"/>
            <a:ext cx="29318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arametric Solutio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 give a closed-form formula for weight vec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gnal Model &amp; Assump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-457200">
              <a:spcBef>
                <a:spcPts val="1199"/>
              </a:spcBef>
              <a:buClr>
                <a:srgbClr val="ff6600"/>
              </a:buClr>
              <a:buSzPct val="12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lock MV approximates motion at block center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914400" indent="-457200">
              <a:spcBef>
                <a:spcPts val="1199"/>
              </a:spcBef>
              <a:buClr>
                <a:srgbClr val="ff6600"/>
              </a:buClr>
              <a:buSzPct val="12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tion difference follows normal distribution 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投影片編號版面配置區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CA67-4F17-43DA-B53D-204156280DC5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15" descr=""/>
          <p:cNvPicPr/>
          <p:nvPr/>
        </p:nvPicPr>
        <p:blipFill>
          <a:blip r:embed="rId1"/>
          <a:stretch/>
        </p:blipFill>
        <p:spPr>
          <a:xfrm>
            <a:off x="1285920" y="2637000"/>
            <a:ext cx="5378400" cy="93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6715080" y="2600280"/>
            <a:ext cx="1889280" cy="971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20" descr=""/>
          <p:cNvPicPr/>
          <p:nvPr/>
        </p:nvPicPr>
        <p:blipFill>
          <a:blip r:embed="rId3"/>
          <a:stretch/>
        </p:blipFill>
        <p:spPr>
          <a:xfrm>
            <a:off x="1928880" y="5429160"/>
            <a:ext cx="539100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arametric Solutio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26560" y="1773000"/>
            <a:ext cx="403092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 mild condi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4357800"/>
            <a:ext cx="42861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The optimal weight associated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with a block MV is inversely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proportional to the squared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distance from its block center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to the predicted pix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投影片編號版面配置區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E071-1964-4D73-B032-FED5E661EF58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357200" y="2357280"/>
            <a:ext cx="307188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2"/>
          <a:stretch/>
        </p:blipFill>
        <p:spPr>
          <a:xfrm>
            <a:off x="5500800" y="1928880"/>
            <a:ext cx="34700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Extension to Bi-Predictio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enerate predictors using prediction modes of neighboring parti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5" name="投影片編號版面配置區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B494-8659-47FA-9F57-F5A067C2E8D0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35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2500200" cy="333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7"/>
          <p:cNvSpPr/>
          <p:nvPr/>
        </p:nvSpPr>
        <p:spPr>
          <a:xfrm>
            <a:off x="4011480" y="68040"/>
            <a:ext cx="11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38" descr=""/>
          <p:cNvPicPr/>
          <p:nvPr/>
        </p:nvPicPr>
        <p:blipFill>
          <a:blip r:embed="rId2"/>
          <a:stretch/>
        </p:blipFill>
        <p:spPr>
          <a:xfrm>
            <a:off x="1071720" y="3833640"/>
            <a:ext cx="4464000" cy="597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0" descr=""/>
          <p:cNvPicPr/>
          <p:nvPr/>
        </p:nvPicPr>
        <p:blipFill>
          <a:blip r:embed="rId3"/>
          <a:stretch/>
        </p:blipFill>
        <p:spPr>
          <a:xfrm>
            <a:off x="1071720" y="4691160"/>
            <a:ext cx="2571480" cy="341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42" descr=""/>
          <p:cNvPicPr/>
          <p:nvPr/>
        </p:nvPicPr>
        <p:blipFill>
          <a:blip r:embed="rId4"/>
          <a:stretch/>
        </p:blipFill>
        <p:spPr>
          <a:xfrm>
            <a:off x="1071720" y="5262480"/>
            <a:ext cx="427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65" name="群組 43"/>
          <p:cNvGrpSpPr/>
          <p:nvPr/>
        </p:nvGrpSpPr>
        <p:grpSpPr>
          <a:xfrm>
            <a:off x="5715000" y="3071880"/>
            <a:ext cx="3286080" cy="2738880"/>
            <a:chOff x="5715000" y="3071880"/>
            <a:chExt cx="3286080" cy="2738880"/>
          </a:xfrm>
        </p:grpSpPr>
        <p:grpSp>
          <p:nvGrpSpPr>
            <p:cNvPr id="166" name="群組 10"/>
            <p:cNvGrpSpPr/>
            <p:nvPr/>
          </p:nvGrpSpPr>
          <p:grpSpPr>
            <a:xfrm>
              <a:off x="5715000" y="3071880"/>
              <a:ext cx="2804400" cy="2718720"/>
              <a:chOff x="5715000" y="3071880"/>
              <a:chExt cx="2804400" cy="2718720"/>
            </a:xfrm>
          </p:grpSpPr>
          <p:sp>
            <p:nvSpPr>
              <p:cNvPr id="167" name="矩形 76"/>
              <p:cNvSpPr/>
              <p:nvPr/>
            </p:nvSpPr>
            <p:spPr>
              <a:xfrm>
                <a:off x="5715000" y="3071880"/>
                <a:ext cx="1402200" cy="1360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矩形 77"/>
              <p:cNvSpPr/>
              <p:nvPr/>
            </p:nvSpPr>
            <p:spPr>
              <a:xfrm>
                <a:off x="7117200" y="3071880"/>
                <a:ext cx="1402200" cy="1360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矩形 78"/>
              <p:cNvSpPr/>
              <p:nvPr/>
            </p:nvSpPr>
            <p:spPr>
              <a:xfrm>
                <a:off x="5715000" y="4431960"/>
                <a:ext cx="1402200" cy="1358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矩形 79"/>
              <p:cNvSpPr/>
              <p:nvPr/>
            </p:nvSpPr>
            <p:spPr>
              <a:xfrm>
                <a:off x="7117200" y="4431960"/>
                <a:ext cx="1402200" cy="1358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171" name="直線單箭頭接點 45"/>
            <p:cNvCxnSpPr/>
            <p:nvPr/>
          </p:nvCxnSpPr>
          <p:spPr>
            <a:xfrm flipH="1" flipV="1">
              <a:off x="6545880" y="3524040"/>
              <a:ext cx="176760" cy="273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headEnd len="med" type="oval" w="med"/>
              <a:tailEnd len="med" type="stealth" w="med"/>
            </a:ln>
          </p:spPr>
        </p:cxnSp>
        <p:cxnSp>
          <p:nvCxnSpPr>
            <p:cNvPr id="172" name="直線單箭頭接點 46"/>
            <p:cNvCxnSpPr/>
            <p:nvPr/>
          </p:nvCxnSpPr>
          <p:spPr>
            <a:xfrm flipH="1" flipV="1">
              <a:off x="7160760" y="3978000"/>
              <a:ext cx="306720" cy="1353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headEnd len="med" type="oval" w="med"/>
              <a:tailEnd len="med" type="stealth" w="med"/>
            </a:ln>
          </p:spPr>
        </p:cxnSp>
        <p:cxnSp>
          <p:nvCxnSpPr>
            <p:cNvPr id="173" name="直線單箭頭接點 47"/>
            <p:cNvCxnSpPr/>
            <p:nvPr/>
          </p:nvCxnSpPr>
          <p:spPr>
            <a:xfrm flipH="1" flipV="1">
              <a:off x="5889240" y="4566960"/>
              <a:ext cx="527760" cy="2275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headEnd len="med" type="oval" w="med"/>
              <a:tailEnd len="med" type="stealth" w="med"/>
            </a:ln>
          </p:spPr>
        </p:cxnSp>
        <p:pic>
          <p:nvPicPr>
            <p:cNvPr id="174" name="Picture 3" descr=""/>
            <p:cNvPicPr/>
            <p:nvPr/>
          </p:nvPicPr>
          <p:blipFill>
            <a:blip r:embed="rId5"/>
            <a:stretch/>
          </p:blipFill>
          <p:spPr>
            <a:xfrm>
              <a:off x="7949520" y="5065560"/>
              <a:ext cx="218880" cy="2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7" descr=""/>
            <p:cNvPicPr/>
            <p:nvPr/>
          </p:nvPicPr>
          <p:blipFill>
            <a:blip r:embed="rId6"/>
            <a:stretch/>
          </p:blipFill>
          <p:spPr>
            <a:xfrm>
              <a:off x="6766560" y="3524760"/>
              <a:ext cx="218880" cy="2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9" descr=""/>
            <p:cNvPicPr/>
            <p:nvPr/>
          </p:nvPicPr>
          <p:blipFill>
            <a:blip r:embed="rId7"/>
            <a:stretch/>
          </p:blipFill>
          <p:spPr>
            <a:xfrm>
              <a:off x="7204680" y="3706200"/>
              <a:ext cx="218880" cy="280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7" name="直線單箭頭接點 51"/>
            <p:cNvCxnSpPr/>
            <p:nvPr/>
          </p:nvCxnSpPr>
          <p:spPr>
            <a:xfrm flipH="1" flipV="1">
              <a:off x="7686000" y="4703040"/>
              <a:ext cx="175320" cy="4071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headEnd len="med" type="oval" w="med"/>
              <a:tailEnd len="med" type="stealth" w="med"/>
            </a:ln>
          </p:spPr>
        </p:cxnSp>
        <p:sp>
          <p:nvSpPr>
            <p:cNvPr id="178" name="直線接點 52"/>
            <p:cNvSpPr/>
            <p:nvPr/>
          </p:nvSpPr>
          <p:spPr>
            <a:xfrm flipH="1">
              <a:off x="7335720" y="4113360"/>
              <a:ext cx="131760" cy="49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直線接點 53"/>
            <p:cNvSpPr/>
            <p:nvPr/>
          </p:nvSpPr>
          <p:spPr>
            <a:xfrm>
              <a:off x="6723000" y="3841560"/>
              <a:ext cx="612720" cy="76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直線接點 54"/>
            <p:cNvSpPr/>
            <p:nvPr/>
          </p:nvSpPr>
          <p:spPr>
            <a:xfrm flipH="1">
              <a:off x="6416280" y="4610880"/>
              <a:ext cx="91908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直線接點 55"/>
            <p:cNvSpPr/>
            <p:nvPr/>
          </p:nvSpPr>
          <p:spPr>
            <a:xfrm flipH="1" flipV="1">
              <a:off x="7335360" y="4611600"/>
              <a:ext cx="525240" cy="49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82" name="直線單箭頭接點 56"/>
            <p:cNvCxnSpPr/>
            <p:nvPr/>
          </p:nvCxnSpPr>
          <p:spPr>
            <a:xfrm flipH="1">
              <a:off x="8606880" y="4431960"/>
              <a:ext cx="1080" cy="13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83" name="文字方塊 58"/>
            <p:cNvSpPr/>
            <p:nvPr/>
          </p:nvSpPr>
          <p:spPr>
            <a:xfrm>
              <a:off x="8606880" y="506556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直線接點 58"/>
            <p:cNvSpPr/>
            <p:nvPr/>
          </p:nvSpPr>
          <p:spPr>
            <a:xfrm>
              <a:off x="6416640" y="3071880"/>
              <a:ext cx="0" cy="13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直線接點 59"/>
            <p:cNvSpPr/>
            <p:nvPr/>
          </p:nvSpPr>
          <p:spPr>
            <a:xfrm>
              <a:off x="5715000" y="5110200"/>
              <a:ext cx="140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直線接點 60"/>
            <p:cNvSpPr/>
            <p:nvPr/>
          </p:nvSpPr>
          <p:spPr>
            <a:xfrm>
              <a:off x="7116840" y="3751200"/>
              <a:ext cx="140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直線接點 61"/>
            <p:cNvSpPr/>
            <p:nvPr/>
          </p:nvSpPr>
          <p:spPr>
            <a:xfrm>
              <a:off x="7861320" y="3071880"/>
              <a:ext cx="0" cy="13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88" name="Picture 5" descr=""/>
            <p:cNvPicPr/>
            <p:nvPr/>
          </p:nvPicPr>
          <p:blipFill>
            <a:blip r:embed="rId8"/>
            <a:stretch/>
          </p:blipFill>
          <p:spPr>
            <a:xfrm>
              <a:off x="6109200" y="4385880"/>
              <a:ext cx="218880" cy="2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"/>
            <p:cNvPicPr/>
            <p:nvPr/>
          </p:nvPicPr>
          <p:blipFill>
            <a:blip r:embed="rId9"/>
            <a:stretch/>
          </p:blipFill>
          <p:spPr>
            <a:xfrm>
              <a:off x="7423920" y="4521960"/>
              <a:ext cx="75600" cy="187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90" name="直線單箭頭接點 64"/>
            <p:cNvCxnSpPr/>
            <p:nvPr/>
          </p:nvCxnSpPr>
          <p:spPr>
            <a:xfrm flipV="1">
              <a:off x="6416640" y="4747680"/>
              <a:ext cx="568800" cy="464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headEnd len="med" type="oval" w="med"/>
              <a:tailEnd len="med" type="stealth" w="med"/>
            </a:ln>
          </p:spPr>
        </p:cxnSp>
        <p:cxnSp>
          <p:nvCxnSpPr>
            <p:cNvPr id="191" name="直線單箭頭接點 65"/>
            <p:cNvCxnSpPr/>
            <p:nvPr/>
          </p:nvCxnSpPr>
          <p:spPr>
            <a:xfrm flipV="1">
              <a:off x="7467120" y="4068000"/>
              <a:ext cx="306720" cy="514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headEnd len="med" type="oval" w="med"/>
              <a:tailEnd len="med" type="stealth" w="med"/>
            </a:ln>
          </p:spPr>
        </p:cxnSp>
        <p:pic>
          <p:nvPicPr>
            <p:cNvPr id="192" name="Picture 1" descr=""/>
            <p:cNvPicPr/>
            <p:nvPr/>
          </p:nvPicPr>
          <p:blipFill>
            <a:blip r:embed="rId10"/>
            <a:stretch/>
          </p:blipFill>
          <p:spPr>
            <a:xfrm>
              <a:off x="6635160" y="4786560"/>
              <a:ext cx="218880" cy="2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3" descr=""/>
            <p:cNvPicPr/>
            <p:nvPr/>
          </p:nvPicPr>
          <p:blipFill>
            <a:blip r:embed="rId11"/>
            <a:stretch/>
          </p:blipFill>
          <p:spPr>
            <a:xfrm>
              <a:off x="7555320" y="4068720"/>
              <a:ext cx="218880" cy="2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矩形 68"/>
            <p:cNvSpPr/>
            <p:nvPr/>
          </p:nvSpPr>
          <p:spPr>
            <a:xfrm>
              <a:off x="7116840" y="3751200"/>
              <a:ext cx="744480" cy="679320"/>
            </a:xfrm>
            <a:prstGeom prst="rect">
              <a:avLst/>
            </a:prstGeom>
            <a:solidFill>
              <a:srgbClr val="7575d1">
                <a:alpha val="35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矩形 69"/>
            <p:cNvSpPr/>
            <p:nvPr/>
          </p:nvSpPr>
          <p:spPr>
            <a:xfrm>
              <a:off x="5715000" y="4430880"/>
              <a:ext cx="1401840" cy="679320"/>
            </a:xfrm>
            <a:prstGeom prst="rect">
              <a:avLst/>
            </a:prstGeom>
            <a:solidFill>
              <a:srgbClr val="ff0000">
                <a:alpha val="35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矩形 70"/>
            <p:cNvSpPr/>
            <p:nvPr/>
          </p:nvSpPr>
          <p:spPr>
            <a:xfrm>
              <a:off x="6416640" y="3071880"/>
              <a:ext cx="699840" cy="1359000"/>
            </a:xfrm>
            <a:prstGeom prst="rect">
              <a:avLst/>
            </a:prstGeom>
            <a:solidFill>
              <a:srgbClr val="00b050">
                <a:alpha val="35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矩形 71"/>
            <p:cNvSpPr/>
            <p:nvPr/>
          </p:nvSpPr>
          <p:spPr>
            <a:xfrm>
              <a:off x="7116840" y="4430880"/>
              <a:ext cx="1401840" cy="1360440"/>
            </a:xfrm>
            <a:prstGeom prst="rect">
              <a:avLst/>
            </a:prstGeom>
            <a:solidFill>
              <a:srgbClr val="ffff00">
                <a:alpha val="35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文字方塊 72"/>
            <p:cNvSpPr/>
            <p:nvPr/>
          </p:nvSpPr>
          <p:spPr>
            <a:xfrm>
              <a:off x="7129440" y="5473440"/>
              <a:ext cx="43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文字方塊 73"/>
            <p:cNvSpPr/>
            <p:nvPr/>
          </p:nvSpPr>
          <p:spPr>
            <a:xfrm>
              <a:off x="5727240" y="4795560"/>
              <a:ext cx="43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文字方塊 74"/>
            <p:cNvSpPr/>
            <p:nvPr/>
          </p:nvSpPr>
          <p:spPr>
            <a:xfrm>
              <a:off x="6690960" y="3116880"/>
              <a:ext cx="43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文字方塊 75"/>
            <p:cNvSpPr/>
            <p:nvPr/>
          </p:nvSpPr>
          <p:spPr>
            <a:xfrm>
              <a:off x="7479720" y="3751560"/>
              <a:ext cx="43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B4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Extension to Bi-Predictio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bine resulting predictors using POBM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4" name="投影片編號版面配置區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CC1-299E-4490-958D-8A61774FFB65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57" descr=""/>
          <p:cNvPicPr/>
          <p:nvPr/>
        </p:nvPicPr>
        <p:blipFill>
          <a:blip r:embed="rId1"/>
          <a:stretch/>
        </p:blipFill>
        <p:spPr>
          <a:xfrm>
            <a:off x="2143080" y="2500200"/>
            <a:ext cx="5067360" cy="642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9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" name="群組 59"/>
          <p:cNvGrpSpPr/>
          <p:nvPr/>
        </p:nvGrpSpPr>
        <p:grpSpPr>
          <a:xfrm>
            <a:off x="233640" y="3357720"/>
            <a:ext cx="9248400" cy="2857320"/>
            <a:chOff x="233640" y="3357720"/>
            <a:chExt cx="9248400" cy="2857320"/>
          </a:xfrm>
        </p:grpSpPr>
        <p:grpSp>
          <p:nvGrpSpPr>
            <p:cNvPr id="209" name="群組 3"/>
            <p:cNvGrpSpPr/>
            <p:nvPr/>
          </p:nvGrpSpPr>
          <p:grpSpPr>
            <a:xfrm>
              <a:off x="233640" y="3357720"/>
              <a:ext cx="5726880" cy="2472840"/>
              <a:chOff x="233640" y="3357720"/>
              <a:chExt cx="5726880" cy="2472840"/>
            </a:xfrm>
          </p:grpSpPr>
          <p:sp>
            <p:nvSpPr>
              <p:cNvPr id="210" name="平行四邊形 123"/>
              <p:cNvSpPr/>
              <p:nvPr/>
            </p:nvSpPr>
            <p:spPr>
              <a:xfrm rot="19837200">
                <a:off x="500040" y="3995640"/>
                <a:ext cx="1666800" cy="1523880"/>
              </a:xfrm>
              <a:prstGeom prst="parallelogram">
                <a:avLst>
                  <a:gd name="adj" fmla="val 4623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平行四邊形 124"/>
              <p:cNvSpPr/>
              <p:nvPr/>
            </p:nvSpPr>
            <p:spPr>
              <a:xfrm rot="19837200">
                <a:off x="1676160" y="3995640"/>
                <a:ext cx="1666800" cy="1523880"/>
              </a:xfrm>
              <a:prstGeom prst="parallelogram">
                <a:avLst>
                  <a:gd name="adj" fmla="val 4623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平行四邊形 125"/>
              <p:cNvSpPr/>
              <p:nvPr/>
            </p:nvSpPr>
            <p:spPr>
              <a:xfrm rot="19837200">
                <a:off x="2850840" y="3995640"/>
                <a:ext cx="1666800" cy="1523880"/>
              </a:xfrm>
              <a:prstGeom prst="parallelogram">
                <a:avLst>
                  <a:gd name="adj" fmla="val 4623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平行四邊形 126"/>
              <p:cNvSpPr/>
              <p:nvPr/>
            </p:nvSpPr>
            <p:spPr>
              <a:xfrm rot="19837200">
                <a:off x="4026960" y="3995640"/>
                <a:ext cx="1666800" cy="1523880"/>
              </a:xfrm>
              <a:prstGeom prst="parallelogram">
                <a:avLst>
                  <a:gd name="adj" fmla="val 4623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直線接點 127"/>
              <p:cNvSpPr/>
              <p:nvPr/>
            </p:nvSpPr>
            <p:spPr>
              <a:xfrm flipH="1">
                <a:off x="4236840" y="3357720"/>
                <a:ext cx="26640" cy="24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215" name="直線單箭頭接點 128"/>
              <p:cNvCxnSpPr/>
              <p:nvPr/>
            </p:nvCxnSpPr>
            <p:spPr>
              <a:xfrm>
                <a:off x="2309400" y="4214880"/>
                <a:ext cx="2453040" cy="172080"/>
              </a:xfrm>
              <a:prstGeom prst="straightConnector1">
                <a:avLst/>
              </a:prstGeom>
              <a:ln w="25560">
                <a:solidFill>
                  <a:srgbClr val="ffff00"/>
                </a:solidFill>
                <a:miter/>
                <a:tailEnd len="sm" type="arrow" w="sm"/>
              </a:ln>
            </p:spPr>
          </p:cxnSp>
          <p:cxnSp>
            <p:nvCxnSpPr>
              <p:cNvPr id="216" name="直線單箭頭接點 129"/>
              <p:cNvCxnSpPr/>
              <p:nvPr/>
            </p:nvCxnSpPr>
            <p:spPr>
              <a:xfrm flipV="1">
                <a:off x="2250360" y="4500360"/>
                <a:ext cx="2511720" cy="172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17" name="直線單箭頭接點 130"/>
              <p:cNvCxnSpPr/>
              <p:nvPr/>
            </p:nvCxnSpPr>
            <p:spPr>
              <a:xfrm flipV="1">
                <a:off x="3728520" y="4556880"/>
                <a:ext cx="1033560" cy="229320"/>
              </a:xfrm>
              <a:prstGeom prst="straightConnector1">
                <a:avLst/>
              </a:prstGeom>
              <a:ln w="25560">
                <a:solidFill>
                  <a:srgbClr val="00b050"/>
                </a:solidFill>
                <a:miter/>
                <a:tailEnd len="sm" type="arrow" w="sm"/>
              </a:ln>
            </p:spPr>
          </p:cxnSp>
          <p:cxnSp>
            <p:nvCxnSpPr>
              <p:cNvPr id="218" name="直線單箭頭接點 131"/>
              <p:cNvCxnSpPr/>
              <p:nvPr/>
            </p:nvCxnSpPr>
            <p:spPr>
              <a:xfrm>
                <a:off x="1180440" y="4428720"/>
                <a:ext cx="3581640" cy="14760"/>
              </a:xfrm>
              <a:prstGeom prst="straightConnector1">
                <a:avLst/>
              </a:prstGeom>
              <a:ln w="25560">
                <a:solidFill>
                  <a:srgbClr val="0070c0"/>
                </a:solidFill>
                <a:miter/>
                <a:tailEnd len="sm" type="arrow" w="sm"/>
              </a:ln>
            </p:spPr>
          </p:cxnSp>
        </p:grpSp>
        <p:sp>
          <p:nvSpPr>
            <p:cNvPr id="219" name="直線接點 61"/>
            <p:cNvSpPr/>
            <p:nvPr/>
          </p:nvSpPr>
          <p:spPr>
            <a:xfrm>
              <a:off x="5462640" y="3357720"/>
              <a:ext cx="0" cy="2457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平行四邊形 62"/>
            <p:cNvSpPr/>
            <p:nvPr/>
          </p:nvSpPr>
          <p:spPr>
            <a:xfrm rot="19837200">
              <a:off x="5197320" y="3887640"/>
              <a:ext cx="1666800" cy="1523880"/>
            </a:xfrm>
            <a:prstGeom prst="parallelogram">
              <a:avLst>
                <a:gd name="adj" fmla="val 5740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平行四邊形 63"/>
            <p:cNvSpPr/>
            <p:nvPr/>
          </p:nvSpPr>
          <p:spPr>
            <a:xfrm rot="19837200">
              <a:off x="6372000" y="3887640"/>
              <a:ext cx="1666800" cy="1523880"/>
            </a:xfrm>
            <a:prstGeom prst="parallelogram">
              <a:avLst>
                <a:gd name="adj" fmla="val 5740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平行四邊形 65"/>
            <p:cNvSpPr/>
            <p:nvPr/>
          </p:nvSpPr>
          <p:spPr>
            <a:xfrm rot="19837200">
              <a:off x="7548480" y="3887640"/>
              <a:ext cx="1666800" cy="1523880"/>
            </a:xfrm>
            <a:prstGeom prst="parallelogram">
              <a:avLst>
                <a:gd name="adj" fmla="val 5740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矩形 66"/>
            <p:cNvSpPr/>
            <p:nvPr/>
          </p:nvSpPr>
          <p:spPr>
            <a:xfrm>
              <a:off x="1668240" y="5872320"/>
              <a:ext cx="2158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Tahoma"/>
                </a:rPr>
                <a:t>Forwar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矩形 67"/>
            <p:cNvSpPr/>
            <p:nvPr/>
          </p:nvSpPr>
          <p:spPr>
            <a:xfrm>
              <a:off x="5931000" y="5850000"/>
              <a:ext cx="23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Tahoma"/>
                </a:rPr>
                <a:t>Backwar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25" name="直線單箭頭接點 68"/>
            <p:cNvCxnSpPr/>
            <p:nvPr/>
          </p:nvCxnSpPr>
          <p:spPr>
            <a:xfrm flipV="1">
              <a:off x="4995720" y="4099680"/>
              <a:ext cx="1033560" cy="286200"/>
            </a:xfrm>
            <a:prstGeom prst="straightConnector1">
              <a:avLst/>
            </a:prstGeom>
            <a:ln w="25560">
              <a:solidFill>
                <a:srgbClr val="0070c0"/>
              </a:solidFill>
              <a:miter/>
              <a:headEnd len="med" type="triangle" w="med"/>
            </a:ln>
          </p:spPr>
        </p:cxnSp>
        <p:cxnSp>
          <p:nvCxnSpPr>
            <p:cNvPr id="226" name="直線單箭頭接點 69"/>
            <p:cNvCxnSpPr/>
            <p:nvPr/>
          </p:nvCxnSpPr>
          <p:spPr>
            <a:xfrm>
              <a:off x="4995360" y="4500720"/>
              <a:ext cx="3545640" cy="3434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</p:cxnSp>
        <p:sp>
          <p:nvSpPr>
            <p:cNvPr id="227" name="矩形 70"/>
            <p:cNvSpPr/>
            <p:nvPr/>
          </p:nvSpPr>
          <p:spPr>
            <a:xfrm>
              <a:off x="3827520" y="5872320"/>
              <a:ext cx="2160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Tahoma"/>
                </a:rPr>
                <a:t>Current Fram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28" name="Picture 11" descr=""/>
            <p:cNvPicPr/>
            <p:nvPr/>
          </p:nvPicPr>
          <p:blipFill>
            <a:blip r:embed="rId2"/>
            <a:stretch/>
          </p:blipFill>
          <p:spPr>
            <a:xfrm>
              <a:off x="2952360" y="4672080"/>
              <a:ext cx="17640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3" descr=""/>
            <p:cNvPicPr/>
            <p:nvPr/>
          </p:nvPicPr>
          <p:blipFill>
            <a:blip r:embed="rId3"/>
            <a:stretch/>
          </p:blipFill>
          <p:spPr>
            <a:xfrm>
              <a:off x="7798680" y="4786560"/>
              <a:ext cx="17640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9" descr=""/>
            <p:cNvPicPr/>
            <p:nvPr/>
          </p:nvPicPr>
          <p:blipFill>
            <a:blip r:embed="rId4"/>
            <a:stretch/>
          </p:blipFill>
          <p:spPr>
            <a:xfrm>
              <a:off x="1842840" y="4157640"/>
              <a:ext cx="17640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21" descr=""/>
            <p:cNvPicPr/>
            <p:nvPr/>
          </p:nvPicPr>
          <p:blipFill>
            <a:blip r:embed="rId5"/>
            <a:stretch/>
          </p:blipFill>
          <p:spPr>
            <a:xfrm>
              <a:off x="5696640" y="3871800"/>
              <a:ext cx="17640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"/>
            <p:cNvPicPr/>
            <p:nvPr/>
          </p:nvPicPr>
          <p:blipFill>
            <a:blip r:embed="rId6"/>
            <a:stretch/>
          </p:blipFill>
          <p:spPr>
            <a:xfrm>
              <a:off x="4003200" y="4729320"/>
              <a:ext cx="1868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1" descr=""/>
            <p:cNvPicPr/>
            <p:nvPr/>
          </p:nvPicPr>
          <p:blipFill>
            <a:blip r:embed="rId7"/>
            <a:stretch/>
          </p:blipFill>
          <p:spPr>
            <a:xfrm>
              <a:off x="3010680" y="4100400"/>
              <a:ext cx="174960" cy="16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矩形 98"/>
            <p:cNvSpPr/>
            <p:nvPr/>
          </p:nvSpPr>
          <p:spPr>
            <a:xfrm>
              <a:off x="4587840" y="4214880"/>
              <a:ext cx="582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" name="群組 62"/>
            <p:cNvGrpSpPr/>
            <p:nvPr/>
          </p:nvGrpSpPr>
          <p:grpSpPr>
            <a:xfrm>
              <a:off x="1142280" y="4386240"/>
              <a:ext cx="69840" cy="114120"/>
              <a:chOff x="1142280" y="4386240"/>
              <a:chExt cx="69840" cy="114120"/>
            </a:xfrm>
          </p:grpSpPr>
          <p:sp>
            <p:nvSpPr>
              <p:cNvPr id="236" name="直線接點 121"/>
              <p:cNvSpPr/>
              <p:nvPr/>
            </p:nvSpPr>
            <p:spPr>
              <a:xfrm>
                <a:off x="1157040" y="4406040"/>
                <a:ext cx="39960" cy="8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237" name="直線接點 12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2280" y="4386240"/>
                <a:ext cx="69840" cy="11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" name="群組 66"/>
            <p:cNvGrpSpPr/>
            <p:nvPr/>
          </p:nvGrpSpPr>
          <p:grpSpPr>
            <a:xfrm>
              <a:off x="2298240" y="4157640"/>
              <a:ext cx="69840" cy="114120"/>
              <a:chOff x="2298240" y="4157640"/>
              <a:chExt cx="69840" cy="114120"/>
            </a:xfrm>
          </p:grpSpPr>
          <p:sp>
            <p:nvSpPr>
              <p:cNvPr id="239" name="直線接點 119"/>
              <p:cNvSpPr/>
              <p:nvPr/>
            </p:nvSpPr>
            <p:spPr>
              <a:xfrm>
                <a:off x="2315160" y="4175280"/>
                <a:ext cx="39960" cy="8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240" name="直線接點 120" descr=""/>
              <p:cNvPicPr/>
              <p:nvPr/>
            </p:nvPicPr>
            <p:blipFill>
              <a:blip r:embed="rId9"/>
              <a:stretch/>
            </p:blipFill>
            <p:spPr>
              <a:xfrm>
                <a:off x="2298240" y="4157640"/>
                <a:ext cx="69840" cy="11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1" name="Picture 1" descr=""/>
            <p:cNvPicPr/>
            <p:nvPr/>
          </p:nvPicPr>
          <p:blipFill>
            <a:blip r:embed="rId10"/>
            <a:stretch/>
          </p:blipFill>
          <p:spPr>
            <a:xfrm>
              <a:off x="2251440" y="3929040"/>
              <a:ext cx="537120" cy="2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3" descr=""/>
            <p:cNvPicPr/>
            <p:nvPr/>
          </p:nvPicPr>
          <p:blipFill>
            <a:blip r:embed="rId11"/>
            <a:stretch/>
          </p:blipFill>
          <p:spPr>
            <a:xfrm>
              <a:off x="2193120" y="4672080"/>
              <a:ext cx="544680" cy="23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3" name="群組 74"/>
            <p:cNvGrpSpPr/>
            <p:nvPr/>
          </p:nvGrpSpPr>
          <p:grpSpPr>
            <a:xfrm>
              <a:off x="2251440" y="4614840"/>
              <a:ext cx="69840" cy="114120"/>
              <a:chOff x="2251440" y="4614840"/>
              <a:chExt cx="69840" cy="114120"/>
            </a:xfrm>
          </p:grpSpPr>
          <p:sp>
            <p:nvSpPr>
              <p:cNvPr id="244" name="直線接點 117"/>
              <p:cNvSpPr/>
              <p:nvPr/>
            </p:nvSpPr>
            <p:spPr>
              <a:xfrm>
                <a:off x="2266200" y="4632480"/>
                <a:ext cx="41040" cy="8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245" name="直線接點 1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51440" y="4614840"/>
                <a:ext cx="69840" cy="11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6" name="Picture 5" descr=""/>
            <p:cNvPicPr/>
            <p:nvPr/>
          </p:nvPicPr>
          <p:blipFill>
            <a:blip r:embed="rId13"/>
            <a:stretch/>
          </p:blipFill>
          <p:spPr>
            <a:xfrm>
              <a:off x="3419280" y="4900680"/>
              <a:ext cx="544680" cy="23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" name="群組 79"/>
            <p:cNvGrpSpPr/>
            <p:nvPr/>
          </p:nvGrpSpPr>
          <p:grpSpPr>
            <a:xfrm>
              <a:off x="3711240" y="4729320"/>
              <a:ext cx="69840" cy="114120"/>
              <a:chOff x="3711240" y="4729320"/>
              <a:chExt cx="69840" cy="114120"/>
            </a:xfrm>
          </p:grpSpPr>
          <p:sp>
            <p:nvSpPr>
              <p:cNvPr id="248" name="直線接點 115"/>
              <p:cNvSpPr/>
              <p:nvPr/>
            </p:nvSpPr>
            <p:spPr>
              <a:xfrm>
                <a:off x="3727440" y="4745880"/>
                <a:ext cx="39960" cy="8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249" name="直線接點 1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3711240" y="4729320"/>
                <a:ext cx="69840" cy="11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0" name="Picture 7" descr=""/>
            <p:cNvPicPr/>
            <p:nvPr/>
          </p:nvPicPr>
          <p:blipFill>
            <a:blip r:embed="rId15"/>
            <a:stretch/>
          </p:blipFill>
          <p:spPr>
            <a:xfrm>
              <a:off x="1025280" y="4100400"/>
              <a:ext cx="544680" cy="2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9" descr=""/>
            <p:cNvPicPr/>
            <p:nvPr/>
          </p:nvPicPr>
          <p:blipFill>
            <a:blip r:embed="rId16"/>
            <a:stretch/>
          </p:blipFill>
          <p:spPr>
            <a:xfrm>
              <a:off x="5813280" y="4157640"/>
              <a:ext cx="544680" cy="24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群組 86"/>
            <p:cNvGrpSpPr/>
            <p:nvPr/>
          </p:nvGrpSpPr>
          <p:grpSpPr>
            <a:xfrm>
              <a:off x="5988600" y="4043520"/>
              <a:ext cx="69840" cy="114120"/>
              <a:chOff x="5988600" y="4043520"/>
              <a:chExt cx="69840" cy="114120"/>
            </a:xfrm>
          </p:grpSpPr>
          <p:sp>
            <p:nvSpPr>
              <p:cNvPr id="253" name="直線接點 113"/>
              <p:cNvSpPr/>
              <p:nvPr/>
            </p:nvSpPr>
            <p:spPr>
              <a:xfrm>
                <a:off x="6002640" y="4062240"/>
                <a:ext cx="39960" cy="8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254" name="直線接點 114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88600" y="4043520"/>
                <a:ext cx="69840" cy="11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5" name="Picture 11" descr=""/>
            <p:cNvPicPr/>
            <p:nvPr/>
          </p:nvPicPr>
          <p:blipFill>
            <a:blip r:embed="rId18"/>
            <a:stretch/>
          </p:blipFill>
          <p:spPr>
            <a:xfrm>
              <a:off x="8148960" y="4957920"/>
              <a:ext cx="544680" cy="24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群組 91"/>
            <p:cNvGrpSpPr/>
            <p:nvPr/>
          </p:nvGrpSpPr>
          <p:grpSpPr>
            <a:xfrm>
              <a:off x="8499240" y="4786560"/>
              <a:ext cx="69840" cy="114120"/>
              <a:chOff x="8499240" y="4786560"/>
              <a:chExt cx="69840" cy="114120"/>
            </a:xfrm>
          </p:grpSpPr>
          <p:sp>
            <p:nvSpPr>
              <p:cNvPr id="257" name="直線接點 111"/>
              <p:cNvSpPr/>
              <p:nvPr/>
            </p:nvSpPr>
            <p:spPr>
              <a:xfrm>
                <a:off x="8516880" y="4804560"/>
                <a:ext cx="39960" cy="8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258" name="直線接點 112" descr=""/>
              <p:cNvPicPr/>
              <p:nvPr/>
            </p:nvPicPr>
            <p:blipFill>
              <a:blip r:embed="rId19"/>
              <a:stretch/>
            </p:blipFill>
            <p:spPr>
              <a:xfrm>
                <a:off x="8499240" y="4786560"/>
                <a:ext cx="69840" cy="114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13T08:52:02Z</dcterms:modified>
  <cp:revision>1858</cp:revision>
  <dc:subject/>
  <dc:title>PowerPoint Presentation</dc:title>
</cp:coreProperties>
</file>