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133F-2D73-4B32-9DF5-ED905A1064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241-3FB4-4DBF-A949-90C45C4695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0931-89BE-4F82-A7F0-C672E3662D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D8B-B2B4-4386-B2A9-21440FB4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FF7-2D2F-49CD-84EF-09D40AA4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3B4-D29E-4E57-9608-4D38D778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6BD-9165-45FA-B380-7AEB5918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4B5-4114-4660-8096-16F115A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AA1-383B-4248-B412-1C09E05F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061-DB3D-4EA3-B652-286FA13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34C-EA63-4770-B037-C210DE2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9BA-B121-4C59-9D74-2515FE2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EAC-D8AD-4E0C-9B9C-ECCD5FA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41C-A66A-435B-BA3E-7328192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9E6-744B-4250-9F52-0AB45D3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F82-355E-426F-8798-5D97A37F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24880" cy="49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8" descr=""/>
          <p:cNvPicPr/>
          <p:nvPr/>
        </p:nvPicPr>
        <p:blipFill>
          <a:blip r:embed="rId3"/>
          <a:stretch/>
        </p:blipFill>
        <p:spPr>
          <a:xfrm>
            <a:off x="0" y="31680"/>
            <a:ext cx="136836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78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 coding technology proposa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MPEG-HVC/ITU-T EPV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.Ichigaya, K.Iguchi, Y.Shish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.Sekiguchi, K.Sugimoto, A.Minez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360" y="6206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A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CD2-5557-4BA8-9AE2-8B8BBF41B1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182600"/>
            <a:ext cx="820728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lock-size 2D transform for luma inter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mple d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ing on motion parti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mode dependent transform for luma intra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4x4, intra8x8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x4, 8x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16x1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6x16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4319640" cy="3411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35640" y="3284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Efficient signal power concentration depending on residual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8AA-56F8-434E-A778-FD75F62A5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tra16x16 prediction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planer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adjustment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ing DC/Planer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e AVC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a intra4x4, intra8x8, intra16x16(horizontal, vertical mod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to AVC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x16 DCT for intra16x16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8x8 coding to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8F0-C245-415D-A3D1-E3D33260A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planer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pixel values of neighboring samples and current block samples fit on a plan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rface is calculated from neighboring samples using the LM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area with gradation 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95640" y="4076640"/>
            <a:ext cx="5472000" cy="2637000"/>
            <a:chOff x="2195640" y="4076640"/>
            <a:chExt cx="5472000" cy="26370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195640" y="4199040"/>
              <a:ext cx="54720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flipV="1">
              <a:off x="3132360" y="436392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14160" y="407664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"/>
                </a:rPr>
                <a:t>Value of pix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4C7-3584-4766-AF2A-7F303B29C3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djustment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pixel values of current block to be natural extension of neighboring area in an iterative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 initial values for curren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duce discontinuity between block and neighbo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ep the neighboring sample values as originally   construct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area with global ac fluc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7080" y="67532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49400" y="4542120"/>
            <a:ext cx="7441560" cy="1986120"/>
            <a:chOff x="1049400" y="4542120"/>
            <a:chExt cx="7441560" cy="1986120"/>
          </a:xfrm>
        </p:grpSpPr>
        <p:sp>
          <p:nvSpPr>
            <p:cNvPr id="104" name=""/>
            <p:cNvSpPr/>
            <p:nvPr/>
          </p:nvSpPr>
          <p:spPr>
            <a:xfrm>
              <a:off x="1157400" y="4795920"/>
              <a:ext cx="1233360" cy="123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7400" y="4795920"/>
              <a:ext cx="1233360" cy="1236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54200" y="5367600"/>
              <a:ext cx="725400" cy="653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54200" y="5367600"/>
              <a:ext cx="725400" cy="65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5720" y="553248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rr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47880" y="57070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1200" y="4795920"/>
              <a:ext cx="123192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81200" y="4795920"/>
              <a:ext cx="1231920" cy="12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92240" y="5935680"/>
              <a:ext cx="73080" cy="154080"/>
            </a:xfrm>
            <a:custGeom>
              <a:avLst/>
              <a:gdLst/>
              <a:ahLst/>
              <a:rect l="l" t="t" r="r" b="b"/>
              <a:pathLst>
                <a:path w="93" h="192">
                  <a:moveTo>
                    <a:pt x="39" y="185"/>
                  </a:moveTo>
                  <a:lnTo>
                    <a:pt x="39" y="77"/>
                  </a:lnTo>
                  <a:lnTo>
                    <a:pt x="40" y="73"/>
                  </a:lnTo>
                  <a:lnTo>
                    <a:pt x="41" y="72"/>
                  </a:lnTo>
                  <a:lnTo>
                    <a:pt x="44" y="69"/>
                  </a:lnTo>
                  <a:lnTo>
                    <a:pt x="47" y="69"/>
                  </a:lnTo>
                  <a:lnTo>
                    <a:pt x="49" y="69"/>
                  </a:lnTo>
                  <a:lnTo>
                    <a:pt x="52" y="72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4" y="185"/>
                  </a:lnTo>
                  <a:lnTo>
                    <a:pt x="54" y="189"/>
                  </a:lnTo>
                  <a:lnTo>
                    <a:pt x="52" y="191"/>
                  </a:lnTo>
                  <a:lnTo>
                    <a:pt x="49" y="192"/>
                  </a:lnTo>
                  <a:lnTo>
                    <a:pt x="47" y="192"/>
                  </a:lnTo>
                  <a:lnTo>
                    <a:pt x="44" y="192"/>
                  </a:lnTo>
                  <a:lnTo>
                    <a:pt x="41" y="191"/>
                  </a:lnTo>
                  <a:lnTo>
                    <a:pt x="40" y="189"/>
                  </a:lnTo>
                  <a:lnTo>
                    <a:pt x="39" y="185"/>
                  </a:lnTo>
                  <a:lnTo>
                    <a:pt x="39" y="185"/>
                  </a:lnTo>
                  <a:close/>
                  <a:moveTo>
                    <a:pt x="0" y="92"/>
                  </a:moveTo>
                  <a:lnTo>
                    <a:pt x="47" y="0"/>
                  </a:lnTo>
                  <a:lnTo>
                    <a:pt x="93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5400" y="608976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t an initial val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43080" y="4824360"/>
              <a:ext cx="86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41280" y="499932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ighbor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44160" y="51739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3640" y="565308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84520" y="5888160"/>
              <a:ext cx="71640" cy="297000"/>
            </a:xfrm>
            <a:custGeom>
              <a:avLst/>
              <a:gdLst/>
              <a:ahLst/>
              <a:rect l="l" t="t" r="r" b="b"/>
              <a:pathLst>
                <a:path w="91" h="374">
                  <a:moveTo>
                    <a:pt x="38" y="367"/>
                  </a:moveTo>
                  <a:lnTo>
                    <a:pt x="38" y="76"/>
                  </a:lnTo>
                  <a:lnTo>
                    <a:pt x="38" y="73"/>
                  </a:lnTo>
                  <a:lnTo>
                    <a:pt x="39" y="71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48" y="70"/>
                  </a:lnTo>
                  <a:lnTo>
                    <a:pt x="51" y="71"/>
                  </a:lnTo>
                  <a:lnTo>
                    <a:pt x="52" y="73"/>
                  </a:lnTo>
                  <a:lnTo>
                    <a:pt x="52" y="76"/>
                  </a:lnTo>
                  <a:lnTo>
                    <a:pt x="52" y="367"/>
                  </a:lnTo>
                  <a:lnTo>
                    <a:pt x="52" y="369"/>
                  </a:lnTo>
                  <a:lnTo>
                    <a:pt x="51" y="372"/>
                  </a:lnTo>
                  <a:lnTo>
                    <a:pt x="48" y="373"/>
                  </a:lnTo>
                  <a:lnTo>
                    <a:pt x="46" y="374"/>
                  </a:lnTo>
                  <a:lnTo>
                    <a:pt x="42" y="373"/>
                  </a:lnTo>
                  <a:lnTo>
                    <a:pt x="39" y="372"/>
                  </a:lnTo>
                  <a:lnTo>
                    <a:pt x="38" y="369"/>
                  </a:lnTo>
                  <a:lnTo>
                    <a:pt x="38" y="367"/>
                  </a:lnTo>
                  <a:lnTo>
                    <a:pt x="38" y="36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59320" y="6237360"/>
              <a:ext cx="141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lace with z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5160" y="572292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67240" y="4799160"/>
              <a:ext cx="1233360" cy="1236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67240" y="4799160"/>
              <a:ext cx="1233360" cy="12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6440" y="6229440"/>
              <a:ext cx="119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 with origin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3560" y="6375600"/>
              <a:ext cx="18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tructed neighboring samp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6920" y="5415120"/>
              <a:ext cx="828360" cy="217440"/>
            </a:xfrm>
            <a:custGeom>
              <a:avLst/>
              <a:gdLst/>
              <a:ahLst/>
              <a:rect l="l" t="t" r="r" b="b"/>
              <a:pathLst>
                <a:path w="1044" h="275">
                  <a:moveTo>
                    <a:pt x="0" y="92"/>
                  </a:moveTo>
                  <a:lnTo>
                    <a:pt x="815" y="92"/>
                  </a:lnTo>
                  <a:lnTo>
                    <a:pt x="815" y="183"/>
                  </a:lnTo>
                  <a:lnTo>
                    <a:pt x="0" y="183"/>
                  </a:lnTo>
                  <a:lnTo>
                    <a:pt x="0" y="92"/>
                  </a:lnTo>
                  <a:close/>
                  <a:moveTo>
                    <a:pt x="769" y="0"/>
                  </a:moveTo>
                  <a:lnTo>
                    <a:pt x="1044" y="137"/>
                  </a:lnTo>
                  <a:lnTo>
                    <a:pt x="769" y="275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9520" y="5415120"/>
              <a:ext cx="363600" cy="217440"/>
            </a:xfrm>
            <a:custGeom>
              <a:avLst/>
              <a:gdLst/>
              <a:ahLst/>
              <a:rect l="l" t="t" r="r" b="b"/>
              <a:pathLst>
                <a:path w="457" h="275">
                  <a:moveTo>
                    <a:pt x="0" y="92"/>
                  </a:moveTo>
                  <a:lnTo>
                    <a:pt x="228" y="92"/>
                  </a:lnTo>
                  <a:lnTo>
                    <a:pt x="228" y="183"/>
                  </a:lnTo>
                  <a:lnTo>
                    <a:pt x="0" y="183"/>
                  </a:lnTo>
                  <a:lnTo>
                    <a:pt x="0" y="92"/>
                  </a:lnTo>
                  <a:close/>
                  <a:moveTo>
                    <a:pt x="182" y="0"/>
                  </a:moveTo>
                  <a:lnTo>
                    <a:pt x="457" y="137"/>
                  </a:lnTo>
                  <a:lnTo>
                    <a:pt x="182" y="275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4542120"/>
              <a:ext cx="4283280" cy="1019160"/>
            </a:xfrm>
            <a:custGeom>
              <a:avLst/>
              <a:gdLst/>
              <a:ahLst/>
              <a:rect l="l" t="t" r="r" b="b"/>
              <a:pathLst>
                <a:path w="5395" h="1283">
                  <a:moveTo>
                    <a:pt x="5075" y="1192"/>
                  </a:moveTo>
                  <a:lnTo>
                    <a:pt x="5348" y="1192"/>
                  </a:lnTo>
                  <a:lnTo>
                    <a:pt x="5303" y="1237"/>
                  </a:lnTo>
                  <a:lnTo>
                    <a:pt x="5303" y="47"/>
                  </a:lnTo>
                  <a:lnTo>
                    <a:pt x="5348" y="92"/>
                  </a:lnTo>
                  <a:lnTo>
                    <a:pt x="137" y="92"/>
                  </a:lnTo>
                  <a:lnTo>
                    <a:pt x="182" y="47"/>
                  </a:lnTo>
                  <a:lnTo>
                    <a:pt x="182" y="917"/>
                  </a:lnTo>
                  <a:lnTo>
                    <a:pt x="91" y="917"/>
                  </a:lnTo>
                  <a:lnTo>
                    <a:pt x="91" y="47"/>
                  </a:lnTo>
                  <a:lnTo>
                    <a:pt x="91" y="42"/>
                  </a:lnTo>
                  <a:lnTo>
                    <a:pt x="92" y="36"/>
                  </a:lnTo>
                  <a:lnTo>
                    <a:pt x="93" y="33"/>
                  </a:lnTo>
                  <a:lnTo>
                    <a:pt x="95" y="29"/>
                  </a:lnTo>
                  <a:lnTo>
                    <a:pt x="96" y="25"/>
                  </a:lnTo>
                  <a:lnTo>
                    <a:pt x="99" y="21"/>
                  </a:lnTo>
                  <a:lnTo>
                    <a:pt x="101" y="17"/>
                  </a:lnTo>
                  <a:lnTo>
                    <a:pt x="104" y="13"/>
                  </a:lnTo>
                  <a:lnTo>
                    <a:pt x="108" y="11"/>
                  </a:lnTo>
                  <a:lnTo>
                    <a:pt x="111" y="8"/>
                  </a:lnTo>
                  <a:lnTo>
                    <a:pt x="115" y="6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5348" y="0"/>
                  </a:lnTo>
                  <a:lnTo>
                    <a:pt x="5354" y="0"/>
                  </a:lnTo>
                  <a:lnTo>
                    <a:pt x="5357" y="2"/>
                  </a:lnTo>
                  <a:lnTo>
                    <a:pt x="5363" y="2"/>
                  </a:lnTo>
                  <a:lnTo>
                    <a:pt x="5366" y="4"/>
                  </a:lnTo>
                  <a:lnTo>
                    <a:pt x="5370" y="6"/>
                  </a:lnTo>
                  <a:lnTo>
                    <a:pt x="5374" y="8"/>
                  </a:lnTo>
                  <a:lnTo>
                    <a:pt x="5378" y="11"/>
                  </a:lnTo>
                  <a:lnTo>
                    <a:pt x="5380" y="13"/>
                  </a:lnTo>
                  <a:lnTo>
                    <a:pt x="5384" y="17"/>
                  </a:lnTo>
                  <a:lnTo>
                    <a:pt x="5387" y="21"/>
                  </a:lnTo>
                  <a:lnTo>
                    <a:pt x="5389" y="25"/>
                  </a:lnTo>
                  <a:lnTo>
                    <a:pt x="5391" y="29"/>
                  </a:lnTo>
                  <a:lnTo>
                    <a:pt x="5392" y="33"/>
                  </a:lnTo>
                  <a:lnTo>
                    <a:pt x="5393" y="36"/>
                  </a:lnTo>
                  <a:lnTo>
                    <a:pt x="5395" y="42"/>
                  </a:lnTo>
                  <a:lnTo>
                    <a:pt x="5395" y="47"/>
                  </a:lnTo>
                  <a:lnTo>
                    <a:pt x="5395" y="1237"/>
                  </a:lnTo>
                  <a:lnTo>
                    <a:pt x="5395" y="1242"/>
                  </a:lnTo>
                  <a:lnTo>
                    <a:pt x="5393" y="1248"/>
                  </a:lnTo>
                  <a:lnTo>
                    <a:pt x="5392" y="1251"/>
                  </a:lnTo>
                  <a:lnTo>
                    <a:pt x="5391" y="1255"/>
                  </a:lnTo>
                  <a:lnTo>
                    <a:pt x="5389" y="1259"/>
                  </a:lnTo>
                  <a:lnTo>
                    <a:pt x="5387" y="1263"/>
                  </a:lnTo>
                  <a:lnTo>
                    <a:pt x="5384" y="1267"/>
                  </a:lnTo>
                  <a:lnTo>
                    <a:pt x="5380" y="1271"/>
                  </a:lnTo>
                  <a:lnTo>
                    <a:pt x="5378" y="1273"/>
                  </a:lnTo>
                  <a:lnTo>
                    <a:pt x="5374" y="1276"/>
                  </a:lnTo>
                  <a:lnTo>
                    <a:pt x="5370" y="1278"/>
                  </a:lnTo>
                  <a:lnTo>
                    <a:pt x="5366" y="1280"/>
                  </a:lnTo>
                  <a:lnTo>
                    <a:pt x="5363" y="1281"/>
                  </a:lnTo>
                  <a:lnTo>
                    <a:pt x="5357" y="1282"/>
                  </a:lnTo>
                  <a:lnTo>
                    <a:pt x="5354" y="1283"/>
                  </a:lnTo>
                  <a:lnTo>
                    <a:pt x="5348" y="1283"/>
                  </a:lnTo>
                  <a:lnTo>
                    <a:pt x="5075" y="1283"/>
                  </a:lnTo>
                  <a:lnTo>
                    <a:pt x="5075" y="1192"/>
                  </a:lnTo>
                  <a:close/>
                  <a:moveTo>
                    <a:pt x="273" y="871"/>
                  </a:moveTo>
                  <a:lnTo>
                    <a:pt x="137" y="1146"/>
                  </a:lnTo>
                  <a:lnTo>
                    <a:pt x="0" y="871"/>
                  </a:lnTo>
                  <a:lnTo>
                    <a:pt x="273" y="8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6760" y="5416560"/>
              <a:ext cx="798480" cy="219240"/>
            </a:xfrm>
            <a:custGeom>
              <a:avLst/>
              <a:gdLst/>
              <a:ahLst/>
              <a:rect l="l" t="t" r="r" b="b"/>
              <a:pathLst>
                <a:path w="1005" h="275">
                  <a:moveTo>
                    <a:pt x="0" y="92"/>
                  </a:moveTo>
                  <a:lnTo>
                    <a:pt x="777" y="92"/>
                  </a:lnTo>
                  <a:lnTo>
                    <a:pt x="777" y="183"/>
                  </a:lnTo>
                  <a:lnTo>
                    <a:pt x="0" y="183"/>
                  </a:lnTo>
                  <a:lnTo>
                    <a:pt x="0" y="92"/>
                  </a:lnTo>
                  <a:close/>
                  <a:moveTo>
                    <a:pt x="730" y="0"/>
                  </a:moveTo>
                  <a:lnTo>
                    <a:pt x="1005" y="138"/>
                  </a:lnTo>
                  <a:lnTo>
                    <a:pt x="730" y="275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1200" y="4799160"/>
              <a:ext cx="941400" cy="944640"/>
            </a:xfrm>
            <a:custGeom>
              <a:avLst/>
              <a:gdLst/>
              <a:ahLst/>
              <a:rect l="l" t="t" r="r" b="b"/>
              <a:pathLst>
                <a:path w="1188" h="1192">
                  <a:moveTo>
                    <a:pt x="91" y="0"/>
                  </a:moveTo>
                  <a:lnTo>
                    <a:pt x="1188" y="0"/>
                  </a:lnTo>
                  <a:lnTo>
                    <a:pt x="0" y="1192"/>
                  </a:lnTo>
                  <a:lnTo>
                    <a:pt x="0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1200" y="4799160"/>
              <a:ext cx="941400" cy="944640"/>
            </a:xfrm>
            <a:custGeom>
              <a:avLst/>
              <a:gdLst/>
              <a:ahLst/>
              <a:rect l="l" t="t" r="r" b="b"/>
              <a:pathLst>
                <a:path w="1188" h="1192">
                  <a:moveTo>
                    <a:pt x="91" y="0"/>
                  </a:moveTo>
                  <a:lnTo>
                    <a:pt x="1188" y="0"/>
                  </a:lnTo>
                  <a:lnTo>
                    <a:pt x="0" y="119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1200" y="4689720"/>
              <a:ext cx="941400" cy="71280"/>
            </a:xfrm>
            <a:custGeom>
              <a:avLst/>
              <a:gdLst/>
              <a:ahLst/>
              <a:rect l="l" t="t" r="r" b="b"/>
              <a:pathLst>
                <a:path w="1188" h="91">
                  <a:moveTo>
                    <a:pt x="76" y="38"/>
                  </a:moveTo>
                  <a:lnTo>
                    <a:pt x="1112" y="38"/>
                  </a:lnTo>
                  <a:lnTo>
                    <a:pt x="1116" y="38"/>
                  </a:lnTo>
                  <a:lnTo>
                    <a:pt x="1117" y="39"/>
                  </a:lnTo>
                  <a:lnTo>
                    <a:pt x="1120" y="42"/>
                  </a:lnTo>
                  <a:lnTo>
                    <a:pt x="1120" y="46"/>
                  </a:lnTo>
                  <a:lnTo>
                    <a:pt x="1120" y="48"/>
                  </a:lnTo>
                  <a:lnTo>
                    <a:pt x="1117" y="51"/>
                  </a:lnTo>
                  <a:lnTo>
                    <a:pt x="1116" y="52"/>
                  </a:lnTo>
                  <a:lnTo>
                    <a:pt x="1112" y="54"/>
                  </a:lnTo>
                  <a:lnTo>
                    <a:pt x="76" y="54"/>
                  </a:lnTo>
                  <a:lnTo>
                    <a:pt x="73" y="52"/>
                  </a:lnTo>
                  <a:lnTo>
                    <a:pt x="71" y="51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8" y="42"/>
                  </a:lnTo>
                  <a:lnTo>
                    <a:pt x="71" y="39"/>
                  </a:lnTo>
                  <a:lnTo>
                    <a:pt x="73" y="38"/>
                  </a:lnTo>
                  <a:lnTo>
                    <a:pt x="76" y="38"/>
                  </a:lnTo>
                  <a:lnTo>
                    <a:pt x="76" y="38"/>
                  </a:lnTo>
                  <a:close/>
                  <a:moveTo>
                    <a:pt x="91" y="91"/>
                  </a:moveTo>
                  <a:lnTo>
                    <a:pt x="0" y="46"/>
                  </a:lnTo>
                  <a:lnTo>
                    <a:pt x="91" y="0"/>
                  </a:lnTo>
                  <a:lnTo>
                    <a:pt x="91" y="91"/>
                  </a:lnTo>
                  <a:close/>
                  <a:moveTo>
                    <a:pt x="1096" y="0"/>
                  </a:moveTo>
                  <a:lnTo>
                    <a:pt x="1188" y="46"/>
                  </a:lnTo>
                  <a:lnTo>
                    <a:pt x="1096" y="91"/>
                  </a:lnTo>
                  <a:lnTo>
                    <a:pt x="109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1760" y="4799160"/>
              <a:ext cx="71640" cy="944640"/>
            </a:xfrm>
            <a:custGeom>
              <a:avLst/>
              <a:gdLst/>
              <a:ahLst/>
              <a:rect l="l" t="t" r="r" b="b"/>
              <a:pathLst>
                <a:path w="91" h="1192">
                  <a:moveTo>
                    <a:pt x="52" y="76"/>
                  </a:moveTo>
                  <a:lnTo>
                    <a:pt x="52" y="1115"/>
                  </a:lnTo>
                  <a:lnTo>
                    <a:pt x="52" y="1119"/>
                  </a:lnTo>
                  <a:lnTo>
                    <a:pt x="51" y="1120"/>
                  </a:lnTo>
                  <a:lnTo>
                    <a:pt x="48" y="1122"/>
                  </a:lnTo>
                  <a:lnTo>
                    <a:pt x="45" y="1122"/>
                  </a:lnTo>
                  <a:lnTo>
                    <a:pt x="42" y="1122"/>
                  </a:lnTo>
                  <a:lnTo>
                    <a:pt x="39" y="1120"/>
                  </a:lnTo>
                  <a:lnTo>
                    <a:pt x="38" y="1119"/>
                  </a:lnTo>
                  <a:lnTo>
                    <a:pt x="37" y="1115"/>
                  </a:lnTo>
                  <a:lnTo>
                    <a:pt x="37" y="76"/>
                  </a:lnTo>
                  <a:lnTo>
                    <a:pt x="38" y="73"/>
                  </a:lnTo>
                  <a:lnTo>
                    <a:pt x="39" y="71"/>
                  </a:lnTo>
                  <a:lnTo>
                    <a:pt x="42" y="70"/>
                  </a:lnTo>
                  <a:lnTo>
                    <a:pt x="45" y="68"/>
                  </a:lnTo>
                  <a:lnTo>
                    <a:pt x="48" y="70"/>
                  </a:lnTo>
                  <a:lnTo>
                    <a:pt x="51" y="71"/>
                  </a:lnTo>
                  <a:lnTo>
                    <a:pt x="52" y="73"/>
                  </a:lnTo>
                  <a:lnTo>
                    <a:pt x="52" y="76"/>
                  </a:lnTo>
                  <a:lnTo>
                    <a:pt x="52" y="76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  <a:moveTo>
                    <a:pt x="91" y="1099"/>
                  </a:moveTo>
                  <a:lnTo>
                    <a:pt x="45" y="1192"/>
                  </a:lnTo>
                  <a:lnTo>
                    <a:pt x="0" y="1099"/>
                  </a:lnTo>
                  <a:lnTo>
                    <a:pt x="91" y="109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7440" y="5216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12480" y="4633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7400" y="4689720"/>
              <a:ext cx="1233360" cy="71280"/>
            </a:xfrm>
            <a:custGeom>
              <a:avLst/>
              <a:gdLst/>
              <a:ahLst/>
              <a:rect l="l" t="t" r="r" b="b"/>
              <a:pathLst>
                <a:path w="1555" h="91">
                  <a:moveTo>
                    <a:pt x="77" y="38"/>
                  </a:moveTo>
                  <a:lnTo>
                    <a:pt x="1479" y="38"/>
                  </a:lnTo>
                  <a:lnTo>
                    <a:pt x="1481" y="38"/>
                  </a:lnTo>
                  <a:lnTo>
                    <a:pt x="1484" y="39"/>
                  </a:lnTo>
                  <a:lnTo>
                    <a:pt x="1485" y="42"/>
                  </a:lnTo>
                  <a:lnTo>
                    <a:pt x="1487" y="46"/>
                  </a:lnTo>
                  <a:lnTo>
                    <a:pt x="1485" y="48"/>
                  </a:lnTo>
                  <a:lnTo>
                    <a:pt x="1484" y="51"/>
                  </a:lnTo>
                  <a:lnTo>
                    <a:pt x="1481" y="52"/>
                  </a:lnTo>
                  <a:lnTo>
                    <a:pt x="1479" y="54"/>
                  </a:lnTo>
                  <a:lnTo>
                    <a:pt x="77" y="54"/>
                  </a:lnTo>
                  <a:lnTo>
                    <a:pt x="74" y="52"/>
                  </a:lnTo>
                  <a:lnTo>
                    <a:pt x="72" y="51"/>
                  </a:lnTo>
                  <a:lnTo>
                    <a:pt x="69" y="48"/>
                  </a:lnTo>
                  <a:lnTo>
                    <a:pt x="69" y="47"/>
                  </a:lnTo>
                  <a:lnTo>
                    <a:pt x="69" y="46"/>
                  </a:lnTo>
                  <a:lnTo>
                    <a:pt x="69" y="43"/>
                  </a:lnTo>
                  <a:lnTo>
                    <a:pt x="69" y="42"/>
                  </a:lnTo>
                  <a:lnTo>
                    <a:pt x="72" y="39"/>
                  </a:lnTo>
                  <a:lnTo>
                    <a:pt x="74" y="38"/>
                  </a:lnTo>
                  <a:lnTo>
                    <a:pt x="77" y="38"/>
                  </a:lnTo>
                  <a:lnTo>
                    <a:pt x="77" y="38"/>
                  </a:lnTo>
                  <a:close/>
                  <a:moveTo>
                    <a:pt x="92" y="91"/>
                  </a:moveTo>
                  <a:lnTo>
                    <a:pt x="0" y="46"/>
                  </a:lnTo>
                  <a:lnTo>
                    <a:pt x="92" y="0"/>
                  </a:lnTo>
                  <a:lnTo>
                    <a:pt x="92" y="91"/>
                  </a:lnTo>
                  <a:close/>
                  <a:moveTo>
                    <a:pt x="1463" y="0"/>
                  </a:moveTo>
                  <a:lnTo>
                    <a:pt x="1555" y="46"/>
                  </a:lnTo>
                  <a:lnTo>
                    <a:pt x="1463" y="91"/>
                  </a:lnTo>
                  <a:lnTo>
                    <a:pt x="146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08200" y="456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9400" y="4799160"/>
              <a:ext cx="71280" cy="1236600"/>
            </a:xfrm>
            <a:custGeom>
              <a:avLst/>
              <a:gdLst/>
              <a:ahLst/>
              <a:rect l="l" t="t" r="r" b="b"/>
              <a:pathLst>
                <a:path w="91" h="1558">
                  <a:moveTo>
                    <a:pt x="52" y="76"/>
                  </a:moveTo>
                  <a:lnTo>
                    <a:pt x="52" y="1481"/>
                  </a:lnTo>
                  <a:lnTo>
                    <a:pt x="52" y="1485"/>
                  </a:lnTo>
                  <a:lnTo>
                    <a:pt x="50" y="1488"/>
                  </a:lnTo>
                  <a:lnTo>
                    <a:pt x="48" y="1489"/>
                  </a:lnTo>
                  <a:lnTo>
                    <a:pt x="45" y="1489"/>
                  </a:lnTo>
                  <a:lnTo>
                    <a:pt x="42" y="1489"/>
                  </a:lnTo>
                  <a:lnTo>
                    <a:pt x="40" y="1488"/>
                  </a:lnTo>
                  <a:lnTo>
                    <a:pt x="38" y="1485"/>
                  </a:lnTo>
                  <a:lnTo>
                    <a:pt x="37" y="1481"/>
                  </a:lnTo>
                  <a:lnTo>
                    <a:pt x="37" y="76"/>
                  </a:lnTo>
                  <a:lnTo>
                    <a:pt x="38" y="73"/>
                  </a:lnTo>
                  <a:lnTo>
                    <a:pt x="40" y="71"/>
                  </a:lnTo>
                  <a:lnTo>
                    <a:pt x="42" y="70"/>
                  </a:lnTo>
                  <a:lnTo>
                    <a:pt x="45" y="68"/>
                  </a:lnTo>
                  <a:lnTo>
                    <a:pt x="48" y="70"/>
                  </a:lnTo>
                  <a:lnTo>
                    <a:pt x="50" y="71"/>
                  </a:lnTo>
                  <a:lnTo>
                    <a:pt x="52" y="73"/>
                  </a:lnTo>
                  <a:lnTo>
                    <a:pt x="52" y="76"/>
                  </a:lnTo>
                  <a:lnTo>
                    <a:pt x="52" y="76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  <a:moveTo>
                    <a:pt x="91" y="1466"/>
                  </a:moveTo>
                  <a:lnTo>
                    <a:pt x="45" y="1558"/>
                  </a:lnTo>
                  <a:lnTo>
                    <a:pt x="0" y="1466"/>
                  </a:lnTo>
                  <a:lnTo>
                    <a:pt x="91" y="146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7240" y="4799160"/>
              <a:ext cx="1233360" cy="123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7240" y="4799160"/>
              <a:ext cx="1233360" cy="123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75200" y="5380200"/>
              <a:ext cx="725400" cy="655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75200" y="5380200"/>
              <a:ext cx="72540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3280" y="5538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35760" y="565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75200" y="5489640"/>
              <a:ext cx="725400" cy="71640"/>
            </a:xfrm>
            <a:custGeom>
              <a:avLst/>
              <a:gdLst/>
              <a:ahLst/>
              <a:rect l="l" t="t" r="r" b="b"/>
              <a:pathLst>
                <a:path w="914" h="91">
                  <a:moveTo>
                    <a:pt x="76" y="38"/>
                  </a:moveTo>
                  <a:lnTo>
                    <a:pt x="839" y="38"/>
                  </a:lnTo>
                  <a:lnTo>
                    <a:pt x="841" y="38"/>
                  </a:lnTo>
                  <a:lnTo>
                    <a:pt x="844" y="41"/>
                  </a:lnTo>
                  <a:lnTo>
                    <a:pt x="845" y="42"/>
                  </a:lnTo>
                  <a:lnTo>
                    <a:pt x="846" y="46"/>
                  </a:lnTo>
                  <a:lnTo>
                    <a:pt x="845" y="48"/>
                  </a:lnTo>
                  <a:lnTo>
                    <a:pt x="844" y="51"/>
                  </a:lnTo>
                  <a:lnTo>
                    <a:pt x="841" y="52"/>
                  </a:lnTo>
                  <a:lnTo>
                    <a:pt x="839" y="54"/>
                  </a:lnTo>
                  <a:lnTo>
                    <a:pt x="76" y="54"/>
                  </a:lnTo>
                  <a:lnTo>
                    <a:pt x="73" y="52"/>
                  </a:lnTo>
                  <a:lnTo>
                    <a:pt x="71" y="51"/>
                  </a:lnTo>
                  <a:lnTo>
                    <a:pt x="70" y="48"/>
                  </a:lnTo>
                  <a:lnTo>
                    <a:pt x="68" y="46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3" y="38"/>
                  </a:lnTo>
                  <a:lnTo>
                    <a:pt x="76" y="38"/>
                  </a:lnTo>
                  <a:lnTo>
                    <a:pt x="76" y="38"/>
                  </a:lnTo>
                  <a:close/>
                  <a:moveTo>
                    <a:pt x="91" y="91"/>
                  </a:moveTo>
                  <a:lnTo>
                    <a:pt x="0" y="46"/>
                  </a:lnTo>
                  <a:lnTo>
                    <a:pt x="91" y="0"/>
                  </a:lnTo>
                  <a:lnTo>
                    <a:pt x="91" y="91"/>
                  </a:lnTo>
                  <a:close/>
                  <a:moveTo>
                    <a:pt x="823" y="0"/>
                  </a:moveTo>
                  <a:lnTo>
                    <a:pt x="914" y="46"/>
                  </a:lnTo>
                  <a:lnTo>
                    <a:pt x="823" y="91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84640" y="5380200"/>
              <a:ext cx="71640" cy="655560"/>
            </a:xfrm>
            <a:custGeom>
              <a:avLst/>
              <a:gdLst/>
              <a:ahLst/>
              <a:rect l="l" t="t" r="r" b="b"/>
              <a:pathLst>
                <a:path w="91" h="825">
                  <a:moveTo>
                    <a:pt x="52" y="77"/>
                  </a:moveTo>
                  <a:lnTo>
                    <a:pt x="52" y="748"/>
                  </a:lnTo>
                  <a:lnTo>
                    <a:pt x="52" y="752"/>
                  </a:lnTo>
                  <a:lnTo>
                    <a:pt x="51" y="755"/>
                  </a:lnTo>
                  <a:lnTo>
                    <a:pt x="48" y="756"/>
                  </a:lnTo>
                  <a:lnTo>
                    <a:pt x="45" y="756"/>
                  </a:lnTo>
                  <a:lnTo>
                    <a:pt x="42" y="756"/>
                  </a:lnTo>
                  <a:lnTo>
                    <a:pt x="39" y="755"/>
                  </a:lnTo>
                  <a:lnTo>
                    <a:pt x="38" y="752"/>
                  </a:lnTo>
                  <a:lnTo>
                    <a:pt x="38" y="748"/>
                  </a:lnTo>
                  <a:lnTo>
                    <a:pt x="38" y="77"/>
                  </a:lnTo>
                  <a:lnTo>
                    <a:pt x="38" y="73"/>
                  </a:lnTo>
                  <a:lnTo>
                    <a:pt x="39" y="71"/>
                  </a:lnTo>
                  <a:lnTo>
                    <a:pt x="42" y="69"/>
                  </a:lnTo>
                  <a:lnTo>
                    <a:pt x="43" y="69"/>
                  </a:lnTo>
                  <a:lnTo>
                    <a:pt x="45" y="69"/>
                  </a:lnTo>
                  <a:lnTo>
                    <a:pt x="47" y="69"/>
                  </a:lnTo>
                  <a:lnTo>
                    <a:pt x="48" y="69"/>
                  </a:lnTo>
                  <a:lnTo>
                    <a:pt x="51" y="71"/>
                  </a:lnTo>
                  <a:lnTo>
                    <a:pt x="52" y="73"/>
                  </a:lnTo>
                  <a:lnTo>
                    <a:pt x="52" y="77"/>
                  </a:lnTo>
                  <a:lnTo>
                    <a:pt x="52" y="77"/>
                  </a:lnTo>
                  <a:close/>
                  <a:moveTo>
                    <a:pt x="0" y="91"/>
                  </a:moveTo>
                  <a:lnTo>
                    <a:pt x="45" y="0"/>
                  </a:lnTo>
                  <a:lnTo>
                    <a:pt x="91" y="91"/>
                  </a:lnTo>
                  <a:lnTo>
                    <a:pt x="0" y="91"/>
                  </a:lnTo>
                  <a:close/>
                  <a:moveTo>
                    <a:pt x="91" y="733"/>
                  </a:moveTo>
                  <a:lnTo>
                    <a:pt x="45" y="825"/>
                  </a:lnTo>
                  <a:lnTo>
                    <a:pt x="0" y="733"/>
                  </a:lnTo>
                  <a:lnTo>
                    <a:pt x="91" y="7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65760" y="5888160"/>
              <a:ext cx="73080" cy="297000"/>
            </a:xfrm>
            <a:custGeom>
              <a:avLst/>
              <a:gdLst/>
              <a:ahLst/>
              <a:rect l="l" t="t" r="r" b="b"/>
              <a:pathLst>
                <a:path w="91" h="374">
                  <a:moveTo>
                    <a:pt x="38" y="367"/>
                  </a:moveTo>
                  <a:lnTo>
                    <a:pt x="38" y="76"/>
                  </a:lnTo>
                  <a:lnTo>
                    <a:pt x="38" y="73"/>
                  </a:lnTo>
                  <a:lnTo>
                    <a:pt x="41" y="71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49" y="70"/>
                  </a:lnTo>
                  <a:lnTo>
                    <a:pt x="51" y="71"/>
                  </a:lnTo>
                  <a:lnTo>
                    <a:pt x="52" y="73"/>
                  </a:lnTo>
                  <a:lnTo>
                    <a:pt x="54" y="76"/>
                  </a:lnTo>
                  <a:lnTo>
                    <a:pt x="54" y="367"/>
                  </a:lnTo>
                  <a:lnTo>
                    <a:pt x="52" y="369"/>
                  </a:lnTo>
                  <a:lnTo>
                    <a:pt x="51" y="372"/>
                  </a:lnTo>
                  <a:lnTo>
                    <a:pt x="49" y="373"/>
                  </a:lnTo>
                  <a:lnTo>
                    <a:pt x="46" y="374"/>
                  </a:lnTo>
                  <a:lnTo>
                    <a:pt x="42" y="373"/>
                  </a:lnTo>
                  <a:lnTo>
                    <a:pt x="41" y="372"/>
                  </a:lnTo>
                  <a:lnTo>
                    <a:pt x="38" y="369"/>
                  </a:lnTo>
                  <a:lnTo>
                    <a:pt x="38" y="367"/>
                  </a:lnTo>
                  <a:lnTo>
                    <a:pt x="38" y="36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89240" y="630900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16880" y="5380200"/>
              <a:ext cx="726840" cy="655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16880" y="5380200"/>
              <a:ext cx="726840" cy="6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96400" y="5538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7080" y="565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6880" y="5489640"/>
              <a:ext cx="726840" cy="71640"/>
            </a:xfrm>
            <a:custGeom>
              <a:avLst/>
              <a:gdLst/>
              <a:ahLst/>
              <a:rect l="l" t="t" r="r" b="b"/>
              <a:pathLst>
                <a:path w="916" h="91">
                  <a:moveTo>
                    <a:pt x="77" y="38"/>
                  </a:moveTo>
                  <a:lnTo>
                    <a:pt x="839" y="38"/>
                  </a:lnTo>
                  <a:lnTo>
                    <a:pt x="843" y="38"/>
                  </a:lnTo>
                  <a:lnTo>
                    <a:pt x="844" y="41"/>
                  </a:lnTo>
                  <a:lnTo>
                    <a:pt x="846" y="42"/>
                  </a:lnTo>
                  <a:lnTo>
                    <a:pt x="846" y="46"/>
                  </a:lnTo>
                  <a:lnTo>
                    <a:pt x="846" y="48"/>
                  </a:lnTo>
                  <a:lnTo>
                    <a:pt x="844" y="51"/>
                  </a:lnTo>
                  <a:lnTo>
                    <a:pt x="843" y="52"/>
                  </a:lnTo>
                  <a:lnTo>
                    <a:pt x="839" y="54"/>
                  </a:lnTo>
                  <a:lnTo>
                    <a:pt x="77" y="54"/>
                  </a:lnTo>
                  <a:lnTo>
                    <a:pt x="74" y="52"/>
                  </a:lnTo>
                  <a:lnTo>
                    <a:pt x="72" y="51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70" y="46"/>
                  </a:lnTo>
                  <a:lnTo>
                    <a:pt x="70" y="45"/>
                  </a:lnTo>
                  <a:lnTo>
                    <a:pt x="70" y="42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7" y="38"/>
                  </a:lnTo>
                  <a:lnTo>
                    <a:pt x="77" y="38"/>
                  </a:lnTo>
                  <a:close/>
                  <a:moveTo>
                    <a:pt x="93" y="91"/>
                  </a:moveTo>
                  <a:lnTo>
                    <a:pt x="0" y="46"/>
                  </a:lnTo>
                  <a:lnTo>
                    <a:pt x="93" y="0"/>
                  </a:lnTo>
                  <a:lnTo>
                    <a:pt x="93" y="91"/>
                  </a:lnTo>
                  <a:close/>
                  <a:moveTo>
                    <a:pt x="823" y="0"/>
                  </a:moveTo>
                  <a:lnTo>
                    <a:pt x="916" y="46"/>
                  </a:lnTo>
                  <a:lnTo>
                    <a:pt x="823" y="91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26320" y="5380200"/>
              <a:ext cx="71280" cy="655560"/>
            </a:xfrm>
            <a:custGeom>
              <a:avLst/>
              <a:gdLst/>
              <a:ahLst/>
              <a:rect l="l" t="t" r="r" b="b"/>
              <a:pathLst>
                <a:path w="91" h="825">
                  <a:moveTo>
                    <a:pt x="54" y="77"/>
                  </a:moveTo>
                  <a:lnTo>
                    <a:pt x="54" y="749"/>
                  </a:lnTo>
                  <a:lnTo>
                    <a:pt x="52" y="752"/>
                  </a:lnTo>
                  <a:lnTo>
                    <a:pt x="51" y="755"/>
                  </a:lnTo>
                  <a:lnTo>
                    <a:pt x="49" y="756"/>
                  </a:lnTo>
                  <a:lnTo>
                    <a:pt x="46" y="756"/>
                  </a:lnTo>
                  <a:lnTo>
                    <a:pt x="42" y="756"/>
                  </a:lnTo>
                  <a:lnTo>
                    <a:pt x="41" y="755"/>
                  </a:lnTo>
                  <a:lnTo>
                    <a:pt x="38" y="752"/>
                  </a:lnTo>
                  <a:lnTo>
                    <a:pt x="38" y="749"/>
                  </a:lnTo>
                  <a:lnTo>
                    <a:pt x="38" y="77"/>
                  </a:lnTo>
                  <a:lnTo>
                    <a:pt x="38" y="73"/>
                  </a:lnTo>
                  <a:lnTo>
                    <a:pt x="41" y="71"/>
                  </a:lnTo>
                  <a:lnTo>
                    <a:pt x="42" y="69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7" y="69"/>
                  </a:lnTo>
                  <a:lnTo>
                    <a:pt x="49" y="69"/>
                  </a:lnTo>
                  <a:lnTo>
                    <a:pt x="51" y="71"/>
                  </a:lnTo>
                  <a:lnTo>
                    <a:pt x="52" y="73"/>
                  </a:lnTo>
                  <a:lnTo>
                    <a:pt x="54" y="77"/>
                  </a:lnTo>
                  <a:lnTo>
                    <a:pt x="54" y="77"/>
                  </a:lnTo>
                  <a:close/>
                  <a:moveTo>
                    <a:pt x="0" y="91"/>
                  </a:moveTo>
                  <a:lnTo>
                    <a:pt x="46" y="0"/>
                  </a:lnTo>
                  <a:lnTo>
                    <a:pt x="91" y="91"/>
                  </a:lnTo>
                  <a:lnTo>
                    <a:pt x="0" y="91"/>
                  </a:lnTo>
                  <a:close/>
                  <a:moveTo>
                    <a:pt x="91" y="733"/>
                  </a:moveTo>
                  <a:lnTo>
                    <a:pt x="46" y="825"/>
                  </a:lnTo>
                  <a:lnTo>
                    <a:pt x="0" y="733"/>
                  </a:lnTo>
                  <a:lnTo>
                    <a:pt x="91" y="7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11320" y="616428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diction b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0E2-3FE2-4BEB-BDFE-AD7405559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DCT/DST Transform for ch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hroma is transformed by DCT or DST adaptiv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ST is suitable for compression of low correlation sign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complexity is as same as D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8x8 Integer DST is defined a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56000" y="4124160"/>
                <a:ext cx="4248000" cy="22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088-DEEA-41B4-B057-076E53BB66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zation/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ceptually identical to A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6x16 DCT does not use decomposition into “core” + “scale” matrices, and zig-zag scanning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caling process is not modified for chroma DST, and modified zig-zag scanning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n-normative settings for obtaining reported co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ngle-pass RDO-Q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erarchical QP offsets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-matrix function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E31-879E-4CD9-8729-E4BCB463DC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opy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B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modifications to support MB size extension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-tree based CBP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cation of symbol representation of intra16x16 mode with other intra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mode at sub-partitio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5FC-11FB-440C-B756-971931719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loop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xtended AVC de-blocking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ideration on 16x16 transform block and mixed intra/inter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ength derivation and actual filtering process identical to A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aptive Wiener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hancement to KTA BALF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 improvement of decoded picture and inter-predictio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FC1-333D-406A-AB3F-C35CFC9ECE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nhanced BA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es up to two Wiener filters per video component ada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ising two Wiener filters together with the adaptive indication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647040" cy="3524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6360" y="5661000"/>
            <a:ext cx="56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Significant coding gain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observ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t penalty of picture-level repetitive filter design and local adapt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D13-667E-4FCB-A4C3-D5C6DBB431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ng Performa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 Se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B structure identical to Alpha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1dB luma BD-PSNR gain for class A/B/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igher compression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 Se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PP structure with hierarchical P style QP off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to Beta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dB luma BD-PSNR gai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or class B/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compression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to Gamma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2dB luma BD-PSNR gai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or class B/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higher compression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BCF-26B4-47F6-B91B-C60A631BC9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cod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920-C647-4526-8AAC-5758056940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A/B, CS1 vs. Alpha anc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9640" y="1268280"/>
          <a:ext cx="8064360" cy="1933560"/>
        </p:xfrm>
        <a:graphic>
          <a:graphicData uri="http://schemas.openxmlformats.org/drawingml/2006/table">
            <a:tbl>
              <a:tblPr/>
              <a:tblGrid>
                <a:gridCol w="2158920"/>
                <a:gridCol w="1477800"/>
                <a:gridCol w="1476720"/>
                <a:gridCol w="1474920"/>
                <a:gridCol w="1476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raf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5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2.6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eopleOn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6.9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3.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1.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8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39640" y="3357720"/>
          <a:ext cx="8064360" cy="2920680"/>
        </p:xfrm>
        <a:graphic>
          <a:graphicData uri="http://schemas.openxmlformats.org/drawingml/2006/table">
            <a:tbl>
              <a:tblPr/>
              <a:tblGrid>
                <a:gridCol w="2157480"/>
                <a:gridCol w="1479960"/>
                <a:gridCol w="1476720"/>
                <a:gridCol w="1473840"/>
                <a:gridCol w="14763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i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2.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9.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kS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1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6.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c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4.5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3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8.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5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Ter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2.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2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7.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5.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5FF-1E4A-4BBC-9689-67E576DC17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B/E, CS2 vs. Beta anc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9640" y="1197000"/>
          <a:ext cx="8218440" cy="2921040"/>
        </p:xfrm>
        <a:graphic>
          <a:graphicData uri="http://schemas.openxmlformats.org/drawingml/2006/table">
            <a:tbl>
              <a:tblPr/>
              <a:tblGrid>
                <a:gridCol w="2200320"/>
                <a:gridCol w="1505160"/>
                <a:gridCol w="1504800"/>
                <a:gridCol w="1503360"/>
                <a:gridCol w="150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i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3.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2.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kS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5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2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c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8.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7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8.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Ter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7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6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5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5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3.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7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39640" y="4262400"/>
          <a:ext cx="8209080" cy="2190960"/>
        </p:xfrm>
        <a:graphic>
          <a:graphicData uri="http://schemas.openxmlformats.org/drawingml/2006/table">
            <a:tbl>
              <a:tblPr/>
              <a:tblGrid>
                <a:gridCol w="2198880"/>
                <a:gridCol w="1503360"/>
                <a:gridCol w="1503360"/>
                <a:gridCol w="1500120"/>
                <a:gridCol w="15033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7.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7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0.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0.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0.7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19.6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2.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22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FB0-B5B4-451C-A23B-675D128088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B/E, CS2 vs. Gamma anc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228680"/>
          <a:ext cx="8218440" cy="2921040"/>
        </p:xfrm>
        <a:graphic>
          <a:graphicData uri="http://schemas.openxmlformats.org/drawingml/2006/table">
            <a:tbl>
              <a:tblPr/>
              <a:tblGrid>
                <a:gridCol w="2203560"/>
                <a:gridCol w="1501560"/>
                <a:gridCol w="1505160"/>
                <a:gridCol w="1503360"/>
                <a:gridCol w="150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Ki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9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9.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rkS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7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3.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c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0.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8.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asketball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5.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3.9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QTer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55.9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51.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5.7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3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8360" y="4292640"/>
          <a:ext cx="8218440" cy="2192400"/>
        </p:xfrm>
        <a:graphic>
          <a:graphicData uri="http://schemas.openxmlformats.org/drawingml/2006/table">
            <a:tbl>
              <a:tblPr/>
              <a:tblGrid>
                <a:gridCol w="2200320"/>
                <a:gridCol w="1504800"/>
                <a:gridCol w="1505160"/>
                <a:gridCol w="1503360"/>
                <a:gridCol w="150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D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Bitrate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SNR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4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5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0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39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Vidy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0.9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2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2.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1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-42.6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6E0-5E3B-4B19-A2FF-E50923AF8C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R-D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2278080"/>
          <a:ext cx="4464000" cy="32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8080"/>
                    <a:ext cx="446400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932360" y="1341360"/>
          <a:ext cx="3456000" cy="250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341360"/>
                    <a:ext cx="345600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932360" y="3921120"/>
          <a:ext cx="3460680" cy="2506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921120"/>
                    <a:ext cx="346068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453-957D-42CA-9B17-C31BB22588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 in Encod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imilar degree of encoding speed to JM anchor ob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performance results were obt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around 2x encoding time than anchor with current functional algorithm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using frame-level multi-pas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memory size as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s for MB-level RDO decision due to increased number of motion partitions and prediction/cod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memory requirement strongly depends on implementation, and can be expected via conventional codec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8AD-3467-4577-8BB5-A641EF33CC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 decision in I-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6x16 conventional MB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ll prediction modes and MB coding modes are determined by 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h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ra8x8 coding with adaptive DCT/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parate decision on pred. mode and transform basis type from lum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EA0-EC26-4F8C-8724-1233CC9F41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 decision in P/B-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B size: 64x64(class A/B) or 32x32(class C/D/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tion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PZS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 cost: sum of SADs of all color components and motio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de and transform block-size/basi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tly determined by RDO per each motion par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ra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valuated at partition having 16x16 block size, after finding the best MV and int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6BD-725D-418F-B3FF-AE77EE1F5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in Decoding (Normative)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uld be within a few times complexity relative to AVC Hig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complexit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loop Wien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tra predictions (less impact for inter pi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 computation for adaptive direct MV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mory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storage for adaptive Wiener filt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mory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D computation for adaptive direct MV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memory access during in-loop Wien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C71-8F0E-4D7A-9EC2-4A7AF8C83E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access &amp; Delay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egree as existing MPEG/ITU-T H.26x Standards by using conventional GOP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egree as AVC in terms of context adaptive coding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ce structure is possible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of 4:4:4 coding, scalability, multi-view coding are equivalently possible as done in AVC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al approaches possible (Slice partitioning, MB-level pipeline process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loop Wiener filter requires more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824-A904-474B-9502-811EF3313B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simulation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ure standard C-language bas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ean implementation of extended MB siz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 use of CPU dependen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ndows (VisualStudio, gcc/cygw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nux (g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 OS X (g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y UNIX workstations (g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4bit operating system as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dularized extensibl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isting software modules in JM/KTA has been re-using without changing the code to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A6F-AD24-412E-9DB2-B08FA36383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Proposed Cod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55560"/>
            <a:ext cx="8820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MB-based MC+Transform hybrid cod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B siz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daptive transform including block-size extension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New intra prediction exploiting global spatial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ulti-level hierarchical motion partitions including simplified diagonal parti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daptive PMV/Direct MV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Adaptive in-loop Wiener filter with extended AVC de-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on-normative remarks to obtain report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ngle-pass RDO-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PZS based motion vector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No use of frame multi-pas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92B-613C-4B92-9D91-4BB0A7458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B-based hybrid coding is still preferable for practical codec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specially for next-generation UHDTV H/W codec up to 8Kx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B size extension and in-loop Wiener filter tool should be considered as “starting point” of 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as been verified by explorations in MPEG CfE / VCEG KTA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gnificant coding gain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re experiment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erformance enhancements with additional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rther studies on performance-complexity trad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formance improvement for higher resolution video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r codec simulator offers clean and extensible platform for future collaborative standardiz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E6E-27D9-400E-B280-2B1FEB6157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2666880" y="4481640"/>
            <a:ext cx="647640" cy="1081080"/>
            <a:chOff x="2666880" y="4481640"/>
            <a:chExt cx="647640" cy="1081080"/>
          </a:xfrm>
        </p:grpSpPr>
        <p:sp>
          <p:nvSpPr>
            <p:cNvPr id="208" name=""/>
            <p:cNvSpPr/>
            <p:nvPr/>
          </p:nvSpPr>
          <p:spPr>
            <a:xfrm>
              <a:off x="2666880" y="4481640"/>
              <a:ext cx="647640" cy="10810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855880" y="4803840"/>
              <a:ext cx="360360" cy="215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98520" y="4626360"/>
              <a:ext cx="71640" cy="71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98520" y="5347080"/>
              <a:ext cx="71640" cy="71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240" y="4986720"/>
              <a:ext cx="71640" cy="71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967440" y="4149720"/>
            <a:ext cx="135900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157720"/>
            <a:ext cx="1441440" cy="43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0000" y="6310440"/>
            <a:ext cx="1441440" cy="431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82720" y="2709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7440" y="2565360"/>
            <a:ext cx="287640" cy="274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5080" y="270972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32160" y="501336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32160" y="2852640"/>
            <a:ext cx="144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40160" y="2421000"/>
            <a:ext cx="1439640" cy="5983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9800" y="270972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27800" y="2997360"/>
            <a:ext cx="1152360" cy="57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29280" y="5589720"/>
            <a:ext cx="2880" cy="720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52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9920" y="4653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590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897160" y="6381720"/>
            <a:ext cx="3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30720" y="602136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27160" y="2662200"/>
            <a:ext cx="763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87520" y="3957480"/>
            <a:ext cx="763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95880" y="6478560"/>
            <a:ext cx="763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59520" y="2662200"/>
            <a:ext cx="763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75080" y="1701720"/>
            <a:ext cx="4392360" cy="43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ing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91440" y="2133720"/>
            <a:ext cx="144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27800" y="5300640"/>
            <a:ext cx="114300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674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1800" y="2421000"/>
            <a:ext cx="1158840" cy="576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0000" y="4437000"/>
            <a:ext cx="1441440" cy="43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tra P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51440" y="465300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1440" y="2709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860640"/>
            <a:ext cx="287280" cy="274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6160" y="4437000"/>
            <a:ext cx="144000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ntra P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27800" y="6165720"/>
            <a:ext cx="1657080" cy="576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2160" y="4005360"/>
            <a:ext cx="353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992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71800" y="652608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71800" y="2709720"/>
            <a:ext cx="0" cy="381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40160" y="537336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951440" y="537372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03800" y="50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03800" y="58770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03800" y="4149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3800" y="357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03800" y="270972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256520" y="4726080"/>
            <a:ext cx="43164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40520" y="2709720"/>
            <a:ext cx="503280" cy="144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35800" y="4437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99440" y="1917720"/>
            <a:ext cx="504720" cy="2232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35440" y="2133720"/>
            <a:ext cx="0" cy="23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87880" y="5973840"/>
            <a:ext cx="7632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4462560"/>
            <a:ext cx="649440" cy="1101600"/>
          </a:xfrm>
          <a:prstGeom prst="rect">
            <a:avLst/>
          </a:prstGeom>
          <a:gradFill rotWithShape="0">
            <a:gsLst>
              <a:gs pos="0">
                <a:srgbClr val="ff3300">
                  <a:alpha val="30196"/>
                </a:srgbClr>
              </a:gs>
              <a:gs pos="100000">
                <a:srgbClr val="fc32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3800" y="5803920"/>
            <a:ext cx="798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232160" y="4292640"/>
            <a:ext cx="0" cy="146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32160" y="4292640"/>
            <a:ext cx="27370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789360"/>
            <a:ext cx="1800360" cy="431640"/>
          </a:xfrm>
          <a:prstGeom prst="wedgeRoundRectCallout">
            <a:avLst>
              <a:gd name="adj1" fmla="val 73370"/>
              <a:gd name="adj2" fmla="val 323162"/>
              <a:gd name="adj3" fmla="val 16667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B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4941720"/>
            <a:ext cx="2376360" cy="719280"/>
          </a:xfrm>
          <a:prstGeom prst="wedgeRoundRectCallout">
            <a:avLst>
              <a:gd name="adj1" fmla="val 94152"/>
              <a:gd name="adj2" fmla="val 31236"/>
              <a:gd name="adj3" fmla="val 16667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ayer hierarch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27800" y="5445000"/>
            <a:ext cx="1441440" cy="720720"/>
          </a:xfrm>
          <a:prstGeom prst="wedgeRoundRectCallout">
            <a:avLst>
              <a:gd name="adj1" fmla="val 8810"/>
              <a:gd name="adj2" fmla="val -163875"/>
              <a:gd name="adj3" fmla="val 16667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1052640"/>
            <a:ext cx="3187800" cy="503280"/>
          </a:xfrm>
          <a:prstGeom prst="wedgeRoundRectCallout">
            <a:avLst>
              <a:gd name="adj1" fmla="val -78537"/>
              <a:gd name="adj2" fmla="val 233282"/>
              <a:gd name="adj3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block-size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daptive DCT/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440" y="3284640"/>
            <a:ext cx="1729080" cy="504720"/>
          </a:xfrm>
          <a:prstGeom prst="wedgeRoundRectCallout">
            <a:avLst>
              <a:gd name="adj1" fmla="val 40083"/>
              <a:gd name="adj2" fmla="val -103773"/>
              <a:gd name="adj3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440" y="4005360"/>
            <a:ext cx="1871640" cy="503280"/>
          </a:xfrm>
          <a:prstGeom prst="wedgeRoundRectCallout">
            <a:avLst>
              <a:gd name="adj1" fmla="val 141689"/>
              <a:gd name="adj2" fmla="val 54416"/>
              <a:gd name="adj3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w Intra P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21240" y="194004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13960" y="37400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e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734080"/>
            <a:ext cx="2376360" cy="358920"/>
          </a:xfrm>
          <a:prstGeom prst="wedgeRoundRectCallout">
            <a:avLst>
              <a:gd name="adj1" fmla="val 91481"/>
              <a:gd name="adj2" fmla="val -51768"/>
              <a:gd name="adj3" fmla="val 16667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direct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6237360"/>
            <a:ext cx="2376360" cy="504720"/>
          </a:xfrm>
          <a:prstGeom prst="wedgeRoundRectCallout">
            <a:avLst>
              <a:gd name="adj1" fmla="val 84069"/>
              <a:gd name="adj2" fmla="val -95282"/>
              <a:gd name="adj3" fmla="val 16667"/>
            </a:avLst>
          </a:prstGeom>
          <a:solidFill>
            <a:srgbClr val="ffcc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diag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on par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70A-A041-4E32-A304-833C7ACA82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ed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68360" y="1341360"/>
          <a:ext cx="8229600" cy="5214960"/>
        </p:xfrm>
        <a:graphic>
          <a:graphicData uri="http://schemas.openxmlformats.org/drawingml/2006/table">
            <a:tbl>
              <a:tblPr/>
              <a:tblGrid>
                <a:gridCol w="3598920"/>
                <a:gridCol w="4630680"/>
              </a:tblGrid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MB size sign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ive block-size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ive DCT/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opy 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MV deri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Fi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BA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planer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ve adjustment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level hierarchical motion   partitio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onal partition shap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direct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2BB-EB31-48E0-8815-A3B72FDF27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video coding algorithm for MPEG-HVC/ITU-T EPVC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dB Luma PSNR gain relative to Alpha/Beta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2dB Luma PSNR gain relative to Gamma 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within a few times decoder complexity to AVC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opt the proposed coding algorithm framework into reference model, given the observed performance for higher resolution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sider Super Hi-Vision source for furth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proposed by JCTVC-A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1A8-37CF-461F-8B1F-7F6DC0594F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B size 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ing for coding performance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R-D trade-off depending on sour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, motion activity, texture smoothnes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for video source having higher inter-sample correlation such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-resolution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no complexity impact to normativ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EB0-18E7-4DFF-8841-73D771E5F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on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ayer hierarchical motion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-tre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non-rectangular (“diagonal”)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intra/inter in a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skip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3444840"/>
            <a:ext cx="5400720" cy="329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330192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lexible motion representation for wide variety of video source classes with a sing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DC8-CC3F-46CC-875E-EA43C1755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onal motion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ising through lit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8% gain with pixel-wise partitioning (too complex enco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complexity impact: only on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: “Efficiency and Complexity” trad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partitioning increases pattern representation bits and encoding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“Simplified” and “Block-aligned”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V derivation by shifting spatial neighboring positions depending on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7704360" cy="189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162-E628-4C3A-88FB-4A530AAC49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PMV der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xtends KTA’s Motion Vector Competition concept to exploit temporal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-bit signaling per motion partition to select spatial or temporal PMV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3367080"/>
            <a:ext cx="561672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3068640"/>
            <a:ext cx="2735280" cy="28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068640"/>
            <a:ext cx="2808360" cy="28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1640" y="2925720"/>
            <a:ext cx="1655640" cy="3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1280" y="2925720"/>
            <a:ext cx="2879640" cy="3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0820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59500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ontribute to reduction of motion bits especially becoming a burden in high-resolution video 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A65-194A-47F3-85F0-A345C934A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direct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aptive direct MV derivation from spatial and temporal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thout signaling bit by SAD competition at both encoder and de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d also as B-Skip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e of closest spatial neighboring MV, not outside a MB as 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sideration on MB size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lective prediction generation at pictur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-directional pred.” when UMV observed at picture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void unreliable prediction with U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400720" cy="2967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77840" y="11592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6165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ontribute to coding performance improvement for B-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F35-8969-4ACA-9197-9E982E4CC3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 of inter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ssentially identical to AV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mantics of slice (picture)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-pel accuracy MV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hroma MV de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ultiple reference pictures and refIdx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C interpolation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sabled weighted prediction for obtaining coding performanc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D8C-6E41-4253-88C1-BB1F3D3C2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　</cp:lastModifiedBy>
  <dcterms:modified xsi:type="dcterms:W3CDTF">2010-04-10T09:43:57Z</dcterms:modified>
  <cp:revision>21</cp:revision>
  <dc:subject/>
  <dc:title>ドレスデン会合準備について</dc:title>
</cp:coreProperties>
</file>