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</p:sldIdLst>
  <p:sldSz cx="9907588" cy="6858000"/>
  <p:notesSz cx="672782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C4C7A8-16BD-4AD8-ABD3-18EB438152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8DB7-CC19-424F-BBC8-FF5EECA32DC9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F392095-7A7B-4619-BED1-35695F8A284A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BE5640-F475-41C8-8391-EDEE3E4F714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A93D053-76E5-403A-B408-116F3E5FB5F6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CDFCD7-A12A-47EE-A6C1-3DEA2BC7306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8F32391-925E-4F93-9434-04D83CAA0E63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7FAAA8-180F-415B-9F52-CB1A447DCF4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718E69-2345-4155-BB37-DB0C0F4C5637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E8268E4-6D33-4D8F-8FD1-C9D44D4016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2A21909-3018-4DA4-8279-9390259E386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5D12B9-02E9-49DD-A0D7-F067A39782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B39D2-1C55-4D12-B354-91498611F27E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69C2B-2F78-4E0B-9910-6A59B0CDC13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E8FC779-CB3A-495C-AD2E-FE9C433D99A7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B249E15-96FD-42CB-9472-42768657415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8FC94A-6EB0-4428-B24D-001F0575834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46A3232-242F-40CC-85AE-48D0E9DA5D3C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37A6433-22C7-428C-84DA-0CBAE0D0AD2A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7B1D636-5BAC-4940-BACB-91409AE4F01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020289C-9706-4754-83DE-A6AA03AF2A8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F7C1C3-776C-48CF-94F2-68244FBE8C64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F77393-0E4A-4812-A092-E0553AFF5A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1C9DF-2613-4913-929E-069D6CE7F54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B9CFDA1-D077-4C70-8900-84694D58D62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5CF9E9-2A1D-4626-9C36-86B89BE79AB0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59C0C-2B5F-4FE3-94D9-2C8AEA866C10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E540BE-5068-4828-B055-8723A49E3B6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EDC77-5DFC-4B07-891B-DD1A3CDA9C8B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BBF221-3B03-4E77-B284-C501FFDCF54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A015F3-030A-4EEC-91F3-B17C80AE8A8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883FFD-4942-472D-8237-4D393BB9DBBC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DF7454-2519-41C7-9C3F-F6E7A04619FE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B155A-4485-4692-A840-E5A2ECD8B2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7604-A24C-4ABC-A841-6DB58DEE4893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A72B1-7874-434B-B410-6C7225E7CF73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4C2174-DA30-406A-B1A9-2F50A5676D9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68705A-485F-41EF-81B3-4F289B4E42E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A9FF-9801-4898-9A17-49DA79615EC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5106-1727-48DD-9A07-5AA195AB9C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02A-6381-42F9-A055-7EE3C9EBDE7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E238-0746-46BC-9A3A-4FE3F3030A5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8E4F-B331-47F4-9F4E-ECAA54F7700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CB36-FABF-4798-826A-0A34D1A828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EE989-5A7E-4BFF-B7F3-D9ECE2908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953BE-66AA-408B-BAD1-2551D69A22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1398-7F52-4815-A3B5-4595666130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F04AE-D036-4CCD-AFC4-693FA744020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E2939-6199-4DC2-A272-F6DF2BAFA73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CC67-3E9C-4BD4-A451-8F2CC14E90D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9668AE-33F4-481B-BD03-B8EB3D915C5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D63DFE-C309-434A-A444-A31F576FC27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389372-FE82-43FC-9330-55572A49C8D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D68A13-F301-4AB3-9F88-185209E6470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3C364-00D8-44F6-8178-B527F01FF27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530FD-C2C7-4494-82BF-2A12A10133F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7DFD85-903A-4E17-A775-C18B4C165702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24E7B-1A41-493D-AD16-24629398CB7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8F634-1E15-47DC-9DE1-B80253E199D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AA200-A550-4BD5-8D1D-358244FCD38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CF4375-61E6-4934-BBB4-452C2C11BF0A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11D7D-5BC8-4722-92D9-39CBF8EB0E9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17BB5-FFCF-4D1E-8579-E43949B3219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B5FE0E-8553-4B49-A4F8-4D390E8EBF9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C7B88E-E69D-48BF-8A11-79E03A872C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E33C0F-C43A-499C-AA9A-28694100E20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B5C0E-7CD8-4991-AE57-F03A4C21E71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916E45-056F-43CB-BD3D-54F17326B1D5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FF55002-AB20-4C9C-97E4-4E9353357E4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BE624F-E201-4351-BB03-F4F97F81C68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0085D0-D127-43B1-86E6-A0A9F584157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975835-F40B-4A18-B07C-2C0CA7372E7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21B032-F05B-452B-B900-37C4DD42CAD9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8C80F4-3721-458B-AAB0-C3EAF4CE108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DBD509-9DEF-4C93-BFD9-7D1E8D16C86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ADF8686-DFBF-4B36-A4DF-2BD9BCFA3412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5326F-F51C-48E4-A3E3-7F566655A5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1194F-F1A8-4699-A633-80FA3D26026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385DE5-F3BF-40AB-B09C-15CD82A100FD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BF946-0AD1-43D5-B6C6-09B951A1B47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C027-D72D-4E19-8F10-19B1AB719B4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30483-42A3-46E5-82E5-AD6BA3531F7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6BED81-D91F-45D1-9CC8-B592460DECBD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CAC7BA-F8AF-4556-9C7C-DB56CBADB0E9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66307-DCF5-421F-977C-9CE6C79930CB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9CE7D-F549-4744-A1B1-0BDC57B0E7F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69AE16-1303-4281-AB1F-6D6E18E0386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BB7FAF-685F-43C0-B493-38E77D1E92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E8F330-EBD7-4654-AD5A-D94150192B1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9E5C20-3F06-4C15-A0C0-68155CB7FC12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9CFCE0-F7D2-43B4-BC26-91ECFA6E4CF2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9DD022-30B1-4E96-864F-00C12F5D0A6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EEFCED3-D0D9-4883-A487-896406CB87D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31FA566-29A9-46A7-B984-92BD43251B8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D5AD6C-47DA-4CEB-A1C8-53AA9192DF1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2491AE-EF17-43B3-B9CD-F353A0F22DE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E415985-CE8F-4167-A9D3-5721D44554D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992CBAC-9DEA-4AD3-B948-3645B084666C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B643C0-6BFC-42F8-9969-5074B9C488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828A2C-C5F7-4A1D-9480-09A4324847EB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2BAB52C-DA8D-4ABD-824A-BDE04991261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CBE976-1A13-4F9A-B111-6CE7B3CFAE54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FE2439-CAA6-41B3-A78D-BBE96DD9459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42DC2A9-6D05-45F1-A5FD-D893596A153E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1086A8-0506-4F57-9102-B477B28BAA9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E10E7F-03A4-467E-9B81-361E24373C01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973CAA9-6518-4DFC-8581-A7C3DB319626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50AEB9-1182-4059-B7DA-5E9496B81CF7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084947-AA01-4732-A2AF-B44F9CDFBEE6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0F5B87-09B3-432D-95A7-F4D1CC6993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3C94-48B3-4A55-8E8A-D4EFBD9A9F1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9B9D00A-6EA6-4C62-8C70-5EE65EDB121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AA6DCF4-4794-47DB-971D-26BBC897F8CF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FF5FDBD-196A-4C0E-84FC-443B8C4D5A1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446A922-5BB9-4352-9795-49BCC32227A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4C6D07-3D48-4AB2-8A16-D6699C7F9259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414115-5E17-467F-A401-2CF157154549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CE884A-D8FF-475E-9E1B-20B02C0EC90E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B274C2-2679-4166-9456-CBAE224262B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ECBAC3-D2CD-42C1-B68C-21455B23363A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626D-60C6-496F-9BD3-470887AE0B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DDE6-2726-48BA-BDEF-D76D1B4AB114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183960" y="-360"/>
            <a:ext cx="9537480" cy="523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BC3D16-2ED6-4175-BBA5-451EAEF7970A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B2CBE-D2CE-490F-859E-260D617B6C92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0F1AE1-756B-4A6E-A71A-1E14A5C5ABF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A839D3-907C-4D01-A8D9-62FD2458D89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193680" y="3726000"/>
            <a:ext cx="953928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BA468C-7821-4FB7-8346-2D026296D33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5082120" y="11286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9368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5082120" y="3726000"/>
            <a:ext cx="465516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429D19-51C9-4652-8659-85C5AF756C0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41928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644520" y="11286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1936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41928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644520" y="3726000"/>
            <a:ext cx="3071520" cy="2371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79623-BC07-4E94-933A-D9FD36E6328D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452CAF-98BE-4C21-929D-3B7EA731691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03EA03-CF40-4F70-A57A-D8C2621EC8D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460F80-76AA-47AB-A222-41C4561AD63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2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932B9-F6B8-4075-88A6-08C89733D4E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pic>
        <p:nvPicPr>
          <p:cNvPr id="6" name="Picture 13" descr="ERI_UF_rgb"/>
          <p:cNvPicPr/>
          <p:nvPr/>
        </p:nvPicPr>
        <p:blipFill>
          <a:blip r:embed="rId3"/>
          <a:stretch/>
        </p:blipFill>
        <p:spPr>
          <a:xfrm>
            <a:off x="7426440" y="6116760"/>
            <a:ext cx="752400" cy="6602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3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404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5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406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8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9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F1D4-6F9E-4030-AF90-A9C5D8399ED4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449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451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452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 type="ftr" idx="20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 type="sldNum" idx="2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E9DBF-6633-46B9-936D-22C35A212AB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5"/>
          <p:cNvSpPr/>
          <p:nvPr/>
        </p:nvSpPr>
        <p:spPr>
          <a:xfrm>
            <a:off x="214200" y="6273720"/>
            <a:ext cx="3044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Nokia Sans Wide"/>
              </a:rPr>
              <a:t>Company Confidential</a:t>
            </a:r>
            <a:endParaRPr b="0" lang="en-US" sz="1200" spc="-1" strike="noStrike">
              <a:solidFill>
                <a:srgbClr val="e40e62"/>
              </a:solidFill>
              <a:latin typeface="Nokia Sans Wide"/>
            </a:endParaRPr>
          </a:p>
        </p:txBody>
      </p:sp>
      <p:grpSp>
        <p:nvGrpSpPr>
          <p:cNvPr id="45" name="Group 9"/>
          <p:cNvGrpSpPr/>
          <p:nvPr/>
        </p:nvGrpSpPr>
        <p:grpSpPr>
          <a:xfrm>
            <a:off x="8156520" y="2962440"/>
            <a:ext cx="1749600" cy="745920"/>
            <a:chOff x="8156520" y="2962440"/>
            <a:chExt cx="1749600" cy="745920"/>
          </a:xfrm>
        </p:grpSpPr>
        <p:pic>
          <p:nvPicPr>
            <p:cNvPr id="46" name="Picture 6" descr="Logotype_White_33mm300dpi"/>
            <p:cNvPicPr/>
            <p:nvPr/>
          </p:nvPicPr>
          <p:blipFill>
            <a:blip r:embed="rId2"/>
            <a:stretch/>
          </p:blipFill>
          <p:spPr>
            <a:xfrm>
              <a:off x="8437680" y="324000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Rectangle 8"/>
            <p:cNvSpPr/>
            <p:nvPr/>
          </p:nvSpPr>
          <p:spPr>
            <a:xfrm>
              <a:off x="8156520" y="2962440"/>
              <a:ext cx="1749600" cy="74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2"/>
          </p:nvPr>
        </p:nvSpPr>
        <p:spPr>
          <a:xfrm>
            <a:off x="58536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ffffff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3"/>
          </p:nvPr>
        </p:nvSpPr>
        <p:spPr>
          <a:xfrm>
            <a:off x="21600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800" spc="-1" strike="noStrike">
                <a:solidFill>
                  <a:srgbClr val="ffffff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6D78-C55F-4A22-B5CE-19403104BBFB}" type="slidenum">
              <a:rPr b="0" lang="en-GB" sz="800" spc="-1" strike="noStrike">
                <a:solidFill>
                  <a:srgbClr val="ffffff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89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91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ftr" idx="4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sldNum" idx="5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4A4F-64C6-4098-A9C8-CF5A310A3CB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134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136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ftr" idx="6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sldNum" idx="7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78AB-769F-4EF9-B1D3-3FEFEAE4F2C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8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179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181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ftr" idx="8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sldNum" idx="9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2EF37-86B3-4965-823A-FA6F44610177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3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224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226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0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1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8859-BBE6-4E0C-A0A6-475998B5048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8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269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271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 type="ftr" idx="12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 type="sldNum" idx="13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0F6F7-1A13-47E9-B487-803781A1289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14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316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 type="ftr" idx="14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 type="sldNum" idx="15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0DFAA-52F1-47D4-B2F7-86A0FF305EB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8" name="Group 11"/>
          <p:cNvGrpSpPr/>
          <p:nvPr/>
        </p:nvGrpSpPr>
        <p:grpSpPr>
          <a:xfrm>
            <a:off x="8156520" y="6111720"/>
            <a:ext cx="1749600" cy="746280"/>
            <a:chOff x="8156520" y="6111720"/>
            <a:chExt cx="1749600" cy="746280"/>
          </a:xfrm>
        </p:grpSpPr>
        <p:pic>
          <p:nvPicPr>
            <p:cNvPr id="359" name="Picture 8" descr="Logotype_RGB_33mm300dpi"/>
            <p:cNvPicPr/>
            <p:nvPr/>
          </p:nvPicPr>
          <p:blipFill>
            <a:blip r:embed="rId2"/>
            <a:stretch/>
          </p:blipFill>
          <p:spPr>
            <a:xfrm>
              <a:off x="8435880" y="6389640"/>
              <a:ext cx="1189080" cy="18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0" name="Rectangle 9"/>
            <p:cNvSpPr/>
            <p:nvPr/>
          </p:nvSpPr>
          <p:spPr>
            <a:xfrm>
              <a:off x="8156520" y="6111720"/>
              <a:ext cx="1749600" cy="74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sp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  <p:pic>
        <p:nvPicPr>
          <p:cNvPr id="361" name="Picture 13" descr="ERI_UF_rgb"/>
          <p:cNvPicPr/>
          <p:nvPr/>
        </p:nvPicPr>
        <p:blipFill>
          <a:blip r:embed="rId3"/>
          <a:stretch/>
        </p:blipFill>
        <p:spPr>
          <a:xfrm>
            <a:off x="7526160" y="6224760"/>
            <a:ext cx="608040" cy="53316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" descr="http://www.absolutnoruega.com/wp-content/uploads/2009/10/tandberg_logo.jpg"/>
          <p:cNvPicPr/>
          <p:nvPr/>
        </p:nvPicPr>
        <p:blipFill>
          <a:blip r:embed="rId4"/>
          <a:stretch/>
        </p:blipFill>
        <p:spPr>
          <a:xfrm>
            <a:off x="5489640" y="6357960"/>
            <a:ext cx="1652400" cy="311040"/>
          </a:xfrm>
          <a:prstGeom prst="rect">
            <a:avLst/>
          </a:prstGeom>
          <a:ln w="0">
            <a:noFill/>
          </a:ln>
        </p:spPr>
      </p:pic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lick to edit the title text format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3" marL="1712880" indent="-18576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4" marL="2193840" indent="-189000">
              <a:spcBef>
                <a:spcPts val="374"/>
              </a:spcBef>
              <a:spcAft>
                <a:spcPts val="374"/>
              </a:spcAft>
              <a:buClr>
                <a:srgbClr val="040477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5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6" marL="2193840" indent="-189000">
              <a:spcBef>
                <a:spcPts val="374"/>
              </a:spcBef>
              <a:spcAft>
                <a:spcPts val="374"/>
              </a:spcAft>
              <a:buClr>
                <a:srgbClr val="000000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 type="ftr" idx="16"/>
          </p:nvPr>
        </p:nvSpPr>
        <p:spPr>
          <a:xfrm>
            <a:off x="547200" y="6524640"/>
            <a:ext cx="4235400" cy="1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e40e62"/>
                </a:solidFill>
                <a:latin typeface="Nokia Sans Wide"/>
              </a:defRPr>
            </a:lvl1pPr>
          </a:lstStyle>
          <a:p>
            <a:pPr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© 2008  Nokia 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	</a:t>
            </a:r>
            <a:r>
              <a:rPr b="0" lang="en-US" sz="1800" spc="-1" strike="noStrike">
                <a:solidFill>
                  <a:srgbClr val="e40e62"/>
                </a:solidFill>
                <a:latin typeface="Nokia Sans Wide"/>
              </a:rPr>
              <a:t> V1-Filename.ppt / YYYY-MM-DD / Initial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 type="sldNum" idx="17"/>
          </p:nvPr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Nokia Sans Wi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D8201-0A4E-4955-A41A-7CFC4DA2261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Rectangle 35"/>
          <p:cNvSpPr/>
          <p:nvPr/>
        </p:nvSpPr>
        <p:spPr>
          <a:xfrm>
            <a:off x="0" y="0"/>
            <a:ext cx="9906120" cy="6067440"/>
          </a:xfrm>
          <a:prstGeom prst="rect">
            <a:avLst/>
          </a:prstGeom>
          <a:solidFill>
            <a:srgbClr val="00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1FFB9-76B3-4D2E-A58C-90F155326193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177840" y="1800360"/>
            <a:ext cx="9539280" cy="305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 algn="ctr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Nokia Sans Wide"/>
              </a:rPr>
              <a:t>Video coding technology proposal by</a:t>
            </a: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Nokia Sans Wide"/>
              </a:rPr>
              <a:t>	</a:t>
            </a:r>
            <a:r>
              <a:rPr b="0" lang="en-US" sz="4200" spc="-1" strike="noStrike">
                <a:solidFill>
                  <a:srgbClr val="ffffff"/>
                </a:solidFill>
                <a:latin typeface="Nokia Sans Wide"/>
              </a:rPr>
              <a:t>Tandberg, Nokia, Ericsson</a:t>
            </a:r>
            <a:endParaRPr b="0" lang="en-US" sz="42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 algn="ctr">
              <a:spcBef>
                <a:spcPts val="788"/>
              </a:spcBef>
              <a:spcAft>
                <a:spcPts val="788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200"/>
            </a:br>
            <a:r>
              <a:rPr b="0" lang="en-US" sz="4200" spc="-1" strike="noStrike">
                <a:solidFill>
                  <a:srgbClr val="ffffff"/>
                </a:solidFill>
                <a:latin typeface="Nokia Sans Wide"/>
              </a:rPr>
              <a:t>JCTVC-A119</a:t>
            </a:r>
            <a:endParaRPr b="0" lang="en-US" sz="42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496" name="Rectangle 3"/>
          <p:cNvSpPr/>
          <p:nvPr/>
        </p:nvSpPr>
        <p:spPr>
          <a:xfrm>
            <a:off x="0" y="355680"/>
            <a:ext cx="9539280" cy="92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okia Sans Wide"/>
              </a:rPr>
              <a:t>1</a:t>
            </a:r>
            <a:r>
              <a:rPr b="0" lang="en-US" sz="2000" spc="-1" strike="noStrike" baseline="30000">
                <a:solidFill>
                  <a:srgbClr val="ffffff"/>
                </a:solidFill>
                <a:latin typeface="Nokia Sans Wide"/>
              </a:rPr>
              <a:t>st</a:t>
            </a:r>
            <a:r>
              <a:rPr b="0" lang="en-US" sz="2000" spc="-1" strike="noStrike">
                <a:solidFill>
                  <a:srgbClr val="ffffff"/>
                </a:solidFill>
                <a:latin typeface="Nokia Sans Wide"/>
              </a:rPr>
              <a:t> JCT-VC meeting, Dresden Germany</a:t>
            </a:r>
            <a:endParaRPr b="0" lang="en-US" sz="2000" spc="-1" strike="noStrike">
              <a:solidFill>
                <a:srgbClr val="e40e62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Nokia Sans Wide"/>
              </a:rPr>
              <a:t>April 2010</a:t>
            </a:r>
            <a:endParaRPr b="0" lang="en-US" sz="2000" spc="-1" strike="noStrike">
              <a:solidFill>
                <a:srgbClr val="e40e62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Intra Frame Prediction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111EE-EB46-4889-B754-6E4CCA53286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okia Sans Wide"/>
              </a:rPr>
              <a:t>Planar Prediction: Used to reconstruct smooth regions in a visually pleasing wa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Signal the bottom-right sample and reconstruct the macroblock using upper row, left column and signalled sampl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561" name="Object 2" descr=""/>
          <p:cNvPicPr/>
          <p:nvPr/>
        </p:nvPicPr>
        <p:blipFill>
          <a:blip r:embed="rId1"/>
          <a:srcRect l="0" t="-200" r="-94" b="-306"/>
          <a:stretch/>
        </p:blipFill>
        <p:spPr>
          <a:xfrm>
            <a:off x="1633680" y="2733840"/>
            <a:ext cx="2528640" cy="2516040"/>
          </a:xfrm>
          <a:prstGeom prst="rect">
            <a:avLst/>
          </a:prstGeom>
          <a:ln w="0">
            <a:noFill/>
          </a:ln>
        </p:spPr>
      </p:pic>
      <p:pic>
        <p:nvPicPr>
          <p:cNvPr id="562" name="Object 1" descr=""/>
          <p:cNvPicPr/>
          <p:nvPr/>
        </p:nvPicPr>
        <p:blipFill>
          <a:blip r:embed="rId2"/>
          <a:srcRect l="0" t="-200" r="-94" b="-306"/>
          <a:stretch/>
        </p:blipFill>
        <p:spPr>
          <a:xfrm>
            <a:off x="5192640" y="2747880"/>
            <a:ext cx="2583000" cy="2568600"/>
          </a:xfrm>
          <a:prstGeom prst="rect">
            <a:avLst/>
          </a:prstGeom>
          <a:ln w="0">
            <a:noFill/>
          </a:ln>
        </p:spPr>
      </p:pic>
      <p:sp>
        <p:nvSpPr>
          <p:cNvPr id="563" name="Text Box 7"/>
          <p:cNvSpPr/>
          <p:nvPr/>
        </p:nvSpPr>
        <p:spPr>
          <a:xfrm>
            <a:off x="503280" y="5477040"/>
            <a:ext cx="424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tep – 1: Interpolate rightmost and bottom sample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64" name="Text Box 8"/>
          <p:cNvSpPr/>
          <p:nvPr/>
        </p:nvSpPr>
        <p:spPr>
          <a:xfrm>
            <a:off x="4826160" y="5532480"/>
            <a:ext cx="4244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tep – 2: Bi-linear interpolation of middle samples</a:t>
            </a: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D194C-F526-413E-9504-523B6FF99EE2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Transforms and Quantization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4x4, 8x8, 16x16, 32x32, 64x64 transform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16-bit implementation is used for all the transform sizes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r coding INTER modes, a spatially varying transform (SVT) is used as additional mod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he position of transform block within macroblock is varied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Additional 16x4 and 4x16 transforms are utilized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1333440" y="3949560"/>
            <a:ext cx="2695680" cy="18288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5" descr=""/>
          <p:cNvPicPr/>
          <p:nvPr/>
        </p:nvPicPr>
        <p:blipFill>
          <a:blip r:embed="rId2"/>
          <a:stretch/>
        </p:blipFill>
        <p:spPr>
          <a:xfrm>
            <a:off x="3929040" y="4049640"/>
            <a:ext cx="4048200" cy="1909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E006-38CF-4CED-95BD-2CCE15097C07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In-loop Filtering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duced complexity compared to H.264/AVC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Only applied on block boundaries of 8x8 (no 4x4 filtering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ignificantly less complex logic compared to H.264/AVC filtering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Uses a combination of strong and weak filter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mproved visual quality with low complexity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nterpolative filtering if two macroblocks are coded in planar mod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E0C45-37E3-4AE5-A840-B6E509AD65BB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Entropy Coding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VLC based entropy coding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ain featur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mproved context adaptivity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Use adaptive sorting tabl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dapt the VLC table based on the coding statistics.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Improved coefficient cod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Lower complexity than H.264/AVC but improved coding efficienc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grpSp>
        <p:nvGrpSpPr>
          <p:cNvPr id="576" name="Group 4"/>
          <p:cNvGrpSpPr/>
          <p:nvPr/>
        </p:nvGrpSpPr>
        <p:grpSpPr>
          <a:xfrm>
            <a:off x="5092560" y="2685960"/>
            <a:ext cx="4583160" cy="2492640"/>
            <a:chOff x="5092560" y="2685960"/>
            <a:chExt cx="4583160" cy="2492640"/>
          </a:xfrm>
        </p:grpSpPr>
        <p:sp>
          <p:nvSpPr>
            <p:cNvPr id="577" name="AutoShape 5"/>
            <p:cNvSpPr/>
            <p:nvPr/>
          </p:nvSpPr>
          <p:spPr>
            <a:xfrm>
              <a:off x="5092560" y="2685960"/>
              <a:ext cx="4583160" cy="249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78" name="Rectangle 6"/>
            <p:cNvSpPr/>
            <p:nvPr/>
          </p:nvSpPr>
          <p:spPr>
            <a:xfrm>
              <a:off x="6391080" y="2960640"/>
              <a:ext cx="549720" cy="210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79" name="Line 7"/>
            <p:cNvSpPr/>
            <p:nvPr/>
          </p:nvSpPr>
          <p:spPr>
            <a:xfrm flipV="1">
              <a:off x="5184000" y="3968640"/>
              <a:ext cx="100836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0" name="Text Box 8"/>
            <p:cNvSpPr/>
            <p:nvPr/>
          </p:nvSpPr>
          <p:spPr>
            <a:xfrm>
              <a:off x="5184000" y="3693960"/>
              <a:ext cx="1099800" cy="18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de number = 7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1" name="Text Box 9"/>
            <p:cNvSpPr/>
            <p:nvPr/>
          </p:nvSpPr>
          <p:spPr>
            <a:xfrm>
              <a:off x="5092560" y="4060440"/>
              <a:ext cx="109980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spcBef>
                  <a:spcPts val="337"/>
                </a:spcBef>
                <a:spcAft>
                  <a:spcPts val="337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2" name="Text Box 10"/>
            <p:cNvSpPr/>
            <p:nvPr/>
          </p:nvSpPr>
          <p:spPr>
            <a:xfrm>
              <a:off x="6199920" y="2685960"/>
              <a:ext cx="1191600" cy="25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efore sorting: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3" name="Text Box 11"/>
            <p:cNvSpPr/>
            <p:nvPr/>
          </p:nvSpPr>
          <p:spPr>
            <a:xfrm>
              <a:off x="8316000" y="2685960"/>
              <a:ext cx="9165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after sorting: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4" name="Text Box 12"/>
            <p:cNvSpPr/>
            <p:nvPr/>
          </p:nvSpPr>
          <p:spPr>
            <a:xfrm>
              <a:off x="6391080" y="3877200"/>
              <a:ext cx="5497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5" name="Text Box 13"/>
            <p:cNvSpPr/>
            <p:nvPr/>
          </p:nvSpPr>
          <p:spPr>
            <a:xfrm>
              <a:off x="6391080" y="3602160"/>
              <a:ext cx="5497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6" name="Text Box 14"/>
            <p:cNvSpPr/>
            <p:nvPr/>
          </p:nvSpPr>
          <p:spPr>
            <a:xfrm>
              <a:off x="6391080" y="2960640"/>
              <a:ext cx="5497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7" name="Rectangle 15"/>
            <p:cNvSpPr/>
            <p:nvPr/>
          </p:nvSpPr>
          <p:spPr>
            <a:xfrm>
              <a:off x="8354160" y="2976120"/>
              <a:ext cx="549720" cy="2107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8" name="Text Box 16"/>
            <p:cNvSpPr/>
            <p:nvPr/>
          </p:nvSpPr>
          <p:spPr>
            <a:xfrm>
              <a:off x="8354160" y="3892680"/>
              <a:ext cx="5497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89" name="Text Box 17"/>
            <p:cNvSpPr/>
            <p:nvPr/>
          </p:nvSpPr>
          <p:spPr>
            <a:xfrm>
              <a:off x="8354160" y="3617640"/>
              <a:ext cx="5497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2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0" name="Text Box 18"/>
            <p:cNvSpPr/>
            <p:nvPr/>
          </p:nvSpPr>
          <p:spPr>
            <a:xfrm>
              <a:off x="8354160" y="2976120"/>
              <a:ext cx="549720" cy="27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   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9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1" name="Line 19"/>
            <p:cNvSpPr/>
            <p:nvPr/>
          </p:nvSpPr>
          <p:spPr>
            <a:xfrm>
              <a:off x="6941160" y="3969000"/>
              <a:ext cx="73332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2" name="Text Box 20"/>
            <p:cNvSpPr/>
            <p:nvPr/>
          </p:nvSpPr>
          <p:spPr>
            <a:xfrm>
              <a:off x="6215400" y="296064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     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3" name="Text Box 21"/>
            <p:cNvSpPr/>
            <p:nvPr/>
          </p:nvSpPr>
          <p:spPr>
            <a:xfrm>
              <a:off x="6215400" y="360216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4" name="Text Box 22"/>
            <p:cNvSpPr/>
            <p:nvPr/>
          </p:nvSpPr>
          <p:spPr>
            <a:xfrm>
              <a:off x="6215400" y="3877200"/>
              <a:ext cx="2746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5" name="Text Box 23"/>
            <p:cNvSpPr/>
            <p:nvPr/>
          </p:nvSpPr>
          <p:spPr>
            <a:xfrm>
              <a:off x="8170920" y="298368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0  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6" name="Text Box 24"/>
            <p:cNvSpPr/>
            <p:nvPr/>
          </p:nvSpPr>
          <p:spPr>
            <a:xfrm>
              <a:off x="8170920" y="362520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7" name="Text Box 25"/>
            <p:cNvSpPr/>
            <p:nvPr/>
          </p:nvSpPr>
          <p:spPr>
            <a:xfrm>
              <a:off x="8170920" y="3900240"/>
              <a:ext cx="2750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8" name="Text Box 26"/>
            <p:cNvSpPr/>
            <p:nvPr/>
          </p:nvSpPr>
          <p:spPr>
            <a:xfrm>
              <a:off x="7032600" y="3693960"/>
              <a:ext cx="1008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table_index = 12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99" name="Arc 27"/>
            <p:cNvSpPr/>
            <p:nvPr/>
          </p:nvSpPr>
          <p:spPr>
            <a:xfrm flipV="1" rot="18940800">
              <a:off x="8865720" y="3784680"/>
              <a:ext cx="274680" cy="274680"/>
            </a:xfrm>
            <a:custGeom>
              <a:avLst/>
              <a:gdLst>
                <a:gd name="textAreaLeft" fmla="*/ 0 w 274680"/>
                <a:gd name="textAreaRight" fmla="*/ 275040 w 274680"/>
                <a:gd name="textAreaTop" fmla="*/ -360 h 274680"/>
                <a:gd name="textAreaBottom" fmla="*/ 274680 h 274680"/>
              </a:gdLst>
              <a:ahLst/>
              <a:rect l="textAreaLeft" t="textAreaTop" r="textAreaRight" b="textAreaBottom"/>
              <a:pathLst>
                <a:path fill="none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</a:path>
                <a:path stroke="0" w="21600" h="21600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lnTo>
                    <a:pt x="0" y="21600"/>
                  </a:ln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F81E6-C0BA-4360-8F2F-D9EA9DE6904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Entropy Coding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80880" indent="-38088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ll the transform sizes use the same 8x8 coefficient coding engin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14320" indent="-3427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16x16, 32x32, 64x64 transforms are truncated (</a:t>
            </a: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always the 8x8 lowest frequency coefficients are coded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Overview of coefficient coding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814320" indent="-3427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Position of last non-zero coefficient and whether its magnitude is larger than 1 is signaled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814320" indent="-3427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uns of zeros are signaled in reverse scan order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814320" indent="-3427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AutoNum type="arabicPeriod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witch to level mode based on magnitude and position of previously coded coeffici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257480" indent="-3049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Level mode codes each remaining coefficient one by one.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-38088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oefficient coding is less complex than H.264/AVC CAVLC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38088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74F39-D685-443F-88C4-EA2A73F05BF7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Future Extensions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178560" indent="-1785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everal well-know tools could be added during the course of standardization: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CABAC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dditional reference frame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2720" indent="-21240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3-4 % gain 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Sub LMB partitions (e.g. 64x32, etc.):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2720" indent="-21240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1-2 % gain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Improved MV cod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062720" indent="-212400">
              <a:lnSpc>
                <a:spcPct val="80000"/>
              </a:lnSpc>
              <a:spcBef>
                <a:spcPts val="264"/>
              </a:spcBef>
              <a:spcAft>
                <a:spcPts val="264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Nokia Sans Wide"/>
              </a:rPr>
              <a:t>1-2% gain</a:t>
            </a:r>
            <a:endParaRPr b="0" lang="en-US" sz="14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daptive in-loop filtering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Decoder side MV derivation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Larger LMBs (128x128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-18144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Adaptive Interpolation Filtering (AIF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19920" indent="0">
              <a:lnSpc>
                <a:spcPct val="8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80F89-516A-4096-B9A9-5EF43EDC0748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onclusions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e believe the information brought to this meeting attest significant coding efficiency improvement is possible with very low complexity.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any requests to MPEG and VCEG earlier for the need of low complexity operating point in a short timefram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e request JCT-VC to start a concentrated effort as soon as possibl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Syntax &amp; Semantics and detailed decoder description are provided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to make working on low-complexity operating point easier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any interesting proposals are brought to JCT-VC, </a:t>
            </a: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some of them also suitable for low-complexity operating point 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96B1D-A647-421A-BBB3-2BA974E6B059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Conclusions 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We believe TENTM is 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ideal also for working towards the high coding efficiency goal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Back-to-basics design, low complexity and clean softwar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encoder is 25x faster than JM17.0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~400-800 times faster than many high complexity proposals (rough estimate).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ajority of the tools brought to JCT-VC 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do not overlap with tools in TENTM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is ideal to be used in collaborative phase to test various competing tools on a clean environment with good softwa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yntax&amp;Semantics document and TENTM software are provid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ake it easier for others to understand TENTM and make further development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o make sure concrete technical work starts at this meet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9D35-E145-4367-8D4F-374980BBEFAF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Summary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182520" indent="-1825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algorithm has less complexity than H.264/AVC Baseline Profile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-1825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ass B Subjective results show that TENTM brings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33240" indent="-1850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around 30% gain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on average over H.264/AVC High Profile on CS1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33240" indent="-1850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more than 40% gain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on average over H.264/AVC High Profile on CS2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33240" indent="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-1825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encoder and decoder runs significantly faster than JM17.0 and KTA 2.7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-1825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represents a clean, back-to-basics design :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33240" indent="-1850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is ideal to be used in collaborative phase to test various tools on a clean environment with good softwa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2520" indent="-18252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Syntax&amp;Semantics document and TENTM software are provid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33240" indent="-18504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o make sure concrete work starts at this meeting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EB99-B8F0-4783-BE96-E0120865CB8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Overview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quirements of mobile, video-conferencing industri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ignificant coding efficiency improvement over H.264/AVC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Faster standardization of the low complexity operating point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with complexity not higher than H.264/AVC Baseline profile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was designed to fulfill those requirement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ignificant subjective quality improvement over H.264/AVC with </a:t>
            </a: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less complexity than H.264/AVC BP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Clean design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: Useful for working towards a high coding efficiency operating point for other use cases, such as broadcast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esign from scratch : Clean and efficient softwa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 obsolete H.264/AVC tool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A3D66-7C55-496B-8DFB-8F8D21FE7E5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Performance – Coding Efficiency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Main focus has been on producing good subjective quality - especially at high resolutions. 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Analysis of subjective results for Class B sequences show that TENTM achiev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743040" indent="-2858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around 30% gain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on average over H.264/AVC High Profile on CS1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743040" indent="-2858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more than 40% gain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on average over H.264/AVC High Profile on CS2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is highly competitive to other proposals with significantly lower complexity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743040" indent="-28584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Very few proposals outperform TENTM consistently but with a small margin (Class B is examined only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7430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67BA-C8BB-4DF0-A77B-4A04EEAA94AD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Performance - Complexity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decoder algorithm has </a:t>
            </a:r>
            <a:r>
              <a:rPr b="0" lang="en-US" sz="2000" spc="-1" strike="noStrike">
                <a:solidFill>
                  <a:srgbClr val="44a51c"/>
                </a:solidFill>
                <a:latin typeface="Nokia Sans Wide"/>
              </a:rPr>
              <a:t>roughly 75% complexity of H.264/AVC Baseline Profile</a:t>
            </a:r>
            <a:r>
              <a:rPr b="0" lang="en-US" sz="2000" spc="-1" strike="noStrike">
                <a:solidFill>
                  <a:srgbClr val="00b050"/>
                </a:solidFill>
                <a:latin typeface="Nokia Sans Wid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(educated guess on typical platforms)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w complexity deblocking and interpolation filter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w complexity VLC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No motion partitions smaller than 8x8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Low complexity B frames (Integer MV for SKIP and DIRECT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decoder runs more than 2x faster than JM17.0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Nokia Sans Wide"/>
              </a:rPr>
              <a:t>Clean implementation with C (no low level optimizations)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TENTM Software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Clean and fast software written from scratch using C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decoder is </a:t>
            </a: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2-3 times faster than JM17.0 deco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encoder is </a:t>
            </a: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25 times faster than JM17.0 enco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TENTM encoder is around </a:t>
            </a: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400 times faster than KTA2.7 encoder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37"/>
              </a:spcBef>
              <a:spcAft>
                <a:spcPts val="337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Because of its low complexity and clean design TENTM software is ideal to test various tools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Easily extendable</a:t>
            </a: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 towards high coding efficiency operating point in collaborative phas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TENTM encoder represents a practical encoder useful for future extension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Entire CS2 test-set is encoded in less than 4 hours on a single core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44a51c"/>
                </a:solidFill>
                <a:latin typeface="Nokia Sans Wide"/>
              </a:rPr>
              <a:t>Does not utilize the full potential of the TENTM syntax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40434-729E-48E6-A0A3-62B9933DC186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Motion Representation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176760" indent="-1767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Following candidates for motion partition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64x64 and 32x32 large MB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16x16 traditional MBs with 16x16, 16x8, 8x16, 8x8 motion partition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7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76760" indent="-1767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Improved SKIP mode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uns of SKIP are always signaled on the 16x16 MB level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KIP MB can have up to two motion vector candidates (selection indicated in the bitstream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otion vectors are rounded to integer for SKIP in B picture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7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76760" indent="-1767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Low complexity DIRECT mode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Motion vectors are rounded to integer to avoid interpol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7676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76760" indent="-1767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Reference index indicate forward, backward or bi-predictive coding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13080" indent="-17928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Reference index is coded predictively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4" name="AutoShape 5"/>
          <p:cNvSpPr/>
          <p:nvPr/>
        </p:nvSpPr>
        <p:spPr>
          <a:xfrm>
            <a:off x="3701880" y="3541680"/>
            <a:ext cx="388620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337"/>
              </a:spcBef>
              <a:spcAft>
                <a:spcPts val="337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DD331-9697-484D-960A-E43661CE7E9E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Motion Representation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188280" indent="-188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2 Reference Frames are used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ncept of long-term reference is used for generating CS2 bitstream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-1882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Nokia Sans Wide"/>
              </a:rPr>
              <a:t>High Quality &amp; Low Complexity Interpolation 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Combination of Directional Interpolation Filters (DIF) and Separable Filters (SF)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1 bit is signaled if the MV points to one of the 9 central positions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DIF uses strong filter for the middle posi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1" marL="653040" indent="-1911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okia Sans Wide"/>
              </a:rPr>
              <a:t>SF rounds the intermediate values to 8-bits to achieve 16-bit operation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88280" indent="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  <p:sp>
        <p:nvSpPr>
          <p:cNvPr id="518" name="AutoShape 5"/>
          <p:cNvSpPr/>
          <p:nvPr/>
        </p:nvSpPr>
        <p:spPr>
          <a:xfrm>
            <a:off x="0" y="0"/>
            <a:ext cx="3886200" cy="6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40e62"/>
              </a:solidFill>
              <a:latin typeface="Nokia Sans Wide"/>
            </a:endParaRPr>
          </a:p>
        </p:txBody>
      </p:sp>
      <p:grpSp>
        <p:nvGrpSpPr>
          <p:cNvPr id="519" name="Group 6"/>
          <p:cNvGrpSpPr/>
          <p:nvPr/>
        </p:nvGrpSpPr>
        <p:grpSpPr>
          <a:xfrm>
            <a:off x="1743120" y="1944720"/>
            <a:ext cx="4433760" cy="2232000"/>
            <a:chOff x="1743120" y="1944720"/>
            <a:chExt cx="4433760" cy="2232000"/>
          </a:xfrm>
        </p:grpSpPr>
        <p:sp>
          <p:nvSpPr>
            <p:cNvPr id="520" name="AutoShape 7"/>
            <p:cNvSpPr/>
            <p:nvPr/>
          </p:nvSpPr>
          <p:spPr>
            <a:xfrm>
              <a:off x="1743120" y="1944720"/>
              <a:ext cx="4433760" cy="223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1" name="Rectangle 8"/>
            <p:cNvSpPr/>
            <p:nvPr/>
          </p:nvSpPr>
          <p:spPr>
            <a:xfrm>
              <a:off x="2313360" y="2318040"/>
              <a:ext cx="51120" cy="12092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2" name="Rectangle 9"/>
            <p:cNvSpPr/>
            <p:nvPr/>
          </p:nvSpPr>
          <p:spPr>
            <a:xfrm>
              <a:off x="3138480" y="2318040"/>
              <a:ext cx="51120" cy="120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3" name="Rectangle 10"/>
            <p:cNvSpPr/>
            <p:nvPr/>
          </p:nvSpPr>
          <p:spPr>
            <a:xfrm>
              <a:off x="2725200" y="2318040"/>
              <a:ext cx="51120" cy="120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4" name="Rectangle 11"/>
            <p:cNvSpPr/>
            <p:nvPr/>
          </p:nvSpPr>
          <p:spPr>
            <a:xfrm>
              <a:off x="3550680" y="2318040"/>
              <a:ext cx="51120" cy="120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5" name="Rectangle 12"/>
            <p:cNvSpPr/>
            <p:nvPr/>
          </p:nvSpPr>
          <p:spPr>
            <a:xfrm>
              <a:off x="3963240" y="2318040"/>
              <a:ext cx="51840" cy="120924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6" name="Rectangle 13"/>
            <p:cNvSpPr/>
            <p:nvPr/>
          </p:nvSpPr>
          <p:spPr>
            <a:xfrm>
              <a:off x="4375800" y="2318040"/>
              <a:ext cx="51120" cy="120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7" name="Rectangle 14"/>
            <p:cNvSpPr/>
            <p:nvPr/>
          </p:nvSpPr>
          <p:spPr>
            <a:xfrm>
              <a:off x="4788720" y="2318040"/>
              <a:ext cx="51840" cy="120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8" name="Rectangle 15"/>
            <p:cNvSpPr/>
            <p:nvPr/>
          </p:nvSpPr>
          <p:spPr>
            <a:xfrm>
              <a:off x="5201280" y="2318040"/>
              <a:ext cx="51120" cy="12092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29" name="Line 16"/>
            <p:cNvSpPr/>
            <p:nvPr/>
          </p:nvSpPr>
          <p:spPr>
            <a:xfrm>
              <a:off x="2337120" y="2836440"/>
              <a:ext cx="38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0" name="Line 17"/>
            <p:cNvSpPr/>
            <p:nvPr/>
          </p:nvSpPr>
          <p:spPr>
            <a:xfrm>
              <a:off x="3162240" y="2837160"/>
              <a:ext cx="3880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1" name="Line 18"/>
            <p:cNvSpPr/>
            <p:nvPr/>
          </p:nvSpPr>
          <p:spPr>
            <a:xfrm>
              <a:off x="2750400" y="2835720"/>
              <a:ext cx="3880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2" name="Line 19"/>
            <p:cNvSpPr/>
            <p:nvPr/>
          </p:nvSpPr>
          <p:spPr>
            <a:xfrm>
              <a:off x="3575160" y="2835000"/>
              <a:ext cx="38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3" name="Line 20"/>
            <p:cNvSpPr/>
            <p:nvPr/>
          </p:nvSpPr>
          <p:spPr>
            <a:xfrm>
              <a:off x="3987000" y="2837880"/>
              <a:ext cx="3880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4" name="Line 21"/>
            <p:cNvSpPr/>
            <p:nvPr/>
          </p:nvSpPr>
          <p:spPr>
            <a:xfrm>
              <a:off x="4400640" y="2838600"/>
              <a:ext cx="38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5" name="Line 22"/>
            <p:cNvSpPr/>
            <p:nvPr/>
          </p:nvSpPr>
          <p:spPr>
            <a:xfrm>
              <a:off x="4813200" y="2839320"/>
              <a:ext cx="38808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6" name="Line 23"/>
            <p:cNvSpPr/>
            <p:nvPr/>
          </p:nvSpPr>
          <p:spPr>
            <a:xfrm>
              <a:off x="5225040" y="2840040"/>
              <a:ext cx="388080" cy="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7" name="Text Box 24"/>
            <p:cNvSpPr/>
            <p:nvPr/>
          </p:nvSpPr>
          <p:spPr>
            <a:xfrm>
              <a:off x="220248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8" name="Text Box 25"/>
            <p:cNvSpPr/>
            <p:nvPr/>
          </p:nvSpPr>
          <p:spPr>
            <a:xfrm>
              <a:off x="261468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39" name="Text Box 26"/>
            <p:cNvSpPr/>
            <p:nvPr/>
          </p:nvSpPr>
          <p:spPr>
            <a:xfrm>
              <a:off x="302724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0" name="Text Box 27"/>
            <p:cNvSpPr/>
            <p:nvPr/>
          </p:nvSpPr>
          <p:spPr>
            <a:xfrm>
              <a:off x="343980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1" name="Text Box 28"/>
            <p:cNvSpPr/>
            <p:nvPr/>
          </p:nvSpPr>
          <p:spPr>
            <a:xfrm>
              <a:off x="3651120" y="3511800"/>
              <a:ext cx="689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QR- 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2" name="Text Box 29"/>
            <p:cNvSpPr/>
            <p:nvPr/>
          </p:nvSpPr>
          <p:spPr>
            <a:xfrm>
              <a:off x="426456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3" name="Text Box 30"/>
            <p:cNvSpPr/>
            <p:nvPr/>
          </p:nvSpPr>
          <p:spPr>
            <a:xfrm>
              <a:off x="467712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4" name="Text Box 31"/>
            <p:cNvSpPr/>
            <p:nvPr/>
          </p:nvSpPr>
          <p:spPr>
            <a:xfrm>
              <a:off x="5090040" y="3511800"/>
              <a:ext cx="25056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5" name="Freeform 32"/>
            <p:cNvSpPr/>
            <p:nvPr/>
          </p:nvSpPr>
          <p:spPr>
            <a:xfrm>
              <a:off x="2337120" y="2249640"/>
              <a:ext cx="801360" cy="1173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6" name="Freeform 33"/>
            <p:cNvSpPr/>
            <p:nvPr/>
          </p:nvSpPr>
          <p:spPr>
            <a:xfrm>
              <a:off x="2342880" y="2183040"/>
              <a:ext cx="1208880" cy="135000"/>
            </a:xfrm>
            <a:custGeom>
              <a:avLst/>
              <a:gdLst>
                <a:gd name="textAreaLeft" fmla="*/ 0 w 1208880"/>
                <a:gd name="textAreaRight" fmla="*/ 1209240 w 12088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7" name="Text Box 34"/>
            <p:cNvSpPr/>
            <p:nvPr/>
          </p:nvSpPr>
          <p:spPr>
            <a:xfrm>
              <a:off x="2945520" y="3728520"/>
              <a:ext cx="2969640" cy="291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QR Period = 4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8" name="Freeform 35"/>
            <p:cNvSpPr/>
            <p:nvPr/>
          </p:nvSpPr>
          <p:spPr>
            <a:xfrm>
              <a:off x="2337120" y="2139120"/>
              <a:ext cx="1608480" cy="135000"/>
            </a:xfrm>
            <a:custGeom>
              <a:avLst/>
              <a:gdLst>
                <a:gd name="textAreaLeft" fmla="*/ 0 w 1608480"/>
                <a:gd name="textAreaRight" fmla="*/ 1608840 w 16084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49" name="Freeform 36"/>
            <p:cNvSpPr/>
            <p:nvPr/>
          </p:nvSpPr>
          <p:spPr>
            <a:xfrm>
              <a:off x="3989160" y="2225160"/>
              <a:ext cx="801360" cy="1173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50" name="Freeform 37"/>
            <p:cNvSpPr/>
            <p:nvPr/>
          </p:nvSpPr>
          <p:spPr>
            <a:xfrm>
              <a:off x="3994920" y="2158560"/>
              <a:ext cx="1208880" cy="135000"/>
            </a:xfrm>
            <a:custGeom>
              <a:avLst/>
              <a:gdLst>
                <a:gd name="textAreaLeft" fmla="*/ 0 w 1208880"/>
                <a:gd name="textAreaRight" fmla="*/ 1209240 w 12088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51" name="Freeform 38"/>
            <p:cNvSpPr/>
            <p:nvPr/>
          </p:nvSpPr>
          <p:spPr>
            <a:xfrm>
              <a:off x="3989160" y="2114280"/>
              <a:ext cx="1608480" cy="135000"/>
            </a:xfrm>
            <a:custGeom>
              <a:avLst/>
              <a:gdLst>
                <a:gd name="textAreaLeft" fmla="*/ 0 w 1608480"/>
                <a:gd name="textAreaRight" fmla="*/ 1608840 w 1608480"/>
                <a:gd name="textAreaTop" fmla="*/ 0 h 135000"/>
                <a:gd name="textAreaBottom" fmla="*/ 135360 h 13500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52" name="Freeform 39"/>
            <p:cNvSpPr/>
            <p:nvPr/>
          </p:nvSpPr>
          <p:spPr>
            <a:xfrm>
              <a:off x="3601800" y="2200320"/>
              <a:ext cx="801360" cy="117360"/>
            </a:xfrm>
            <a:custGeom>
              <a:avLst/>
              <a:gdLst>
                <a:gd name="textAreaLeft" fmla="*/ 0 w 801360"/>
                <a:gd name="textAreaRight" fmla="*/ 801720 w 801360"/>
                <a:gd name="textAreaTop" fmla="*/ 0 h 117360"/>
                <a:gd name="textAreaBottom" fmla="*/ 117720 h 117360"/>
              </a:gdLst>
              <a:ahLst/>
              <a:rect l="textAreaLeft" t="textAreaTop" r="textAreaRight" b="textAreaBottom"/>
              <a:pathLst>
                <a:path w="1109" h="163">
                  <a:moveTo>
                    <a:pt x="0" y="122"/>
                  </a:moveTo>
                  <a:cubicBezTo>
                    <a:pt x="193" y="64"/>
                    <a:pt x="387" y="6"/>
                    <a:pt x="572" y="13"/>
                  </a:cubicBezTo>
                  <a:cubicBezTo>
                    <a:pt x="757" y="20"/>
                    <a:pt x="885" y="0"/>
                    <a:pt x="1109" y="16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sm" type="oval" w="sm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53" name="Rectangle 40"/>
            <p:cNvSpPr/>
            <p:nvPr/>
          </p:nvSpPr>
          <p:spPr>
            <a:xfrm>
              <a:off x="5613120" y="2302200"/>
              <a:ext cx="51840" cy="12092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  <p:sp>
          <p:nvSpPr>
            <p:cNvPr id="554" name="Text Box 41"/>
            <p:cNvSpPr/>
            <p:nvPr/>
          </p:nvSpPr>
          <p:spPr>
            <a:xfrm>
              <a:off x="5328360" y="3511800"/>
              <a:ext cx="689400" cy="29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HQR- P</a:t>
              </a:r>
              <a:endParaRPr b="0" lang="en-US" sz="1200" spc="-1" strike="noStrike">
                <a:solidFill>
                  <a:srgbClr val="e40e62"/>
                </a:solidFill>
                <a:latin typeface="Nokia Sans Wide"/>
              </a:endParaRPr>
            </a:p>
          </p:txBody>
        </p:sp>
      </p:grp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Slide Number Placeholder 4"/>
          <p:cNvSpPr/>
          <p:nvPr/>
        </p:nvSpPr>
        <p:spPr>
          <a:xfrm>
            <a:off x="177840" y="6518160"/>
            <a:ext cx="37296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F9F0-A22F-4C24-8C40-1A86F6A399DC}" type="slidenum">
              <a:rPr b="0" lang="en-US" sz="800" spc="-1" strike="noStrike">
                <a:solidFill>
                  <a:srgbClr val="000000"/>
                </a:solidFill>
                <a:latin typeface="Nokia Sans Wide"/>
              </a:rPr>
              <a:t>&lt;number&gt;</a:t>
            </a:fld>
            <a:endParaRPr b="0" lang="en-US" sz="800" spc="-1" strike="noStrike">
              <a:solidFill>
                <a:srgbClr val="e40e62"/>
              </a:solidFill>
              <a:latin typeface="Nokia Sans Wide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183960" y="-360"/>
            <a:ext cx="9537480" cy="11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Nokia Large"/>
              </a:rPr>
              <a:t>Intra Frame Prediction</a:t>
            </a:r>
            <a:endParaRPr b="1" lang="en-US" sz="3200" spc="-1" strike="noStrike">
              <a:solidFill>
                <a:srgbClr val="0033cc"/>
              </a:solidFill>
              <a:latin typeface="Nokia Large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3680" y="1128600"/>
            <a:ext cx="9539280" cy="4972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92240" indent="-192240">
              <a:spcBef>
                <a:spcPts val="374"/>
              </a:spcBef>
              <a:spcAft>
                <a:spcPts val="374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Nokia Sans Wide"/>
              </a:rPr>
              <a:t>Following INTRA prediction alternatives:</a:t>
            </a: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INTRA 16x16 : DC, vertical, horizontal and planar prediction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Nokia Sans Wide"/>
              </a:rPr>
              <a:t>Planar prediction reconstructs smooth regions in a visually pleasing way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INTRA 8x8 : DC and angular prediction with 32 directions.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-195120">
              <a:spcBef>
                <a:spcPts val="300"/>
              </a:spcBef>
              <a:spcAft>
                <a:spcPts val="300"/>
              </a:spcAft>
              <a:buClr>
                <a:srgbClr val="0033cc"/>
              </a:buClr>
              <a:buFont typeface="Nokia Sans Wide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Nokia Sans Wide"/>
              </a:rPr>
              <a:t>Angular prediction reconstructs directional structures in a visually pleasing way by defining additional prediction directions</a:t>
            </a: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2" marL="1147680" indent="0">
              <a:spcBef>
                <a:spcPts val="300"/>
              </a:spcBef>
              <a:spcAft>
                <a:spcPts val="300"/>
              </a:spcAft>
              <a:buNone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600" spc="-1" strike="noStrike">
              <a:solidFill>
                <a:srgbClr val="000000"/>
              </a:solidFill>
              <a:latin typeface="Nokia Sans Wide"/>
            </a:endParaRPr>
          </a:p>
          <a:p>
            <a:pPr lvl="1" marL="666720" indent="-195120">
              <a:spcBef>
                <a:spcPts val="337"/>
              </a:spcBef>
              <a:spcAft>
                <a:spcPts val="337"/>
              </a:spcAft>
              <a:buClr>
                <a:srgbClr val="0033cc"/>
              </a:buClr>
              <a:buFont typeface="Nokia Sans Wide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Nokia Sans Wide"/>
              </a:rPr>
              <a:t>INTRA 4x4 : DC, vertical, and horizontal. </a:t>
            </a:r>
            <a:endParaRPr b="0" lang="en-US" sz="18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  <a:p>
            <a:pPr marL="192240" indent="0">
              <a:spcBef>
                <a:spcPts val="374"/>
              </a:spcBef>
              <a:spcAft>
                <a:spcPts val="374"/>
              </a:spcAft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Nokia Sans Wide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2T16:33:40Z</dcterms:created>
  <dc:creator>Ugur Kemal</dc:creator>
  <dc:description/>
  <cp:keywords/>
  <dc:language>en-US</dc:language>
  <cp:lastModifiedBy>Ugur Kemal</cp:lastModifiedBy>
  <cp:lastPrinted>1998-09-04T08:04:32Z</cp:lastPrinted>
  <dcterms:modified xsi:type="dcterms:W3CDTF">2010-04-16T06:12:35Z</dcterms:modified>
  <cp:revision>32</cp:revision>
  <dc:subject/>
  <dc:title>Slide 1</dc:title>
</cp:coreProperties>
</file>