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4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5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7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7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41528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JCTVC-A116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Video Coding Technology Proposal</a:t>
            </a:r>
            <a:br>
              <a:rPr sz="2800"/>
            </a:b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by Fraunhofer HHI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4076640"/>
            <a:ext cx="633564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. Winken, S. Boße, B. Bross, P. Helle, T. Hinz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. Kirchhoffer, H. Lakshman, D. Marpe, S. Oudi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Preiß, H. Schwarz, M. Siekman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. Sühring, T. Wieg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Motion Vector Prediction and Cod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leaved motion vector prediction and 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of referen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of neighbouring block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same referenc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diction of vertical compon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median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of vertical componen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differenc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of neighbouring mo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ctors with minimum absolut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ce in vertic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diction of horizontal compon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selected motion vec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ingle vector or median pre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of horizont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1800360" cy="150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6012000" y="3759120"/>
            <a:ext cx="25398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Motion Partition Merg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0000" y="1052640"/>
            <a:ext cx="798696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side information rate for mo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ive inference of motion information from neighbouring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predicted partitions (prediction bl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alling using up to two flags per inter prediction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3616200" y="3444840"/>
            <a:ext cx="46436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: region with the same motion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first block of R in the decoding ord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(transmission of motion 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remaining blocks of the region R only up to two flags specifying the merging information are co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728720" y="3898800"/>
            <a:ext cx="547920" cy="538200"/>
          </a:xfrm>
          <a:prstGeom prst="rect">
            <a:avLst/>
          </a:prstGeom>
          <a:solidFill>
            <a:srgbClr val="6db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187280" y="3357720"/>
            <a:ext cx="1079640" cy="10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70160" y="3357720"/>
            <a:ext cx="1079640" cy="10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87280" y="4437000"/>
            <a:ext cx="1079640" cy="1081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270160" y="4437000"/>
            <a:ext cx="1079640" cy="1081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7"/>
          <p:cNvCxnSpPr/>
          <p:nvPr/>
        </p:nvCxnSpPr>
        <p:spPr>
          <a:xfrm>
            <a:off x="1727280" y="3357360"/>
            <a:ext cx="2160" cy="21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8"/>
          <p:cNvCxnSpPr/>
          <p:nvPr/>
        </p:nvCxnSpPr>
        <p:spPr>
          <a:xfrm>
            <a:off x="1186920" y="3897360"/>
            <a:ext cx="2163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AutoShape 9"/>
          <p:cNvCxnSpPr/>
          <p:nvPr/>
        </p:nvCxnSpPr>
        <p:spPr>
          <a:xfrm>
            <a:off x="1187280" y="4978080"/>
            <a:ext cx="108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AutoShape 10"/>
          <p:cNvCxnSpPr/>
          <p:nvPr/>
        </p:nvCxnSpPr>
        <p:spPr>
          <a:xfrm>
            <a:off x="2809440" y="3357720"/>
            <a:ext cx="2520" cy="108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Rectangle 11"/>
          <p:cNvSpPr/>
          <p:nvPr/>
        </p:nvSpPr>
        <p:spPr>
          <a:xfrm>
            <a:off x="1728720" y="4978440"/>
            <a:ext cx="1621080" cy="538200"/>
          </a:xfrm>
          <a:prstGeom prst="rect">
            <a:avLst/>
          </a:prstGeom>
          <a:solidFill>
            <a:srgbClr val="6dbf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728720" y="4433760"/>
            <a:ext cx="1629000" cy="544680"/>
          </a:xfrm>
          <a:prstGeom prst="rect">
            <a:avLst/>
          </a:prstGeom>
          <a:solidFill>
            <a:srgbClr val="6dbf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257560" y="3897360"/>
            <a:ext cx="552240" cy="536400"/>
          </a:xfrm>
          <a:prstGeom prst="rect">
            <a:avLst/>
          </a:prstGeom>
          <a:solidFill>
            <a:srgbClr val="6dbf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973160" y="4017960"/>
            <a:ext cx="10000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Arrow 36"/>
          <p:cNvSpPr/>
          <p:nvPr/>
        </p:nvSpPr>
        <p:spPr>
          <a:xfrm>
            <a:off x="2116080" y="408924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dbfa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n Arrow 37"/>
          <p:cNvSpPr/>
          <p:nvPr/>
        </p:nvSpPr>
        <p:spPr>
          <a:xfrm>
            <a:off x="1901880" y="430380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6dbfa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Signalling of Motion Partition Merg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0000" y="328428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rge_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ted if one or both neighbours are inter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qual to 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X is merged with one of the neighb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on data are transmitted for block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rge_left_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ted if merge_flag is equal to 1 and both neighbours are inter-coded with different motion parameters (inferred otherw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es whether current block is merged with left or top neigh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1415520" y="1146240"/>
            <a:ext cx="1870560" cy="1711800"/>
            <a:chOff x="1415520" y="1146240"/>
            <a:chExt cx="1870560" cy="1711800"/>
          </a:xfrm>
        </p:grpSpPr>
        <p:sp>
          <p:nvSpPr>
            <p:cNvPr id="136" name="Rectangle 2"/>
            <p:cNvSpPr/>
            <p:nvPr/>
          </p:nvSpPr>
          <p:spPr>
            <a:xfrm>
              <a:off x="1415880" y="1146240"/>
              <a:ext cx="1869480" cy="1711440"/>
            </a:xfrm>
            <a:prstGeom prst="rect">
              <a:avLst/>
            </a:prstGeom>
            <a:solidFill>
              <a:srgbClr val="6dbfa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AutoShape 3"/>
            <p:cNvCxnSpPr>
              <a:stCxn id="136" idx="1"/>
              <a:endCxn id="136" idx="3"/>
            </p:cNvCxnSpPr>
            <p:nvPr/>
          </p:nvCxnSpPr>
          <p:spPr>
            <a:xfrm>
              <a:off x="1415520" y="2001960"/>
              <a:ext cx="18702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AutoShape 4"/>
            <p:cNvCxnSpPr>
              <a:stCxn id="136" idx="0"/>
              <a:endCxn id="136" idx="2"/>
            </p:cNvCxnSpPr>
            <p:nvPr/>
          </p:nvCxnSpPr>
          <p:spPr>
            <a:xfrm>
              <a:off x="2350440" y="1146240"/>
              <a:ext cx="1440" cy="171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Rectangle 5"/>
            <p:cNvSpPr/>
            <p:nvPr/>
          </p:nvSpPr>
          <p:spPr>
            <a:xfrm>
              <a:off x="2351160" y="1146600"/>
              <a:ext cx="934560" cy="855720"/>
            </a:xfrm>
            <a:prstGeom prst="rect">
              <a:avLst/>
            </a:prstGeom>
            <a:solidFill>
              <a:srgbClr val="6dbfa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AutoShape 6"/>
            <p:cNvCxnSpPr>
              <a:stCxn id="139" idx="1"/>
              <a:endCxn id="139" idx="3"/>
            </p:cNvCxnSpPr>
            <p:nvPr/>
          </p:nvCxnSpPr>
          <p:spPr>
            <a:xfrm>
              <a:off x="2351160" y="1574280"/>
              <a:ext cx="93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AutoShape 7"/>
            <p:cNvCxnSpPr>
              <a:stCxn id="139" idx="0"/>
              <a:endCxn id="139" idx="2"/>
            </p:cNvCxnSpPr>
            <p:nvPr/>
          </p:nvCxnSpPr>
          <p:spPr>
            <a:xfrm>
              <a:off x="2818440" y="1146240"/>
              <a:ext cx="1080" cy="85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Text Box 9"/>
          <p:cNvSpPr/>
          <p:nvPr/>
        </p:nvSpPr>
        <p:spPr>
          <a:xfrm>
            <a:off x="1643040" y="1357200"/>
            <a:ext cx="3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428920" y="1143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28920" y="164304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16"/>
          <p:cNvSpPr/>
          <p:nvPr/>
        </p:nvSpPr>
        <p:spPr>
          <a:xfrm>
            <a:off x="2286000" y="1714680"/>
            <a:ext cx="214200" cy="14256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6dbfa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17"/>
          <p:cNvSpPr/>
          <p:nvPr/>
        </p:nvSpPr>
        <p:spPr>
          <a:xfrm rot="5400000">
            <a:off x="2463840" y="153576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6dbfa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3429000" y="1214280"/>
            <a:ext cx="514368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: current inter-coded prediction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:  left neighbour of current block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:  top neighbour of current block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Sub-Sample Interpolation for Inter Predic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2781360"/>
            <a:ext cx="79869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daptive sub-sample 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is based on interpolation with MO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ic functions with Maximal Order and Minimal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in 16-bit integer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separable IIR pre-filter (one coeffic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separable FIR interpolation filter with short support (4-t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IIR and FIR filter steps are highly paralle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761400" y="1279440"/>
            <a:ext cx="8281080" cy="1069920"/>
            <a:chOff x="761400" y="1279440"/>
            <a:chExt cx="8281080" cy="1069920"/>
          </a:xfrm>
        </p:grpSpPr>
        <p:sp>
          <p:nvSpPr>
            <p:cNvPr id="151" name="AutoShape 56"/>
            <p:cNvSpPr/>
            <p:nvPr/>
          </p:nvSpPr>
          <p:spPr>
            <a:xfrm>
              <a:off x="1955520" y="1279440"/>
              <a:ext cx="65534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0"/>
            <p:cNvSpPr/>
            <p:nvPr/>
          </p:nvSpPr>
          <p:spPr>
            <a:xfrm>
              <a:off x="2039040" y="1679400"/>
              <a:ext cx="775440" cy="3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1"/>
            <p:cNvSpPr/>
            <p:nvPr/>
          </p:nvSpPr>
          <p:spPr>
            <a:xfrm>
              <a:off x="2115000" y="17208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2"/>
            <p:cNvSpPr/>
            <p:nvPr/>
          </p:nvSpPr>
          <p:spPr>
            <a:xfrm>
              <a:off x="2744280" y="1720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3"/>
            <p:cNvSpPr/>
            <p:nvPr/>
          </p:nvSpPr>
          <p:spPr>
            <a:xfrm>
              <a:off x="2166120" y="18619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IR Filt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4"/>
            <p:cNvSpPr/>
            <p:nvPr/>
          </p:nvSpPr>
          <p:spPr>
            <a:xfrm>
              <a:off x="2693520" y="1861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5"/>
            <p:cNvSpPr/>
            <p:nvPr/>
          </p:nvSpPr>
          <p:spPr>
            <a:xfrm>
              <a:off x="3346560" y="1679400"/>
              <a:ext cx="727920" cy="3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6"/>
            <p:cNvSpPr/>
            <p:nvPr/>
          </p:nvSpPr>
          <p:spPr>
            <a:xfrm>
              <a:off x="3480120" y="171432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7"/>
            <p:cNvSpPr/>
            <p:nvPr/>
          </p:nvSpPr>
          <p:spPr>
            <a:xfrm>
              <a:off x="3943080" y="1714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8"/>
            <p:cNvSpPr/>
            <p:nvPr/>
          </p:nvSpPr>
          <p:spPr>
            <a:xfrm>
              <a:off x="3450240" y="18619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IR Filt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9"/>
            <p:cNvSpPr/>
            <p:nvPr/>
          </p:nvSpPr>
          <p:spPr>
            <a:xfrm>
              <a:off x="3976560" y="1861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0"/>
            <p:cNvSpPr/>
            <p:nvPr/>
          </p:nvSpPr>
          <p:spPr>
            <a:xfrm>
              <a:off x="5557320" y="1679400"/>
              <a:ext cx="861120" cy="3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1"/>
            <p:cNvSpPr/>
            <p:nvPr/>
          </p:nvSpPr>
          <p:spPr>
            <a:xfrm>
              <a:off x="5654520" y="1714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2"/>
            <p:cNvSpPr/>
            <p:nvPr/>
          </p:nvSpPr>
          <p:spPr>
            <a:xfrm>
              <a:off x="5690160" y="171432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izontal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3"/>
            <p:cNvSpPr/>
            <p:nvPr/>
          </p:nvSpPr>
          <p:spPr>
            <a:xfrm>
              <a:off x="6360840" y="1714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4"/>
            <p:cNvSpPr/>
            <p:nvPr/>
          </p:nvSpPr>
          <p:spPr>
            <a:xfrm>
              <a:off x="5701680" y="186192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 Filt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5"/>
            <p:cNvSpPr/>
            <p:nvPr/>
          </p:nvSpPr>
          <p:spPr>
            <a:xfrm>
              <a:off x="6275160" y="1861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6"/>
            <p:cNvSpPr/>
            <p:nvPr/>
          </p:nvSpPr>
          <p:spPr>
            <a:xfrm>
              <a:off x="6980400" y="1679400"/>
              <a:ext cx="773640" cy="3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7"/>
            <p:cNvSpPr/>
            <p:nvPr/>
          </p:nvSpPr>
          <p:spPr>
            <a:xfrm>
              <a:off x="7134840" y="171432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8"/>
            <p:cNvSpPr/>
            <p:nvPr/>
          </p:nvSpPr>
          <p:spPr>
            <a:xfrm>
              <a:off x="7597440" y="1714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9"/>
            <p:cNvSpPr/>
            <p:nvPr/>
          </p:nvSpPr>
          <p:spPr>
            <a:xfrm>
              <a:off x="7077960" y="186192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 Filt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0"/>
            <p:cNvSpPr/>
            <p:nvPr/>
          </p:nvSpPr>
          <p:spPr>
            <a:xfrm>
              <a:off x="7656480" y="1861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1"/>
            <p:cNvSpPr/>
            <p:nvPr/>
          </p:nvSpPr>
          <p:spPr>
            <a:xfrm>
              <a:off x="2807640" y="1825560"/>
              <a:ext cx="53892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2"/>
            <p:cNvSpPr/>
            <p:nvPr/>
          </p:nvSpPr>
          <p:spPr>
            <a:xfrm>
              <a:off x="4089240" y="1812960"/>
              <a:ext cx="1447560" cy="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3"/>
            <p:cNvSpPr/>
            <p:nvPr/>
          </p:nvSpPr>
          <p:spPr>
            <a:xfrm>
              <a:off x="6406200" y="1825560"/>
              <a:ext cx="57384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4"/>
            <p:cNvSpPr/>
            <p:nvPr/>
          </p:nvSpPr>
          <p:spPr>
            <a:xfrm>
              <a:off x="1758960" y="1825560"/>
              <a:ext cx="27972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5"/>
            <p:cNvSpPr/>
            <p:nvPr/>
          </p:nvSpPr>
          <p:spPr>
            <a:xfrm>
              <a:off x="7749000" y="1825560"/>
              <a:ext cx="222120" cy="7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6"/>
            <p:cNvSpPr/>
            <p:nvPr/>
          </p:nvSpPr>
          <p:spPr>
            <a:xfrm>
              <a:off x="1872720" y="1508040"/>
              <a:ext cx="2317320" cy="841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7"/>
            <p:cNvSpPr/>
            <p:nvPr/>
          </p:nvSpPr>
          <p:spPr>
            <a:xfrm>
              <a:off x="5443560" y="1508040"/>
              <a:ext cx="2424240" cy="841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8"/>
            <p:cNvSpPr/>
            <p:nvPr/>
          </p:nvSpPr>
          <p:spPr>
            <a:xfrm>
              <a:off x="2745000" y="217476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filte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9"/>
            <p:cNvSpPr/>
            <p:nvPr/>
          </p:nvSpPr>
          <p:spPr>
            <a:xfrm>
              <a:off x="3225600" y="2174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0"/>
            <p:cNvSpPr/>
            <p:nvPr/>
          </p:nvSpPr>
          <p:spPr>
            <a:xfrm>
              <a:off x="6051600" y="216216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pola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1"/>
            <p:cNvSpPr/>
            <p:nvPr/>
          </p:nvSpPr>
          <p:spPr>
            <a:xfrm>
              <a:off x="6819840" y="21621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2"/>
            <p:cNvSpPr/>
            <p:nvPr/>
          </p:nvSpPr>
          <p:spPr>
            <a:xfrm>
              <a:off x="1803240" y="176832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3"/>
            <p:cNvSpPr/>
            <p:nvPr/>
          </p:nvSpPr>
          <p:spPr>
            <a:xfrm>
              <a:off x="3036960" y="165564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4"/>
            <p:cNvSpPr/>
            <p:nvPr/>
          </p:nvSpPr>
          <p:spPr>
            <a:xfrm>
              <a:off x="2882880" y="165564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88"/>
            <p:cNvSpPr/>
            <p:nvPr/>
          </p:nvSpPr>
          <p:spPr>
            <a:xfrm>
              <a:off x="761400" y="1662120"/>
              <a:ext cx="101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Reference Pictu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Arial"/>
                </a:rPr>
                <a:t>size: W x 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8"/>
            <p:cNvSpPr/>
            <p:nvPr/>
          </p:nvSpPr>
          <p:spPr>
            <a:xfrm>
              <a:off x="8021880" y="1508040"/>
              <a:ext cx="1020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Up-sample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Reference Pictu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Arial"/>
                </a:rPr>
                <a:t>size: 4W x 4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8"/>
            <p:cNvSpPr/>
            <p:nvPr/>
          </p:nvSpPr>
          <p:spPr>
            <a:xfrm>
              <a:off x="4318200" y="1508040"/>
              <a:ext cx="1020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Arial"/>
                </a:rPr>
                <a:t>Pre-filtere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Reference Pictu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Arial"/>
                </a:rPr>
                <a:t>size: W x 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IIR Pre-filter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D IIR Filter in horizontal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 and anti-causal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IIR Filter in vertical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e value (scaled b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17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685880" y="2060640"/>
                <a:ext cx="57722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</m:mr>
                      <m:mr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roun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W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  <m:e/>
                      </m:mr>
                      <m:mr>
                        <m:e>
                          <m:r>
                            <m:t xml:space="preserve">c</m:t>
                          </m:r>
                          <m:r>
                            <m:t xml:space="preserve">'</m:t>
                          </m:r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oun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'</m:t>
                          </m:r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W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FIR Interpolation Filter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tap FIR Filter (scaled b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ed in horizontal direction on pre-filtered reference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ed in vertical direction on horizontal filtered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able for arbitrary motion vector accur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/8, 1/12, 1/16 luma sampl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FIR kernel while maintaining the same IIR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1717560"/>
          <a:ext cx="6275160" cy="1486080"/>
        </p:xfrm>
        <a:graphic>
          <a:graphicData uri="http://schemas.openxmlformats.org/drawingml/2006/table">
            <a:tbl>
              <a:tblPr/>
              <a:tblGrid>
                <a:gridCol w="1996920"/>
                <a:gridCol w="1066680"/>
                <a:gridCol w="1124280"/>
                <a:gridCol w="1123920"/>
                <a:gridCol w="963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 S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6242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85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2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¼ S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2889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78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20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 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S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1073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1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1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 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 S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280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20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78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9 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Filtering inside Motion-Compensation Loop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00000" y="1196640"/>
            <a:ext cx="79869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blocking fil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as in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for larger block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aptive In-Loop Fil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ble Wiener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tical filtering followed by horizontal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ly different filters in horizontal and vertical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ter size is chosen by minimizing a Lagrangian cost 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ed filter sizes are 3, 5, 7, 9, and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ters are separately estimated for luma and chroma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ters may be re-used for reducing the sid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Adaptive In-Loop filter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d-tree based block-wise filter 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d-tree is independ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prediction part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d-tree is transmit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id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ion of filter coeffic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te filter coefficients and filter size for entir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e quad-tree based filte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estimate filter coefficients and filter size for select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istrator\Desktop\InLoopFilterBlocks_ov.bmp"/>
          <p:cNvPicPr/>
          <p:nvPr/>
        </p:nvPicPr>
        <p:blipFill>
          <a:blip r:embed="rId1"/>
          <a:stretch/>
        </p:blipFill>
        <p:spPr>
          <a:xfrm>
            <a:off x="4788000" y="1557360"/>
            <a:ext cx="3747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Transform Coding of Prediction Residual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00000" y="836280"/>
            <a:ext cx="81360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ation of prediction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into transform blocks using a quad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zation of the partitioning into transform blo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and minimum transform size are signal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d-tree nodes between these bound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sion flags are 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1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2968560" cy="2051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334880" y="378936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231240" y="378936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x. transform 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230880" y="573408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in. transform 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5148360" y="4005360"/>
            <a:ext cx="1079280" cy="57600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5148360" y="5518080"/>
            <a:ext cx="1079280" cy="3589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5796000" y="4508640"/>
            <a:ext cx="288720" cy="79200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156360" y="4581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ransmit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ubdivision fla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Transform Cod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2920" y="105228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 ker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ble NxN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approximations of DCT-II kerne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tained by scaling and rounding of DCT-II ker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it integer implementation with multiplications and add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mploying symmetries of basis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transform kernels haven’t been optimized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complexity implementations (using bit shifts and ad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scalar quantization without extra dead-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 quantizers with logarithmically increasing ste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5940360" y="3573360"/>
            <a:ext cx="2421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ized Picture Partitioning for Prediction and Transform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alling using two nested quad-tre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dec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tial intra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on representation 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ging of motion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-sample interpolation for inter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Loop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orm coding of prediction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opy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coder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erage Objective Coding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vel entropy cod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arization and context modelling as in CABAC of H.264/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ed coding of binary decisions (b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PB probabilities are quantized (12 classes in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 bin encoders for each class (fixed LPB proba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igh degree of paralle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ariable length cod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compromising coding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900000" y="4160880"/>
            <a:ext cx="7993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Arithmetic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allelization for large slice data 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rithmetic coders are operated at fixed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codewords for the different bin encoders are written to different partitions of the slice data 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of the slice data NAL unit is signalled in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arithmetic decoders can be operate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ing entropy coding process simply reads bins from multiple bin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bling multi-codeword approach for small sl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ization is not required for small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head of partitioning information can be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of conventional arithmetic coding engine for small slic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ignalled in slice he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ithmetic coding is used in submitted bitstr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Variable Length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ternative to arithmetic coding eng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encoders/decod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e at fixed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coding engin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replaced by sim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-length 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coders map a variab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bin onto 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-length codewor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termination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sequences at th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of a sl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e shortest code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2320" y="2637000"/>
          <a:ext cx="3056040" cy="3017520"/>
        </p:xfrm>
        <a:graphic>
          <a:graphicData uri="http://schemas.openxmlformats.org/drawingml/2006/table">
            <a:tbl>
              <a:tblPr/>
              <a:tblGrid>
                <a:gridCol w="1528920"/>
                <a:gridCol w="1527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sequ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wor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 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51"/>
          <p:cNvSpPr/>
          <p:nvPr/>
        </p:nvSpPr>
        <p:spPr>
          <a:xfrm>
            <a:off x="5219640" y="1773360"/>
            <a:ext cx="316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NB2VLC mapping for P=0.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0.25% overhead relative to entrop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tropy Coding with Variable Length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eword interle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leaving of code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n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word buffer at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ntaneous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-delay interle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ation of maximu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ffe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word termination a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der and decoder i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delay is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ing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less transcoding of submitted bitstreams showed virtually the same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% rate savings with codeword inter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0% rate savings with low-delay control (64 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848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coder Control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ding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cal B pictures for constraint set 1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-delay hierarchical P pictures for constraint set 2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tion esti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-constrained motion estimation (as in JM, JSVM, JM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integer sample motion search (same as in JSVM, JM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-sample refinemen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ntization (for a transform blo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-distortion optimized quantization (RDO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s in J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ding mode decision (for a prediction blo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-constrained mode decision (as in JM, JSVM, JM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rt criterion for complexity red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 modes are not test, if for the int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ransform coefficient levels (RDOQ) are equal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ransform coefficients are below a certain threshold (depending on quantization step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Encoder Control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ion of Prediction and Transform Se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p-to-bottom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th-first decision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abort criter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 is based 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grangia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abort criterion as for coding mod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er blocks are not tested,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form coefficient levels (RDOQ) are equal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form coefficients are smaller than a thresho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reshold is depending on quantization step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quad-tree structure for reducing the computational complexity of the partition se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17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Average Objective Coding Efficiency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00000" y="1052640"/>
          <a:ext cx="7986960" cy="4727520"/>
        </p:xfrm>
        <a:graphic>
          <a:graphicData uri="http://schemas.openxmlformats.org/drawingml/2006/table">
            <a:tbl>
              <a:tblPr/>
              <a:tblGrid>
                <a:gridCol w="1295640"/>
                <a:gridCol w="1368360"/>
                <a:gridCol w="1512720"/>
                <a:gridCol w="1800360"/>
                <a:gridCol w="200988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Set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Set 2 (beta ancho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(Low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(High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w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igh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0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.8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.5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0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61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.35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87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3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2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.2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48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45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6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66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9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7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12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.5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6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Avera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29.87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29.3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22.71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-21.27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Softwar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C++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s under Windows and Linux (32/64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modular design and easy exten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m code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~55.000 LOC (vs. ~150.000 LOC for JM 17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ly no redundan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naming of variables and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xternal librarie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 multi-threaded encoding (boost-library need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encoding of independent pictures (depends on the GOP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regard multi-threading related issues when changing the encoding algorithm inside of 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S1 bitstreams were encoded almost 8 times faster than single-threaded (on a computer with 8 c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brid video cod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ization of H.264/AVC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of larger block sizes for prediction and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exible quad-tree based partitioning into prediction bloc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ith additional merging for inter-coded bl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exible quad-tree based partitioning into transform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tial intr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-compensated prediction using non-adaptiv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locking and adaptive loo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entropy coding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erage objective coding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9-30% bit rate savings for high-dela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22% bit rate savings for low-dela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Basic Approach &amp; Summary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concepts in H.264/AV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use a simple structure to show pot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brid video cod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ual generalization of the H.264/AVC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individual building blocks (similar as in H.264/AV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r prediction and transform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exible partitioning in prediction and transform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nested quad-tree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ing for inter-coded 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tial intr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-compensated prediction (non-adaptive fil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locking and adaptive in-loo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entropy coding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parallelized entropy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usage of VLC without compromis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-level syntax is similar to H.264/A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quence parameter 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ture paramete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l bit dep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racy of 14 bit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 predictio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-compensated predictio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nstructed residua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ing to 8 bits after reconstruction of a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 pictures have an accuracy of 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Picture Subdivision for Prediction and Cod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ized picture plane grou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of the colour planes into plane group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ith the possibility of inter-plane prediction of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partitioning and coding parameters for a plan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mitted bitstreams: Single plane group (Y,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dtree-based partitioning of the plane 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sion of a plane group into square blocks (“tree blocks”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maximum 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um block size 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alled in slice head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64x64 for submitted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dtree-based subdivision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ree block into prediction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orm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580000" y="4149720"/>
            <a:ext cx="27622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Partitioning for Prediction and Transform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nested quad-tree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into prediction blocks (intra or inter 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of prediction blocks into transform bloc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pecifying the transform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917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Intra predic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tial intra prediction using neighbouring sampl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conceptually similar to H.264/AV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ization of H.264/AVC intra predicti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rbitrary 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directiona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 predic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C predic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ive smoothing of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ighbouring samp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ignalled via a 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tap filter (1,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42480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Motion Representati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ized multi-hypothesis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two motion hypothesis ar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up to two hypothesis are used for the submitted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motion hypothesis is specifi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ference list index (into a single reference picture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placement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placement vector accuracy is selectable on a slic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rter-luma sample accuracy used in submitted bit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on vector prediction and 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leaved prediction and coding of horizontal and vertical displacement vecto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 partition merging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ference of motion information from neighbou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kipped or Direct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0:27:48Z</dcterms:created>
  <dc:creator>Heiko Schwarz</dc:creator>
  <dc:description/>
  <cp:keywords/>
  <dc:language>en-US</dc:language>
  <cp:lastModifiedBy>Author</cp:lastModifiedBy>
  <cp:lastPrinted>1999-11-25T15:32:02Z</cp:lastPrinted>
  <dcterms:modified xsi:type="dcterms:W3CDTF">2010-04-16T10:58:10Z</dcterms:modified>
  <cp:revision>68</cp:revision>
  <dc:subject/>
  <dc:title>JCTVC-A116  Video Coding Technology Proposal by Fraunhofer HHI</dc:title>
</cp:coreProperties>
</file>