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D784-18B1-49F6-98E8-5DC1237C1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9600" y="471924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5E71-0975-442E-ABBD-5B5281934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7305-CB0A-4C46-8FC1-89035A649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76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960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76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226A-F844-4FA0-AA30-8262E9E29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9600" y="2421000"/>
            <a:ext cx="8524800" cy="66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4B76-D161-4A61-BEE4-A75EC645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784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600" y="471924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784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176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407988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60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176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719240"/>
            <a:ext cx="274464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CFB5-B3FF-4CD9-9AD5-930830AB4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7B25-285D-4715-B980-FCFE707F7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1F61-555C-4FFD-BC2E-A0EDEFD56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9600" y="2421000"/>
            <a:ext cx="8524800" cy="66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F4EA-B833-41AF-B013-8BDAC6688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DB65-1800-45F0-B27B-221D8204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71924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09F9-2ADB-48F7-9BB6-4E8D542A0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960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4079880"/>
            <a:ext cx="4159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9600" y="4719240"/>
            <a:ext cx="8524800" cy="5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0CA2-C3A1-4282-8416-D54EF5BC1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62C-A395-474C-8895-FC63CF9355D5}" type="slidenum">
              <a:rPr b="0" lang="ja-JP" sz="10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</a:rPr>
              <a:t>JCTVC-A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</a:rPr>
              <a:t>JCTVC-A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ed6d00"/>
              </a:buClr>
              <a:buFont typeface="Arial"/>
              <a:buChar char="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chnical Description of MediaTek’s Proposal to the JCT-VC Cf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</a:rPr>
              <a:t>JCTVC-A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ed by Yu-Wen Hu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CT Meeting in Dres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3 April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u-Wen Huang, Chih-Ming Fu, Yu-Pao Tsai, Jian-Liang Lin, Yulin Chang, Jyh-Huei Guo, Ching-Yeh Chen, Shawmin Lei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un Guo, Yongying Gao, Kai Zhang, Jicheng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4x4/8x8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ed Block Intra Prediction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intra 4x4 macroblocks (I4MB) and intra 8x8 macroblocks (I8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n obip_flag for each I4MB or I8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p_flag = 1: use OB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p_flag = 0: use H.264 intr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91788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1440" y="391788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319896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14240" y="4941720"/>
                <a:ext cx="7456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sub>
                      <m:sup/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d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140360" y="463716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Current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859280" y="449568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71644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Final Predi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78640" y="5716440"/>
            <a:ext cx="17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H.264 Predi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7080" y="558972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Off-line Trained Weighting Values, All Fixed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A894-FBB2-4CD8-BF4D-2C6E79F446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ra 16x16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modes allowed for an intra 16x16 macroblock (I16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 to the 9 intra 4x4/8x8 predic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 mode 4 is replaced by Intra_16x16_Plan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日期占位符 5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4E4-1F0A-4C01-B34E-A4C50F14D172}" type="datetime">
              <a:rPr b="0" lang="ja-JP" sz="1000" spc="-1" strike="noStrike">
                <a:solidFill>
                  <a:srgbClr val="ffffff"/>
                </a:solidFill>
                <a:latin typeface="Arial"/>
                <a:ea typeface="標楷體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標楷體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263-908F-4DF8-962A-0E4064BA87C3}" type="slidenum">
              <a:rPr b="0" lang="ja-JP" sz="10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1609-E0C5-4CAC-870C-42B337B7E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Prediction Mode Co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2659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Dependent Mode Representation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D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4MB, I8MB, and I16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= (MA, MB) = modes of the two neighbo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ontext, maintain a unique set of statist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CABAC binarization according to the up-to-date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4496-23CE-46B7-AC8A-FBCD51242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 Trans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transform size is 16x16 in 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2-point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better energy concen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ransform sizes: 32x32, 32x16, 16x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E943-D2A7-4D22-987C-675CCACD0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Trans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odel Karhunen-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Transform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MK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DC, each prediction mode has 3 transform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* ( 9 -1 ) + 1 = 25 different transforms for each of I4MB, I8MB, and I16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form class can be switched at MB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 transform coefficients are off-line tr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x4 transforms are nonsepa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x8 transforms and 16x16 transforms are sepa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B5A0-C189-4924-A91A-87441328D2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of Quantized Transform Coeffici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scan developed for intra macro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r the nonzero probability, the earlier the position is scan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like Mode Dependent Directional Transform (MDDT), sorting after coding each MB is avo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g-zag scan adopted for inter macro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7892-2CAD-4E4F-B81E-27FB6363EB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Loop Fil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tree-based Adaptive Loop Filter (QALF), by Toshiba, in ITU-T SG16 C181 and VCEG-AK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Multiple Quadtree-based Adaptive Loop Filter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QA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enhanced Q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quadtree picture partitions by applying the enhanced QALF on each to-be-tested par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C2AC-A4E9-4A89-B1EC-EC75BCE7D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dtree Picture Partitio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a picture into quadtree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down splitting with rate distortion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550120" cy="409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A3A8-FB7D-49ED-8F93-8BBC1BDDDE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for One Part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one partition as an input image of QALF with the following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filter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delayed filtering without transmitting any filter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prediction of new filt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in one partition can select “filter on / off” or “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71880" y="3807000"/>
            <a:ext cx="4800600" cy="240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5A2C-ACBD-488E-91F9-FA3597200C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atial-Temporal Direct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artition levels: 64x64, 32x32, 16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lag for each partition when the mode is B Direct or B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deriv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as the spatial direct mode in H.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temporal direct mode in H.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ivision instead of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E5A2-8F56-4FD3-969D-69CAC331AC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C69D-F25A-48BA-92D8-58B0A1523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er-side Motion Vector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-side Motion Vector Derivation (DMVD), by RWTH Aachen University, in VCEG-AG16, VCEG-AH15, JVT-AA039, JVT-AA040, and VCEG-AJ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matching (TM) on both encoding and decoding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need to send reference indices or motion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hypothesis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hanced DMV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64x64, 32x32, and 16x16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M target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V predi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5368-59B5-47B4-A8BB-A8F3D07C85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Matching (T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0812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: DMVD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64x64, 32x32, or 16x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in the current frame: targe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4x4, 8x8, 16x16, 32x32, or 64x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in reference frames: motion compensated prediction of the targe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: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istortion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need to send reference indices or motion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373720" cy="34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B87A-CE83-4A03-A5CC-A569F3AA50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DMV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7120" y="1123560"/>
            <a:ext cx="8337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mpatibilities with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macro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264 weighted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matching target size adaptive at 64x64/32x32/16x16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4x4/8x8/16x16/32x32/64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transform size for DMVD Non-Ski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motion block size for DMVD Ski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icture parameter set (PPS), ad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template matching distortion criterion (SSD / S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search algorithm (full search / fast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search range (only for full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DMVD motion vector precision (quarter / one eigh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0F76-D989-4D69-A92B-28E6848B86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d Motion Vector Predi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the accuracy of the H.264 motion vector predictor  (M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ference index of the current block may be different from those of neighbo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d Motion Vector Predictor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V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H.264 MVP except that the MVs of neighboring blocks are scaled with temporal d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Motion Vector Competition (MVC) [VCEG-AC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264 MVP candidate replaced by the proposed SMVP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6551-1B06-4060-973C-5B2C8F56AD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96C9-FAD8-406E-BEF6-2414746D1C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00720" y="115920"/>
            <a:ext cx="4597200" cy="6697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03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-point BD-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d by Gary on the JCT-VC email ref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29.66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S1 versus Alp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28.8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S2 versus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46.4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S2 versus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83160" y="6453360"/>
            <a:ext cx="2725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440" y="384120"/>
            <a:ext cx="4044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Objectiv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54E5-9C9D-46B6-946B-5F2906288F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75B2-010B-49EB-B6BF-41811BAB01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ding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.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of the JM16.2 encoder for Anchor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73000" y="1700280"/>
            <a:ext cx="7399440" cy="42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9153-8521-4A86-8985-76B38FF498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ing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87 times of the JM16.2 decoder for Anchor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4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of the JM11.0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440" y="3357720"/>
            <a:ext cx="332244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Please note that our software is based on JM11.0_KTA2.6. The decoding speed-up ratio of JM16.2 to JM11.0 is 4.3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=&gt; 15.87 / 4.37 = 3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4880" y="2446200"/>
            <a:ext cx="4952880" cy="31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2747-D2CB-42C1-B632-158D0EF424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ing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5ABB-5464-4E85-9801-57CC4AD675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Tek’s Improvements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adaptive interpolatio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delayed Wiener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daptation among multip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ntra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ped block intr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model K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binarization of intra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1-D 32-point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 new 2-D transforms: 32x32, 32x16, and 16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2822-C7C3-437C-8B88-096061A83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ek has successfully integrated many effective tools in this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= -29.66% for CS1 versus Anchor Alp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= -28.83% for CS2 versus Anchor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= -46.40% for CS2 versus Anchor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1DB6-9309-4D93-87A2-9A74BF2031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77640" y="32828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Tek’s Improvements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adaptive loop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QALF with time-delayed filter mode and 2-filt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quadtree picture partitions with top-down splitting by applying enhanced QALF on each to-be-tested picture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decoder-side motion vector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compatibil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local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-temporal direc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d motion vector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neighboring MVs with temporal d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BC75-3CD3-4C83-8DB9-E9D74D1D8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with Existing Tools in KTA/J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macroblocks (Ext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bit depth increase (IB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ecision interpolation filter (HP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vector competition (M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-distortion optimized quantization (RD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prediction round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8301-9703-43C5-8B9C-904CBB889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7120" y="1123560"/>
            <a:ext cx="81928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66% bitrate reduction for CS1 versus Anchor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83% bitrate reduction for CS2 versus Anchor 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.40% bitrate reduction for CS2 versus Anchor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855F-D72E-468D-9C69-669412910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490A-F5FF-4F46-AB6B-C274D686B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AIF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multiple interpolation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delayed Wiener filters from previous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Wiener filter of the curren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-Distortion (RD) selection among multiple interpolation filters at parti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sizes: 64x64, 32x32, 16x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9B55-C004-4428-AC11-FDB0FAED0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AIF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AIF for IPPP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76360" y="2155680"/>
          <a:ext cx="5977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55680"/>
                    <a:ext cx="5977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5427720" y="5646240"/>
            <a:ext cx="0" cy="217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5861160"/>
            <a:ext cx="17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Current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036880"/>
            <a:ext cx="282600" cy="31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" y="1735200"/>
            <a:ext cx="438156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Competitive Filter Set (CFS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) for the current fr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Time-delayed Wiener filter =&gt; F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新細明體"/>
              </a:rPr>
              <a:t>t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Optimal Wiener filter of P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 =&gt; F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HP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MediaTek Inc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71FF-06E2-440B-B394-61AB64F6C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MTK</dc:creator>
  <dc:description>Confidential A</dc:description>
  <cp:keywords>Confidential A</cp:keywords>
  <dc:language>en-US</dc:language>
  <cp:lastModifiedBy>MTK</cp:lastModifiedBy>
  <dcterms:modified xsi:type="dcterms:W3CDTF">2010-04-17T10:43:50Z</dcterms:modified>
  <cp:revision>997</cp:revision>
  <dc:subject/>
  <dc:title>Title: Arial Bold 32pt</dc:title>
</cp:coreProperties>
</file>