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A3CD-7192-4395-8407-885E6D949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1024272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93840" y="5762160"/>
            <a:ext cx="1024272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64102-71E9-46D6-BF1A-C31375C0D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9384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4228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DCE0-D3B1-4E72-B9F0-D2368E4E2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657040" y="4664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20240" y="4664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93840" y="5762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657040" y="5762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120240" y="5762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4738-22F0-40BE-8943-5F0F55430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BE879-7598-4BB2-8B82-4A10D267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FB6B-6522-49FA-908D-99776655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53FF9-3D09-48DE-AFF1-C8A03ED0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03B58-A69B-479F-B818-42D39524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F0FD4-0494-42A0-8F11-837952A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84360" y="2193840"/>
            <a:ext cx="12436560" cy="6359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B5284-0B3B-41F4-9EAC-DE65077C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9384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C1256-1FB8-41D6-B235-FD74BF5A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E08A-876D-48A5-8DB2-B759C67DA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4228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15FF1-FF61-4CB0-9E31-988F4F27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93840" y="5762160"/>
            <a:ext cx="1024272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B60A-409D-43CB-9836-4F7C329D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1024272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93840" y="5762160"/>
            <a:ext cx="1024272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9ED1A-8655-4AF1-9236-B6AB8891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9384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4228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859DF-E17A-4029-AE15-B6359784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57040" y="4664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0240" y="4664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193840" y="5762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657040" y="5762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120240" y="5762160"/>
            <a:ext cx="329796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F2331-0FD0-4386-A312-4A03E94A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2D90-4013-4315-9F20-F1DEC2852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6B348-8C92-4629-BF55-BCE60AC1C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8D10-D907-4AA2-8025-DBB549DBC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84360" y="2193840"/>
            <a:ext cx="12436560" cy="6359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CCB4-D2F1-42E3-B5C0-8779850C1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9384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C5A4-29ED-48A9-9919-82CD49D5E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42280" y="5762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28EA-5B04-4868-8E0F-07FB4C05A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9384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42280" y="4664160"/>
            <a:ext cx="499824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93840" y="5762160"/>
            <a:ext cx="10242720" cy="10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D363-5D44-4AB1-80AE-D81F34BDF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F6F42F8E-A24A-4A4F-8369-016F0015B6BE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360" y="2193840"/>
            <a:ext cx="1243656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189EFED4-C9FE-431F-AEF8-A42B51DFA254}" type="slidenum">
              <a:rPr b="0" lang="en-US" sz="20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731520" y="1925640"/>
            <a:ext cx="13167000" cy="477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652320" indent="0" algn="ctr">
              <a:spcBef>
                <a:spcPts val="726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30644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3" marL="1959120" algn="ctr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4" marL="2612880" algn="ctr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5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6" marL="261288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Highly Parallel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and Highly Efficient System for Video Coding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A105: Sharp Response to JCT-VC Call for Proposal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Segall, T. Yamamoto, J. Zhao, Y. Kitaura, Y. Yasugi and T. Ika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7000"/>
          </a:bodyPr>
          <a:p>
            <a:pPr marL="475920" indent="-47592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ediction of Second Pass Mod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 signal intra-prediction mode, we transmit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ediction mo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ighting fla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ediction mode is restricted when there are few intra-prediction modes in the first se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 this case, fewer bits are transmit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243920" y="2371680"/>
            <a:ext cx="7124400" cy="424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9613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ool performan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x4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p: 2 prediction/refinement 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: 16 prediction/refinement 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x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p: 2 prediction/refinement step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: 4 prediction/refinement ste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Efficiency imp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lass B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(improvement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Intra: -.9% BD-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PPP: -.16% BD-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B: -.32% BD-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482040" y="2197080"/>
            <a:ext cx="3440160" cy="312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1" name=""/>
          <p:cNvSpPr/>
          <p:nvPr/>
        </p:nvSpPr>
        <p:spPr>
          <a:xfrm>
            <a:off x="9084240" y="61196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pas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918160" y="66960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pas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144080" y="5003640"/>
            <a:ext cx="5526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2474360" y="4245120"/>
            <a:ext cx="447480" cy="22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arallel Entropy Cod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7000"/>
          </a:bodyPr>
          <a:p>
            <a:pPr marL="475920" indent="-475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for high degree of parallelization with smaller coding efficiency lo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5920" indent="-4759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ur approach: Entropy Sli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roduce partitioning of slices into smaller “entropy” sl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tropy sl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et context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rict definition for neighborh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identical to current slice by entropy deco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ey difference: reconstruction uses information from neighboring entropy sl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488440" y="1257480"/>
            <a:ext cx="470700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96920" y="1828440"/>
            <a:ext cx="12436560" cy="2392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lice hea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ndicate slice is “entropy slic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end information necessary for entropy decod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462480" y="4221000"/>
            <a:ext cx="7278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Entropy Slice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5833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6000"/>
          </a:bodyPr>
          <a:p>
            <a:pPr marL="470880" indent="-470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dvantages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393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lexible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- little impact on single thread/core applic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31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code all entropy slices prior to reconstruc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313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code entropy slice and then reconstruct without neighbourhood rese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393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an be combined with any entropy coding engin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3931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ows degree of parallelism to be guaranteed and expressed as profile/level restriction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70880" indent="-470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ult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393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erB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3139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16x parallelism: -.025% BD-rate </a:t>
            </a:r>
            <a:r>
              <a:rPr b="0" lang="en-GB" sz="13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improvement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31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45x parallelism: .54% BD-ra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1019520" indent="-3931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PP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31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16x parallelism: .071% BD-ra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568160" indent="-3139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45x parallelism: .57% BD-rat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942320" y="2222640"/>
            <a:ext cx="50403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ultiple E-AIF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ultiple Filter E-AIF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96560" y="1828440"/>
            <a:ext cx="6141960" cy="5413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7000"/>
          </a:bodyPr>
          <a:p>
            <a:pPr marL="475920" indent="-47592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ultiple Filter E-AIF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ends the concept of AIF to support multiple filt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coder transmits two filter descrip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2217240" indent="-316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e is assigned to list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2217240" indent="-316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e is assigned to list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584360" indent="-3171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coder selects appropriate filter automatically based on reference lis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29960" indent="-39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lter coefficients transmitted sequentially in the bit-strea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163000" y="2813040"/>
            <a:ext cx="5079960" cy="254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315200" y="6176880"/>
            <a:ext cx="696420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deword Restriction Mod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deword Restr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deword Restri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knowledge of original data to constrain the output of adaptive loop fil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It’s more likely (compared to previous standards) to exceed the dynamic range of the original data due to the adapt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gnal maximum and minimum code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180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existing clipping operation with operation to clip to maximum and minimum codewo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266760" y="2836800"/>
            <a:ext cx="202932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-b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326520" y="4146480"/>
            <a:ext cx="190980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op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328320" y="5459400"/>
            <a:ext cx="19094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de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t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3" idx="2"/>
            <a:endCxn id="224" idx="0"/>
          </p:cNvCxnSpPr>
          <p:nvPr/>
        </p:nvCxnSpPr>
        <p:spPr>
          <a:xfrm>
            <a:off x="10281960" y="3731760"/>
            <a:ext cx="1080" cy="41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4" idx="2"/>
            <a:endCxn id="225" idx="0"/>
          </p:cNvCxnSpPr>
          <p:nvPr/>
        </p:nvCxnSpPr>
        <p:spPr>
          <a:xfrm>
            <a:off x="10282320" y="5041800"/>
            <a:ext cx="2160" cy="41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8996400" y="6694560"/>
            <a:ext cx="25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ference Buffer/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5" idx="2"/>
            <a:endCxn id="228" idx="0"/>
          </p:cNvCxnSpPr>
          <p:nvPr/>
        </p:nvCxnSpPr>
        <p:spPr>
          <a:xfrm flipH="1">
            <a:off x="10274040" y="6354720"/>
            <a:ext cx="10080" cy="34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8997840" y="1486080"/>
            <a:ext cx="255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ference Buffer/Disp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23" idx="0"/>
          </p:cNvCxnSpPr>
          <p:nvPr/>
        </p:nvCxnSpPr>
        <p:spPr>
          <a:xfrm>
            <a:off x="10275840" y="2371680"/>
            <a:ext cx="7200" cy="4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1733120" y="1486080"/>
            <a:ext cx="25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it-str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2" idx="2"/>
            <a:endCxn id="223" idx="3"/>
          </p:cNvCxnSpPr>
          <p:nvPr/>
        </p:nvCxnSpPr>
        <p:spPr>
          <a:xfrm rot="5400000">
            <a:off x="11468160" y="1742400"/>
            <a:ext cx="1310400" cy="177552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4" name=""/>
          <p:cNvCxnSpPr>
            <a:stCxn id="232" idx="2"/>
            <a:endCxn id="224" idx="3"/>
          </p:cNvCxnSpPr>
          <p:nvPr/>
        </p:nvCxnSpPr>
        <p:spPr>
          <a:xfrm rot="5400000">
            <a:off x="10813320" y="2397240"/>
            <a:ext cx="2620080" cy="177552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5" name=""/>
          <p:cNvCxnSpPr>
            <a:stCxn id="232" idx="2"/>
            <a:endCxn id="225" idx="3"/>
          </p:cNvCxnSpPr>
          <p:nvPr/>
        </p:nvCxnSpPr>
        <p:spPr>
          <a:xfrm rot="5400000">
            <a:off x="10157760" y="3054240"/>
            <a:ext cx="3933000" cy="1774080"/>
          </a:xfrm>
          <a:prstGeom prst="bentConnector2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9326520" y="4146480"/>
            <a:ext cx="190980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op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328320" y="5459400"/>
            <a:ext cx="19094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de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t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66760" y="2836800"/>
            <a:ext cx="202932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-bloc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326520" y="4146480"/>
            <a:ext cx="190980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op Fil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328320" y="5459400"/>
            <a:ext cx="1909440" cy="885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de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tr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igh Level Description of Proposed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vel Featur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0">
              <a:spcBef>
                <a:spcPts val="726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deword Restr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8000"/>
          </a:bodyPr>
          <a:p>
            <a:pPr marL="541440" indent="-5414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124640" indent="-48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pends on characteristics of original d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765440" indent="-48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 improvement when more pixels are close to max/min valu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24640" indent="-48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sequences such as BayQuarter materia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765440" indent="-48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observe approximately 2% reduction in bit-r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765440" indent="-48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asically no increase in complex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829640" y="1852560"/>
            <a:ext cx="6022800" cy="4913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193840" y="3301560"/>
            <a:ext cx="10242720" cy="2102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9000"/>
          </a:bodyPr>
          <a:p>
            <a:pPr marL="485640" indent="-48564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e have measured the performance of our algorithm according to the CfP condi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85640" indent="-48564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sults follow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S1 BD-Rat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verage: -20.7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ssA: -19.3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ssB: -22.85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ssC: -20.13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spcBef>
                <a:spcPts val="6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assD: -19.4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846000" y="7077240"/>
            <a:ext cx="12369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e: BD-rate percentages are relative to JCTVC anchors.  A value of -N% means that the proposal provides a N% reduction in bit-rate compared to the anch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238880" y="2992320"/>
            <a:ext cx="6686640" cy="3194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S2-Gamma BD-Rat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erage: -34.31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B: -40.9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C: -30.72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D: -26.7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E: -38.27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S2-Beta BD-Rat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e that we use IPPP coding in our proposal and not Hier-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erage: -12.21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B: -19.98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C: -9.83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D: -0.53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E: -18.01%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846000" y="7269120"/>
            <a:ext cx="12369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e: BD-rate percentages are relative to JCTVC anchors.  A value of -N% means that the proposal provides a N% reduction in bit-rate compared to the anch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38880" y="2451240"/>
            <a:ext cx="6321600" cy="3049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93840" y="3301560"/>
            <a:ext cx="10242720" cy="2102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oftwar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rived from JM15.1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mpiler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isual Studio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GNU Compiler Collection (gcc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ecution environ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nux and Window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xternal libraries – not us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rallel processing – not used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ote: separate OpenMP version of software exists containing parallel implementation of parallel intra and entropy coding technology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193840" y="3301560"/>
            <a:ext cx="10242720" cy="2102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560" y="1251000"/>
            <a:ext cx="130129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78000"/>
          </a:bodyPr>
          <a:p>
            <a:pPr marL="505080" indent="-50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960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ideo coding system that has both 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higher parallelism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higher coding efficiency than state-of-the-ar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44972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rallelism - Intr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ses two prediction and refinement steps for 8x8 and 4x4 block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mpared to serial prediction: 8x and 2x degree of parallelism for 4x4 and 8x8, respectivel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 loss from parallelism – actually small gains for Class B (All Intra: .9% BD-rate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44972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rallelism – Entrop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ses slice mechanism applied separately to entropy and reconstruction opera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pplicable to any entropy coding syst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 or small loss from parallelism – .07% BD-rate for 16x IPPP; .025% improvement for HierB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958760" indent="-4305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ery amenable for standardization – easy to guarantee any degree of parallelism as part of profile/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3960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se approaches are incorporated with known techniques for higher coding efficiency: Larger coding block sizes, Larger transforms, Adaptive prediction and filtering, Motion vector competition, High precision filter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39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93960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poses 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new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technolog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44972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rallel intra-prediction with adaptive multi-directional intra-prediction (AMIP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44972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rallel entropy cod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44972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ultiple E-AIF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449720" indent="-4309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Loop Filtering with Codeword Restric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505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05080" indent="-505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opose CE to study proposed techniqu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  <a:ea typeface="ＭＳ Ｐゴシック"/>
              </a:rPr>
              <a:t>Highly Parallel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and Highly Efficient System for Video Coding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A105: Sharp Response to JCT-VC Call for Proposal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Segall, T. Yamamoto, J. Zhao, Y. Kitaura, Y. Yasugi and T. Ikai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High Level Algorithm Descrip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e propose a video coding system that has both </a:t>
            </a: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higher parallelism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and higher coding efficiency than state-of-the-art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arallel approaches to common bottleneck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8x parallelism for intra-predic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rbitrary parallelism for entropy decod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ding efficienc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21% coding efficiency improvement for higher dela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35%/12% coding efficiency improvement for lower delay using IPPP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ost notable – very, (very!) small coding efficiency loss through introduction of parallel tools.  In some cases, we observe gain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ur video system is in the spirit of existing MPEG-AVC/ITU-T H.264.  Specifically, it i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Block bas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otion compensate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ith Transform codin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High Level Description of Algorithm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7640" indent="-6476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mpared to MPEG-AVC/ITU-T H.264, we incorporate the following changes that should be well understood by exper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arger coding block sizes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employ a superblock that contains a 2x2 group of macrobloc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arger transfor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employ a 16x16 integer transfor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daptive prediction and filter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859040" indent="-55260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employ the E-AIF and QALF tool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tion vector competi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igh precision filter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High Level Description of Algorithm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7640" indent="-64764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 addition to the previous tools, we also incorporate the follow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26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intra-prediction with Adaptive Multi-Directional Intra Prediction (AMIP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26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entropy cod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26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ultiple E-AIF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spcBef>
                <a:spcPts val="726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oop Filtering with Codeword Restri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spcBef>
                <a:spcPts val="726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647640" indent="0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describe these systems in the following slid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arallel Intra Predic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5000"/>
          </a:bodyPr>
          <a:p>
            <a:pPr marL="524880" indent="-524880"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arallel intra predic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90080" indent="-47052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al is to remove the serial bottleneck existing in legacy intra-pred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90080" indent="-47052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roa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711440" indent="-470520"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blocks into two part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711440" indent="-470520"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 first partition from pixels in neighboring macroblo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711440" indent="-470520"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 second partition fro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2331360" indent="-47016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xels in first part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2331360" indent="-47016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xels in neighboring macroblo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482040" y="2197080"/>
            <a:ext cx="3440160" cy="312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9084240" y="6119640"/>
            <a:ext cx="23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pas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918160" y="6696000"/>
            <a:ext cx="20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pass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144080" y="5003640"/>
            <a:ext cx="5526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2474360" y="4245120"/>
            <a:ext cx="447480" cy="22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5000"/>
          </a:bodyPr>
          <a:p>
            <a:pPr marL="524880" indent="-524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ediction of First Pass Block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9008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ses only pixels in neighboring macroblock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9008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edicted using “adaptive multi-directional intra prediction”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1144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ree mode sets: default, horizontal and vertica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1144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ode sets derived from mode sets of neighbo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1144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ediction mode selected from modes [0,8] of corresponding mode se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9008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r DC prediction, we compute the DC as a weighted function of the distance between the block and the horizontal and left macroblock boundari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090080" indent="-4705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Mode is predicted from first block above and to the left of current block that is either in neighboring macroblock or current parti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040240" y="2572200"/>
            <a:ext cx="5442480" cy="2726280"/>
            <a:chOff x="8040240" y="2572200"/>
            <a:chExt cx="5442480" cy="2726280"/>
          </a:xfrm>
        </p:grpSpPr>
        <p:grpSp>
          <p:nvGrpSpPr>
            <p:cNvPr id="117" name=""/>
            <p:cNvGrpSpPr/>
            <p:nvPr/>
          </p:nvGrpSpPr>
          <p:grpSpPr>
            <a:xfrm>
              <a:off x="8155440" y="2687040"/>
              <a:ext cx="1157760" cy="938880"/>
              <a:chOff x="8155440" y="2687040"/>
              <a:chExt cx="1157760" cy="938880"/>
            </a:xfrm>
          </p:grpSpPr>
          <p:cxnSp>
            <p:nvCxnSpPr>
              <p:cNvPr id="118" name=""/>
              <p:cNvCxnSpPr/>
              <p:nvPr/>
            </p:nvCxnSpPr>
            <p:spPr>
              <a:xfrm>
                <a:off x="8634240" y="2955600"/>
                <a:ext cx="67932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19" name=""/>
              <p:cNvCxnSpPr/>
              <p:nvPr/>
            </p:nvCxnSpPr>
            <p:spPr>
              <a:xfrm flipH="1">
                <a:off x="8634240" y="2947320"/>
                <a:ext cx="1440" cy="67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0" name=""/>
              <p:cNvCxnSpPr/>
              <p:nvPr/>
            </p:nvCxnSpPr>
            <p:spPr>
              <a:xfrm>
                <a:off x="8637840" y="2949840"/>
                <a:ext cx="624600" cy="26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1" name=""/>
              <p:cNvCxnSpPr/>
              <p:nvPr/>
            </p:nvCxnSpPr>
            <p:spPr>
              <a:xfrm>
                <a:off x="8630640" y="2938320"/>
                <a:ext cx="479520" cy="48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2" name=""/>
              <p:cNvCxnSpPr/>
              <p:nvPr/>
            </p:nvCxnSpPr>
            <p:spPr>
              <a:xfrm>
                <a:off x="8631360" y="2943720"/>
                <a:ext cx="253440" cy="63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3" name=""/>
              <p:cNvCxnSpPr/>
              <p:nvPr/>
            </p:nvCxnSpPr>
            <p:spPr>
              <a:xfrm flipV="1">
                <a:off x="8637480" y="2687040"/>
                <a:ext cx="625680" cy="264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4" name=""/>
              <p:cNvCxnSpPr/>
              <p:nvPr/>
            </p:nvCxnSpPr>
            <p:spPr>
              <a:xfrm flipH="1">
                <a:off x="8366040" y="2950200"/>
                <a:ext cx="266400" cy="624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5" name=""/>
              <p:cNvCxnSpPr/>
              <p:nvPr/>
            </p:nvCxnSpPr>
            <p:spPr>
              <a:xfrm flipH="1">
                <a:off x="8155440" y="2943000"/>
                <a:ext cx="481320" cy="47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26" name=""/>
            <p:cNvGrpSpPr/>
            <p:nvPr/>
          </p:nvGrpSpPr>
          <p:grpSpPr>
            <a:xfrm>
              <a:off x="10460160" y="2752200"/>
              <a:ext cx="682920" cy="857880"/>
              <a:chOff x="10460160" y="2752200"/>
              <a:chExt cx="682920" cy="857880"/>
            </a:xfrm>
          </p:grpSpPr>
          <p:cxnSp>
            <p:nvCxnSpPr>
              <p:cNvPr id="127" name=""/>
              <p:cNvCxnSpPr/>
              <p:nvPr/>
            </p:nvCxnSpPr>
            <p:spPr>
              <a:xfrm>
                <a:off x="10463760" y="2931480"/>
                <a:ext cx="67968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8" name=""/>
              <p:cNvCxnSpPr/>
              <p:nvPr/>
            </p:nvCxnSpPr>
            <p:spPr>
              <a:xfrm flipH="1">
                <a:off x="10463400" y="2931480"/>
                <a:ext cx="1440" cy="678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29" name=""/>
              <p:cNvCxnSpPr/>
              <p:nvPr/>
            </p:nvCxnSpPr>
            <p:spPr>
              <a:xfrm>
                <a:off x="10465200" y="2941200"/>
                <a:ext cx="676800" cy="6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" name=""/>
              <p:cNvCxnSpPr/>
              <p:nvPr/>
            </p:nvCxnSpPr>
            <p:spPr>
              <a:xfrm flipV="1">
                <a:off x="10460520" y="2816640"/>
                <a:ext cx="669600" cy="11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" name=""/>
              <p:cNvCxnSpPr/>
              <p:nvPr/>
            </p:nvCxnSpPr>
            <p:spPr>
              <a:xfrm>
                <a:off x="10469160" y="2944800"/>
                <a:ext cx="669240" cy="11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" name=""/>
              <p:cNvCxnSpPr/>
              <p:nvPr/>
            </p:nvCxnSpPr>
            <p:spPr>
              <a:xfrm flipV="1">
                <a:off x="10465200" y="2870280"/>
                <a:ext cx="677160" cy="58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3" name=""/>
              <p:cNvCxnSpPr/>
              <p:nvPr/>
            </p:nvCxnSpPr>
            <p:spPr>
              <a:xfrm>
                <a:off x="10466640" y="2941200"/>
                <a:ext cx="656280" cy="17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4" name=""/>
              <p:cNvCxnSpPr/>
              <p:nvPr/>
            </p:nvCxnSpPr>
            <p:spPr>
              <a:xfrm flipV="1">
                <a:off x="10460160" y="2752200"/>
                <a:ext cx="656640" cy="174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35" name=""/>
            <p:cNvGrpSpPr/>
            <p:nvPr/>
          </p:nvGrpSpPr>
          <p:grpSpPr>
            <a:xfrm>
              <a:off x="12171960" y="2888640"/>
              <a:ext cx="866160" cy="682200"/>
              <a:chOff x="12171960" y="2888640"/>
              <a:chExt cx="866160" cy="682200"/>
            </a:xfrm>
          </p:grpSpPr>
          <p:cxnSp>
            <p:nvCxnSpPr>
              <p:cNvPr id="136" name=""/>
              <p:cNvCxnSpPr/>
              <p:nvPr/>
            </p:nvCxnSpPr>
            <p:spPr>
              <a:xfrm flipH="1">
                <a:off x="12357000" y="2891880"/>
                <a:ext cx="1440" cy="67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7" name=""/>
              <p:cNvCxnSpPr/>
              <p:nvPr/>
            </p:nvCxnSpPr>
            <p:spPr>
              <a:xfrm>
                <a:off x="12358800" y="2892240"/>
                <a:ext cx="679680" cy="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8" name=""/>
              <p:cNvCxnSpPr/>
              <p:nvPr/>
            </p:nvCxnSpPr>
            <p:spPr>
              <a:xfrm flipH="1">
                <a:off x="12288600" y="2893680"/>
                <a:ext cx="61200" cy="67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9" name=""/>
              <p:cNvCxnSpPr/>
              <p:nvPr/>
            </p:nvCxnSpPr>
            <p:spPr>
              <a:xfrm>
                <a:off x="12355560" y="2889000"/>
                <a:ext cx="117360" cy="669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0" name=""/>
              <p:cNvCxnSpPr/>
              <p:nvPr/>
            </p:nvCxnSpPr>
            <p:spPr>
              <a:xfrm flipH="1">
                <a:off x="12225240" y="2898000"/>
                <a:ext cx="119520" cy="66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1" name=""/>
              <p:cNvCxnSpPr/>
              <p:nvPr/>
            </p:nvCxnSpPr>
            <p:spPr>
              <a:xfrm>
                <a:off x="12361320" y="2893320"/>
                <a:ext cx="58320" cy="676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2" name=""/>
              <p:cNvCxnSpPr/>
              <p:nvPr/>
            </p:nvCxnSpPr>
            <p:spPr>
              <a:xfrm flipH="1">
                <a:off x="12171960" y="2895480"/>
                <a:ext cx="177120" cy="655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43" name=""/>
              <p:cNvCxnSpPr/>
              <p:nvPr/>
            </p:nvCxnSpPr>
            <p:spPr>
              <a:xfrm>
                <a:off x="12362760" y="2888640"/>
                <a:ext cx="174960" cy="656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44" name=""/>
            <p:cNvSpPr/>
            <p:nvPr/>
          </p:nvSpPr>
          <p:spPr>
            <a:xfrm>
              <a:off x="8164440" y="3801960"/>
              <a:ext cx="1269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: default mode s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36520" y="3801960"/>
              <a:ext cx="144540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: horizontal mode s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988360" y="3801960"/>
              <a:ext cx="146988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: vertical mode s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72720" y="4081320"/>
              <a:ext cx="147564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ode: pTy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: VE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: H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: D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: DIAG_DOWN_LEF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: DIAG_DOWN_R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: VERT_RIGH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: HOR_DOW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: VERT_LEF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8: HOR_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28600" y="4081320"/>
              <a:ext cx="147744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ode: pTy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: H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: HOR_P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: HOR_M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: HOR_P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: HOR_M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: HOR_P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: HOR_M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: D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8: VE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04560" y="4081320"/>
              <a:ext cx="147816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mode: pTyp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: VE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: VERT_P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: VERT_M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: VERT_P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: VERT_M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: VERT_P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: VERT_M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: D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8: H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2920" y="360396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40240" y="340092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75680" y="2794320"/>
              <a:ext cx="359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: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26360" y="34092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69680" y="355608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90160" y="31824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43640" y="355608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90160" y="261648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329760" y="287496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378520" y="283968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127600" y="31392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4800" y="25722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250720" y="264204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15160" y="27450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315160" y="294768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250720" y="305316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224360" y="2714400"/>
              <a:ext cx="359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: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23080" y="359496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332880" y="365004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256920" y="360396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149280" y="355824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065400" y="35208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38360" y="360288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31600" y="354240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625920" y="348804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86000" y="2819160"/>
              <a:ext cx="203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77000" y="2706480"/>
              <a:ext cx="359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7: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920080" y="4554360"/>
            <a:ext cx="5478480" cy="319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9000"/>
          </a:bodyPr>
          <a:p>
            <a:pPr marL="485640" indent="-485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diction of Second Pass Bloc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s pixels in neighboring macroblocks AND pixel in first pass blo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51200" indent="-40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bottom and right boundaries may b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ntroduce additional modes to account for bottom and right neighb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-323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itional modes combine two predictions that are out of ph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2262960" indent="-323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mode 1 and mode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2262960" indent="-323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ions are weighted based on distance from bound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17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064360" y="1828800"/>
            <a:ext cx="2432160" cy="220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1" name=""/>
          <p:cNvSpPr/>
          <p:nvPr/>
        </p:nvSpPr>
        <p:spPr>
          <a:xfrm>
            <a:off x="4788000" y="2824200"/>
            <a:ext cx="303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9180360" y="4898880"/>
            <a:ext cx="2700360" cy="25941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85520" y="2824200"/>
            <a:ext cx="244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969640" y="4929120"/>
          <a:ext cx="2006640" cy="2581200"/>
        </p:xfrm>
        <a:graphic>
          <a:graphicData uri="http://schemas.openxmlformats.org/drawingml/2006/table">
            <a:tbl>
              <a:tblPr/>
              <a:tblGrid>
                <a:gridCol w="439920"/>
                <a:gridCol w="15667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ame of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C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agonal Down Lef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Diagonal Down Righ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 Righ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 Down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Vertical Left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Horizontal Up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043600" y="7570800"/>
            <a:ext cx="39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xample for Default Mode Set.  Extension to other mode sets are straight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15360" y="3449520"/>
            <a:ext cx="1754280" cy="24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828360" y="3467160"/>
            <a:ext cx="452088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877320" y="1676520"/>
            <a:ext cx="4383360" cy="12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9298080" y="1685520"/>
            <a:ext cx="1765080" cy="127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828360" y="3467160"/>
            <a:ext cx="452088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877320" y="1676520"/>
            <a:ext cx="4383360" cy="124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828360" y="3467160"/>
            <a:ext cx="4520880" cy="27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877320" y="1676520"/>
            <a:ext cx="4383360" cy="1247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1063160" y="1630440"/>
            <a:ext cx="3367080" cy="209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Andrew Segall</cp:lastModifiedBy>
  <dcterms:modified xsi:type="dcterms:W3CDTF">2010-04-16T21:22:03Z</dcterms:modified>
  <cp:revision>528</cp:revision>
  <dc:subject/>
  <dc:title>PowerPoint Presentation</dc:title>
</cp:coreProperties>
</file>