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376092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9248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0036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072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0036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072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99640" y="259920"/>
            <a:ext cx="7993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9248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00000" y="376092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9248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0036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0072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0000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0036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0072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99640" y="259920"/>
            <a:ext cx="7993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9248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0"/>
            <a:ext cx="684360" cy="6858000"/>
          </a:xfrm>
          <a:prstGeom prst="rect">
            <a:avLst/>
          </a:prstGeom>
          <a:solidFill>
            <a:srgbClr val="179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95280" y="0"/>
            <a:ext cx="8497800" cy="636480"/>
            <a:chOff x="395280" y="0"/>
            <a:chExt cx="8497800" cy="636480"/>
          </a:xfrm>
        </p:grpSpPr>
        <p:sp>
          <p:nvSpPr>
            <p:cNvPr id="4" name="AutoShape 69"/>
            <p:cNvSpPr/>
            <p:nvPr/>
          </p:nvSpPr>
          <p:spPr>
            <a:xfrm>
              <a:off x="395280" y="0"/>
              <a:ext cx="84978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71"/>
            <p:cNvSpPr/>
            <p:nvPr/>
          </p:nvSpPr>
          <p:spPr>
            <a:xfrm>
              <a:off x="411120" y="1440"/>
              <a:ext cx="84693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Text Box 104"/>
          <p:cNvSpPr/>
          <p:nvPr/>
        </p:nvSpPr>
        <p:spPr>
          <a:xfrm>
            <a:off x="6497640" y="6143760"/>
            <a:ext cx="21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2028600" y="4195080"/>
            <a:ext cx="4681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Fraunhofer Institute for Telecommunic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Heinrich Hertz Institu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97040" y="6296040"/>
            <a:ext cx="21906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3"/>
          <p:cNvSpPr/>
          <p:nvPr/>
        </p:nvSpPr>
        <p:spPr>
          <a:xfrm>
            <a:off x="0" y="0"/>
            <a:ext cx="684360" cy="6858000"/>
          </a:xfrm>
          <a:prstGeom prst="rect">
            <a:avLst/>
          </a:prstGeom>
          <a:solidFill>
            <a:srgbClr val="179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41528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95280" y="0"/>
            <a:ext cx="8497800" cy="636480"/>
            <a:chOff x="395280" y="0"/>
            <a:chExt cx="8497800" cy="636480"/>
          </a:xfrm>
        </p:grpSpPr>
        <p:sp>
          <p:nvSpPr>
            <p:cNvPr id="48" name="AutoShape 69"/>
            <p:cNvSpPr/>
            <p:nvPr/>
          </p:nvSpPr>
          <p:spPr>
            <a:xfrm>
              <a:off x="395280" y="0"/>
              <a:ext cx="84978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71"/>
            <p:cNvSpPr/>
            <p:nvPr/>
          </p:nvSpPr>
          <p:spPr>
            <a:xfrm>
              <a:off x="411120" y="1440"/>
              <a:ext cx="84693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104"/>
          <p:cNvSpPr/>
          <p:nvPr/>
        </p:nvSpPr>
        <p:spPr>
          <a:xfrm>
            <a:off x="6497640" y="6143760"/>
            <a:ext cx="21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2028600" y="4195080"/>
            <a:ext cx="4681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Fraunhofer Institute for Telecommunic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Heinrich Hertz Institu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97040" y="6296040"/>
            <a:ext cx="2190600" cy="561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41528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JCTVC-A032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Novel Entropy Coding Concept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92000" y="4076640"/>
            <a:ext cx="633564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. Marpe, H. Schwarz, and T. Wieg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unhofer H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Design of VNB2VLC Code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fixed representative LPB prob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full binary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Huffman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eaf node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umber of LPB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umber of LPB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f node probability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rate is given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716360" y="1484280"/>
            <a:ext cx="3715560" cy="1959840"/>
            <a:chOff x="4716360" y="1484280"/>
            <a:chExt cx="3715560" cy="1959840"/>
          </a:xfrm>
        </p:grpSpPr>
        <p:sp>
          <p:nvSpPr>
            <p:cNvPr id="123" name="Straight Connector 12"/>
            <p:cNvSpPr/>
            <p:nvPr/>
          </p:nvSpPr>
          <p:spPr>
            <a:xfrm flipV="1">
              <a:off x="4761000" y="2322720"/>
              <a:ext cx="565560" cy="3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23"/>
            <p:cNvSpPr/>
            <p:nvPr/>
          </p:nvSpPr>
          <p:spPr>
            <a:xfrm>
              <a:off x="4761720" y="2734200"/>
              <a:ext cx="558720" cy="39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28"/>
            <p:cNvSpPr/>
            <p:nvPr/>
          </p:nvSpPr>
          <p:spPr>
            <a:xfrm flipV="1">
              <a:off x="5373000" y="2991600"/>
              <a:ext cx="60408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4"/>
            <p:cNvSpPr/>
            <p:nvPr/>
          </p:nvSpPr>
          <p:spPr>
            <a:xfrm>
              <a:off x="4716360" y="2688480"/>
              <a:ext cx="522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5"/>
            <p:cNvSpPr/>
            <p:nvPr/>
          </p:nvSpPr>
          <p:spPr>
            <a:xfrm>
              <a:off x="5320440" y="3101400"/>
              <a:ext cx="5220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6"/>
            <p:cNvSpPr/>
            <p:nvPr/>
          </p:nvSpPr>
          <p:spPr>
            <a:xfrm>
              <a:off x="5977080" y="3293280"/>
              <a:ext cx="522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37"/>
            <p:cNvSpPr/>
            <p:nvPr/>
          </p:nvSpPr>
          <p:spPr>
            <a:xfrm>
              <a:off x="5977080" y="2964600"/>
              <a:ext cx="522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39"/>
            <p:cNvSpPr/>
            <p:nvPr/>
          </p:nvSpPr>
          <p:spPr>
            <a:xfrm>
              <a:off x="4717440" y="2181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q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40"/>
            <p:cNvSpPr/>
            <p:nvPr/>
          </p:nvSpPr>
          <p:spPr>
            <a:xfrm>
              <a:off x="4717080" y="27295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p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42"/>
            <p:cNvSpPr/>
            <p:nvPr/>
          </p:nvSpPr>
          <p:spPr>
            <a:xfrm>
              <a:off x="5421960" y="316764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p 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eX Gyre Pagella"/>
                  <a:ea typeface="MS PGothic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traight Connector 42"/>
            <p:cNvSpPr/>
            <p:nvPr/>
          </p:nvSpPr>
          <p:spPr>
            <a:xfrm>
              <a:off x="5345280" y="3130920"/>
              <a:ext cx="63180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52"/>
            <p:cNvSpPr/>
            <p:nvPr/>
          </p:nvSpPr>
          <p:spPr>
            <a:xfrm flipV="1">
              <a:off x="5373000" y="2168280"/>
              <a:ext cx="60408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3"/>
            <p:cNvSpPr/>
            <p:nvPr/>
          </p:nvSpPr>
          <p:spPr>
            <a:xfrm>
              <a:off x="5320440" y="2277720"/>
              <a:ext cx="5220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4"/>
            <p:cNvSpPr/>
            <p:nvPr/>
          </p:nvSpPr>
          <p:spPr>
            <a:xfrm>
              <a:off x="5977080" y="2469600"/>
              <a:ext cx="522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56"/>
            <p:cNvSpPr/>
            <p:nvPr/>
          </p:nvSpPr>
          <p:spPr>
            <a:xfrm>
              <a:off x="5345280" y="2309760"/>
              <a:ext cx="63180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59"/>
            <p:cNvSpPr/>
            <p:nvPr/>
          </p:nvSpPr>
          <p:spPr>
            <a:xfrm flipV="1">
              <a:off x="6029640" y="2031480"/>
              <a:ext cx="60408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1"/>
            <p:cNvSpPr/>
            <p:nvPr/>
          </p:nvSpPr>
          <p:spPr>
            <a:xfrm>
              <a:off x="6633720" y="2334600"/>
              <a:ext cx="52200" cy="50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2"/>
            <p:cNvSpPr/>
            <p:nvPr/>
          </p:nvSpPr>
          <p:spPr>
            <a:xfrm>
              <a:off x="6633720" y="2006280"/>
              <a:ext cx="52200" cy="50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63"/>
            <p:cNvSpPr/>
            <p:nvPr/>
          </p:nvSpPr>
          <p:spPr>
            <a:xfrm>
              <a:off x="6001920" y="2172600"/>
              <a:ext cx="63180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4"/>
            <p:cNvSpPr/>
            <p:nvPr/>
          </p:nvSpPr>
          <p:spPr>
            <a:xfrm>
              <a:off x="5977080" y="2141280"/>
              <a:ext cx="522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42"/>
            <p:cNvSpPr/>
            <p:nvPr/>
          </p:nvSpPr>
          <p:spPr>
            <a:xfrm>
              <a:off x="5388120" y="268848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p q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42"/>
            <p:cNvSpPr/>
            <p:nvPr/>
          </p:nvSpPr>
          <p:spPr>
            <a:xfrm>
              <a:off x="5424480" y="1853640"/>
              <a:ext cx="39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q 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eX Gyre Pagella"/>
                  <a:ea typeface="MS PGothic"/>
                </a:rPr>
                <a:t>2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42"/>
            <p:cNvSpPr/>
            <p:nvPr/>
          </p:nvSpPr>
          <p:spPr>
            <a:xfrm>
              <a:off x="6138000" y="1702800"/>
              <a:ext cx="39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q 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eX Gyre Pagella"/>
                  <a:ea typeface="MS PGothic"/>
                </a:rPr>
                <a:t>3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42"/>
            <p:cNvSpPr/>
            <p:nvPr/>
          </p:nvSpPr>
          <p:spPr>
            <a:xfrm>
              <a:off x="5374800" y="236016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q p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42"/>
            <p:cNvSpPr/>
            <p:nvPr/>
          </p:nvSpPr>
          <p:spPr>
            <a:xfrm>
              <a:off x="6035760" y="218196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q 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eX Gyre Pagella"/>
                  <a:ea typeface="MS PGothic"/>
                </a:rPr>
                <a:t>2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 p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101"/>
            <p:cNvSpPr/>
            <p:nvPr/>
          </p:nvSpPr>
          <p:spPr>
            <a:xfrm>
              <a:off x="6795720" y="2031480"/>
              <a:ext cx="32832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102"/>
            <p:cNvSpPr/>
            <p:nvPr/>
          </p:nvSpPr>
          <p:spPr>
            <a:xfrm>
              <a:off x="6795720" y="2360160"/>
              <a:ext cx="328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103"/>
            <p:cNvSpPr/>
            <p:nvPr/>
          </p:nvSpPr>
          <p:spPr>
            <a:xfrm>
              <a:off x="6079680" y="2538000"/>
              <a:ext cx="1044360" cy="150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106"/>
            <p:cNvSpPr/>
            <p:nvPr/>
          </p:nvSpPr>
          <p:spPr>
            <a:xfrm>
              <a:off x="6079680" y="2991600"/>
              <a:ext cx="1044360" cy="2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109"/>
            <p:cNvSpPr/>
            <p:nvPr/>
          </p:nvSpPr>
          <p:spPr>
            <a:xfrm>
              <a:off x="6079680" y="3320280"/>
              <a:ext cx="1044360" cy="2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39"/>
            <p:cNvSpPr/>
            <p:nvPr/>
          </p:nvSpPr>
          <p:spPr>
            <a:xfrm>
              <a:off x="7108920" y="1812600"/>
              <a:ext cx="64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0.238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39"/>
            <p:cNvSpPr/>
            <p:nvPr/>
          </p:nvSpPr>
          <p:spPr>
            <a:xfrm>
              <a:off x="7108920" y="2161440"/>
              <a:ext cx="64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0.146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39"/>
            <p:cNvSpPr/>
            <p:nvPr/>
          </p:nvSpPr>
          <p:spPr>
            <a:xfrm>
              <a:off x="7108920" y="2485800"/>
              <a:ext cx="64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0.235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39"/>
            <p:cNvSpPr/>
            <p:nvPr/>
          </p:nvSpPr>
          <p:spPr>
            <a:xfrm>
              <a:off x="7108920" y="2798280"/>
              <a:ext cx="64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0.235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39"/>
            <p:cNvSpPr/>
            <p:nvPr/>
          </p:nvSpPr>
          <p:spPr>
            <a:xfrm>
              <a:off x="7108920" y="3119400"/>
              <a:ext cx="64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0.144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39"/>
            <p:cNvSpPr/>
            <p:nvPr/>
          </p:nvSpPr>
          <p:spPr>
            <a:xfrm>
              <a:off x="7981920" y="18126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39"/>
            <p:cNvSpPr/>
            <p:nvPr/>
          </p:nvSpPr>
          <p:spPr>
            <a:xfrm>
              <a:off x="7980480" y="216144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39"/>
            <p:cNvSpPr/>
            <p:nvPr/>
          </p:nvSpPr>
          <p:spPr>
            <a:xfrm>
              <a:off x="7981920" y="24858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0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39"/>
            <p:cNvSpPr/>
            <p:nvPr/>
          </p:nvSpPr>
          <p:spPr>
            <a:xfrm>
              <a:off x="7981920" y="27982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0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39"/>
            <p:cNvSpPr/>
            <p:nvPr/>
          </p:nvSpPr>
          <p:spPr>
            <a:xfrm>
              <a:off x="7980480" y="311940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1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39"/>
            <p:cNvSpPr/>
            <p:nvPr/>
          </p:nvSpPr>
          <p:spPr>
            <a:xfrm>
              <a:off x="7340400" y="1484280"/>
              <a:ext cx="296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p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eX Gyre Pagella"/>
                  <a:ea typeface="MS PGothic"/>
                </a:rPr>
                <a:t>l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39"/>
            <p:cNvSpPr/>
            <p:nvPr/>
          </p:nvSpPr>
          <p:spPr>
            <a:xfrm>
              <a:off x="7894440" y="152496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eX Gyre Pagella"/>
                  <a:ea typeface="MS PGothic"/>
                </a:rPr>
                <a:t>Cod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427640" y="4005360"/>
            <a:ext cx="1726920" cy="431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427640" y="4797360"/>
            <a:ext cx="43196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Design of VNB2VLC Code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ize excess rate over set of potential binary tre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up to a maximum table siz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58920" y="2036880"/>
            <a:ext cx="67294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Combined Interval Partitioning and Code Design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al (sub-optimal) iterative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probability distribution and number of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 initial interval partitioning (e.g., using first algorith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 interval representatives (as shown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 codes for representatives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interval borders accord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previous three steps until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ptimality: Steps 2 and 3 can be replaced with a code design in which the excess rate is minimized for interv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putationally compl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424800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Interval Partitioning and Code Design Example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00000" y="907920"/>
            <a:ext cx="79869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intervals, uniform probability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ss rate is 0.24% (versus 0.12% for optimal cod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7914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Average Transcoding Result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26920" y="981000"/>
          <a:ext cx="7921800" cy="5132520"/>
        </p:xfrm>
        <a:graphic>
          <a:graphicData uri="http://schemas.openxmlformats.org/drawingml/2006/table">
            <a:tbl>
              <a:tblPr/>
              <a:tblGrid>
                <a:gridCol w="1152720"/>
                <a:gridCol w="1152360"/>
                <a:gridCol w="1079640"/>
                <a:gridCol w="1152360"/>
                <a:gridCol w="1079640"/>
                <a:gridCol w="1152720"/>
                <a:gridCol w="1152360"/>
              </a:tblGrid>
              <a:tr h="527040">
                <a:tc gridSpan="7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: Multi-Codeword CABAC (submitted bitstream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-Codeword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A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-Length Codes (interleaved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 dela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ai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buffer delay of 64 By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0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0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8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Averag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0.11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0.06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0.17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0.20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0.09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0.12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-0.08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-0.18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-0.1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l entropy coding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ization and context modelling as in CABAC of H.264/A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zation of LPB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bin encoders/decoders at fixed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parallelized entropy encoding and de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usage of variable-length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ing efficiency virtually the same as for CABA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ity re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parallelization of entropy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variable-length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ing codeword interleaving and low-dela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arization and context modelling as in CABAC of H.264/A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ual bin encoding using a small number of bin encoders with fixed probabilities (parallelization of entropy co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lacement of arithmetic coding with variable-length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vestigation of design asp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ability interval discre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of variable-length codes for bin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bined design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ding ef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coding of bitstreams submitted for JCTVC-A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Entropy Coding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vel entropy coding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arization and context modelling as in CABAC of H.264/A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ified coding of binary decisions (b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PB probabilities are quantized (12 classes in imple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parate bin encoders for each class (fixed LPB probabil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high degree of paralle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ariable length cod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out compromising coding effici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4160880"/>
            <a:ext cx="79930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Entropy Coding with Arithmetic Code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allelization for large slice data NAL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arithmetic coders are operated at fixed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ithmetic codewords for the different bin encoders are written to different partitions of the slice data NA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tioning of the slice data NAL unit is signalled in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ple arithmetic decoders can be operated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aining entropy coding process simply reads bins from multiple bin bu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abling multi-codeword approach for small sl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llelization is not required for small sl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head of partitioning information can be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age of conventional arithmetic coding engine for small slic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ignalled in slice hea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rithmetic coding is used in bitstreams: JCTVC-A116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Entropy Coding with Variable Length Code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ternative to arithmetic coding eng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 encoders/decoder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te at fixed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ithmetic coding engin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replaced by sim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-length 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 coders map a variab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bin onto a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-length codewor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termination of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 sequences at th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of a sli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se shortest code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32320" y="2637000"/>
          <a:ext cx="3056040" cy="3014640"/>
        </p:xfrm>
        <a:graphic>
          <a:graphicData uri="http://schemas.openxmlformats.org/drawingml/2006/table">
            <a:tbl>
              <a:tblPr/>
              <a:tblGrid>
                <a:gridCol w="1528560"/>
                <a:gridCol w="1527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 sequen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wor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 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 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 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 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5219640" y="1773360"/>
            <a:ext cx="316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NB2VLC mapping for P=0.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0.25% overhead relative to entrop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Entropy Coding with Variable Length Code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deword interleav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leaving of code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any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word buffer at 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ntaneous 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w-delay interleav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ation of maximum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ffer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word termination a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der and decoder if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delay is ach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ding ef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less transcoding of submitted bitstreams showed virtually the same coding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18% rate savings with codeword interle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10% rate savings with low-delay control (64 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8480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Probability Interval Discretization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 LPB probability interval (0,0.5] into a small number of interval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]; e.g. 12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the bin for each interval at a fixed LPB probabi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 baseline="-50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e overhead due to interval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ingle LPB probabi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bins (assuming distribu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3747960"/>
            <a:ext cx="5327640" cy="976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81080" y="5229360"/>
                <a:ext cx="57596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Probability Interval Discretization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ve algorithm for deriving optimal interval borders and representative probabilities, assu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1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entropy coders for fixed probabilities (achieving entrop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1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bin probability distribu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number of interval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1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 LPB interval (0,0.5]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bitrary interva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1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representa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al proba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1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interv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d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1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previous two steps until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0" y="3357720"/>
            <a:ext cx="2448000" cy="1137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419640" y="4653000"/>
                <a:ext cx="53290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Probability Interval Discretization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348000" y="905040"/>
            <a:ext cx="5130720" cy="3317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89120" y="1844640"/>
            <a:ext cx="241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interv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orm probabil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4508640"/>
          <a:ext cx="7986960" cy="1582560"/>
        </p:xfrm>
        <a:graphic>
          <a:graphicData uri="http://schemas.openxmlformats.org/drawingml/2006/table">
            <a:tbl>
              <a:tblPr/>
              <a:tblGrid>
                <a:gridCol w="2232000"/>
                <a:gridCol w="1079640"/>
                <a:gridCol w="936720"/>
                <a:gridCol w="936360"/>
                <a:gridCol w="935280"/>
                <a:gridCol w="936720"/>
                <a:gridCol w="930240"/>
              </a:tblGrid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rate increase (relative to entropy limit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=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=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=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=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=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=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7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7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 increas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8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7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9:07:15Z</dcterms:created>
  <dc:creator>Heiko Schwarz</dc:creator>
  <dc:description/>
  <cp:keywords/>
  <dc:language>en-US</dc:language>
  <cp:lastModifiedBy>Heiko Schwarz</cp:lastModifiedBy>
  <cp:lastPrinted>1999-11-25T15:32:02Z</cp:lastPrinted>
  <dcterms:modified xsi:type="dcterms:W3CDTF">2010-04-15T17:41:52Z</dcterms:modified>
  <cp:revision>86</cp:revision>
  <dc:subject/>
  <dc:title>JCTVC-A116  Video Coding Technology Proposal by Fraunhofer HHI</dc:title>
</cp:coreProperties>
</file>